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3C8-4751-4186-A63B-40BE4FD7A3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40F-AD52-4EFE-83F8-46905C88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3F4-AAD5-4182-A908-B7D1EC5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336-B7F1-42F6-82EE-AA49B74C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3D3-A42E-4EE2-99EF-83BFB355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2AC-AA44-4A85-A1F2-C07C903E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FDF-9BC7-4AB3-894F-D23D7B42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918-3C4C-45FA-AEFC-FDD6001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F99-11A7-4228-B5EF-AC3477F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775-4FCC-48E4-BE8B-F3A9E33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2D9-4195-4657-AA77-1703C70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46A-4B62-447B-B8EE-510F51F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3E0-B6E9-4A4D-88D4-556CE70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27C-3619-4953-ACCB-61606DEA27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528480" y="3516480"/>
                <a:ext cx="8237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2459160" y="2184480"/>
                <a:ext cx="43020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8:53:27Z</dcterms:created>
  <dc:creator>Marcela Munizaga</dc:creator>
  <dc:description/>
  <dc:language>en-US</dc:language>
  <cp:lastModifiedBy>marcela munizaga muñoz</cp:lastModifiedBy>
  <dcterms:modified xsi:type="dcterms:W3CDTF">2010-08-20T15:15:55Z</dcterms:modified>
  <cp:revision>68</cp:revision>
  <dc:subject/>
  <dc:title>Sin título de diapositiva</dc:title>
</cp:coreProperties>
</file>