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0ACC-1C89-4579-9BDC-EF30EFED2B2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990-C65C-499D-98B7-D2DFFBF7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F99A-54B8-4257-BB9D-5BB5268E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DB6B-A0FA-4A40-BF51-8CFFF5FF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FE1E-81EA-4F06-BC7A-D3E8A089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31F-B009-4BA9-812A-DA79BC2B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66E5-FE47-4DC9-80A8-D2615552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DEC6-90B4-4E0F-98A6-AE29D29E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8309-16C3-48C3-A8C9-2A2A0818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845B-1EA2-4F8C-B9E1-FDD1422F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2379-1F8C-41A4-84CF-125CA575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B50-1439-4941-9EBE-277985D1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DDA-6753-451B-9CE4-D486C0CF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6BEE-2968-4E03-B3C4-F6556F99708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2" name="Line 6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1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Text Box 12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9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Text Box 10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4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Text Box 15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3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5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6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500"/>
                            </p:stCondLst>
                            <p:childTnLst>
                              <p:par>
                                <p:cTn id="5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6000"/>
                            </p:stCondLst>
                            <p:childTnLst>
                              <p:par>
                                <p:cTn id="5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6500"/>
                            </p:stCondLst>
                            <p:childTnLst>
                              <p:par>
                                <p:cTn id="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7000"/>
                            </p:stCondLst>
                            <p:childTnLst>
                              <p:par>
                                <p:cTn id="5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9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60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6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6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6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7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8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362320" y="1523880"/>
            <a:ext cx="51210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Macintosh HD:Users:marcelamunizagamunoz:Documents:CI43A:Clases 2010:video_mussa.mpg" descr="/Users/marcelamunizagamunoz/Documents/CI43A/Clases 2010/video_mussa.mpg"/>
          <p:cNvPicPr/>
          <p:nvPr/>
        </p:nvPicPr>
        <p:blipFill>
          <a:blip r:embed="rId1"/>
          <a:stretch/>
        </p:blipFill>
        <p:spPr>
          <a:xfrm>
            <a:off x="2438280" y="26668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3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770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57200" y="27050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57200" y="3581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57200" y="4508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571920" y="1809720"/>
            <a:ext cx="22096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495600" y="278136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41964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648240" y="458136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57400" y="544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692360" y="64612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181560" y="9558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¿local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5892480" y="1171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589200" y="9460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1979640" y="595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de cinc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4"/>
          <p:cNvGraphicFramePr/>
          <p:nvPr/>
        </p:nvGraphicFramePr>
        <p:xfrm>
          <a:off x="2460600" y="1557360"/>
          <a:ext cx="3441600" cy="16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0600" y="1557360"/>
                    <a:ext cx="344160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16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Histograma de transacciones bip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-11160" y="2209680"/>
            <a:ext cx="9155160" cy="457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0" y="2249640"/>
            <a:ext cx="914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20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gún EOD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l trabajo         3.789.844         23,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Al estudio         2.927.932         18,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compras       2.743.003         16,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mic Sans MS"/>
              </a:rPr>
              <a:t>Buscar/dejar     1.351.610            8,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r a alguien      1.074.993           6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mites               858.583          5,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creación           760.869          4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tro                     754.974          4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Acompañar             664.865          4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 trabajo             485.340          3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De salud                  426.578          2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ubidas en buses de Transantiago cada 15 min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Macintosh HD:Users:marcelamunizagamunoz:Documents:CI43A:Clases 2010:par_tb_2.avi" descr="/Users/marcelamunizagamunoz/Documents/CI43A/Clases 2010/par_tb_2.avi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10695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7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52640" y="1009800"/>
            <a:ext cx="7038720" cy="4838400"/>
          </a:xfrm>
          <a:prstGeom prst="rect">
            <a:avLst/>
          </a:prstGeom>
          <a:ln w="0">
            <a:noFill/>
          </a:ln>
        </p:spPr>
      </p:pic>
      <p:sp>
        <p:nvSpPr>
          <p:cNvPr id="87" name="2 CuadroTexto"/>
          <p:cNvSpPr/>
          <p:nvPr/>
        </p:nvSpPr>
        <p:spPr>
          <a:xfrm>
            <a:off x="121428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79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3 CuadroTexto"/>
          <p:cNvSpPr/>
          <p:nvPr/>
        </p:nvSpPr>
        <p:spPr>
          <a:xfrm>
            <a:off x="478620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21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4 CuadroTexto"/>
          <p:cNvSpPr/>
          <p:nvPr/>
        </p:nvSpPr>
        <p:spPr>
          <a:xfrm>
            <a:off x="1500120" y="5753160"/>
            <a:ext cx="57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DICTUC (2003) Informe final EOD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13:03:16Z</dcterms:created>
  <dc:creator>Marcela Munizaga</dc:creator>
  <dc:description/>
  <dc:language>en-US</dc:language>
  <cp:lastModifiedBy>marcela munizaga muñoz</cp:lastModifiedBy>
  <dcterms:modified xsi:type="dcterms:W3CDTF">2010-08-20T15:17:54Z</dcterms:modified>
  <cp:revision>74</cp:revision>
  <dc:subject/>
  <dc:title>Sin título de diapositiva</dc:title>
</cp:coreProperties>
</file>