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media/image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B1B7-55C5-41CB-B93F-047772004C9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BE1B-1A65-45AF-9E59-3E19D7323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0437-C2BC-455E-83CE-F72D571E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53FB-8B9F-412D-BE6D-128ECD296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80F5-82B5-4678-8C6E-D9F4ABDB4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D4FB-CF1D-4C2A-9777-E31073FC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51CE-BEFE-4A93-A244-D54C6E1B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EC53-C0A4-402E-B4AD-A5243F14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5827-B932-4760-AB89-04AE514F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E7A3-B670-45BC-BEBC-F16CE2DC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00EB-47B8-4A2B-A966-AC26158C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129A-E19A-4455-B367-172090CB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7573-D4A0-4452-864C-71CACFA1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9916-DEAC-4E40-9EF8-60CBA02D9E6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os sub-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ó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ar o enviar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odelos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os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Comic Sans MS"/>
              </a:rPr>
              <a:t>Modelos de equilibri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533520" y="228600"/>
            <a:ext cx="8076960" cy="45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es generados (producidos) o atraídos por cada 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origen en la zon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destino en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es O/D específ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s de los que salen de i van a j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5"/>
              <p:cNvSpPr txBox="1"/>
              <p:nvPr/>
            </p:nvSpPr>
            <p:spPr>
              <a:xfrm>
                <a:off x="762120" y="4038480"/>
                <a:ext cx="3581280" cy="260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/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2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/>
                        <m:e>
                          <m:r>
                            <m:t xml:space="preserve">n</m:t>
                          </m:r>
                        </m:e>
                        <m:e/>
                      </m:mr>
                      <m:mr>
                        <m:e>
                          <m:r>
                            <m:t xml:space="preserve">1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2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</m:e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  <m:e/>
                        <m:e/>
                        <m:e/>
                      </m:mr>
                      <m:mr>
                        <m:e>
                          <m:r>
                            <m:t xml:space="preserve">n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/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  <m:e>
                          <m:r>
                            <m:t xml:space="preserve">T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92" name="Line 6"/>
          <p:cNvSpPr/>
          <p:nvPr/>
        </p:nvSpPr>
        <p:spPr>
          <a:xfrm>
            <a:off x="762120" y="44197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7"/>
          <p:cNvSpPr/>
          <p:nvPr/>
        </p:nvSpPr>
        <p:spPr>
          <a:xfrm>
            <a:off x="914400" y="62485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8"/>
          <p:cNvSpPr/>
          <p:nvPr/>
        </p:nvSpPr>
        <p:spPr>
          <a:xfrm>
            <a:off x="152388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9"/>
          <p:cNvSpPr/>
          <p:nvPr/>
        </p:nvSpPr>
        <p:spPr>
          <a:xfrm>
            <a:off x="388620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4876920" y="4267080"/>
            <a:ext cx="3962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triz Origen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11"/>
              <p:cNvSpPr txBox="1"/>
              <p:nvPr/>
            </p:nvSpPr>
            <p:spPr>
              <a:xfrm>
                <a:off x="6095880" y="4876920"/>
                <a:ext cx="22100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∞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8" name="Text Box 12"/>
          <p:cNvSpPr/>
          <p:nvPr/>
        </p:nvSpPr>
        <p:spPr>
          <a:xfrm>
            <a:off x="4952880" y="533412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l elegi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533520" y="228600"/>
            <a:ext cx="807696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En qué mo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9"/>
              <p:cNvSpPr txBox="1"/>
              <p:nvPr/>
            </p:nvSpPr>
            <p:spPr>
              <a:xfrm>
                <a:off x="990720" y="1676520"/>
                <a:ext cx="144756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1" name="Text Box 10"/>
          <p:cNvSpPr/>
          <p:nvPr/>
        </p:nvSpPr>
        <p:spPr>
          <a:xfrm>
            <a:off x="2819520" y="1676520"/>
            <a:ext cx="274320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em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.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5638680" y="1752480"/>
            <a:ext cx="76320" cy="1143000"/>
          </a:xfrm>
          <a:custGeom>
            <a:avLst/>
            <a:gdLst>
              <a:gd name="textAreaLeft" fmla="*/ 0 w 76320"/>
              <a:gd name="textAreaRight" fmla="*/ 2736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5867280" y="175248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7391520" y="1828800"/>
            <a:ext cx="75960" cy="1143000"/>
          </a:xfrm>
          <a:custGeom>
            <a:avLst/>
            <a:gdLst>
              <a:gd name="textAreaLeft" fmla="*/ 0 w 75960"/>
              <a:gd name="textAreaRight" fmla="*/ 27360 w 759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14"/>
              <p:cNvSpPr txBox="1"/>
              <p:nvPr/>
            </p:nvSpPr>
            <p:spPr>
              <a:xfrm>
                <a:off x="7848720" y="2133720"/>
                <a:ext cx="6984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6" name="Text Box 15"/>
          <p:cNvSpPr/>
          <p:nvPr/>
        </p:nvSpPr>
        <p:spPr>
          <a:xfrm>
            <a:off x="1143000" y="2819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m: m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685800" y="3581280"/>
            <a:ext cx="3352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762120" y="50292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manda por viajes en auto o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18"/>
          <p:cNvSpPr/>
          <p:nvPr/>
        </p:nvSpPr>
        <p:spPr>
          <a:xfrm>
            <a:off x="2819520" y="5257800"/>
            <a:ext cx="75960" cy="76212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9"/>
          <p:cNvSpPr/>
          <p:nvPr/>
        </p:nvSpPr>
        <p:spPr>
          <a:xfrm>
            <a:off x="3276720" y="52578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1"/>
          <p:cNvSpPr/>
          <p:nvPr/>
        </p:nvSpPr>
        <p:spPr>
          <a:xfrm>
            <a:off x="5638680" y="53341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lujos y tiempos en arcos,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2"/>
          <p:cNvSpPr/>
          <p:nvPr/>
        </p:nvSpPr>
        <p:spPr>
          <a:xfrm>
            <a:off x="3276720" y="5257800"/>
            <a:ext cx="16002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23"/>
          <p:cNvSpPr/>
          <p:nvPr/>
        </p:nvSpPr>
        <p:spPr>
          <a:xfrm>
            <a:off x="5029200" y="556272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419720" y="3886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finición de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25"/>
          <p:cNvSpPr/>
          <p:nvPr/>
        </p:nvSpPr>
        <p:spPr>
          <a:xfrm>
            <a:off x="4419720" y="3886200"/>
            <a:ext cx="2971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26"/>
          <p:cNvSpPr/>
          <p:nvPr/>
        </p:nvSpPr>
        <p:spPr>
          <a:xfrm flipH="1">
            <a:off x="4266720" y="4419720"/>
            <a:ext cx="1600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533520" y="228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0"/>
          <p:cNvSpPr/>
          <p:nvPr/>
        </p:nvSpPr>
        <p:spPr>
          <a:xfrm>
            <a:off x="457200" y="990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1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23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4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29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30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31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32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33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34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35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36"/>
          <p:cNvSpPr/>
          <p:nvPr/>
        </p:nvSpPr>
        <p:spPr>
          <a:xfrm flipH="1">
            <a:off x="1676520" y="34290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37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38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39"/>
          <p:cNvSpPr/>
          <p:nvPr/>
        </p:nvSpPr>
        <p:spPr>
          <a:xfrm>
            <a:off x="304920" y="9144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40"/>
          <p:cNvSpPr/>
          <p:nvPr/>
        </p:nvSpPr>
        <p:spPr>
          <a:xfrm flipV="1">
            <a:off x="2514600" y="1219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41"/>
          <p:cNvSpPr/>
          <p:nvPr/>
        </p:nvSpPr>
        <p:spPr>
          <a:xfrm flipH="1">
            <a:off x="2361960" y="1219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2"/>
          <p:cNvSpPr/>
          <p:nvPr/>
        </p:nvSpPr>
        <p:spPr>
          <a:xfrm>
            <a:off x="4038480" y="914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uinta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43"/>
          <p:cNvSpPr/>
          <p:nvPr/>
        </p:nvSpPr>
        <p:spPr>
          <a:xfrm>
            <a:off x="2895480" y="10666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4"/>
          <p:cNvSpPr/>
          <p:nvPr/>
        </p:nvSpPr>
        <p:spPr>
          <a:xfrm>
            <a:off x="3962520" y="2133720"/>
            <a:ext cx="4647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 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ternalidades - impact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stema de activ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500"/>
                            </p:stCondLst>
                            <p:childTnLst>
                              <p:par>
                                <p:cTn id="5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000"/>
                            </p:stCondLst>
                            <p:childTnLst>
                              <p:par>
                                <p:cTn id="5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3500"/>
                            </p:stCondLst>
                            <p:childTnLst>
                              <p:par>
                                <p:cTn id="57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6000"/>
                            </p:stCondLst>
                            <p:childTnLst>
                              <p:par>
                                <p:cTn id="5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6500"/>
                            </p:stCondLst>
                            <p:childTnLst>
                              <p:par>
                                <p:cTn id="5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7000"/>
                            </p:stCondLst>
                            <p:childTnLst>
                              <p:par>
                                <p:cTn id="58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9500"/>
                            </p:stCondLst>
                            <p:childTnLst>
                              <p:par>
                                <p:cTn id="5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500"/>
                            </p:stCondLst>
                            <p:childTnLst>
                              <p:par>
                                <p:cTn id="60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3500"/>
                            </p:stCondLst>
                            <p:childTnLst>
                              <p:par>
                                <p:cTn id="6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4500"/>
                            </p:stCondLst>
                            <p:childTnLst>
                              <p:par>
                                <p:cTn id="6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5500"/>
                            </p:stCondLst>
                            <p:childTnLst>
                              <p:par>
                                <p:cTn id="6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6000"/>
                            </p:stCondLst>
                            <p:childTnLst>
                              <p:par>
                                <p:cTn id="6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6500"/>
                            </p:stCondLst>
                            <p:childTnLst>
                              <p:par>
                                <p:cTn id="6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692280"/>
            <a:ext cx="7772400" cy="40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3300"/>
                </a:solidFill>
                <a:latin typeface="Comic Sans MS"/>
              </a:rPr>
              <a:t>Uso del suelo</a:t>
            </a:r>
            <a:br>
              <a:rPr sz="5400"/>
            </a:br>
            <a:br>
              <a:rPr sz="5400"/>
            </a:br>
            <a:r>
              <a:rPr b="0" lang="es-CL" sz="5400" spc="-1" strike="noStrike">
                <a:solidFill>
                  <a:srgbClr val="3333cc"/>
                </a:solidFill>
                <a:latin typeface="Comic Sans MS"/>
              </a:rPr>
              <a:t>Modelamiento del sistema de actividad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 de uso del sue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recimiento población y econom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blema de localización de los agentes (hogares y firm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 interdependencia en la elec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blema de oferta inmobili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l precio, la renta y la plusval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quilibrio urb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áticos: Equilibrio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inámicos: Interacción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quilibrio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calización residencial urb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3"/>
          <p:cNvSpPr/>
          <p:nvPr/>
        </p:nvSpPr>
        <p:spPr>
          <a:xfrm>
            <a:off x="5029200" y="2438280"/>
            <a:ext cx="9144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4"/>
          <p:cNvSpPr/>
          <p:nvPr/>
        </p:nvSpPr>
        <p:spPr>
          <a:xfrm>
            <a:off x="7162920" y="274320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5"/>
          <p:cNvSpPr/>
          <p:nvPr/>
        </p:nvSpPr>
        <p:spPr>
          <a:xfrm>
            <a:off x="4952880" y="4191120"/>
            <a:ext cx="838440" cy="0"/>
          </a:xfrm>
          <a:prstGeom prst="line">
            <a:avLst/>
          </a:prstGeom>
          <a:ln w="76320">
            <a:solidFill>
              <a:srgbClr val="b4b24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1373760" y="1797120"/>
            <a:ext cx="3583800" cy="1191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ada agente elige  localización 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ximiza su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ados atributos de localiz. y precio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bajo restricción de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5943600" y="1827360"/>
            <a:ext cx="3139920" cy="916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ara cada localiz. define su disp. a pagar dado nivel de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1219320" y="3886200"/>
            <a:ext cx="3733560" cy="1008720"/>
          </a:xfrm>
          <a:prstGeom prst="rect">
            <a:avLst/>
          </a:prstGeom>
          <a:solidFill>
            <a:srgbClr val="b4b2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Inmobiliarias eligen que ofre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en cada lugar por máx. utilida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dada tecnología y regulacion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5867280" y="3886200"/>
            <a:ext cx="2911680" cy="1008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ada propiedad se remata al mejor po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Oferta =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3882600" y="5535720"/>
            <a:ext cx="4232880" cy="703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lución: localización, nivel de ut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tock, precios, consumo bi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1"/>
          <p:cNvSpPr/>
          <p:nvPr/>
        </p:nvSpPr>
        <p:spPr>
          <a:xfrm>
            <a:off x="7162920" y="4876920"/>
            <a:ext cx="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1419120" y="1461960"/>
            <a:ext cx="1168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1220760" y="3581280"/>
            <a:ext cx="8161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5869800" y="3581280"/>
            <a:ext cx="979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m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3889800" y="5181480"/>
            <a:ext cx="1116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6"/>
          <p:cNvSpPr/>
          <p:nvPr/>
        </p:nvSpPr>
        <p:spPr>
          <a:xfrm flipV="1">
            <a:off x="8305920" y="274284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7"/>
          <p:cNvSpPr/>
          <p:nvPr/>
        </p:nvSpPr>
        <p:spPr>
          <a:xfrm rot="16209600">
            <a:off x="8037000" y="323496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18"/>
          <p:cNvSpPr/>
          <p:nvPr/>
        </p:nvSpPr>
        <p:spPr>
          <a:xfrm flipH="1">
            <a:off x="4952520" y="46483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9"/>
          <p:cNvSpPr/>
          <p:nvPr/>
        </p:nvSpPr>
        <p:spPr>
          <a:xfrm>
            <a:off x="5020920" y="457164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e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 estático de Santia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2362320" y="1523880"/>
            <a:ext cx="51210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www.MUSSA.CL   Vid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Macintosh HD:Users:marcelamunizagamunoz:Documents:CI43A:Clases 2010:video_mussa.mpg" descr="/Users/marcelamunizagamunoz/Documents/CI43A/Clases 2010/video_mussa.mpg"/>
          <p:cNvPicPr/>
          <p:nvPr/>
        </p:nvPicPr>
        <p:blipFill>
          <a:blip r:embed="rId1"/>
          <a:stretch/>
        </p:blipFill>
        <p:spPr>
          <a:xfrm>
            <a:off x="2438280" y="266688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700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03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920" y="1066680"/>
            <a:ext cx="3657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Decisi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33520" y="17701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iajar o 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457200" y="270504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hacia do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457200" y="3581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en qué mo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457200" y="450864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or qué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3571920" y="1809720"/>
            <a:ext cx="22096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3495600" y="2781360"/>
            <a:ext cx="25146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3419640" y="3657600"/>
            <a:ext cx="27432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3648240" y="4581360"/>
            <a:ext cx="22860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2057400" y="54450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o clásic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1692360" y="6461280"/>
            <a:ext cx="51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¿Son separables estas decis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6181560" y="955800"/>
            <a:ext cx="22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¿localiz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6"/>
          <p:cNvSpPr/>
          <p:nvPr/>
        </p:nvSpPr>
        <p:spPr>
          <a:xfrm flipH="1">
            <a:off x="5892480" y="11714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3589200" y="946080"/>
            <a:ext cx="221004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1979640" y="59500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o de cinc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El producto en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Object 14"/>
          <p:cNvGraphicFramePr/>
          <p:nvPr/>
        </p:nvGraphicFramePr>
        <p:xfrm>
          <a:off x="2460600" y="1557360"/>
          <a:ext cx="3441600" cy="163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60600" y="1557360"/>
                    <a:ext cx="3441600" cy="16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Rectangle 16"/>
          <p:cNvSpPr/>
          <p:nvPr/>
        </p:nvSpPr>
        <p:spPr>
          <a:xfrm>
            <a:off x="685800" y="297180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k: tipo de persona o bien transpor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t: peri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i: or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j: dest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 se puede mirar cada viaje </a:t>
            </a:r>
            <a:r>
              <a:rPr b="0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es necesario juntar viajes “parec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&gt; Period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Punta mañana, punta tarde, meses del año, fines de semana, feriado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por tipo de persona o bien transpor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studiantes, trabajadores, tercera edad, género,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Histograma de transacciones bip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1"/>
          <a:stretch/>
        </p:blipFill>
        <p:spPr>
          <a:xfrm>
            <a:off x="-11160" y="2209680"/>
            <a:ext cx="9155160" cy="4572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"/>
          <p:cNvPicPr/>
          <p:nvPr/>
        </p:nvPicPr>
        <p:blipFill>
          <a:blip r:embed="rId2"/>
          <a:stretch/>
        </p:blipFill>
        <p:spPr>
          <a:xfrm>
            <a:off x="0" y="2249640"/>
            <a:ext cx="9144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83203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por propósito de vi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Según EOD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Al trabajo         3.789.844         23,3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Al estudio         2.927.932         18,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e compras       2.743.003         16,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mic Sans MS"/>
              </a:rPr>
              <a:t>Buscar/dejar     1.351.610            8,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er a alguien      1.074.993           6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Tramites               858.583          5,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ecreación           760.869          4,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Otro                     754.974          4,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Acompañar             664.865          4,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or trabajo             485.340          3,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De salud                  426.578          2,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espa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&gt; Zon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Criterios: tamaño y número de zonas, compatibilidad con otras zonificaciones, homogene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ubidas en buses de Transantiago cada 15 min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Macintosh HD:Users:marcelamunizagamunoz:Documents:CI43A:Clases 2010:par_tb_2.avi" descr="/Users/marcelamunizagamunoz/Documents/CI43A/Clases 2010/par_tb_2.avi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2" dur="106955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7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052640" y="1009800"/>
            <a:ext cx="7038720" cy="4838400"/>
          </a:xfrm>
          <a:prstGeom prst="rect">
            <a:avLst/>
          </a:prstGeom>
          <a:ln w="0">
            <a:noFill/>
          </a:ln>
        </p:spPr>
      </p:pic>
      <p:sp>
        <p:nvSpPr>
          <p:cNvPr id="87" name="2 CuadroTexto"/>
          <p:cNvSpPr/>
          <p:nvPr/>
        </p:nvSpPr>
        <p:spPr>
          <a:xfrm>
            <a:off x="1214280" y="50004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79 zonas in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3 CuadroTexto"/>
          <p:cNvSpPr/>
          <p:nvPr/>
        </p:nvSpPr>
        <p:spPr>
          <a:xfrm>
            <a:off x="4786200" y="50004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21 zonas in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4 CuadroTexto"/>
          <p:cNvSpPr/>
          <p:nvPr/>
        </p:nvSpPr>
        <p:spPr>
          <a:xfrm>
            <a:off x="1500120" y="5753160"/>
            <a:ext cx="578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uente: DICTUC (2003) Informe final EOD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0T13:03:16Z</dcterms:created>
  <dc:creator>Marcela Munizaga</dc:creator>
  <dc:description/>
  <dc:language>en-US</dc:language>
  <cp:lastModifiedBy>marcela munizaga muñoz</cp:lastModifiedBy>
  <dcterms:modified xsi:type="dcterms:W3CDTF">2010-08-20T15:17:54Z</dcterms:modified>
  <cp:revision>74</cp:revision>
  <dc:subject/>
  <dc:title>Sin título de diapositiva</dc:title>
</cp:coreProperties>
</file>