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7E5B-61AA-49B2-9674-DB90E567B07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BC7F-D08C-42A2-AABE-F0C3DB2B5B2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16E-7642-4EF7-A29B-A36127B8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72E-D1D0-4453-9E7D-0DC0EB5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74C-136C-4A2A-9D6A-A075ABAC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A8C-555A-491F-9EE3-A7F509DE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1D7-EF9B-4992-9663-2C71CE9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F08-146C-4522-AEB0-6EA5E9D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476-3448-4605-A00D-9452808D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C46-3A6E-4FFA-A5DC-22B3D35D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084-80B4-4FCC-A95C-0F5D907C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B03-6C68-4EF7-9839-B8E083AA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374-7F8B-4073-9302-B9DBA95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DB1-44A7-431D-B5E8-150EF33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BA10-3646-4327-9F0B-27B6F77AB0E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  CI4301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squema de Manhei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Considerando la representación de Manheim, vista en clases, se le pid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-279360" algn="just">
              <a:spcBef>
                <a:spcPts val="550"/>
              </a:spcBef>
              <a:buClr>
                <a:srgbClr val="3891a7"/>
              </a:buClr>
              <a:buSzPct val="13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Tomando como referencia el sistema de transporte, de actividades y de flujos en el contexto presente de Santiago, de dos ejemplos de elementos pertenecientes a cada una de estos conjun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-279360" algn="just">
              <a:spcBef>
                <a:spcPts val="550"/>
              </a:spcBef>
              <a:buClr>
                <a:srgbClr val="3891a7"/>
              </a:buClr>
              <a:buSzPct val="13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Bajo el mismo contexto, cite un ejemplo para cada tipo de inter-relación que existe en el enfoque de Manheim. Puede basarse en situaciones reales o tomar escenarios hipotéticos, explicándolos muy brevement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1 Título"/>
          <p:cNvSpPr/>
          <p:nvPr/>
        </p:nvSpPr>
        <p:spPr>
          <a:xfrm>
            <a:off x="1447920" y="3049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arte I: Esquema de Manhei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arte II: Mercados Puntu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1213920"/>
            <a:ext cx="74959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Existen dos islas sureñas particularmente fértiles, en cuyos campos abunda el calafate; este fruto, difícil de encontrar en localidades nortinas, es un alimento muy apreciado.  En ambas islas se produce y se consume calafate, y las funciones de oferta y demanda por él en cada una de las islas s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8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8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8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8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arte</a:t>
            </a: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II: Mercados Puntu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560" y="17521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lcule las funciones exceso de demanda y exceso de oferta dadas por las condiciones de mercado, según correspond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ncontrar la ecuación de demanda de transporte y graficar su curva. Dibujar la curva de oferta de transporte t=30+Q/8 y encontrar el punto de equilibrio de este mercad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Utilizando el resultado del punto anterior, indique cuáles serían los precios y las cantidades demandadas y consumidas en cada isl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_apellido3.do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Enviar al mail del curso: 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allerci4301@gmail.com</a:t>
            </a: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Incluir archivo .doc con el informe de desarrollo del taller y el archivo .xls con los cálculos y gráfic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Flavio Devillaine</dc:creator>
  <dc:description/>
  <dc:language>en-US</dc:language>
  <cp:lastModifiedBy>Felipe Murcia</cp:lastModifiedBy>
  <dcterms:modified xsi:type="dcterms:W3CDTF">2010-08-17T16:49:38Z</dcterms:modified>
  <cp:revision>24</cp:revision>
  <dc:subject/>
  <dc:title>Taller I CI43A</dc:title>
</cp:coreProperties>
</file>