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46E4-2E1D-4A2C-B8BF-71B4D972EBB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B01-F4A1-4C3B-8E8B-C2141CACDC7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85C-0837-4E61-8CB7-22FC1838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5E3-1B43-472B-81B7-9277F8CC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A8F-03C3-4A41-A246-B4E698B2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E36-5E03-43D7-A9E3-348F810A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CA1-08FF-4D36-878A-C36E61B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8EC-00B5-47CB-9241-AB9298FF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670-77C1-4D6D-83C0-7EC91634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D12-1896-4297-A080-4DB7917F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4BA-7F17-4494-BE89-600F2795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2BE-5D38-4CA4-8295-C35B147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E10-D3A1-4BE1-9F83-2F36E28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068-D9FF-4AC1-AEDE-78AC2E2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651-F5AF-421B-97F5-D45D4B1BC0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  CI4301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quema de Manhei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Considerando la representación de Manheim, vista en clases, se le pid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-279360" algn="just">
              <a:spcBef>
                <a:spcPts val="550"/>
              </a:spcBef>
              <a:buClr>
                <a:srgbClr val="3891a7"/>
              </a:buClr>
              <a:buSzPct val="13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Tomando como referencia el sistema de transporte, de actividades y de flujos en el contexto presente de Santiago, de dos ejemplos de elementos pertenecientes a cada una de estos conjun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7720" indent="-279360" algn="just">
              <a:spcBef>
                <a:spcPts val="550"/>
              </a:spcBef>
              <a:buClr>
                <a:srgbClr val="3891a7"/>
              </a:buClr>
              <a:buSzPct val="13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Bajo el mismo contexto, cite un ejemplo para cada tipo de inter-relación que existe en el enfoque de Manheim. Puede basarse en situaciones reales o tomar escenarios hipotéticos, explicándolos muy brevement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1 Título"/>
          <p:cNvSpPr/>
          <p:nvPr/>
        </p:nvSpPr>
        <p:spPr>
          <a:xfrm>
            <a:off x="1447920" y="3049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arte I: Esquema de Manhei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arte II: Mercados Puntu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1213920"/>
            <a:ext cx="74959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Existen dos islas sureñas particularmente fértiles, en cuyos campos abunda el calafate; este fruto, difícil de encontrar en localidades nortinas, es un alimento muy apreciado.  En ambas islas se produce y se consume calafate, y las funciones de oferta y demanda por él en cada una de las islas s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8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8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8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8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8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arte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II: Mercados Puntu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560" y="17521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lcule las funciones exceso de demanda y exceso de oferta dadas por las condiciones de mercado, según correspond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ncontrar la ecuación de demanda de transporte y graficar su curva. Dibujar la curva de oferta de transporte t=30+Q/8 y encontrar el punto de equilibrio de este mercad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Utilizando el resultado del punto anterior, indique cuáles serían los precios y las cantidades demandadas y consumidas en cada isl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_apellido3.do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Enviar al mail del curso: 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allerci4301@gmail.com</a:t>
            </a: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Incluir archivo .doc con el informe de desarrollo del taller y el archivo .xls con los cálculos y gráfic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Flavio Devillaine</dc:creator>
  <dc:description/>
  <dc:language>en-US</dc:language>
  <cp:lastModifiedBy>Felipe Murcia</cp:lastModifiedBy>
  <dcterms:modified xsi:type="dcterms:W3CDTF">2010-08-17T16:49:38Z</dcterms:modified>
  <cp:revision>24</cp:revision>
  <dc:subject/>
  <dc:title>Taller I CI43A</dc:title>
</cp:coreProperties>
</file>