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E52-9BE6-4C22-B115-069C32F3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517-36F0-4C6D-97A3-A8D3E28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809-A6EC-4016-8309-3BB1121E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BBA-EDEE-4DF9-9BC9-91C003A2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D09-2577-4789-959B-9D8DD931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FC4-4851-4600-AB30-CEC20F18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2E5-8E3D-4774-B7FB-9D67BD9C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1FA-C633-427C-A5AB-F3E3F2A5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B98-CC37-474E-93EF-E0D5650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7E3-B48F-4250-9273-58AD0A1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7A9-5EB9-45EF-A96A-5C96992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AF1-0503-4A8E-8BBA-E864777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B42-2C93-487B-9459-15B0D067A1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s-ES_tradnl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s-ES_tradnl" sz="3200" spc="-1" strike="noStrike">
                <a:solidFill>
                  <a:srgbClr val="3366ff"/>
                </a:solidFill>
                <a:latin typeface="Comic Sans MS"/>
              </a:rPr>
              <a:t>Flavio Devil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7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3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5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2057400" y="2209680"/>
            <a:ext cx="180324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2057400" y="2895480"/>
            <a:ext cx="175248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133720" y="1905120"/>
            <a:ext cx="1904760" cy="533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2057400" y="3048120"/>
            <a:ext cx="205740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0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1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3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6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CI4301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del Minor en Ingeniería deTransport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(Certificación Complementaria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(Obligatorio en el plan nuevo del Magís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Transporte pu¦üblico_1"/>
          <p:cNvPicPr/>
          <p:nvPr/>
        </p:nvPicPr>
        <p:blipFill>
          <a:blip r:embed="rId1"/>
          <a:stretch/>
        </p:blipFill>
        <p:spPr>
          <a:xfrm>
            <a:off x="611280" y="-27000"/>
            <a:ext cx="275436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Transporte pu¦üblico_7"/>
          <p:cNvPicPr/>
          <p:nvPr/>
        </p:nvPicPr>
        <p:blipFill>
          <a:blip r:embed="rId2"/>
          <a:stretch/>
        </p:blipFill>
        <p:spPr>
          <a:xfrm>
            <a:off x="3059280" y="-27000"/>
            <a:ext cx="2746080" cy="4105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3276720" y="450864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Espacio necesario para transportar a las personas, en auto, bus y bicicle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80 Personas ≈ 50 autos ≈ 1 b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≈ </a:t>
            </a: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80 bicicl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Transporte pu¦üblico_9"/>
          <p:cNvPicPr/>
          <p:nvPr/>
        </p:nvPicPr>
        <p:blipFill>
          <a:blip r:embed="rId3"/>
          <a:stretch/>
        </p:blipFill>
        <p:spPr>
          <a:xfrm>
            <a:off x="5580000" y="-27000"/>
            <a:ext cx="2746440" cy="4103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539640" y="4148280"/>
            <a:ext cx="792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to tomada en Santiago (Teatinos con Alameda) el 31 de agosto de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9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 muñoz</cp:lastModifiedBy>
  <dcterms:modified xsi:type="dcterms:W3CDTF">2010-08-16T14:40:59Z</dcterms:modified>
  <cp:revision>40</cp:revision>
  <dc:subject/>
  <dc:title>Definiciones y conceptos básicos</dc:title>
</cp:coreProperties>
</file>