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3F0-7623-492F-975E-C292B3F6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A85-FE0E-4BAE-8F33-AC0BDF14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E0C-D164-42D2-8072-DD0559CE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BD4-544A-42F3-A572-B310159F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A83-832D-464A-9756-E8C860E8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D3A-E297-4960-AA48-A620898A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F5B-BE86-4F25-98B0-4C004941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CBE-B30F-4DE6-916E-6AC200D1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A08-577A-4F7C-A7BF-2E09FD1B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D44-7518-482D-A012-4AE746C6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7EF-D390-49B9-AD6F-B6B95C16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7D0-336F-4169-9B5E-E2DFA8AE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475F-6AEB-45F5-A4D3-C53D7CE97EE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s-ES_tradnl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s-ES_tradnl" sz="3200" spc="-1" strike="noStrike">
                <a:solidFill>
                  <a:srgbClr val="3366ff"/>
                </a:solidFill>
                <a:latin typeface="Comic Sans MS"/>
              </a:rPr>
              <a:t>Flavio Devill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9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0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5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6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7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3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5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7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2057400" y="2209680"/>
            <a:ext cx="1803240" cy="72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2057400" y="2895480"/>
            <a:ext cx="175248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2133720" y="1905120"/>
            <a:ext cx="1904760" cy="533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2"/>
          <p:cNvSpPr/>
          <p:nvPr/>
        </p:nvSpPr>
        <p:spPr>
          <a:xfrm>
            <a:off x="2057400" y="3048120"/>
            <a:ext cx="2057400" cy="72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3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5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6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7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9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0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1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32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3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4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35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6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CI4301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rso del Minor en Ingeniería deTransporte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(Certificación Complementaria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(Obligatorio en el plan nuevo del Magís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3" descr="Transporte pu¦üblico_1"/>
          <p:cNvPicPr/>
          <p:nvPr/>
        </p:nvPicPr>
        <p:blipFill>
          <a:blip r:embed="rId1"/>
          <a:stretch/>
        </p:blipFill>
        <p:spPr>
          <a:xfrm>
            <a:off x="611280" y="-27000"/>
            <a:ext cx="275436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Transporte pu¦üblico_7"/>
          <p:cNvPicPr/>
          <p:nvPr/>
        </p:nvPicPr>
        <p:blipFill>
          <a:blip r:embed="rId2"/>
          <a:stretch/>
        </p:blipFill>
        <p:spPr>
          <a:xfrm>
            <a:off x="3059280" y="-27000"/>
            <a:ext cx="2746080" cy="41054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3276720" y="4508640"/>
            <a:ext cx="58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2b2b2"/>
                </a:solidFill>
                <a:latin typeface="Tahoma"/>
              </a:rPr>
              <a:t>Espacio necesario para transportar a las personas, en auto, bus y bicicle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2b2b2"/>
                </a:solidFill>
                <a:latin typeface="Tahoma"/>
              </a:rPr>
              <a:t>80 Personas ≈ 50 autos ≈ 1 b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2b2b2"/>
                </a:solidFill>
                <a:latin typeface="Tahoma"/>
              </a:rPr>
              <a:t>≈ </a:t>
            </a:r>
            <a:r>
              <a:rPr b="0" lang="es-ES" sz="2800" spc="-1" strike="noStrike">
                <a:solidFill>
                  <a:srgbClr val="b2b2b2"/>
                </a:solidFill>
                <a:latin typeface="Tahoma"/>
              </a:rPr>
              <a:t>80 bicicl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7" descr="Transporte pu¦üblico_9"/>
          <p:cNvPicPr/>
          <p:nvPr/>
        </p:nvPicPr>
        <p:blipFill>
          <a:blip r:embed="rId3"/>
          <a:stretch/>
        </p:blipFill>
        <p:spPr>
          <a:xfrm>
            <a:off x="5580000" y="-27000"/>
            <a:ext cx="2746440" cy="4103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539640" y="4148280"/>
            <a:ext cx="7920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to tomada en Santiago (Teatinos con Alameda) el 31 de agosto de 200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9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 muñoz</cp:lastModifiedBy>
  <dcterms:modified xsi:type="dcterms:W3CDTF">2010-08-16T14:40:59Z</dcterms:modified>
  <cp:revision>40</cp:revision>
  <dc:subject/>
  <dc:title>Definiciones y conceptos básicos</dc:title>
</cp:coreProperties>
</file>