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F5A-8083-4974-9B63-42BCC92C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7AE-2639-4EA3-855E-A63264BA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512-2F47-4317-9F01-5BCA4774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B97-5B02-40DC-B57F-ADD788E8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168-9E81-42E9-960E-A0142202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D25-F818-4DEC-A3B9-4DB6C01F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520-288D-4730-B371-A234AD58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1F1-8F4D-425A-B80B-C27C133D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095-2720-4550-B085-9EA2E9C5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D04-9210-4FC0-A95F-7F43E2AA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14B-BEDB-4FB9-BAD9-6DB9360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598-78C5-4AA3-BB20-3F8FB5CD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E114-93FB-4C08-98BA-1928AC67498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32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Line 4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4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5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6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9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0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1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2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3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24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5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Line 26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7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9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40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43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Line 22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5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6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0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1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2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33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34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35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36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38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41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42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1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5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6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24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Text Box 7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25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Text Box 8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Line 15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26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Text Box 10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7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27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Text Box 11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8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28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Text Box 12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0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1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Line 22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3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24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Line 14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16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7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18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s-ES_tradnl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s-ES_tradnl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26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Freeform 20"/>
            <p:cNvSpPr/>
            <p:nvPr/>
          </p:nvSpPr>
          <p:spPr>
            <a:xfrm>
              <a:off x="762120" y="3505320"/>
              <a:ext cx="3047760" cy="205740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25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Freeform 22"/>
            <p:cNvSpPr/>
            <p:nvPr/>
          </p:nvSpPr>
          <p:spPr>
            <a:xfrm>
              <a:off x="838080" y="2895480"/>
              <a:ext cx="3429000" cy="2133720"/>
            </a:xfrm>
            <a:prstGeom prst="pie">
              <a:avLst/>
            </a:pr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23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5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Line 6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7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9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Text Box 10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3"/>
          <p:cNvSpPr/>
          <p:nvPr/>
        </p:nvSpPr>
        <p:spPr>
          <a:xfrm>
            <a:off x="762120" y="2590920"/>
            <a:ext cx="2895480" cy="2971800"/>
          </a:xfrm>
          <a:prstGeom prst="pie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6"/>
          <p:cNvSpPr/>
          <p:nvPr/>
        </p:nvSpPr>
        <p:spPr>
          <a:xfrm>
            <a:off x="838080" y="2286000"/>
            <a:ext cx="3429000" cy="2133720"/>
          </a:xfrm>
          <a:prstGeom prst="pie">
            <a:avLst/>
          </a:pr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8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9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23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Line 15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22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Line 5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6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7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Text Box 8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12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2895480" y="2971800"/>
                <a:ext cx="3429000" cy="2133720"/>
              </a:xfrm>
              <a:prstGeom prst="pie">
                <a:avLst/>
              </a:pr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14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17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18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Freeform 20"/>
            <p:cNvSpPr/>
            <p:nvPr/>
          </p:nvSpPr>
          <p:spPr>
            <a:xfrm>
              <a:off x="2666880" y="3657600"/>
              <a:ext cx="2971800" cy="15238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24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Line 4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7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23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Text Box 9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72000" y="3809880"/>
              <a:ext cx="1752480" cy="1295640"/>
            </a:xfrm>
            <a:prstGeom prst="pie">
              <a:avLst/>
            </a:pr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4343400" y="3886200"/>
              <a:ext cx="1295280" cy="13716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22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Freeform 17"/>
            <p:cNvSpPr/>
            <p:nvPr/>
          </p:nvSpPr>
          <p:spPr>
            <a:xfrm>
              <a:off x="1676520" y="2743200"/>
              <a:ext cx="1218960" cy="114300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523880" y="2286000"/>
              <a:ext cx="1600200" cy="1143000"/>
            </a:xfrm>
            <a:prstGeom prst="pie">
              <a:avLst/>
            </a:pr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 Box 21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27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Line 4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Text Box 8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26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Text Box 14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6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8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28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Text Box 9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1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2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23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3T15:59:44Z</dcterms:modified>
  <cp:revision>56</cp:revision>
  <dc:subject/>
  <dc:title>Sin título de diapositiva</dc:title>
</cp:coreProperties>
</file>