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F227-F4C7-4054-854D-E3E8D87F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0726-8CC2-47CD-A6F2-B0050FE9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601E-3BC3-4627-B2E2-6C0DA2673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96BF-D3E3-41F5-B9B5-65DC6B134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6D03-6389-43D8-80A1-D9F5CC0E4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A833-C2F3-4125-883F-D4E8A7B6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65B3-010B-4260-B446-BA37132E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AE51-9DE9-484C-B2EE-2E0501DF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E577-EB1A-4861-9C1B-F17A6824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760" y="1519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129A-3671-4726-9AA6-BF571A18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F152-4D32-45F0-A1FB-931E3CFD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E369-4636-463A-A421-AADCA6F6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E615-A21E-49FF-B0EE-C44686FE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C341-B5CC-42AE-9E17-5187CFBF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D71A-CF18-4750-85EF-088419AC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B9E7-86EC-4EBF-8AA9-4D7D74501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F2E2-97A4-4D46-835C-694C27AB4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E4CA-03C0-42CC-A2F4-4E2926C5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8C01-975D-4A9B-9FDD-AE7EC6A9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B14E-213B-496E-8873-BB09BF9A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760" y="1519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8FEC-6B7F-475E-929F-3E46DAB1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5944-1BFE-4596-9AB2-6A0BF911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3180-1EEA-4125-BCDC-6CA21956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BF7E-E078-445B-BA47-32CA5DD5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9160" y="6400800"/>
            <a:ext cx="21333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1119-FF62-454C-B4B7-3B6537A70EE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4320" y="6400800"/>
            <a:ext cx="21333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F8E6-A44D-4A77-9718-EF67C4E55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04400" y="6400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128F-1351-4AEE-9E9B-D7740D39502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4320" y="6400800"/>
            <a:ext cx="2133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2314-54AC-4C0D-9F12-7D9A37537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66cc"/>
                </a:solidFill>
                <a:latin typeface="Arial"/>
              </a:rPr>
              <a:t>CC61Y</a:t>
            </a:r>
            <a:br>
              <a:rPr sz="1200"/>
            </a:br>
            <a:r>
              <a:rPr b="0" lang="es-CL" sz="1200" spc="-1" strike="noStrike">
                <a:solidFill>
                  <a:srgbClr val="0066cc"/>
                </a:solidFill>
                <a:latin typeface="Arial"/>
              </a:rPr>
              <a:t>Desarrollo de Aplicaciones para MID (RC)</a:t>
            </a:r>
            <a:br>
              <a:rPr sz="2800"/>
            </a:br>
            <a:r>
              <a:rPr b="0" lang="es-CL" sz="2800" spc="-1" strike="noStrike">
                <a:solidFill>
                  <a:srgbClr val="0066cc"/>
                </a:solidFill>
                <a:latin typeface="Arial"/>
              </a:rPr>
              <a:t>Diseño Empresarial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00200" y="1523520"/>
            <a:ext cx="5943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Profesore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Eduardo Godoy (egodoy@dcc.uchile.c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Alejandro Ituarte (aituarte@schema.c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Definamos una Estrategia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Cómo lo resolvem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saremos las bases de datos del SERVEL para los vot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saremos las mismas bases del SERVEL para los candidada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endremos nuestra propia base de datos de votaciones en donde registraremos las vot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formaremos los resultados directamente a los medios de comun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Cómo distribuimos las funcion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sde PC (Browsers) se hará la administración de los procesos (inicia, detener, inform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os candidatos deberán ir hacia los Administradores para inscribi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sde PC (Browsers) y desde MID la gente podrá inscribirse como vot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sde PC (Browsers) y desde MID la gente podrá vo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Mapa de la Aplicación Empresaria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06" name="Imagen 3" descr=""/>
          <p:cNvPicPr/>
          <p:nvPr/>
        </p:nvPicPr>
        <p:blipFill>
          <a:blip r:embed="rId2"/>
          <a:stretch/>
        </p:blipFill>
        <p:spPr>
          <a:xfrm>
            <a:off x="609480" y="2057400"/>
            <a:ext cx="1168560" cy="800280"/>
          </a:xfrm>
          <a:prstGeom prst="rect">
            <a:avLst/>
          </a:prstGeom>
          <a:ln w="0">
            <a:noFill/>
          </a:ln>
        </p:spPr>
      </p:pic>
      <p:pic>
        <p:nvPicPr>
          <p:cNvPr id="107" name="Imagen 4" descr=""/>
          <p:cNvPicPr/>
          <p:nvPr/>
        </p:nvPicPr>
        <p:blipFill>
          <a:blip r:embed="rId3"/>
          <a:stretch/>
        </p:blipFill>
        <p:spPr>
          <a:xfrm>
            <a:off x="1117440" y="4699080"/>
            <a:ext cx="1168560" cy="711000"/>
          </a:xfrm>
          <a:prstGeom prst="rect">
            <a:avLst/>
          </a:prstGeom>
          <a:ln w="0">
            <a:noFill/>
          </a:ln>
        </p:spPr>
      </p:pic>
      <p:sp>
        <p:nvSpPr>
          <p:cNvPr id="108" name="Cubo 5"/>
          <p:cNvSpPr/>
          <p:nvPr/>
        </p:nvSpPr>
        <p:spPr>
          <a:xfrm>
            <a:off x="4114800" y="3429000"/>
            <a:ext cx="1066680" cy="12952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ilindro 6"/>
          <p:cNvSpPr/>
          <p:nvPr/>
        </p:nvSpPr>
        <p:spPr>
          <a:xfrm>
            <a:off x="6934320" y="5181480"/>
            <a:ext cx="1218960" cy="1295640"/>
          </a:xfrm>
          <a:prstGeom prst="can">
            <a:avLst>
              <a:gd name="adj" fmla="val 2352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o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ilindro 7"/>
          <p:cNvSpPr/>
          <p:nvPr/>
        </p:nvSpPr>
        <p:spPr>
          <a:xfrm>
            <a:off x="7696080" y="3657600"/>
            <a:ext cx="990720" cy="1295280"/>
          </a:xfrm>
          <a:prstGeom prst="can">
            <a:avLst>
              <a:gd name="adj" fmla="val 191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r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Conector recto de flecha 9"/>
          <p:cNvCxnSpPr>
            <a:endCxn id="108" idx="2"/>
          </p:cNvCxnSpPr>
          <p:nvPr/>
        </p:nvCxnSpPr>
        <p:spPr>
          <a:xfrm>
            <a:off x="1777680" y="2457000"/>
            <a:ext cx="2337480" cy="1753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Conector recto de flecha 10"/>
          <p:cNvCxnSpPr>
            <a:endCxn id="108" idx="2"/>
          </p:cNvCxnSpPr>
          <p:nvPr/>
        </p:nvCxnSpPr>
        <p:spPr>
          <a:xfrm flipV="1">
            <a:off x="2286000" y="4209840"/>
            <a:ext cx="1829520" cy="84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Conector recto de flecha 13"/>
          <p:cNvCxnSpPr>
            <a:stCxn id="108" idx="5"/>
            <a:endCxn id="109" idx="2"/>
          </p:cNvCxnSpPr>
          <p:nvPr/>
        </p:nvCxnSpPr>
        <p:spPr>
          <a:xfrm>
            <a:off x="5181120" y="3943080"/>
            <a:ext cx="1753560" cy="188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Conector recto de flecha 16"/>
          <p:cNvCxnSpPr>
            <a:stCxn id="108" idx="5"/>
            <a:endCxn id="110" idx="2"/>
          </p:cNvCxnSpPr>
          <p:nvPr/>
        </p:nvCxnSpPr>
        <p:spPr>
          <a:xfrm>
            <a:off x="5181120" y="3943080"/>
            <a:ext cx="251532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Nube 25"/>
          <p:cNvSpPr/>
          <p:nvPr/>
        </p:nvSpPr>
        <p:spPr>
          <a:xfrm>
            <a:off x="5715000" y="1828800"/>
            <a:ext cx="2057400" cy="144792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en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Conector recto de flecha 26"/>
          <p:cNvCxnSpPr>
            <a:stCxn id="108" idx="5"/>
            <a:endCxn id="115" idx="4"/>
          </p:cNvCxnSpPr>
          <p:nvPr/>
        </p:nvCxnSpPr>
        <p:spPr>
          <a:xfrm flipV="1">
            <a:off x="5181480" y="3274200"/>
            <a:ext cx="1563120" cy="66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7" name="Rectángulo 29"/>
          <p:cNvSpPr/>
          <p:nvPr/>
        </p:nvSpPr>
        <p:spPr>
          <a:xfrm>
            <a:off x="491760" y="167652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c (brows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ángulo 30"/>
          <p:cNvSpPr/>
          <p:nvPr/>
        </p:nvSpPr>
        <p:spPr>
          <a:xfrm>
            <a:off x="1452240" y="43434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ángulo 31"/>
          <p:cNvSpPr/>
          <p:nvPr/>
        </p:nvSpPr>
        <p:spPr>
          <a:xfrm>
            <a:off x="838080" y="2895480"/>
            <a:ext cx="1981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niciar Vot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Cerrar Vot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Hacer Recu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nformar Resul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ángulo 32"/>
          <p:cNvSpPr/>
          <p:nvPr/>
        </p:nvSpPr>
        <p:spPr>
          <a:xfrm>
            <a:off x="1661040" y="2082960"/>
            <a:ext cx="18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nscribir Candida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ángulo 33"/>
          <p:cNvSpPr/>
          <p:nvPr/>
        </p:nvSpPr>
        <p:spPr>
          <a:xfrm>
            <a:off x="1959480" y="2311560"/>
            <a:ext cx="16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nscribir Vot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ángulo 36"/>
          <p:cNvSpPr/>
          <p:nvPr/>
        </p:nvSpPr>
        <p:spPr>
          <a:xfrm>
            <a:off x="2429280" y="4950000"/>
            <a:ext cx="16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nscribir Vot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ángulo 37"/>
          <p:cNvSpPr/>
          <p:nvPr/>
        </p:nvSpPr>
        <p:spPr>
          <a:xfrm>
            <a:off x="2265840" y="2540160"/>
            <a:ext cx="17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Recibir Vot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ángulo 38"/>
          <p:cNvSpPr/>
          <p:nvPr/>
        </p:nvSpPr>
        <p:spPr>
          <a:xfrm>
            <a:off x="2278440" y="5254560"/>
            <a:ext cx="17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Recibir Vot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Mientras la Software Factory Trabaja … ¿qué hacemos?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ay temas que NO son responsabilidad de la Aplicación ( … recordar, pastero a tus pastel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 las TIS, además hay que prepararse para recibir una aplicación empresarial, y urbanizar las bases para que ella pueda desempeñarse correct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empre, eso sí, se deben respetar estándares para tener un mismo contexto de obviedad. Hoy, por ejemplo, JAVA EE (J2EE) y .NET proponen estrategias al resp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Urbanización (Plataformas de TI)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veernos de las bases para las aplic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principales “esperabl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des (Firewalls, prox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plication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Mem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calabi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Fault 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posito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ersist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istribui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¿Cómo el SW se cuadra con la política de TIs?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Hablemos de algunos Ejemplos: JAVA 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RVL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A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Un Clásico de Arquitectura Empresaria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8269200" cy="3429000"/>
          </a:xfrm>
          <a:prstGeom prst="rect">
            <a:avLst/>
          </a:prstGeom>
          <a:ln w="0">
            <a:noFill/>
          </a:ln>
        </p:spPr>
      </p:pic>
      <p:sp>
        <p:nvSpPr>
          <p:cNvPr id="133" name="Rectángulo 3"/>
          <p:cNvSpPr/>
          <p:nvPr/>
        </p:nvSpPr>
        <p:spPr>
          <a:xfrm>
            <a:off x="3733920" y="3048120"/>
            <a:ext cx="75960" cy="182880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ángulo 6"/>
          <p:cNvSpPr/>
          <p:nvPr/>
        </p:nvSpPr>
        <p:spPr>
          <a:xfrm>
            <a:off x="3309840" y="2739960"/>
            <a:ext cx="8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fire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¿y los MID, que rol juegan?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457200" y="1828800"/>
            <a:ext cx="8381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iendo el Mapa, los MID son SÓLO UNA PIEZA MÁS DEL GLO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son el centro del negocio, sino un tipo de dispositivo para acceder a parte de las funcionalidades de nuestro ejemplo (inscribirse y vot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si sólo, el MID en este caso no tiene relevancia (hay casos en que sí las tiene, como en los juegos o aplicaciones stand-alone, pero hoy … ya casi no existen ese tipo de aplicaciones, ya que todos están contesta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gunas interroga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¿que tipo de componentes residen en el MID? ¿capa I, II ó II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¿y el pc (browser), comparado con el MID, en que se diferenci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¿para que MID desarrollamos? (iPhone, Android, MeeG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¿por qué no usamos el MID con su brows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Para el Sistema de Elecciones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380988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gunas ideas de lo que podemos requerir en el M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PIs de conectividad a Capa II (WebService? Base de Datos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PIs de GeoReferenciación (no puedes votar si no estás en Chile) </a:t>
            </a:r>
            <a:r>
              <a:rPr b="0" lang="es-C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dónde esta el servicio que lo valid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Multiidiom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Video y sonido? (Propaganda por ejemp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arece que acelerómetro no sería muy útil ¿o sí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o versus lo que el OS y el Dispositivo ofrezca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magen 3" descr=""/>
          <p:cNvPicPr/>
          <p:nvPr/>
        </p:nvPicPr>
        <p:blipFill>
          <a:blip r:embed="rId2"/>
          <a:stretch/>
        </p:blipFill>
        <p:spPr>
          <a:xfrm>
            <a:off x="1143000" y="1836720"/>
            <a:ext cx="259092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Focalicémosnos en MVC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373392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trón por excelencia en Capa de Pres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, en concreto, una separación en sub-ca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preserva la filosofía de “pastelero a tus pastel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consecuencia ¡se puede también usar estrategia de Modelo de Contrato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4191120" y="1752480"/>
            <a:ext cx="47815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Elemplo de Diseño vía MVC (Request “votar”)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cxnSp>
        <p:nvCxnSpPr>
          <p:cNvPr id="144" name="Conector recto de flecha 6"/>
          <p:cNvCxnSpPr/>
          <p:nvPr/>
        </p:nvCxnSpPr>
        <p:spPr>
          <a:xfrm>
            <a:off x="456840" y="2743200"/>
            <a:ext cx="205776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5" name="Rectángulo 8"/>
          <p:cNvSpPr/>
          <p:nvPr/>
        </p:nvSpPr>
        <p:spPr>
          <a:xfrm>
            <a:off x="579960" y="2362320"/>
            <a:ext cx="170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Quiero votar por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e 10"/>
          <p:cNvSpPr/>
          <p:nvPr/>
        </p:nvSpPr>
        <p:spPr>
          <a:xfrm>
            <a:off x="2514600" y="2286000"/>
            <a:ext cx="1752480" cy="1600200"/>
          </a:xfrm>
          <a:prstGeom prst="ellipse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3611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ángulo 11"/>
          <p:cNvSpPr/>
          <p:nvPr/>
        </p:nvSpPr>
        <p:spPr>
          <a:xfrm>
            <a:off x="914400" y="5943600"/>
            <a:ext cx="4038480" cy="609480"/>
          </a:xfrm>
          <a:prstGeom prst="rect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PIs del M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Conector recto de flecha 12"/>
          <p:cNvCxnSpPr>
            <a:stCxn id="146" idx="4"/>
          </p:cNvCxnSpPr>
          <p:nvPr/>
        </p:nvCxnSpPr>
        <p:spPr>
          <a:xfrm flipH="1">
            <a:off x="2057040" y="3885840"/>
            <a:ext cx="1334160" cy="2057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9" name="Conector recto de flecha 16"/>
          <p:cNvCxnSpPr>
            <a:stCxn id="146" idx="4"/>
          </p:cNvCxnSpPr>
          <p:nvPr/>
        </p:nvCxnSpPr>
        <p:spPr>
          <a:xfrm flipH="1">
            <a:off x="2971440" y="3885840"/>
            <a:ext cx="419760" cy="2057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0" name="Conector recto de flecha 22"/>
          <p:cNvCxnSpPr>
            <a:stCxn id="146" idx="4"/>
          </p:cNvCxnSpPr>
          <p:nvPr/>
        </p:nvCxnSpPr>
        <p:spPr>
          <a:xfrm>
            <a:off x="3389760" y="3885840"/>
            <a:ext cx="648360" cy="2057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1" name="Conector recto de flecha 25"/>
          <p:cNvCxnSpPr/>
          <p:nvPr/>
        </p:nvCxnSpPr>
        <p:spPr>
          <a:xfrm>
            <a:off x="4266720" y="3123720"/>
            <a:ext cx="259164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52" name="Rectángulo 30"/>
          <p:cNvSpPr/>
          <p:nvPr/>
        </p:nvSpPr>
        <p:spPr>
          <a:xfrm>
            <a:off x="1828800" y="43434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ntrol de Se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ángulo 31"/>
          <p:cNvSpPr/>
          <p:nvPr/>
        </p:nvSpPr>
        <p:spPr>
          <a:xfrm>
            <a:off x="2590920" y="51912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G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efer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ángulo 32"/>
          <p:cNvSpPr/>
          <p:nvPr/>
        </p:nvSpPr>
        <p:spPr>
          <a:xfrm>
            <a:off x="3352680" y="502596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nec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ángulo 34"/>
          <p:cNvSpPr/>
          <p:nvPr/>
        </p:nvSpPr>
        <p:spPr>
          <a:xfrm>
            <a:off x="4419720" y="230976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OY X Y QUIERO VOTAR POR Y ESTANDO ES (A,B,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Nube 36"/>
          <p:cNvSpPr/>
          <p:nvPr/>
        </p:nvSpPr>
        <p:spPr>
          <a:xfrm rot="16200000">
            <a:off x="6362640" y="2933640"/>
            <a:ext cx="3276720" cy="1981440"/>
          </a:xfrm>
          <a:prstGeom prst="pie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108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3611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Imagen 3" descr=""/>
          <p:cNvPicPr/>
          <p:nvPr/>
        </p:nvPicPr>
        <p:blipFill>
          <a:blip r:embed="rId2"/>
          <a:stretch/>
        </p:blipFill>
        <p:spPr>
          <a:xfrm>
            <a:off x="5943600" y="3733920"/>
            <a:ext cx="576360" cy="914400"/>
          </a:xfrm>
          <a:prstGeom prst="rect">
            <a:avLst/>
          </a:prstGeom>
          <a:ln w="0">
            <a:noFill/>
          </a:ln>
        </p:spPr>
      </p:pic>
      <p:pic>
        <p:nvPicPr>
          <p:cNvPr id="158" name="Imagen 3" descr=""/>
          <p:cNvPicPr/>
          <p:nvPr/>
        </p:nvPicPr>
        <p:blipFill>
          <a:blip r:embed="rId3"/>
          <a:stretch/>
        </p:blipFill>
        <p:spPr>
          <a:xfrm>
            <a:off x="5257800" y="4343400"/>
            <a:ext cx="576360" cy="914400"/>
          </a:xfrm>
          <a:prstGeom prst="rect">
            <a:avLst/>
          </a:prstGeom>
          <a:ln w="0">
            <a:noFill/>
          </a:ln>
        </p:spPr>
      </p:pic>
      <p:sp>
        <p:nvSpPr>
          <p:cNvPr id="159" name="Rectángulo 39"/>
          <p:cNvSpPr/>
          <p:nvPr/>
        </p:nvSpPr>
        <p:spPr>
          <a:xfrm>
            <a:off x="4267080" y="456876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Voto 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ángulo 40"/>
          <p:cNvSpPr/>
          <p:nvPr/>
        </p:nvSpPr>
        <p:spPr>
          <a:xfrm>
            <a:off x="5638680" y="342576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Voto NO 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Conector recto de flecha 41"/>
          <p:cNvCxnSpPr>
            <a:stCxn id="146" idx="5"/>
          </p:cNvCxnSpPr>
          <p:nvPr/>
        </p:nvCxnSpPr>
        <p:spPr>
          <a:xfrm>
            <a:off x="4008960" y="3651120"/>
            <a:ext cx="1934280" cy="540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2" name="Conector recto de flecha 44"/>
          <p:cNvCxnSpPr>
            <a:stCxn id="146" idx="5"/>
          </p:cNvCxnSpPr>
          <p:nvPr/>
        </p:nvCxnSpPr>
        <p:spPr>
          <a:xfrm>
            <a:off x="4010040" y="3650760"/>
            <a:ext cx="1248480" cy="1150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3" name="Rectángulo 47"/>
          <p:cNvSpPr/>
          <p:nvPr/>
        </p:nvSpPr>
        <p:spPr>
          <a:xfrm>
            <a:off x="5573160" y="5345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3d9c1"/>
                </a:solidFill>
                <a:latin typeface="Arial"/>
              </a:rPr>
              <a:t>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Tecnología en el día a día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ases para el planteamiento de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tecnología (y las aplicaciones) son herramientas, no razones de ser ni objetivos fi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ferencia entre un aplicativo para nivel “empresa o masivo” versus una aplicación puntual (botiller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necesita diferenciar a quien se va a ayudar (pensar en é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aplicación apoya para “solucionar” problemas (No ocasionarlos)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ojo con la complej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Pensando en nuestro Proyecto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457200" y="1828800"/>
            <a:ext cx="8381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un trabajo 80% en Capa 1 y para un determinado tipo de dispositivo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hay dependencia con la tecnología del dispositivo (PC, browser, MID, celul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Capa 1 hay que responsabilizarse 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La navegación (como se presentan las opciones al usua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La interacción (botoneras, movimiento, clic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La seguridad (controlar que sea quien dice s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Es una capa “tonta” (no sabe ni tiene que saber nada del negocio; solo de buenas relaciones con el usua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Llamar a muchos servicios de capa 2 para que hagan el trabajo duro (inteligenc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Capa 2 y 3, debemos enfocarnos sólo en un 20% … lo necesario para que funcione (usar dummies; usar servicios existentes, pero no desgastarse aqu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¿y en nuestro caso?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pendiendo del dispositivo y el lenguaje a escoger, buscar componentes pre-existentes de Capa 1 que faciliten el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las Capas 2 y 3, hacer/buscar compon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os que se quieren integrar con Google, Transantiago, etc, avertiguar si hay, por ejemplo, WebServi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odemos inventar componentes DUMMIES para cerrar el ciclo (si no son tan importa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os que sí son importantes, implementar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o es necesario hacer modelos de datos ni bases desde cero (reutilizar alguna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arrollar por Modelo de Contratos (entre cap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mo la CAPA 1 es el centro, diseñarla (navegación, sus datos, etc.) y que ella dictamine los servicios de CAPA 2 que necesitar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PA 2 necesita mezclar varios servicios de CAPA 3 para poder hacer la inteligenci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ara los servicios de CAPA 3, reutilizar existentes o hacer DUMM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Algunas Lecturas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arrollo en Cap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http://www.javaworld.com/javaworld/jw-12-2000/jw-1201-weblogic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ándares Empresaria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http://java.sun.com/j2ee/appmodel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http://publib.boulder.ibm.com/infocenter/ws60help/topic/com.ibm.websphere.express.doc/info/exp/ae/covr_j2ee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http://www.oracle.com/technetwork/java/javaee/tech/index-jsp-142185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trones de Diseñ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http://java.sun.com/blueprints/corej2eepatte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http://java.sun.com/blueprints/corej2eepatterns/Patterns/index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http://java.sun.com/blueprints/patterns/MVC-detailed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CL" sz="2800" spc="-1" strike="noStrike">
                <a:solidFill>
                  <a:srgbClr val="0066cc"/>
                </a:solidFill>
                <a:latin typeface="Arial"/>
              </a:rPr>
              <a:t>¿Dudas?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Aplicación Empresaria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rá usada por muchas personas, al mismo tiempo, y será parte integrante de su que-ha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dentificar a quien está al f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ómo se va a usar (calle, oficina, bajo el agu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neralmente, disponible 24x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lerante a fa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ar respuesta rápida (perform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alimenta de información de muchos y distintos tipos de reposito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ultidioma; multiz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continuo cambio (flexi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Aplicación Empresaria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mplos??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WebBa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go de Im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Bolsa en Lí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sonal de Terreno de Chilectra, Metro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cuest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ettings Zone Web 2.0 (facebook, twitter, google**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oma de Muest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otaciones Presidencia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¿cómo enfrentarlas?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stelero a tus paste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eñar y desarrollar por ca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blecer “acuerdos” o “contratos” entre las ca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r patr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r estánd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lenguaje a utilizar depende de la tecnología a utilizar (el lenguaje no es el centro de la decisión) … java ee,  pascal ee, basic ee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rientación a Objetos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un gran al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Capas en el Diseño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358120" cy="25905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457200" y="464832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pa 1: encargada del usuario, la navegación y la inter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pa 2: es la inteligencia, la que sabe sumar y res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pa 3: son los servicios de datos básicos y granul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Diseñar en base a Componentes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onentes son unidades de SW que realizan una tarea concreta y precisa. Deben ser lo más genérico posible, dentro de sus op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lo conocemos de ellos la “firma de sus métodos”. Su implementación es una caja negra. Por 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mponente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lecciones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public void inscribeVotante(Votante VO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public void inscribeCandidato(CandidatoVO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public CandidatoVO obtienePresidente(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 componente pertenece intrínsecamente a una CAPA (no puede contaminarse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En qué ayu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arrollo de grandes aplicaciones en pequeños pa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utilización de compon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acoplamiento de la capa 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rientación a Servi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quisición de compon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ducción del ciclo de desarrollo de aplic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Patrones de Diseño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373392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desarrollos empresariales, es necesario seguir ciertas “buenas prácticas”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los Patrones de 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trón: “una sugerencia de cómo enfrentar un problema conocid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ay patrones para Capa 1, Capa 2 y Capa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 es necesario usarlos “todos”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80880" y="57913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atrones SUN para JAVA EE: </a:t>
            </a:r>
            <a:r>
              <a:rPr b="0" lang="es-CL" sz="1600" spc="-1" strike="noStrike" u="sng">
                <a:solidFill>
                  <a:srgbClr val="ffffff"/>
                </a:solidFill>
                <a:uFillTx/>
                <a:latin typeface="Arial"/>
              </a:rPr>
              <a:t>http://java.sun.com/blueprints/corej2eepatterns/Patterns/index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4267080" y="160020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Diseñando un Aplicativo Empresaria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a tenemos varios tips … En resum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iseño en base a Capas (I, II y 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n base a compon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so de Patrones de 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anteemos el Proble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mplementar un Sistema de Votaciones Presidenciale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ncipales Funci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scribir Candida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scribir Vot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iciar Vot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cibir Vot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errar Vot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acer Recu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formar Resul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9T16:50:29Z</dcterms:created>
  <dc:creator>egodoy</dc:creator>
  <dc:description/>
  <dc:language>en-US</dc:language>
  <cp:lastModifiedBy>Alejandro Ituarte</cp:lastModifiedBy>
  <dcterms:modified xsi:type="dcterms:W3CDTF">2010-08-19T20:32:29Z</dcterms:modified>
  <cp:revision>33</cp:revision>
  <dc:subject/>
  <dc:title>CC61Y Desarrollo de Aplicaciones para MID (RC)</dc:title>
</cp:coreProperties>
</file>