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560D-F364-42CE-9ADE-AF0C98F5D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4086720"/>
            <a:ext cx="838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489F-6495-4103-BA11-1AAB6CECA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40867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40867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2F29-11CF-44DA-BA5F-2ADA436FE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173844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173844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408672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408672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408672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C013-84AB-40EF-9048-C344FEB12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ABAE6-4FAE-41E2-AD8C-21FEB435F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3696C-9371-41D9-8563-DFDB32741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159DE-FCD6-441D-814A-9CE141FF4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2DFA6-81CF-4CB9-9389-3B31B3EB9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1B73B-D8F6-43A8-BD5B-E13B2332C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4760" y="151920"/>
            <a:ext cx="640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03565-A9E9-4583-B2EA-58AC89C66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40867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E415A-4EFA-4075-A260-CAF5A095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8565-2E0F-42AE-88F5-5EB1AC616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40867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82D3E-A618-4E36-BEDA-DF5FA1FBE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4086720"/>
            <a:ext cx="838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9746F-53A6-4C53-A405-AE811805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4086720"/>
            <a:ext cx="838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F773A-D1FA-44C2-9A32-72B87B26F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40867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40867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CE534-E4AD-43F1-BA4C-1476B521D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73844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73844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408672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408672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408672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D315A-AB6B-436C-9281-C54E0C5AE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6565-00C3-46C6-B670-4846002FC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8168-7ADE-4BAE-AF5D-E1FC2F72C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7CE6-1DEF-4436-A372-44B6DA5CD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4760" y="151920"/>
            <a:ext cx="640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61AE-B3BE-4107-9F08-5188ECF13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40867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7378-E4C4-4EB7-A701-1E3F28719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40867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274F-86DC-4889-B82F-25455E86A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4086720"/>
            <a:ext cx="838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E0B0-1431-4FD5-9203-77E710317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9160" y="6400800"/>
            <a:ext cx="213336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3AA0C-D33A-4096-BB12-C55246C2790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4320" y="6400800"/>
            <a:ext cx="213336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16694-703B-4E05-B5CB-E390D12662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04400" y="640080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AFA61-C9CC-417D-A03D-94A3BBF0CB5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934320" y="6400800"/>
            <a:ext cx="21333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3C09D-02AB-4FB8-B1E4-32B3EEC7C2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66cc"/>
                </a:solidFill>
                <a:latin typeface="Arial"/>
              </a:rPr>
              <a:t>CC61Y</a:t>
            </a:r>
            <a:br>
              <a:rPr sz="1200"/>
            </a:br>
            <a:r>
              <a:rPr b="0" lang="es-CL" sz="1200" spc="-1" strike="noStrike">
                <a:solidFill>
                  <a:srgbClr val="0066cc"/>
                </a:solidFill>
                <a:latin typeface="Arial"/>
              </a:rPr>
              <a:t>Desarrollo de Aplicaciones para MID (RC)</a:t>
            </a:r>
            <a:br>
              <a:rPr sz="2800"/>
            </a:br>
            <a:r>
              <a:rPr b="0" lang="es-CL" sz="2800" spc="-1" strike="noStrike">
                <a:solidFill>
                  <a:srgbClr val="0066cc"/>
                </a:solidFill>
                <a:latin typeface="Arial"/>
              </a:rPr>
              <a:t>Diseño Empresarial</a:t>
            </a: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600200" y="1523520"/>
            <a:ext cx="59436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Profesores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Eduardo Godoy (egodoy@dcc.uchile.cl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Alejandro Ituarte (aituarte@schema.cl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Definamos una Estrategia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¿Cómo lo resolvemo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Usaremos las bases de datos del SERVEL para los vota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Usaremos las mismas bases del SERVEL para los candidada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Tendremos nuestra propia base de datos de votaciones en donde registraremos las vota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formaremos los resultados directamente a los medios de comunic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¿Cómo distribuimos las funcion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esde PC (Browsers) se hará la administración de los procesos (inicia, detener, informa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os candidatos deberán ir hacia los Administradores para inscribir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esde PC (Browsers) y desde MID la gente podrá inscribirse como vota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esde PC (Browsers) y desde MID la gente podrá vot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Mapa de la Aplicación Empresarial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106" name="Imagen 3" descr=""/>
          <p:cNvPicPr/>
          <p:nvPr/>
        </p:nvPicPr>
        <p:blipFill>
          <a:blip r:embed="rId2"/>
          <a:stretch/>
        </p:blipFill>
        <p:spPr>
          <a:xfrm>
            <a:off x="609480" y="2057400"/>
            <a:ext cx="1168560" cy="800280"/>
          </a:xfrm>
          <a:prstGeom prst="rect">
            <a:avLst/>
          </a:prstGeom>
          <a:ln w="0">
            <a:noFill/>
          </a:ln>
        </p:spPr>
      </p:pic>
      <p:pic>
        <p:nvPicPr>
          <p:cNvPr id="107" name="Imagen 4" descr=""/>
          <p:cNvPicPr/>
          <p:nvPr/>
        </p:nvPicPr>
        <p:blipFill>
          <a:blip r:embed="rId3"/>
          <a:stretch/>
        </p:blipFill>
        <p:spPr>
          <a:xfrm>
            <a:off x="1117440" y="4699080"/>
            <a:ext cx="1168560" cy="711000"/>
          </a:xfrm>
          <a:prstGeom prst="rect">
            <a:avLst/>
          </a:prstGeom>
          <a:ln w="0">
            <a:noFill/>
          </a:ln>
        </p:spPr>
      </p:pic>
      <p:sp>
        <p:nvSpPr>
          <p:cNvPr id="108" name="Cubo 5"/>
          <p:cNvSpPr/>
          <p:nvPr/>
        </p:nvSpPr>
        <p:spPr>
          <a:xfrm>
            <a:off x="4114800" y="3429000"/>
            <a:ext cx="1066680" cy="12952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Cilindro 6"/>
          <p:cNvSpPr/>
          <p:nvPr/>
        </p:nvSpPr>
        <p:spPr>
          <a:xfrm>
            <a:off x="6934320" y="5181480"/>
            <a:ext cx="1218960" cy="1295640"/>
          </a:xfrm>
          <a:prstGeom prst="can">
            <a:avLst>
              <a:gd name="adj" fmla="val 23527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o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Cilindro 7"/>
          <p:cNvSpPr/>
          <p:nvPr/>
        </p:nvSpPr>
        <p:spPr>
          <a:xfrm>
            <a:off x="7696080" y="3657600"/>
            <a:ext cx="990720" cy="1295280"/>
          </a:xfrm>
          <a:prstGeom prst="can">
            <a:avLst>
              <a:gd name="adj" fmla="val 191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r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Conector recto de flecha 9"/>
          <p:cNvCxnSpPr>
            <a:endCxn id="108" idx="2"/>
          </p:cNvCxnSpPr>
          <p:nvPr/>
        </p:nvCxnSpPr>
        <p:spPr>
          <a:xfrm>
            <a:off x="1777680" y="2457000"/>
            <a:ext cx="2337480" cy="1753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2" name="Conector recto de flecha 10"/>
          <p:cNvCxnSpPr>
            <a:endCxn id="108" idx="2"/>
          </p:cNvCxnSpPr>
          <p:nvPr/>
        </p:nvCxnSpPr>
        <p:spPr>
          <a:xfrm flipV="1">
            <a:off x="2286000" y="4209840"/>
            <a:ext cx="1829520" cy="845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Conector recto de flecha 13"/>
          <p:cNvCxnSpPr>
            <a:stCxn id="108" idx="5"/>
            <a:endCxn id="109" idx="2"/>
          </p:cNvCxnSpPr>
          <p:nvPr/>
        </p:nvCxnSpPr>
        <p:spPr>
          <a:xfrm>
            <a:off x="5181120" y="3943080"/>
            <a:ext cx="1753560" cy="188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Conector recto de flecha 16"/>
          <p:cNvCxnSpPr>
            <a:stCxn id="108" idx="5"/>
            <a:endCxn id="110" idx="2"/>
          </p:cNvCxnSpPr>
          <p:nvPr/>
        </p:nvCxnSpPr>
        <p:spPr>
          <a:xfrm>
            <a:off x="5181120" y="3943080"/>
            <a:ext cx="251532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Nube 25"/>
          <p:cNvSpPr/>
          <p:nvPr/>
        </p:nvSpPr>
        <p:spPr>
          <a:xfrm>
            <a:off x="5715000" y="1828800"/>
            <a:ext cx="2057400" cy="144792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en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Conector recto de flecha 26"/>
          <p:cNvCxnSpPr>
            <a:stCxn id="108" idx="5"/>
            <a:endCxn id="115" idx="4"/>
          </p:cNvCxnSpPr>
          <p:nvPr/>
        </p:nvCxnSpPr>
        <p:spPr>
          <a:xfrm flipV="1">
            <a:off x="5181480" y="3274200"/>
            <a:ext cx="1563120" cy="66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7" name="Rectángulo 29"/>
          <p:cNvSpPr/>
          <p:nvPr/>
        </p:nvSpPr>
        <p:spPr>
          <a:xfrm>
            <a:off x="491760" y="1676520"/>
            <a:ext cx="14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c (brows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ángulo 30"/>
          <p:cNvSpPr/>
          <p:nvPr/>
        </p:nvSpPr>
        <p:spPr>
          <a:xfrm>
            <a:off x="1452240" y="434340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ángulo 31"/>
          <p:cNvSpPr/>
          <p:nvPr/>
        </p:nvSpPr>
        <p:spPr>
          <a:xfrm>
            <a:off x="838080" y="2895480"/>
            <a:ext cx="1981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Iniciar Vota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Cerrar Vota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Hacer Recu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Informar Result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ángulo 32"/>
          <p:cNvSpPr/>
          <p:nvPr/>
        </p:nvSpPr>
        <p:spPr>
          <a:xfrm>
            <a:off x="1661040" y="2082960"/>
            <a:ext cx="185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Inscribir Candida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ángulo 33"/>
          <p:cNvSpPr/>
          <p:nvPr/>
        </p:nvSpPr>
        <p:spPr>
          <a:xfrm>
            <a:off x="1959480" y="2311560"/>
            <a:ext cx="16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Inscribir Vota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ángulo 36"/>
          <p:cNvSpPr/>
          <p:nvPr/>
        </p:nvSpPr>
        <p:spPr>
          <a:xfrm>
            <a:off x="2429280" y="4950000"/>
            <a:ext cx="16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Inscribir Vota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ángulo 37"/>
          <p:cNvSpPr/>
          <p:nvPr/>
        </p:nvSpPr>
        <p:spPr>
          <a:xfrm>
            <a:off x="2265840" y="2540160"/>
            <a:ext cx="176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Recibir Vota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ángulo 38"/>
          <p:cNvSpPr/>
          <p:nvPr/>
        </p:nvSpPr>
        <p:spPr>
          <a:xfrm>
            <a:off x="2278440" y="5254560"/>
            <a:ext cx="176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Recibir Vota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Mientras la Software Factory Trabaja … ¿qué hacemos?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Hay temas que NO son responsabilidad de la Aplicación ( … recordar, pastero a tus pastel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n las TIS, además hay que prepararse para recibir una aplicación empresarial, y urbanizar las bases para que ella pueda desempeñarse correcta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iempre, eso sí, se deben respetar estándares para tener un mismo contexto de obviedad. Hoy, por ejemplo, JAVA EE (J2EE) y .NET proponen estrategias al resp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Urbanización (Plataformas de TI)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veernos de las bases para las aplic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os principales “esperabl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des (Firewalls, prox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pplication 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Memo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lust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scalabil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Fault Tole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posito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ersisten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Distribui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Segur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¿Cómo el SW se cuadra con la política de TIs?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Hablemos de algunos Ejemplos: JAVA 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RVL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JD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J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JA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Un Clásico de Arquitectura Empresarial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2"/>
          <a:stretch/>
        </p:blipFill>
        <p:spPr>
          <a:xfrm>
            <a:off x="457200" y="2286000"/>
            <a:ext cx="8269200" cy="3429000"/>
          </a:xfrm>
          <a:prstGeom prst="rect">
            <a:avLst/>
          </a:prstGeom>
          <a:ln w="0">
            <a:noFill/>
          </a:ln>
        </p:spPr>
      </p:pic>
      <p:sp>
        <p:nvSpPr>
          <p:cNvPr id="133" name="Rectángulo 3"/>
          <p:cNvSpPr/>
          <p:nvPr/>
        </p:nvSpPr>
        <p:spPr>
          <a:xfrm>
            <a:off x="3733920" y="3048120"/>
            <a:ext cx="75960" cy="1828800"/>
          </a:xfrm>
          <a:prstGeom prst="rect">
            <a:avLst/>
          </a:prstGeom>
          <a:solidFill>
            <a:srgbClr val="ff66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ángulo 6"/>
          <p:cNvSpPr/>
          <p:nvPr/>
        </p:nvSpPr>
        <p:spPr>
          <a:xfrm>
            <a:off x="3309840" y="2739960"/>
            <a:ext cx="8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firew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¿y los MID, que rol juegan?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457200" y="1828800"/>
            <a:ext cx="83818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iendo el Mapa, los MID son SÓLO UNA PIEZA MÁS DEL GLOB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 son el centro del negocio, sino un tipo de dispositivo para acceder a parte de las funcionalidades de nuestro ejemplo (inscribirse y vot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or si sólo, el MID en este caso no tiene relevancia (hay casos en que sí las tiene, como en los juegos o aplicaciones stand-alone, pero hoy … ya casi no existen ese tipo de aplicaciones, ya que todos están contestad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gunas interroga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¿que tipo de componentes residen en el MID? ¿capa I, II ó II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¿y el pc (browser), comparado con el MID, en que se diferenci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¿para que MID desarrollamos? (iPhone, Android, MeeG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¿por qué no usamos el MID con su brows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Para el Sistema de Elecciones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3809880" cy="45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gunas ideas de lo que podemos requerir en el MI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PIs de conectividad a Capa II (WebService? Base de Datos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PIs de GeoReferenciación (no puedes votar si no estás en Chile) </a:t>
            </a:r>
            <a:r>
              <a:rPr b="0" lang="es-C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dónde esta el servicio que lo valid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Multiidiom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Video y sonido? (Propaganda por ejempl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arece que acelerómetro no sería muy útil ¿o sí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o versus lo que el OS y el Dispositivo ofrezca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Imagen 3" descr=""/>
          <p:cNvPicPr/>
          <p:nvPr/>
        </p:nvPicPr>
        <p:blipFill>
          <a:blip r:embed="rId2"/>
          <a:stretch/>
        </p:blipFill>
        <p:spPr>
          <a:xfrm>
            <a:off x="1143000" y="1836720"/>
            <a:ext cx="2590920" cy="41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Focalicémosnos en MVC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3733920" cy="35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trón por excelencia en Capa de Presen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, en concreto, una separación en sub-cap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 preserva la filosofía de “pastelero a tus pastele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 consecuencia ¡se puede también usar estrategia de Modelo de Contrato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2"/>
          <a:stretch/>
        </p:blipFill>
        <p:spPr>
          <a:xfrm>
            <a:off x="4191120" y="1752480"/>
            <a:ext cx="47815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Elemplo de Diseño vía MVC (Request “votar”)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cxnSp>
        <p:nvCxnSpPr>
          <p:cNvPr id="144" name="Conector recto de flecha 6"/>
          <p:cNvCxnSpPr/>
          <p:nvPr/>
        </p:nvCxnSpPr>
        <p:spPr>
          <a:xfrm>
            <a:off x="456840" y="2743200"/>
            <a:ext cx="205776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5" name="Rectángulo 8"/>
          <p:cNvSpPr/>
          <p:nvPr/>
        </p:nvSpPr>
        <p:spPr>
          <a:xfrm>
            <a:off x="579960" y="2362320"/>
            <a:ext cx="170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Quiero votar por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lipse 10"/>
          <p:cNvSpPr/>
          <p:nvPr/>
        </p:nvSpPr>
        <p:spPr>
          <a:xfrm>
            <a:off x="2514600" y="2286000"/>
            <a:ext cx="1752480" cy="1600200"/>
          </a:xfrm>
          <a:prstGeom prst="ellipse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36110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ángulo 11"/>
          <p:cNvSpPr/>
          <p:nvPr/>
        </p:nvSpPr>
        <p:spPr>
          <a:xfrm>
            <a:off x="914400" y="5943600"/>
            <a:ext cx="4038480" cy="60948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PIs del M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Conector recto de flecha 12"/>
          <p:cNvCxnSpPr>
            <a:stCxn id="146" idx="4"/>
          </p:cNvCxnSpPr>
          <p:nvPr/>
        </p:nvCxnSpPr>
        <p:spPr>
          <a:xfrm flipH="1">
            <a:off x="2057040" y="3885840"/>
            <a:ext cx="1334160" cy="2057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49" name="Conector recto de flecha 16"/>
          <p:cNvCxnSpPr>
            <a:stCxn id="146" idx="4"/>
          </p:cNvCxnSpPr>
          <p:nvPr/>
        </p:nvCxnSpPr>
        <p:spPr>
          <a:xfrm flipH="1">
            <a:off x="2971440" y="3885840"/>
            <a:ext cx="419760" cy="2057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50" name="Conector recto de flecha 22"/>
          <p:cNvCxnSpPr>
            <a:stCxn id="146" idx="4"/>
          </p:cNvCxnSpPr>
          <p:nvPr/>
        </p:nvCxnSpPr>
        <p:spPr>
          <a:xfrm>
            <a:off x="3389760" y="3885840"/>
            <a:ext cx="648360" cy="2057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51" name="Conector recto de flecha 25"/>
          <p:cNvCxnSpPr/>
          <p:nvPr/>
        </p:nvCxnSpPr>
        <p:spPr>
          <a:xfrm>
            <a:off x="4266720" y="3123720"/>
            <a:ext cx="259164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52" name="Rectángulo 30"/>
          <p:cNvSpPr/>
          <p:nvPr/>
        </p:nvSpPr>
        <p:spPr>
          <a:xfrm>
            <a:off x="1828800" y="434340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ontrol de Ses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ángulo 31"/>
          <p:cNvSpPr/>
          <p:nvPr/>
        </p:nvSpPr>
        <p:spPr>
          <a:xfrm>
            <a:off x="2590920" y="519120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G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Refere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ángulo 32"/>
          <p:cNvSpPr/>
          <p:nvPr/>
        </p:nvSpPr>
        <p:spPr>
          <a:xfrm>
            <a:off x="3352680" y="502596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onectiv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ángulo 34"/>
          <p:cNvSpPr/>
          <p:nvPr/>
        </p:nvSpPr>
        <p:spPr>
          <a:xfrm>
            <a:off x="4419720" y="2309760"/>
            <a:ext cx="228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OY X Y QUIERO VOTAR POR Y ESTANDO ES (A,B,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Nube 36"/>
          <p:cNvSpPr/>
          <p:nvPr/>
        </p:nvSpPr>
        <p:spPr>
          <a:xfrm rot="16200000">
            <a:off x="6362640" y="2933640"/>
            <a:ext cx="3276720" cy="1981440"/>
          </a:xfrm>
          <a:prstGeom prst="pie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108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36110"/>
                </a:solidFill>
                <a:latin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Imagen 3" descr=""/>
          <p:cNvPicPr/>
          <p:nvPr/>
        </p:nvPicPr>
        <p:blipFill>
          <a:blip r:embed="rId2"/>
          <a:stretch/>
        </p:blipFill>
        <p:spPr>
          <a:xfrm>
            <a:off x="5943600" y="3733920"/>
            <a:ext cx="576360" cy="914400"/>
          </a:xfrm>
          <a:prstGeom prst="rect">
            <a:avLst/>
          </a:prstGeom>
          <a:ln w="0">
            <a:noFill/>
          </a:ln>
        </p:spPr>
      </p:pic>
      <p:pic>
        <p:nvPicPr>
          <p:cNvPr id="158" name="Imagen 3" descr=""/>
          <p:cNvPicPr/>
          <p:nvPr/>
        </p:nvPicPr>
        <p:blipFill>
          <a:blip r:embed="rId3"/>
          <a:stretch/>
        </p:blipFill>
        <p:spPr>
          <a:xfrm>
            <a:off x="5257800" y="4343400"/>
            <a:ext cx="576360" cy="914400"/>
          </a:xfrm>
          <a:prstGeom prst="rect">
            <a:avLst/>
          </a:prstGeom>
          <a:ln w="0">
            <a:noFill/>
          </a:ln>
        </p:spPr>
      </p:pic>
      <p:sp>
        <p:nvSpPr>
          <p:cNvPr id="159" name="Rectángulo 39"/>
          <p:cNvSpPr/>
          <p:nvPr/>
        </p:nvSpPr>
        <p:spPr>
          <a:xfrm>
            <a:off x="4267080" y="456876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Voto 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ángulo 40"/>
          <p:cNvSpPr/>
          <p:nvPr/>
        </p:nvSpPr>
        <p:spPr>
          <a:xfrm>
            <a:off x="5638680" y="342576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Voto NO 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" name="Conector recto de flecha 41"/>
          <p:cNvCxnSpPr>
            <a:stCxn id="146" idx="5"/>
          </p:cNvCxnSpPr>
          <p:nvPr/>
        </p:nvCxnSpPr>
        <p:spPr>
          <a:xfrm>
            <a:off x="4008960" y="3651120"/>
            <a:ext cx="1934280" cy="540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2" name="Conector recto de flecha 44"/>
          <p:cNvCxnSpPr>
            <a:stCxn id="146" idx="5"/>
          </p:cNvCxnSpPr>
          <p:nvPr/>
        </p:nvCxnSpPr>
        <p:spPr>
          <a:xfrm>
            <a:off x="4010040" y="3650760"/>
            <a:ext cx="1248480" cy="1150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3" name="Rectángulo 47"/>
          <p:cNvSpPr/>
          <p:nvPr/>
        </p:nvSpPr>
        <p:spPr>
          <a:xfrm>
            <a:off x="5573160" y="53452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3d9c1"/>
                </a:solidFill>
                <a:latin typeface="Arial"/>
              </a:rPr>
              <a:t>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Tecnología en el día a día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Bases para el planteamiento de Proye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tecnología (y las aplicaciones) son herramientas, no razones de ser ni objetivos fi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iferencia entre un aplicativo para nivel “empresa o masivo” versus una aplicación puntual (botillerí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necesita diferenciar a quien se va a ayudar (pensar en é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aplicación apoya para “solucionar” problemas (No ocasionarlos)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ojo con la complej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Pensando en nuestro Proyecto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457200" y="1828800"/>
            <a:ext cx="83818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 un trabajo 80% en Capa 1 y para un determinado tipo de dispositivo </a:t>
            </a:r>
            <a:r>
              <a:rPr b="0" lang="es-C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hay dependencia con la tecnología del dispositivo (PC, browser, MID, celul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Capa 1 hay que responsabilizarse 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La navegación (como se presentan las opciones al usuar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La interacción (botoneras, movimiento, click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La seguridad (controlar que sea quien dice s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Es una capa “tonta” (no sabe ni tiene que saber nada del negocio; solo de buenas relaciones con el usuar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Llamar a muchos servicios de capa 2 para que hagan el trabajo duro (inteligenc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Capa 2 y 3, debemos enfocarnos sólo en un 20% … lo necesario para que funcione (usar dummies; usar servicios existentes, pero no desgastarse aqu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¿y en nuestro caso?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pendiendo del dispositivo y el lenguaje a escoger, buscar componentes pre-existentes de Capa 1 que faciliten el tr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ra las Capas 2 y 3, hacer/buscar compon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os que se quieren integrar con Google, Transantiago, etc, avertiguar si hay, por ejemplo, WebServic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odemos inventar componentes DUMMIES para cerrar el ciclo (si no son tan important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os que sí son importantes, implementarl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No es necesario hacer modelos de datos ni bases desde cero (reutilizar alguna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arrollar por Modelo de Contratos (entre cap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mo la CAPA 1 es el centro, diseñarla (navegación, sus datos, etc.) y que ella dictamine los servicios de CAPA 2 que necesitar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APA 2 necesita mezclar varios servicios de CAPA 3 para poder hacer la inteligenci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ara los servicios de CAPA 3, reutilizar existentes o hacer DUMM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Algunas Lecturas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sarrollo en Capa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http://www.javaworld.com/javaworld/jw-12-2000/jw-1201-weblogic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ándares Empresaria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http://java.sun.com/j2ee/appmodel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http://publib.boulder.ibm.com/infocenter/ws60help/topic/com.ibm.websphere.express.doc/info/exp/ae/covr_j2ee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http://www.oracle.com/technetwork/java/javaee/tech/index-jsp-142185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trones de Diseñ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http://java.sun.com/blueprints/corej2eepatter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http://java.sun.com/blueprints/corej2eepatterns/Patterns/index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http://java.sun.com/blueprints/patterns/MVC-detailed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s-CL" sz="2800" spc="-1" strike="noStrike">
                <a:solidFill>
                  <a:srgbClr val="0066cc"/>
                </a:solidFill>
                <a:latin typeface="Arial"/>
              </a:rPr>
              <a:t>¿Dudas?</a:t>
            </a: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Aplicación Empresarial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rá usada por muchas personas, al mismo tiempo, y será parte integrante de su que-ha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b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dentificar a quien está al fr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ómo se va a usar (calle, oficina, bajo el agu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gur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eneralmente, disponible 24x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olerante a fa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ar respuesta rápida (performa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alimenta de información de muchos y distintos tipos de reposito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ultidioma; multiz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continuo cambio (flexi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Aplicación Empresarial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jemplos??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WebBan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go de Impues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Bolsa en Lín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ersonal de Terreno de Chilectra, Metrog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cuest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ettings Zone Web 2.0 (facebook, twitter, google**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oma de Muest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Votaciones Presidencial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¿cómo enfrentarlas?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astelero a tus pastel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iseñar y desarrollar por cap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ablecer “acuerdos” o “contratos” entre las cap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sar patr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sar estánd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lus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lenguaje a utilizar depende de la tecnología a utilizar (el lenguaje no es el centro de la decisión) … java ee,  pascal ee, basic ee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Orientación a Objetos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un gran ali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Capas en el Diseño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8358120" cy="259056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457200" y="464832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pa 1: encargada del usuario, la navegación y la intera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pa 2: es la inteligencia, la que sabe sumar y rest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pa 3: son los servicios de datos básicos y granula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Diseñar en base a Componentes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onentes son unidades de SW que realizan una tarea concreta y precisa. Deben ser lo más genérico posible, dentro de sus op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olo conocemos de ellos la “firma de sus métodos”. Su implementación es una caja negra. Por ejempl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mponente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Elecciones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public void inscribeVotante(Votante VO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public void inscribeCandidato(CandidatoVO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public CandidatoVO obtienePresidente(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Un componente pertenece intrínsecamente a una CAPA (no puede contaminarse!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¿En qué ayud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esarrollo de grandes aplicaciones en pequeños pa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Reutilización de compone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esacoplamiento de la capa cli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Orientación a Servic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dquisición de compone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Reducción del ciclo de desarrollo de aplica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Patrones de Diseño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3733920" cy="35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ra desarrollos empresariales, es necesario seguir ciertas “buenas prácticas” </a:t>
            </a:r>
            <a:r>
              <a:rPr b="0" lang="es-C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los Patrones de Dise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trón: “una sugerencia de cómo enfrentar un problema conocid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Hay patrones para Capa 1, Capa 2 y Capa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o es necesario usarlos “todos” 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380880" y="57913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atrones SUN para JAVA EE: </a:t>
            </a:r>
            <a:r>
              <a:rPr b="0" lang="es-CL" sz="1600" spc="-1" strike="noStrike" u="sng">
                <a:solidFill>
                  <a:srgbClr val="ffffff"/>
                </a:solidFill>
                <a:uFillTx/>
                <a:latin typeface="Arial"/>
              </a:rPr>
              <a:t>http://java.sun.com/blueprints/corej2eepatterns/Patterns/index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2"/>
          <a:stretch/>
        </p:blipFill>
        <p:spPr>
          <a:xfrm>
            <a:off x="4267080" y="1600200"/>
            <a:ext cx="41911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Diseñando un Aplicativo Empresarial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Ya tenemos varios tips … En resum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iseño en base a Capas (I, II y II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n base a compone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Uso de Patrones de Dise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lanteemos el Problem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Implementar un Sistema de Votaciones Presidenciales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incipales Funcion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Inscribir Candida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Inscribir Vota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Iniciar Vota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Recibir Vota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errar Vota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Hacer Recu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Informar Result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9T16:50:29Z</dcterms:created>
  <dc:creator>egodoy</dc:creator>
  <dc:description/>
  <dc:language>en-US</dc:language>
  <cp:lastModifiedBy>Alejandro Ituarte</cp:lastModifiedBy>
  <dcterms:modified xsi:type="dcterms:W3CDTF">2010-08-19T20:32:29Z</dcterms:modified>
  <cp:revision>33</cp:revision>
  <dc:subject/>
  <dc:title>CC61Y Desarrollo de Aplicaciones para MID (RC)</dc:title>
</cp:coreProperties>
</file>