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129-7AE6-41D3-9856-0BC1EBF0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DE2-14F7-4E47-8E70-42F7634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91C-F2A7-4ECE-8735-08B00FA9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82E-527F-42AF-AEEF-B91DFCF4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CF3E-11C7-4E44-80F6-8AF96A75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2F4D-CFC5-4445-8AE3-BE7AB929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A35B-F6B6-46D8-A499-25FF94E3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524F-749D-46E0-82B0-D6FC18D6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AD5B-C16F-4F6D-A28A-20090A77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50E9-DA48-4484-B4DB-D49A228C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B6CF-EA64-4B57-A6F9-196DFE31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156-670F-4A2D-AB08-AEB9A292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5647-CD9A-40FD-BB58-285EFFB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65FA-02E6-45BE-9F2E-8BF51993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F260-02AE-4768-A692-930393AC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D1F2-8EDC-4DFF-A42D-37BEFA5F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7678-4FBA-4EA0-B5D2-56818213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558-3A8C-493A-BFA8-12EE76D2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859-D812-42FA-9AED-512431FE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EB9-2723-41B8-AA99-E0E1362E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7E3-FC5F-4E59-AB96-A86D4252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0C5-8C08-4372-9336-15088E6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34A-DA6A-4031-B4B8-50CDB67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F2F-64F7-4AAD-946F-A0AB6A2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E059-F2ED-40B8-979F-723E65617D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C49-FDDD-4F94-91D7-EA7525767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CBC2-7BAC-4C6B-A645-8A79605BEB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DC0E-ECFA-4DA1-9114-1174B3B51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1200"/>
            </a:b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iseño Empresari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efinamos una Estrategi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ómo lo resolv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remos las bases de datos del SERVEL para los vo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remos las mismas bases del SERVEL para los candida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ndremos nuestra propia base de datos de votaciones en donde registraremos las vo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remos los resultados directamente a los medio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ómo distribuimos las funcion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se hará la administración de los procesos (inicia, detener, inform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andidatos deberán ir hacia los Administradores para inscribi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y desde MID la gente podrá inscribirse como vo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y desde MID la gente podrá vo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apa de la 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6" name="Imagen 3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1168560" cy="80028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4" descr=""/>
          <p:cNvPicPr/>
          <p:nvPr/>
        </p:nvPicPr>
        <p:blipFill>
          <a:blip r:embed="rId3"/>
          <a:stretch/>
        </p:blipFill>
        <p:spPr>
          <a:xfrm>
            <a:off x="1117440" y="4699080"/>
            <a:ext cx="1168560" cy="711000"/>
          </a:xfrm>
          <a:prstGeom prst="rect">
            <a:avLst/>
          </a:prstGeom>
          <a:ln w="0">
            <a:noFill/>
          </a:ln>
        </p:spPr>
      </p:pic>
      <p:sp>
        <p:nvSpPr>
          <p:cNvPr id="108" name="Cubo 5"/>
          <p:cNvSpPr/>
          <p:nvPr/>
        </p:nvSpPr>
        <p:spPr>
          <a:xfrm>
            <a:off x="4114800" y="3429000"/>
            <a:ext cx="1066680" cy="1295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ilindro 6"/>
          <p:cNvSpPr/>
          <p:nvPr/>
        </p:nvSpPr>
        <p:spPr>
          <a:xfrm>
            <a:off x="6934320" y="5181480"/>
            <a:ext cx="1218960" cy="1295640"/>
          </a:xfrm>
          <a:prstGeom prst="can">
            <a:avLst>
              <a:gd name="adj" fmla="val 2352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ilindro 7"/>
          <p:cNvSpPr/>
          <p:nvPr/>
        </p:nvSpPr>
        <p:spPr>
          <a:xfrm>
            <a:off x="7696080" y="3657600"/>
            <a:ext cx="990720" cy="1295280"/>
          </a:xfrm>
          <a:prstGeom prst="can">
            <a:avLst>
              <a:gd name="adj" fmla="val 191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r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ector recto de flecha 9"/>
          <p:cNvCxnSpPr>
            <a:endCxn id="108" idx="2"/>
          </p:cNvCxnSpPr>
          <p:nvPr/>
        </p:nvCxnSpPr>
        <p:spPr>
          <a:xfrm>
            <a:off x="1777680" y="2457000"/>
            <a:ext cx="2337480" cy="1753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Conector recto de flecha 10"/>
          <p:cNvCxnSpPr>
            <a:endCxn id="108" idx="2"/>
          </p:cNvCxnSpPr>
          <p:nvPr/>
        </p:nvCxnSpPr>
        <p:spPr>
          <a:xfrm flipV="1">
            <a:off x="2286000" y="4209840"/>
            <a:ext cx="1829520" cy="84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Conector recto de flecha 13"/>
          <p:cNvCxnSpPr>
            <a:stCxn id="108" idx="5"/>
            <a:endCxn id="109" idx="2"/>
          </p:cNvCxnSpPr>
          <p:nvPr/>
        </p:nvCxnSpPr>
        <p:spPr>
          <a:xfrm>
            <a:off x="5181120" y="3943080"/>
            <a:ext cx="1753560" cy="188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Conector recto de flecha 16"/>
          <p:cNvCxnSpPr>
            <a:stCxn id="108" idx="5"/>
            <a:endCxn id="110" idx="2"/>
          </p:cNvCxnSpPr>
          <p:nvPr/>
        </p:nvCxnSpPr>
        <p:spPr>
          <a:xfrm>
            <a:off x="5181120" y="3943080"/>
            <a:ext cx="251532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Nube 25"/>
          <p:cNvSpPr/>
          <p:nvPr/>
        </p:nvSpPr>
        <p:spPr>
          <a:xfrm>
            <a:off x="5715000" y="1828800"/>
            <a:ext cx="2057400" cy="14479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Conector recto de flecha 26"/>
          <p:cNvCxnSpPr>
            <a:stCxn id="108" idx="5"/>
            <a:endCxn id="115" idx="4"/>
          </p:cNvCxnSpPr>
          <p:nvPr/>
        </p:nvCxnSpPr>
        <p:spPr>
          <a:xfrm flipV="1">
            <a:off x="5181480" y="3274200"/>
            <a:ext cx="1563120" cy="66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Rectángulo 29"/>
          <p:cNvSpPr/>
          <p:nvPr/>
        </p:nvSpPr>
        <p:spPr>
          <a:xfrm>
            <a:off x="491760" y="1676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 (brow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ángulo 30"/>
          <p:cNvSpPr/>
          <p:nvPr/>
        </p:nvSpPr>
        <p:spPr>
          <a:xfrm>
            <a:off x="1452240" y="43434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ángulo 31"/>
          <p:cNvSpPr/>
          <p:nvPr/>
        </p:nvSpPr>
        <p:spPr>
          <a:xfrm>
            <a:off x="838080" y="2895480"/>
            <a:ext cx="198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ici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err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Hacer Recu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formar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ángulo 32"/>
          <p:cNvSpPr/>
          <p:nvPr/>
        </p:nvSpPr>
        <p:spPr>
          <a:xfrm>
            <a:off x="1661040" y="2082960"/>
            <a:ext cx="18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Candi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ángulo 33"/>
          <p:cNvSpPr/>
          <p:nvPr/>
        </p:nvSpPr>
        <p:spPr>
          <a:xfrm>
            <a:off x="1959480" y="2311560"/>
            <a:ext cx="16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36"/>
          <p:cNvSpPr/>
          <p:nvPr/>
        </p:nvSpPr>
        <p:spPr>
          <a:xfrm>
            <a:off x="2429280" y="4950000"/>
            <a:ext cx="16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ángulo 37"/>
          <p:cNvSpPr/>
          <p:nvPr/>
        </p:nvSpPr>
        <p:spPr>
          <a:xfrm>
            <a:off x="2265840" y="2540160"/>
            <a:ext cx="17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ángulo 38"/>
          <p:cNvSpPr/>
          <p:nvPr/>
        </p:nvSpPr>
        <p:spPr>
          <a:xfrm>
            <a:off x="2278440" y="5254560"/>
            <a:ext cx="17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ientras la Software Factory Trabaja … ¿qué hacemo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y temas que NO son responsabilidad de la Aplicación ( … recordar, pastero a tus paste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s TIS, además hay que prepararse para recibir una aplicación empresarial, y urbanizar las bases para que ella pueda desempeñarse correc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empre, eso sí, se deben respetar estándares para tener un mismo contexto de obviedad. Hoy, por ejemplo, JAVA EE (J2EE) y .NET proponen estrategias al re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Urbanización (Plataformas de TI)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rnos de las bases para las 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rincipales “espera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es (Firewalls, prox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plicati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osi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sist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strib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l SW se cuadra con la política de TI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blemos de algunos Ejemplos: JAVA 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Un Clásico de Arquitectura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269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Rectángulo 3"/>
          <p:cNvSpPr/>
          <p:nvPr/>
        </p:nvSpPr>
        <p:spPr>
          <a:xfrm>
            <a:off x="3733920" y="3048120"/>
            <a:ext cx="75960" cy="18288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ángulo 6"/>
          <p:cNvSpPr/>
          <p:nvPr/>
        </p:nvSpPr>
        <p:spPr>
          <a:xfrm>
            <a:off x="3309840" y="2739960"/>
            <a:ext cx="8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los MID, que rol juegan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endo el Mapa, los MID son SÓLO UNA PIEZA MÁS DEL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on el centro del negocio, sino un tipo de dispositivo para acceder a parte de las funcionalidades de nuestro ejemplo (inscribirse y vo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i sólo, el MID en este caso no tiene relevancia (hay casos en que sí las tiene, como en los juegos o aplicaciones stand-alone, pero hoy … ya casi no existen ese tipo de aplicaciones, ya que todos están contest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unas interrog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que tipo de componentes residen en el MID? ¿capa I, II ó II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y el pc (browser), comparado con el MID, en que se diferenc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para que MID desarrollamos? (iPhone, Android, Mee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por qué no usamos el MID con su brows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ra el Sistema de Eleccion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38098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as ideas de lo que podemos requerir en el M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Is de conectividad a Capa II (WebService? Base de Dato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Is de GeoReferenciación (no puedes votar si no estás en Chile)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dónde esta el servicio que lo vali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Multiidio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Video y sonido? (Propaganda por ejemp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ece que acelerómetro no sería muy útil ¿o s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versus lo que el OS y el Dispositivo ofrezca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3" descr=""/>
          <p:cNvPicPr/>
          <p:nvPr/>
        </p:nvPicPr>
        <p:blipFill>
          <a:blip r:embed="rId2"/>
          <a:stretch/>
        </p:blipFill>
        <p:spPr>
          <a:xfrm>
            <a:off x="1143000" y="1836720"/>
            <a:ext cx="25909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ocalicémosnos en MV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 por excelencia en Capa de 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, en concreto, una separación en sub-c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reserva la filosofía de “pastelero a tus past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 ¡se puede también usar estrategia de Modelo de Contra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78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Elemplo de Diseño vía MVC (Request “votar”)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cxnSp>
        <p:nvCxnSpPr>
          <p:cNvPr id="144" name="Conector recto de flecha 6"/>
          <p:cNvCxnSpPr/>
          <p:nvPr/>
        </p:nvCxnSpPr>
        <p:spPr>
          <a:xfrm>
            <a:off x="456840" y="274320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Rectángulo 8"/>
          <p:cNvSpPr/>
          <p:nvPr/>
        </p:nvSpPr>
        <p:spPr>
          <a:xfrm>
            <a:off x="579960" y="236232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uiero votar p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e 10"/>
          <p:cNvSpPr/>
          <p:nvPr/>
        </p:nvSpPr>
        <p:spPr>
          <a:xfrm>
            <a:off x="2514600" y="22860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611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ángulo 11"/>
          <p:cNvSpPr/>
          <p:nvPr/>
        </p:nvSpPr>
        <p:spPr>
          <a:xfrm>
            <a:off x="914400" y="5943600"/>
            <a:ext cx="4038480" cy="60948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Is del 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ector recto de flecha 12"/>
          <p:cNvCxnSpPr>
            <a:stCxn id="146" idx="4"/>
          </p:cNvCxnSpPr>
          <p:nvPr/>
        </p:nvCxnSpPr>
        <p:spPr>
          <a:xfrm flipH="1">
            <a:off x="2057040" y="3885840"/>
            <a:ext cx="13341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Conector recto de flecha 16"/>
          <p:cNvCxnSpPr>
            <a:stCxn id="146" idx="4"/>
          </p:cNvCxnSpPr>
          <p:nvPr/>
        </p:nvCxnSpPr>
        <p:spPr>
          <a:xfrm flipH="1">
            <a:off x="2971440" y="3885840"/>
            <a:ext cx="4197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0" name="Conector recto de flecha 22"/>
          <p:cNvCxnSpPr>
            <a:stCxn id="146" idx="4"/>
          </p:cNvCxnSpPr>
          <p:nvPr/>
        </p:nvCxnSpPr>
        <p:spPr>
          <a:xfrm>
            <a:off x="3389760" y="3885840"/>
            <a:ext cx="6483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Conector recto de flecha 25"/>
          <p:cNvCxnSpPr/>
          <p:nvPr/>
        </p:nvCxnSpPr>
        <p:spPr>
          <a:xfrm>
            <a:off x="4266720" y="3123720"/>
            <a:ext cx="25916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Rectángulo 30"/>
          <p:cNvSpPr/>
          <p:nvPr/>
        </p:nvSpPr>
        <p:spPr>
          <a:xfrm>
            <a:off x="182880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trol de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ángulo 31"/>
          <p:cNvSpPr/>
          <p:nvPr/>
        </p:nvSpPr>
        <p:spPr>
          <a:xfrm>
            <a:off x="2590920" y="51912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ángulo 32"/>
          <p:cNvSpPr/>
          <p:nvPr/>
        </p:nvSpPr>
        <p:spPr>
          <a:xfrm>
            <a:off x="3352680" y="50259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ángulo 34"/>
          <p:cNvSpPr/>
          <p:nvPr/>
        </p:nvSpPr>
        <p:spPr>
          <a:xfrm>
            <a:off x="4419720" y="230976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Y X Y QUIERO VOTAR POR Y ESTANDO ES (A,B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Nube 36"/>
          <p:cNvSpPr/>
          <p:nvPr/>
        </p:nvSpPr>
        <p:spPr>
          <a:xfrm rot="16200000">
            <a:off x="6362640" y="2933640"/>
            <a:ext cx="3276720" cy="1981440"/>
          </a:xfrm>
          <a:prstGeom prst="pi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611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3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576360" cy="914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3" descr=""/>
          <p:cNvPicPr/>
          <p:nvPr/>
        </p:nvPicPr>
        <p:blipFill>
          <a:blip r:embed="rId3"/>
          <a:stretch/>
        </p:blipFill>
        <p:spPr>
          <a:xfrm>
            <a:off x="5257800" y="4343400"/>
            <a:ext cx="57636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ángulo 39"/>
          <p:cNvSpPr/>
          <p:nvPr/>
        </p:nvSpPr>
        <p:spPr>
          <a:xfrm>
            <a:off x="4267080" y="45687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oto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ángulo 40"/>
          <p:cNvSpPr/>
          <p:nvPr/>
        </p:nvSpPr>
        <p:spPr>
          <a:xfrm>
            <a:off x="5638680" y="34257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oto NO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Conector recto de flecha 41"/>
          <p:cNvCxnSpPr>
            <a:stCxn id="146" idx="5"/>
          </p:cNvCxnSpPr>
          <p:nvPr/>
        </p:nvCxnSpPr>
        <p:spPr>
          <a:xfrm>
            <a:off x="4008960" y="3651120"/>
            <a:ext cx="1934280" cy="540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ector recto de flecha 44"/>
          <p:cNvCxnSpPr>
            <a:stCxn id="146" idx="5"/>
          </p:cNvCxnSpPr>
          <p:nvPr/>
        </p:nvCxnSpPr>
        <p:spPr>
          <a:xfrm>
            <a:off x="4010040" y="3650760"/>
            <a:ext cx="1248480" cy="115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Rectángulo 47"/>
          <p:cNvSpPr/>
          <p:nvPr/>
        </p:nvSpPr>
        <p:spPr>
          <a:xfrm>
            <a:off x="5573160" y="5345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d9c1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ecnología en el día a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es para el planteamiento d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tecnología (y las aplicaciones) son herramientas, no razones de ser ni objetivos f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un aplicativo para nivel “empresa o masivo” versus una aplicación puntual (botille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necesita diferenciar a quien se va a ayudar (pensar en é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aplicación apoya para “solucionar” problemas (No ocasionarlos)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jo con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ensando en nuestro Proyect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trabajo 80% en Capa 1 y para un determinado tipo de dispositiv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dependencia con la tecnología del dispositivo (PC, browser, MID,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1 hay que responsabilizars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navegación (como se presentan las opciones a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interacción (botoneras, movimiento, cli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seguridad (controlar que sea quien dice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capa “tonta” (no sabe ni tiene que saber nada del negocio; solo de buenas relaciones con e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lamar a muchos servicios de capa 2 para que hagan el trabajo duro (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2 y 3, debemos enfocarnos sólo en un 20% … lo necesario para que funcione (usar dummies; usar servicios existentes, pero no desgastarse aqu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en nuestro caso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endiendo del dispositivo y el lenguaje a escoger, buscar componentes pre-existentes de Capa 1 que faciliten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as Capas 2 y 3, hacer/buscar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e quieren integrar con Google, Transantiago, etc, avertiguar si hay, por ejemplo, Web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demos inventar componentes DUMMIES para cerrar el ciclo (si no son tan impor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í son importantes, implementar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s necesario hacer modelos de datos ni bases desde cero (reutilizar algun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arrollar por Modelo de Contratos (entre ca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la CAPA 1 es el centro, diseñarla (navegación, sus datos, etc.) y que ella dictamine los servicios de CAPA 2 que necesita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 2 necesita mezclar varios servicios de CAPA 3 para poder hacer la intelig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los servicios de CAPA 3, reutilizar existentes o hacer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lgunas Lectura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en Cap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www.javaworld.com/javaworld/jw-12-2000/jw-1201-weblogi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ándares Empresar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j2ee/appmod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publib.boulder.ibm.com/infocenter/ws60help/topic/com.ibm.websphere.express.doc/info/exp/ae/covr_j2e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www.oracle.com/technetwork/java/javaee/tech/index-jsp-14218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trones de Dise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corej2ee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patterns/MVC-detaile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¿Dudas?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usada por muchas personas, al mismo tiempo, y será parte integrante de su que-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r a quien está al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ómo se va a usar (calle, oficina, bajo el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lmente, disponible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lerante a f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r respuesta rápida (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limenta de información de muchos y distintos tipos de repos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ltidioma; mult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ontinuo cambio (flex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?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b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go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Bolsa en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l de Terreno de Chilectra, Metro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ttings Zone Web 2.0 (facebook, twitter, google**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otaciones Presidenci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nfrentarla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telero a tus paste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ar y desarrollar por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“acuerdos” o “contratos” entre las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pa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lenguaje a utilizar depende de la tecnología a utilizar (el lenguaje no es el centro de la decisión) … java ee,  pascal ee, basic ee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ientación a Objeto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n gran al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Capas en el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35812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7200" y="46483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1: encargada del usuario, la navegación y la inte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2: es la inteligencia, la que sabe sumar y r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3: son los servicios de datos básicos y gran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r en base a Compone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nentes son unidades de SW que realizan una tarea concreta y precisa. Deben ser lo más genérico posible, dentro de sus 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conocemos de ellos la “firma de sus métodos”. Su implementación es una caja negra. 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onent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cciones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Votante(Votante 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Candidato(Candidato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CandidatoVO obtienePresident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componente pertenece intrínsecamente a una CAPA (no puede contaminars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En qué ayu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 de grandes aplicaciones en pequeños p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utiliza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coplamiento de la capa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rientación a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quisi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ducción del ciclo de desarrollo de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trones de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desarrollos empresariales, es necesario seguir ciertas “buenas prácticas”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s Patrone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: “una sugerencia de cómo enfrentar un problema conoci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patrones para Capa 1, Capa 2 y Cap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s necesario usarlos “todos”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SUN para JAVA EE: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ndo un Aplicativo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a tenemos varios tips … En 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seño en base a Capas (I, II y 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 base a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o de Patrone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mos el Probl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mplementar un Sistema de Votaciones Presidencial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ipales 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bir Candi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err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cer Recu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r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6:50:29Z</dcterms:created>
  <dc:creator>egodoy</dc:creator>
  <dc:description/>
  <dc:language>en-US</dc:language>
  <cp:lastModifiedBy>Alejandro Ituarte</cp:lastModifiedBy>
  <dcterms:modified xsi:type="dcterms:W3CDTF">2010-08-19T20:32:29Z</dcterms:modified>
  <cp:revision>33</cp:revision>
  <dc:subject/>
  <dc:title>CC61Y Desarrollo de Aplicaciones para MID (RC)</dc:title>
</cp:coreProperties>
</file>