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014-3420-42C3-A029-E540FBDD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A4B-E57D-485F-A787-34B9307A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E7D6A-4932-444F-BB3B-FAAFC66A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3E0E1-6E2A-48FA-AB96-C553C1CA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695A9-3EBB-408F-8901-8AC462DD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CCBDC-94B5-4E23-AAB6-C943103D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94125-62B4-4ECA-AA0F-30A1064B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1BA14-A347-4E00-A95F-CC4F8550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67E71-759E-44E2-BFA6-77146336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903E4-8409-4261-9D21-820F016B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AB06C-CA09-451F-A643-B7BF21EB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C7D-36BE-4005-B1BD-DD497454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79B-E29C-46BC-9EB4-3D3FFBD3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675E-7CB6-48FC-BE01-A1945666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2909-1925-431D-92F3-0D61AB0B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C286-1536-4BA4-BCFE-271A498F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4028-A22F-4405-8ED6-3E2AFB7B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9E61-FB02-4E10-BDBF-FE0006A5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DA31-119E-4007-932B-AE7318E2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C7D0-C00A-4775-BB0E-CF53AB1C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3E3-4D2E-4817-BB32-0B95F53E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BE53-6E96-4439-993A-3B80AA7D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5B58-C8CD-4BBE-B3E3-EA5BCB04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E139-2542-474F-96FE-E2F63E24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B2D7-7CEC-4910-BB0B-696CE403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31D2-BF22-49D9-A56C-83633615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8AE9-7484-43E8-88DA-C10D3410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2997-AE0C-444F-B4E6-6D8ED39A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34F4B-A00A-4017-8CB4-CC096BAF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EBD3E-B6B1-4402-8876-FA5F6B6E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3208-A23F-4C4A-8794-B5F49EFE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8F4-CF4E-4EEB-86AC-0CA3CC75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BB66F-7964-449F-AFEE-492F0EE4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F390A-6262-4BB0-8034-2D0E0BB8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7AAE9-AB71-42A1-B01F-427AD76A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69AE-FDE2-427D-826E-2F5CA7BB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7788F-E6F4-486F-B1DD-0E1856C4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B02A0-8CA6-421B-8269-342A91D8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357EB-FB08-4360-8E7E-06D911C3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42106-0CF2-4E6C-9236-824CB4B9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B3F84-9547-49E6-BE25-66693F8F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90409-8735-4C37-B950-BF286EB0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2EA-DC6B-4A5F-B14C-2ACEC86D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05E2-4FF1-44C5-874D-73E3D114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D4236-BA18-42A3-A5DE-5887055A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497BC-58C4-41D3-97CD-00769C13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8224-4343-46E9-966E-1C61E8AF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B2ABD-B154-4510-8CA1-BE8882E8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0E1F8-6E9C-4A8F-9081-89C84547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281AD-4176-499B-A6F3-5C01B1F7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626BA-BD16-4C79-8972-D3EBBDC8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7DC4F-ED8C-4583-B913-C1E2FED3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7E389-3D67-466A-9ADF-D4DAF8DD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17A-9818-489A-BB21-C18DF6E7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39D02-5DF2-4F39-AC2B-448765BF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B9CAE-CB8D-4CCC-8284-0BD2E577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E9016-2717-4820-925D-72ED3FC8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475F7-8228-46F9-B36C-7D4820A0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611C0-AFD0-4819-AD48-C93872A9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9D6A1-7912-4E47-820A-D405D0BA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51655-182D-4B02-9FF4-0E10D30F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1D3F2-E836-41DF-B92B-3B6DDE5D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0FDD3-EACB-422B-A1E6-F9333659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BDD4B-6858-44C7-8C02-89E6A580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6B5-8EB5-4360-B42F-7EFE6001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22A77-8CB4-4D6D-AD4C-5F86B9E3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0D826-E598-4363-AF46-1E6FD999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8D77D-7193-4BEF-8BDB-8566C403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64D8B-B48E-4424-AB04-1AE24BD4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A156D-AA68-4A6C-9881-A0002E12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4D263-DCC7-419D-9D9C-EAF96230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EDABE-B6B1-4119-BCF2-529ADF55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43C8A-B1D3-4AC5-BFB7-8C9887FE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DBA79-C26A-4DA2-A143-81A7FF48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D4EDD-68B0-4819-92C9-EF78BBD9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BEE-D1DB-4134-B1E4-86EA2A5B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42E60-3A68-4B64-829C-20F1A3DF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10FA4-677D-46BC-B9DA-CD8B128C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D7EAD-424C-482A-BF1C-ABCFC531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603EA-7FFD-434B-BE09-0BAEA830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ACA13-4863-4523-A012-633731C0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BB013-5E3A-40ED-8958-EF92FF98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0A0CA-8400-4CED-A77F-B5FE260C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7FD78-658A-45F0-A13A-1054BDE6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23D5C-1446-414E-BB3A-363EDBED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C65C8-CAF6-421D-AE68-5D4A1146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5670-68C0-4660-8F87-C6B315BD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33A7B-FB1E-4F9D-9EF0-96B03265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1F380-5251-4925-97A7-C01879F2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3992A-C20A-4068-AECB-827CE76B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67283-FAEE-47B6-BF46-02B1C0F0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35969-980A-463C-AE2C-13131B25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C934A-CD30-4B25-9903-6B43EF20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2C609-2E11-4488-B9DB-81C49683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EE5C3-9F93-4464-BB0D-34914FAD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73D82-9C93-4C02-8FB5-06CF89C8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421A3-0F39-41A4-865D-027E45AD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57B-495A-4D49-A394-CD7C192F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167B7-0874-4F78-93C8-0D3C5F86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92194-AB39-45AC-A3FD-4B75FF75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5D27A-15AE-4CFA-A37E-AC7DDC76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A6D31-1400-4C27-A1E5-CC09FA98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055E8-F67B-4013-A6CC-D4F29411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97455-C18F-42CC-9BB8-B5BBBCDB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BF12C-043F-4D8A-B0C5-9744B91C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DC4E0-1683-4AA3-B03D-87526F35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EE436-656B-40C0-B009-CD5B921A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916C7-10DD-4288-8CFB-9E0FF4DD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35B1-8B9E-4DBC-9D6D-49E845E41482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9E9B-C88E-4A25-AF77-E35FB74F3DD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AC6A-4D5A-44DB-A690-017F4AAF86A6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5A36-BCA7-4176-A745-1EE0A86785CF}" type="slidenum">
              <a:rPr b="1" lang="es-ES_tradnl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7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54F4-E7F4-4E9B-9468-E89198757EBF}" type="datetime"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9C0E-980A-4401-963B-7BB5B98116FC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A859-198F-49D8-9D89-62DA629C42BB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20F0-E5B2-4A05-955A-1FD7A9ABF52B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39EB-FA56-4606-9624-E3AAC2052668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5D7C-5B8F-422F-8728-B2A72FE8BE2D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1601-0C0B-4CA0-82B2-0B9CA42D1D45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9E5B-B34A-43A5-829D-9FC336EFD897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658D-04BD-42A8-B3F8-50036F04D1D2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499E-556B-4534-A26A-FCE333AB841E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DBDB-13EB-48B1-8DA3-5D80641F62DC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4F65-1090-4610-9A5E-C83056C6389F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171D-2665-484B-BE07-04AA0C1F700B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85D8-11C5-4AB0-971D-8B32837B73D6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sto MT"/>
              </a:rPr>
              <a:t>CC61Y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Calisto MT"/>
              </a:rPr>
              <a:t>Desarrollo de Aplicaciones para MID (RC)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Calisto MT"/>
              </a:rPr>
              <a:t>Profesores: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Calisto MT"/>
              </a:rPr>
              <a:t>Eduardo Godoy (egodoy@dcc.uchile.cl)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Calisto MT"/>
              </a:rPr>
              <a:t>Alejandro Ituarte (aituarte@schema.cl)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tip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Una aplicación MID de natural uso humano (ejemplo: touch screen – tipo iPhone)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Multimedia (imagen, sonido, películas)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Posicionamiento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On line (comunicado, conectado)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SIMPLE (abuelita)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Personalizado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Fechas Important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21/Septiembre: Control 1 – Teoría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30/Septiembre: Se inicia Trabajo en equipo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4/Noviembre: Control 2 - Plataforma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(según escuela): Examen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Agenda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Videos Motivaciona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Presentación Curso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Proyecto a desarrollar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Video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Corre video…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Presentación Curso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Desarrollo de aplicaciones móvi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Evaluación: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595959"/>
                </a:solidFill>
                <a:latin typeface="Calisto MT"/>
              </a:rPr>
              <a:t>Trabajo grupal (2 a 3 integrantes)</a:t>
            </a:r>
            <a:endParaRPr b="0" lang="en-US" sz="19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595959"/>
                </a:solidFill>
                <a:latin typeface="Calisto MT"/>
              </a:rPr>
              <a:t>Una sola nota final por el proyecto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Producto desarrollado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Documentación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595959"/>
                </a:solidFill>
                <a:latin typeface="Calisto MT"/>
              </a:rPr>
              <a:t>La evaluación se hará en el Exámen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595959"/>
                </a:solidFill>
                <a:latin typeface="Calisto MT"/>
              </a:rPr>
              <a:t>2 Controles</a:t>
            </a:r>
            <a:endParaRPr b="0" lang="en-US" sz="19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Focalizado en la Teoría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Focalizado en ls Plataformas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595959"/>
                </a:solidFill>
                <a:latin typeface="Calisto MT"/>
              </a:rPr>
              <a:t>Nota Final: Controles*0.40 + Examen*0.60</a:t>
            </a:r>
            <a:endParaRPr b="0" lang="en-US" sz="19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595959"/>
                </a:solidFill>
                <a:latin typeface="Calisto MT"/>
              </a:rPr>
              <a:t>Condición para aprobar (todas ellas deben cumplirse):</a:t>
            </a:r>
            <a:endParaRPr b="0" lang="en-US" sz="19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Calisto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Nota Final &gt;= 4.0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Calisto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Examen &gt;= 4.0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8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Calisto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595959"/>
                </a:solidFill>
                <a:latin typeface="Calisto MT"/>
              </a:rPr>
              <a:t>Controles &gt;= 3.0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Mecánica del curso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Este curso es TALL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Calisto MT"/>
              </a:rPr>
              <a:t>25% de teoría bas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Calisto MT"/>
              </a:rPr>
              <a:t>75% de esfuerzo individual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Se darán las bases, tips y filosofía. No enseñaremos “a programar”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Este taller es un working in progress para todos; vamos construyendo conocimiento juntos!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No habrá clases TODOS los dias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Calisto MT"/>
              </a:rPr>
              <a:t>Antes de vacaciones: fuerte en teoría y herramientas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Calisto MT"/>
              </a:rPr>
              <a:t>Después de vacaciones: fuerte en desarrollo del proyecto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U-Cursos es el mecanismo oficial de comunicación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Plataforma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738440"/>
            <a:ext cx="6172200" cy="3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MeeGo </a:t>
            </a:r>
            <a:r>
              <a:rPr b="0" lang="es-CL" sz="1400" spc="-1" strike="noStrike">
                <a:solidFill>
                  <a:srgbClr val="595959"/>
                </a:solidFill>
                <a:latin typeface="Calisto MT"/>
              </a:rPr>
              <a:t>(ex-Moblin … Intel+Nokia)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3" name="Imagen 3" descr=""/>
          <p:cNvPicPr/>
          <p:nvPr/>
        </p:nvPicPr>
        <p:blipFill>
          <a:blip r:embed="rId2"/>
          <a:stretch/>
        </p:blipFill>
        <p:spPr>
          <a:xfrm>
            <a:off x="3200400" y="3886200"/>
            <a:ext cx="1630440" cy="2584440"/>
          </a:xfrm>
          <a:prstGeom prst="rect">
            <a:avLst/>
          </a:prstGeom>
          <a:ln w="0">
            <a:noFill/>
          </a:ln>
        </p:spPr>
      </p:pic>
      <p:pic>
        <p:nvPicPr>
          <p:cNvPr id="384" name="Imagen 4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1635120" cy="2590920"/>
          </a:xfrm>
          <a:prstGeom prst="rect">
            <a:avLst/>
          </a:prstGeom>
          <a:ln w="0">
            <a:noFill/>
          </a:ln>
        </p:spPr>
      </p:pic>
      <p:pic>
        <p:nvPicPr>
          <p:cNvPr id="385" name="Imagen 7" descr=""/>
          <p:cNvPicPr/>
          <p:nvPr/>
        </p:nvPicPr>
        <p:blipFill>
          <a:blip r:embed="rId4"/>
          <a:stretch/>
        </p:blipFill>
        <p:spPr>
          <a:xfrm>
            <a:off x="7315200" y="3886200"/>
            <a:ext cx="1635120" cy="2590920"/>
          </a:xfrm>
          <a:prstGeom prst="rect">
            <a:avLst/>
          </a:prstGeom>
          <a:ln w="0">
            <a:noFill/>
          </a:ln>
        </p:spPr>
      </p:pic>
      <p:pic>
        <p:nvPicPr>
          <p:cNvPr id="386" name="Imagen 8" descr=""/>
          <p:cNvPicPr/>
          <p:nvPr/>
        </p:nvPicPr>
        <p:blipFill>
          <a:blip r:embed="rId5"/>
          <a:stretch/>
        </p:blipFill>
        <p:spPr>
          <a:xfrm>
            <a:off x="762120" y="2362320"/>
            <a:ext cx="22413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Plataforma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520" y="1738440"/>
            <a:ext cx="6172200" cy="3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iOS </a:t>
            </a:r>
            <a:r>
              <a:rPr b="0" lang="es-CL" sz="1400" spc="-1" strike="noStrike">
                <a:solidFill>
                  <a:srgbClr val="595959"/>
                </a:solidFill>
                <a:latin typeface="Calisto MT"/>
              </a:rPr>
              <a:t>(Apple … iPhone+iPod touch+iPad)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9" name="Imagen 11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2971800" cy="1619280"/>
          </a:xfrm>
          <a:prstGeom prst="rect">
            <a:avLst/>
          </a:prstGeom>
          <a:ln w="0">
            <a:noFill/>
          </a:ln>
        </p:spPr>
      </p:pic>
      <p:pic>
        <p:nvPicPr>
          <p:cNvPr id="390" name="Imagen 12" descr=""/>
          <p:cNvPicPr/>
          <p:nvPr/>
        </p:nvPicPr>
        <p:blipFill>
          <a:blip r:embed="rId3"/>
          <a:stretch/>
        </p:blipFill>
        <p:spPr>
          <a:xfrm>
            <a:off x="4876920" y="2666880"/>
            <a:ext cx="1751040" cy="1676520"/>
          </a:xfrm>
          <a:prstGeom prst="rect">
            <a:avLst/>
          </a:prstGeom>
          <a:ln w="0">
            <a:noFill/>
          </a:ln>
        </p:spPr>
      </p:pic>
      <p:pic>
        <p:nvPicPr>
          <p:cNvPr id="391" name="Imagen 13" descr=""/>
          <p:cNvPicPr/>
          <p:nvPr/>
        </p:nvPicPr>
        <p:blipFill>
          <a:blip r:embed="rId4"/>
          <a:stretch/>
        </p:blipFill>
        <p:spPr>
          <a:xfrm>
            <a:off x="2362320" y="4495680"/>
            <a:ext cx="2628720" cy="1752840"/>
          </a:xfrm>
          <a:prstGeom prst="rect">
            <a:avLst/>
          </a:prstGeom>
          <a:ln w="0">
            <a:noFill/>
          </a:ln>
        </p:spPr>
      </p:pic>
      <p:pic>
        <p:nvPicPr>
          <p:cNvPr id="392" name="Imagen 14" descr=""/>
          <p:cNvPicPr/>
          <p:nvPr/>
        </p:nvPicPr>
        <p:blipFill>
          <a:blip r:embed="rId5"/>
          <a:stretch/>
        </p:blipFill>
        <p:spPr>
          <a:xfrm>
            <a:off x="6019920" y="4572000"/>
            <a:ext cx="246384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Plataforma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520" y="1738440"/>
            <a:ext cx="6172200" cy="3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95959"/>
                </a:solidFill>
                <a:latin typeface="Calisto MT"/>
              </a:rPr>
              <a:t>Android </a:t>
            </a:r>
            <a:r>
              <a:rPr b="0" lang="es-CL" sz="1400" spc="-1" strike="noStrike">
                <a:solidFill>
                  <a:srgbClr val="595959"/>
                </a:solidFill>
                <a:latin typeface="Calisto MT"/>
              </a:rPr>
              <a:t>(Linux+Google+Intel)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5" name="Imagen 9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761760" cy="901440"/>
          </a:xfrm>
          <a:prstGeom prst="rect">
            <a:avLst/>
          </a:prstGeom>
          <a:ln w="0">
            <a:noFill/>
          </a:ln>
        </p:spPr>
      </p:pic>
      <p:pic>
        <p:nvPicPr>
          <p:cNvPr id="396" name="Imagen 10" descr=""/>
          <p:cNvPicPr/>
          <p:nvPr/>
        </p:nvPicPr>
        <p:blipFill>
          <a:blip r:embed="rId3"/>
          <a:stretch/>
        </p:blipFill>
        <p:spPr>
          <a:xfrm>
            <a:off x="2590920" y="3429000"/>
            <a:ext cx="1400040" cy="2489040"/>
          </a:xfrm>
          <a:prstGeom prst="rect">
            <a:avLst/>
          </a:prstGeom>
          <a:ln w="0">
            <a:noFill/>
          </a:ln>
        </p:spPr>
      </p:pic>
      <p:pic>
        <p:nvPicPr>
          <p:cNvPr id="397" name="Imagen 11" descr=""/>
          <p:cNvPicPr/>
          <p:nvPr/>
        </p:nvPicPr>
        <p:blipFill>
          <a:blip r:embed="rId4"/>
          <a:stretch/>
        </p:blipFill>
        <p:spPr>
          <a:xfrm>
            <a:off x="4876920" y="2133720"/>
            <a:ext cx="1473120" cy="2209680"/>
          </a:xfrm>
          <a:prstGeom prst="rect">
            <a:avLst/>
          </a:prstGeom>
          <a:ln w="0">
            <a:noFill/>
          </a:ln>
        </p:spPr>
      </p:pic>
      <p:pic>
        <p:nvPicPr>
          <p:cNvPr id="398" name="Imagen 12" descr=""/>
          <p:cNvPicPr/>
          <p:nvPr/>
        </p:nvPicPr>
        <p:blipFill>
          <a:blip r:embed="rId5"/>
          <a:stretch/>
        </p:blipFill>
        <p:spPr>
          <a:xfrm>
            <a:off x="6248520" y="4648320"/>
            <a:ext cx="22287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Calisto MT"/>
              </a:rPr>
              <a:t>Proyecto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Objetivo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i="1" lang="es-CL" sz="2000" spc="-1" strike="noStrike">
                <a:solidFill>
                  <a:srgbClr val="595959"/>
                </a:solidFill>
                <a:latin typeface="Calisto MT"/>
              </a:rPr>
              <a:t>Desarrollar un POC (Proof of Concept) para dispositivo móvil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Calisto MT"/>
              </a:rPr>
              <a:t>Principales Alternativa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1" name="Diagram 3" descr=""/>
          <p:cNvPicPr/>
          <p:nvPr/>
        </p:nvPicPr>
        <p:blipFill>
          <a:blip r:embed="rId2"/>
          <a:stretch/>
        </p:blipFill>
        <p:spPr>
          <a:xfrm>
            <a:off x="1365120" y="3193920"/>
            <a:ext cx="3895920" cy="28288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5944680" y="50292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5718960" y="388620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ias/tend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Straight Arrow Connector 7"/>
          <p:cNvCxnSpPr/>
          <p:nvPr/>
        </p:nvCxnSpPr>
        <p:spPr>
          <a:xfrm flipH="1" flipV="1">
            <a:off x="4647600" y="4114440"/>
            <a:ext cx="991080" cy="2160"/>
          </a:xfrm>
          <a:prstGeom prst="straightConnector1">
            <a:avLst/>
          </a:prstGeom>
          <a:ln w="31680">
            <a:solidFill>
              <a:srgbClr val="80b606"/>
            </a:solidFill>
            <a:miter/>
            <a:tailEnd len="med" type="arrow" w="med"/>
          </a:ln>
        </p:spPr>
      </p:cxnSp>
      <p:cxnSp>
        <p:nvCxnSpPr>
          <p:cNvPr id="405" name="Straight Arrow Connector 8"/>
          <p:cNvCxnSpPr/>
          <p:nvPr/>
        </p:nvCxnSpPr>
        <p:spPr>
          <a:xfrm flipH="1" flipV="1">
            <a:off x="4800240" y="5257440"/>
            <a:ext cx="991440" cy="2160"/>
          </a:xfrm>
          <a:prstGeom prst="straightConnector1">
            <a:avLst/>
          </a:prstGeom>
          <a:ln w="31680">
            <a:solidFill>
              <a:srgbClr val="80b60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2:53:09Z</dcterms:created>
  <dc:creator>egodoy</dc:creator>
  <dc:description/>
  <dc:language>en-US</dc:language>
  <cp:lastModifiedBy>Alejandro Ituarte</cp:lastModifiedBy>
  <dcterms:modified xsi:type="dcterms:W3CDTF">2010-08-20T20:22:22Z</dcterms:modified>
  <cp:revision>16</cp:revision>
  <dc:subject/>
  <dc:title>CC61Y Desarrollo de Aplicaciones para MID (RC)</dc:title>
</cp:coreProperties>
</file>