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BEA-2AEC-4E38-85DB-0A9CE622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F3C-DF62-4279-B7AD-9609A33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77751-46E9-4B3C-B104-D4C2FBFE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9FB88-7A8D-4574-A675-2C4FD0EE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DF431-C51E-48E1-A94B-E299A88C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BB3F6-A718-4992-84B7-0C80702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310BB-311A-4838-B5AA-5761D107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AE968-70D8-4E3C-9DF6-17E9A34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2F25D-9081-4C68-BB68-66F00452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80893-D5A1-49DE-8F79-D7DDC386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46836-D978-4F77-A72E-B1703831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599-E9D2-4D3E-9130-7B7B2FFB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D56-B00F-4E06-A853-0149D59A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D19B-860D-43A1-9131-3DC215D4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CD40-D21F-432B-AE1C-8701874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5011-0AC8-48B2-A3A9-A5779598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D2BF-D18B-4BCC-A8A9-BFD478C8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5C65-3F80-443F-A9CA-AAA8EFB5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5A2A-F011-4EBC-A5C2-005F0238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14F3-EB9B-4BC6-9B87-74E5E915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AA0-45B6-420D-8935-C1454DCC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E156-2718-498B-9855-B4397FF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EBCB-7AFD-47A0-B59D-AA07A4EB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E868-D37B-48D6-A889-45B4AD47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1286-EB73-42CA-9799-F2125C6E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1DB2-0A47-4D46-804C-14607A1F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5876-A6D0-4607-8DC8-07E22D07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3B2F-DEE0-455E-8B33-711D7B0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0CFAE-9586-4B91-B61F-779E4E2A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A8EE-9B7C-4D7E-9298-9F0F4A73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8568-E35C-4E8E-9C12-BAB8AEE0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DF7-948F-44DB-9CB4-EB69E52C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1940-A967-4DCB-B042-2FD8039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A864-972A-47E1-B167-B638537B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8169-6C01-422D-A1AF-763FDCB6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63E2-1A89-41D7-A864-B2EA856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7C26-309D-4F75-89A4-B036F557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6CD34-6D89-4987-80F0-6C100C7C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6AB1-70AD-435A-B0BB-3070ED79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F943-2BA4-4A25-9652-09B2FAA1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EA1F-CCD6-46ED-B668-C5506F11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22884-F446-4720-B295-2E6C72E6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F49-8F6D-42CE-AE57-31352038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DEF41-2CDA-4B2F-B6DA-8A326048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8443-64A2-4CED-91DD-ACFDB106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D5D7-7FB8-46C8-80FF-D8BABFCD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6101-7D16-4CD6-94A5-AF57B5E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B7BE-7841-48D7-B3F7-C6A3152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77B78-4A88-4882-8C8D-1E2E5FE2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FDEB5-B2F3-4F9C-BE74-2FF1F60B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5B3E7-9CB3-4921-B8DA-191737A8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AE93-B0E7-4D60-B745-31F87064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1D2B-FEFD-401A-9C29-0782BD29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DEC-EF7D-440B-9B87-B68136C3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4DBB6-107B-427C-BC71-82A63D10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273C0-689A-4A0C-8252-5BD725B8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1712-B411-428E-8718-1AF60D46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EB54B-1FF2-4DDD-9378-3E9A4ADA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25CAE-7C00-4AE8-9322-AFBBBBDC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E132B-62D8-4B82-AD8E-0AAAF6D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E0BE2-57D7-48A9-8FFD-17E9D5D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AEC2-62DA-478F-883E-E4F1FD8E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209E-FC6F-4698-8465-21E48973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189E3-32FB-4244-8AD4-6FDF3143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A9B-365F-4213-8987-592DE11E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BC8BF-529C-4B9C-9285-66782E23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9C28-5A67-4E54-B296-C9AD66C1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09C01-F4E2-4D9A-B412-55129388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7009F-77D5-4E3A-9F12-F060DC64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9220D-941A-4857-82D3-8CBBFE99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ACC82-DDE8-4E0D-BE36-3A250ECD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2703D-E7AB-493C-983E-7C2ED958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674FD-0EE1-454F-9054-5FADC39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FC89-0980-4B3A-A74C-39ADCB11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B43F-764D-4048-A216-B657C911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BCD-9C5D-47DF-A195-809C6C17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E6964-185C-452B-972A-AF1DF43A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62BE6-260B-4A46-90F2-91CE182C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51A5-4B71-43B4-8663-2F3EB887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568B7-99C7-492D-A1A4-FE84E16D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9C10-8C31-4EC6-BC3B-9F8212CE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AB126-1802-48B8-8B82-94C0AFD4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BBB7A-E3DD-44E5-8F85-E7B807C4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86ABA-E629-479D-8C95-615A3EFF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EC67-8C73-4A39-9336-86FD8D42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785A6-DE8A-47A6-9A1B-816EC8FB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175-3A51-404B-BC7C-12E525FA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2A9D5-1FF3-4629-ABC9-4EED1AD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E95A-E593-446C-B75A-1E5CE16B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6691F-0A2C-4458-B848-FD506A39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B609B-696F-48D6-AA08-54D88CFA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CB9A1-C135-48BA-8409-16607B1E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8355A-790E-4D72-B957-FD964A8A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FFEA2-858E-4AE5-94CE-4FC405CE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61343-573B-48C7-B094-0393BDC3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B636F-7280-4488-94F1-51DED8F0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97247-25CB-4F44-BF97-EEECF77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51A-0DCE-4A2A-A5DC-2418ED2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75995-C42C-40D5-B172-4149BCCA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24FD-4011-4BF9-BBD5-56250F4E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688D-418F-49F6-82B1-C8164275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7B1C5-F9DD-4387-80AA-F84673A6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3FFA0-1BE1-435D-830B-2FE15C4C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D2B7C-C80C-423E-B6E7-25E363F6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06AA6-62D7-446A-A463-B9F9056A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E9772-079C-439F-8FC7-F3C478F8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CBE28-E98D-4A76-9727-08B961BC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99F35-27A5-4D3C-B69F-732AFA66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09A-E92C-4A66-A85C-FD793DE69FB3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671A-BC5F-47D6-8FDD-1C0AF7B3FF1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D12-E4A6-48BD-B99E-BB69B103F2CD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0230-55D3-4CA9-BA56-41C8F7665F9B}" type="slidenum">
              <a:rPr b="1" lang="es-ES_tradnl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8FC6-6D85-4ADA-AEF8-F5B1CA01D4FC}" type="datetime"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1A6D-5D30-45AF-A7D8-B6DB2579262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CCA7-250E-4B78-8787-C092591BCE72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D2E9-9D87-4B05-B8E7-74B20113F01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2DCF-CFFF-47A8-8901-BE442B5E36E4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6BCF-958B-47FA-8150-8114D59FA68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DCCB-E380-4EDF-BFC1-3A4B56DAEBEA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3BFB-21E5-4A7A-BC75-56ADE698BD1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2EED-3D9E-4220-BCC1-FA4A4F501481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ED2-DE9C-434C-8B49-93E48492984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90BA-5684-4BDD-B1CF-DDE991C4D112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171-017E-4419-91FF-E7128E0AFC9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EC13-6470-4B81-B3D4-E686A92F0C8C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0C0A-50BE-4E20-A5D2-6A58F45BF62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sto MT"/>
              </a:rPr>
              <a:t>CC61Y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Calisto MT"/>
              </a:rPr>
              <a:t>Desarrollo de Aplicaciones para MID (RC)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Calisto MT"/>
              </a:rPr>
              <a:t>Profesores: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Calisto MT"/>
              </a:rPr>
              <a:t>Eduardo Godoy (egodoy@dcc.uchile.cl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Calisto MT"/>
              </a:rPr>
              <a:t>Alejandro Ituarte (aituarte@schema.cl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tip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Una aplicación MID de natural uso humano (ejemplo: touch screen – tipo iPhone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Multimedia (imagen, sonido, películas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osicionamient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On line (comunicado, conectado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SIMPLE (abuelita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ersonalizad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Fechas Important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21/Septiembre: Control 1 – Teoría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30/Septiembre: Se inicia Trabajo en equipo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4/Noviembre: Control 2 - Plataforma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(según escuela): Examen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Agend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Videos Motivaciona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resentación Curs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royecto a desarrolla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Video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Corre video…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resentación Curso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Desarrollo de aplicaciones móvi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Evaluación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Trabajo grupal (2 a 3 integrantes)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595959"/>
                </a:solidFill>
                <a:latin typeface="Calisto MT"/>
              </a:rPr>
              <a:t>Una sola nota final por el proyecto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Producto desarrollado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Documentación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595959"/>
                </a:solidFill>
                <a:latin typeface="Calisto MT"/>
              </a:rPr>
              <a:t>La evaluación se hará en el Exámen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2 Controles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Focalizado en la Teoría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Focalizado en ls Plataformas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Nota Final: Controles*0.40 + Examen*0.60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Condición para aprobar (todas ellas deben cumplirse):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Calisto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Nota Final &gt;= 4.0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Calisto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Examen &gt;= 4.0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Calisto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Controles &gt;= 3.0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Mecánica del curso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Este curso es TALL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25% de teoría bas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75% de esfuerzo individual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Se darán las bases, tips y filosofía. No enseñaremos “a programar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Este taller es un working in progress para todos; vamos construyendo conocimiento juntos!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No habrá clases TODOS los dia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Antes de vacaciones: fuerte en teoría y herramienta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Después de vacaciones: fuerte en desarrollo del proyecto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U-Cursos es el mecanismo oficial de comunicació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lataforma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7384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MeeGo </a:t>
            </a:r>
            <a:r>
              <a:rPr b="0" lang="es-CL" sz="1400" spc="-1" strike="noStrike">
                <a:solidFill>
                  <a:srgbClr val="595959"/>
                </a:solidFill>
                <a:latin typeface="Calisto MT"/>
              </a:rPr>
              <a:t>(ex-Moblin … Intel+Nokia)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3" name="Imagen 3" descr=""/>
          <p:cNvPicPr/>
          <p:nvPr/>
        </p:nvPicPr>
        <p:blipFill>
          <a:blip r:embed="rId2"/>
          <a:stretch/>
        </p:blipFill>
        <p:spPr>
          <a:xfrm>
            <a:off x="3200400" y="3886200"/>
            <a:ext cx="1630440" cy="2584440"/>
          </a:xfrm>
          <a:prstGeom prst="rect">
            <a:avLst/>
          </a:prstGeom>
          <a:ln w="0">
            <a:noFill/>
          </a:ln>
        </p:spPr>
      </p:pic>
      <p:pic>
        <p:nvPicPr>
          <p:cNvPr id="384" name="Imagen 4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1635120" cy="2590920"/>
          </a:xfrm>
          <a:prstGeom prst="rect">
            <a:avLst/>
          </a:prstGeom>
          <a:ln w="0">
            <a:noFill/>
          </a:ln>
        </p:spPr>
      </p:pic>
      <p:pic>
        <p:nvPicPr>
          <p:cNvPr id="385" name="Imagen 7" descr=""/>
          <p:cNvPicPr/>
          <p:nvPr/>
        </p:nvPicPr>
        <p:blipFill>
          <a:blip r:embed="rId4"/>
          <a:stretch/>
        </p:blipFill>
        <p:spPr>
          <a:xfrm>
            <a:off x="7315200" y="3886200"/>
            <a:ext cx="1635120" cy="2590920"/>
          </a:xfrm>
          <a:prstGeom prst="rect">
            <a:avLst/>
          </a:prstGeom>
          <a:ln w="0">
            <a:noFill/>
          </a:ln>
        </p:spPr>
      </p:pic>
      <p:pic>
        <p:nvPicPr>
          <p:cNvPr id="386" name="Imagen 8" descr=""/>
          <p:cNvPicPr/>
          <p:nvPr/>
        </p:nvPicPr>
        <p:blipFill>
          <a:blip r:embed="rId5"/>
          <a:stretch/>
        </p:blipFill>
        <p:spPr>
          <a:xfrm>
            <a:off x="762120" y="2362320"/>
            <a:ext cx="2241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lataforma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520" y="17384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iOS </a:t>
            </a:r>
            <a:r>
              <a:rPr b="0" lang="es-CL" sz="1400" spc="-1" strike="noStrike">
                <a:solidFill>
                  <a:srgbClr val="595959"/>
                </a:solidFill>
                <a:latin typeface="Calisto MT"/>
              </a:rPr>
              <a:t>(Apple … iPhone+iPod touch+iPad)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9" name="Imagen 11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1619280"/>
          </a:xfrm>
          <a:prstGeom prst="rect">
            <a:avLst/>
          </a:prstGeom>
          <a:ln w="0">
            <a:noFill/>
          </a:ln>
        </p:spPr>
      </p:pic>
      <p:pic>
        <p:nvPicPr>
          <p:cNvPr id="390" name="Imagen 12" descr=""/>
          <p:cNvPicPr/>
          <p:nvPr/>
        </p:nvPicPr>
        <p:blipFill>
          <a:blip r:embed="rId3"/>
          <a:stretch/>
        </p:blipFill>
        <p:spPr>
          <a:xfrm>
            <a:off x="4876920" y="2666880"/>
            <a:ext cx="1751040" cy="1676520"/>
          </a:xfrm>
          <a:prstGeom prst="rect">
            <a:avLst/>
          </a:prstGeom>
          <a:ln w="0">
            <a:noFill/>
          </a:ln>
        </p:spPr>
      </p:pic>
      <p:pic>
        <p:nvPicPr>
          <p:cNvPr id="391" name="Imagen 13" descr=""/>
          <p:cNvPicPr/>
          <p:nvPr/>
        </p:nvPicPr>
        <p:blipFill>
          <a:blip r:embed="rId4"/>
          <a:stretch/>
        </p:blipFill>
        <p:spPr>
          <a:xfrm>
            <a:off x="2362320" y="4495680"/>
            <a:ext cx="2628720" cy="1752840"/>
          </a:xfrm>
          <a:prstGeom prst="rect">
            <a:avLst/>
          </a:prstGeom>
          <a:ln w="0">
            <a:noFill/>
          </a:ln>
        </p:spPr>
      </p:pic>
      <p:pic>
        <p:nvPicPr>
          <p:cNvPr id="392" name="Imagen 14" descr=""/>
          <p:cNvPicPr/>
          <p:nvPr/>
        </p:nvPicPr>
        <p:blipFill>
          <a:blip r:embed="rId5"/>
          <a:stretch/>
        </p:blipFill>
        <p:spPr>
          <a:xfrm>
            <a:off x="6019920" y="4572000"/>
            <a:ext cx="246384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lataforma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520" y="17384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Android </a:t>
            </a:r>
            <a:r>
              <a:rPr b="0" lang="es-CL" sz="1400" spc="-1" strike="noStrike">
                <a:solidFill>
                  <a:srgbClr val="595959"/>
                </a:solidFill>
                <a:latin typeface="Calisto MT"/>
              </a:rPr>
              <a:t>(Linux+Google+Intel)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5" name="Imagen 9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761760" cy="901440"/>
          </a:xfrm>
          <a:prstGeom prst="rect">
            <a:avLst/>
          </a:prstGeom>
          <a:ln w="0">
            <a:noFill/>
          </a:ln>
        </p:spPr>
      </p:pic>
      <p:pic>
        <p:nvPicPr>
          <p:cNvPr id="396" name="Imagen 10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1400040" cy="2489040"/>
          </a:xfrm>
          <a:prstGeom prst="rect">
            <a:avLst/>
          </a:prstGeom>
          <a:ln w="0">
            <a:noFill/>
          </a:ln>
        </p:spPr>
      </p:pic>
      <p:pic>
        <p:nvPicPr>
          <p:cNvPr id="397" name="Imagen 11" descr=""/>
          <p:cNvPicPr/>
          <p:nvPr/>
        </p:nvPicPr>
        <p:blipFill>
          <a:blip r:embed="rId4"/>
          <a:stretch/>
        </p:blipFill>
        <p:spPr>
          <a:xfrm>
            <a:off x="4876920" y="213372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398" name="Imagen 12" descr=""/>
          <p:cNvPicPr/>
          <p:nvPr/>
        </p:nvPicPr>
        <p:blipFill>
          <a:blip r:embed="rId5"/>
          <a:stretch/>
        </p:blipFill>
        <p:spPr>
          <a:xfrm>
            <a:off x="6248520" y="4648320"/>
            <a:ext cx="22287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royecto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Objetivo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i="1" lang="es-CL" sz="2000" spc="-1" strike="noStrike">
                <a:solidFill>
                  <a:srgbClr val="595959"/>
                </a:solidFill>
                <a:latin typeface="Calisto MT"/>
              </a:rPr>
              <a:t>Desarrollar un POC (Proof of Concept) para dispositivo móvil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Principales Alternativa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1" name="Diagram 3" descr=""/>
          <p:cNvPicPr/>
          <p:nvPr/>
        </p:nvPicPr>
        <p:blipFill>
          <a:blip r:embed="rId2"/>
          <a:stretch/>
        </p:blipFill>
        <p:spPr>
          <a:xfrm>
            <a:off x="1365120" y="3193920"/>
            <a:ext cx="3895920" cy="28288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5944680" y="50292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5718960" y="38862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ias/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7"/>
          <p:cNvCxnSpPr/>
          <p:nvPr/>
        </p:nvCxnSpPr>
        <p:spPr>
          <a:xfrm flipH="1" flipV="1">
            <a:off x="4647600" y="4114440"/>
            <a:ext cx="991080" cy="2160"/>
          </a:xfrm>
          <a:prstGeom prst="straightConnector1">
            <a:avLst/>
          </a:prstGeom>
          <a:ln w="31680">
            <a:solidFill>
              <a:srgbClr val="80b606"/>
            </a:solidFill>
            <a:miter/>
            <a:tailEnd len="med" type="arrow" w="med"/>
          </a:ln>
        </p:spPr>
      </p:cxnSp>
      <p:cxnSp>
        <p:nvCxnSpPr>
          <p:cNvPr id="405" name="Straight Arrow Connector 8"/>
          <p:cNvCxnSpPr/>
          <p:nvPr/>
        </p:nvCxnSpPr>
        <p:spPr>
          <a:xfrm flipH="1" flipV="1">
            <a:off x="4800240" y="5257440"/>
            <a:ext cx="991440" cy="2160"/>
          </a:xfrm>
          <a:prstGeom prst="straightConnector1">
            <a:avLst/>
          </a:prstGeom>
          <a:ln w="31680">
            <a:solidFill>
              <a:srgbClr val="80b60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2:53:09Z</dcterms:created>
  <dc:creator>egodoy</dc:creator>
  <dc:description/>
  <dc:language>en-US</dc:language>
  <cp:lastModifiedBy>Alejandro Ituarte</cp:lastModifiedBy>
  <dcterms:modified xsi:type="dcterms:W3CDTF">2010-08-20T20:22:22Z</dcterms:modified>
  <cp:revision>16</cp:revision>
  <dc:subject/>
  <dc:title>CC61Y Desarrollo de Aplicaciones para MID (RC)</dc:title>
</cp:coreProperties>
</file>