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99D-81FB-4630-9435-34231138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3C3-6DAF-4C4B-909D-873CC47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79B2A-4325-4BD7-A6E7-2B70DBD3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DE065-39F1-451E-A51B-FB8F0F45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3BFA-20E7-4349-B383-AEA3F94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9979-212D-4C5B-8405-358420F1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F1A7-2B7D-4B05-A9D4-E232309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CC82E-11DD-4CA8-8AE0-D690D9BB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58E5-3BD5-49CB-B6A0-F0D2E54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19B50-403D-4D71-856A-7E138269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E9D1-D15C-4389-B702-EF562B0B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1D2-93AC-439F-980D-019854C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411-C39F-4505-B7CB-94848F97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995B-808F-4A3E-8CDB-2F568833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4BD3-E461-49D2-BD02-BC6A88E1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0A0-CC2F-44B4-8819-145EE547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A0F-C7E4-4A3D-9E6C-9C11C20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0E44-78C3-43A9-9F34-AF6CA57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9791-6547-48BD-B610-18233899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2FC-2372-47D3-8926-2FBC33B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2CD-B179-43D8-B834-2DD3A79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2E89-BA49-454C-81A1-DCD60DD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D480-771E-4FE2-96DC-840CB10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AB2D-A018-48A9-B5A7-214C9A52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A4A-7142-43BB-A836-DCB8160A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69D-07F2-44A1-9A16-68F90B70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8319-72A1-4E37-80F4-16FB486D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02F3-20A6-4ADA-A09A-D8DC5A8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1E2F-42BD-4656-A435-E06A4FF1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ED8C-2EB9-4FEE-9B42-DE6E85FB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EC32-BF8D-40E0-A278-D6ED5E56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228-792C-44E7-BCD7-E401356C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1A59-95C1-45F3-BD49-0E54409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746A-C7F6-49E0-AE37-2497BF2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CB08-B103-4130-806F-63BFD64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D903-6DF4-4826-93A5-AED97B9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E8B7-007D-4C91-92FD-1FA83B3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A2A4-7875-452F-BF61-FD653D59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14D8-4033-45D2-8091-1B10B1E2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E6B8-A08F-42F3-A987-95FFFB11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4498-A537-412E-A3DB-292574C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DC31-EE77-4256-9D54-E2172ED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8D5-D969-4E22-A530-03A1459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64A8-8B4E-4F72-975D-CED43B0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E632-8FF8-4213-9814-9909AC4F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50DE-3B3F-4B0B-8FFD-EBB57328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44E0-B652-438A-A562-FEB2293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061B-E80D-4DB2-A09B-0E09646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F322-15F6-4D22-B339-71F2994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2B2A-2D6B-4057-B215-5FC7BAC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9871-AE39-48DC-9446-015745D3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E98A-2875-4453-B55F-5509FF8B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FD82-6E79-4916-8D30-BB23D8F7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9EB-4CB4-48DC-A2D3-7B4D0EC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F9FE-F831-466B-8750-44A1623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3F8B-A67B-4DC2-813E-2C59B731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2E06-60AA-40BA-BEC1-2BD6692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ACAB-B7B8-4584-A1B6-5E048510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F712-C6E8-4E02-BDF2-A32AEE9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DB07-8CF0-470C-9C8C-2100609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F3BE-4C45-495C-9763-F2F95D8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6293-B1F7-4C77-A536-9E978C6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18A1-E205-4C4E-8A9F-37A9D5FE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0B5E-3F46-43BA-AB71-6E5D0D10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F10-7249-4DCA-8F32-405E197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3F36-0971-45D7-9B16-6BCE710E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7F22-5D16-44E5-8911-8546C749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001A-7987-43D3-9FDD-6112F1CB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2D756-FB78-4EEB-8561-18AAE3D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7C6C-6E6A-4777-85D5-FD1078E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9958D-E201-4F7D-8E9D-45EA482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08D3-F4A8-4BDF-8B64-CF7CCE8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FA3B-7821-4A2A-96C1-5E11A0FB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3279-73CC-469D-9E9B-901A7C5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40E2-D768-49D5-806F-809CD6E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138-7316-415A-9539-DA84A88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B45B-0409-4291-A9DE-4F6C7B25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3FEC-AF7F-4FA3-8695-266310E9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6351-FE8C-4600-87A7-8E2BD81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CDD1-06C8-4395-A71D-FB143932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4C9E0-A7F7-49A5-9F46-E6770522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FBDEB-71E5-4481-8F2E-2E93730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A3119-8A91-4172-B8E1-7A202D2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36DE4-A3BA-45ED-A52A-A95946E2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8FDD-553B-4AEE-A747-86E2073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F787-FED2-4230-B425-0998B70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D17-E2B6-4233-A4D5-8743F1A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753E-5285-40EC-9682-C680AC2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7903E-2364-4436-8215-C478333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8EC5-483F-447A-95A9-A651177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17D5-C875-4958-83A2-4E74F2C4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C402-90C5-4706-9B8A-39356989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AC130-2EFB-4DF9-B5CF-1C587A7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BD2A-01F2-4717-9D1D-84FC69A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33575-49D3-4742-9CBE-ED837B9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5CDB-80CC-4140-B2A9-E8F2000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6F110-7B2A-4259-B116-3622291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61A-FAF1-4561-A041-9A3726C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D9D00-5120-4FE8-8104-524C94F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67EB-CFAC-4D57-AAB4-D4C7E75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4645-9F37-4476-AECF-67819D7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4CE3-5C20-4487-8902-97E8BD7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4D20-880D-4ED6-9622-423ACC60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EBEE-0E12-4252-9D88-847A6E6B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1B709-AA77-4A3F-BE5E-E04DC9D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1F6A3-FB2D-466C-BC4F-0EDB98E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7752B-B107-4CE8-A691-71E7DDD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6B349-8ADB-42BE-9633-F0F30824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051F-41F8-47C6-8B29-C6D1E84EC9E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0A87-487A-4C88-BEBA-9DCFD9B2497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0118-6CDE-4321-A157-003AADFB643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1D0-E76D-4A8F-BB8F-2C6F5513A834}" type="slidenum">
              <a:rPr b="1" lang="es-ES_tradnl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A31-6EE8-45B9-AE70-7C795F5247F1}" type="datetime"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A1F-A564-4CA7-9B62-DB996595AB1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0DA0-5442-4243-B13B-55E120B22BF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8F0-4EF6-436A-9399-CE852464843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8A1-4CD4-4DA5-81A8-A4C4CE5279A9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028-F128-486F-807E-CAD776755BD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573F-4CF3-49DE-8147-5CF3BE4CC305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6381-B561-4DC4-8E12-E27027DAAA2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0F6-8277-45E2-BE22-E2410718C19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E74-F639-4495-9574-22A4CABD7DF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A04-0560-4C83-867C-A55ACFEA2AF7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A3A-639D-4290-BC1F-76BA5BAB745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5AE4-3BB9-4134-B0DA-98490359F93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9585-AF7E-441B-AF42-B28DAE00E5F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Desarrollo de Aplicaciones para MID (RC)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Profesores: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Eduardo Godoy (egodoy@dcc.uchile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Alejandro Ituarte (aituarte@schema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tip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na aplicación MID de natural uso humano (ejemplo: touch screen – tipo iPhone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ultimedia (imagen, sonido, película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osicionamient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On line (comunicado, conectado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IMPLE (abuelita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ersonalizad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Fechas Important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21/Septiembre: Control 1 – Teoría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30/Septiembre: Se inicia Trabajo en equip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4/Noviembre: Control 2 - Plataform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(según escuela): Examen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Videos Motivaciona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esentación Curs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oyecto a desarrolla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Vide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Corre video…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esentación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Desarrollo de aplicaciones móvi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valuación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Trabajo grupal (2 a 3 integrantes)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Una sola nota final por el proyecto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Producto desarrollado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Documentación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La evaluación se hará en el Exámen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2 Controles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a Teoría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s Plataformas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Nota Final: Controles*0.40 + Examen*0.60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Condición para aprobar (todas ellas deben cumplirse):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Nota Final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Examen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Controles &gt;= 3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Mecánica del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curso es TALL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25% de teoría bas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75% de esfuerzo individua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e darán las bases, tips y filosofía. No enseñaremos “a programa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taller es un working in progress para todos; vamos construyendo conocimiento juntos!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No habrá clases TODOS los dia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Antes de vacaciones: fuerte en teoría y herramienta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Después de vacaciones: fuerte en desarrollo del proyecto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-Cursos es el mecanismo oficial de comunicació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eeGo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ex-Moblin … Intel+Nokia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3" name="Imagen 3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1630440" cy="258444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4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7" descr=""/>
          <p:cNvPicPr/>
          <p:nvPr/>
        </p:nvPicPr>
        <p:blipFill>
          <a:blip r:embed="rId4"/>
          <a:stretch/>
        </p:blipFill>
        <p:spPr>
          <a:xfrm>
            <a:off x="73152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8" descr=""/>
          <p:cNvPicPr/>
          <p:nvPr/>
        </p:nvPicPr>
        <p:blipFill>
          <a:blip r:embed="rId5"/>
          <a:stretch/>
        </p:blipFill>
        <p:spPr>
          <a:xfrm>
            <a:off x="762120" y="2362320"/>
            <a:ext cx="2241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iOS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Apple … iPhone+iPod touch+iPad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9" name="Imagen 11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161928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12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1751040" cy="167652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13" descr=""/>
          <p:cNvPicPr/>
          <p:nvPr/>
        </p:nvPicPr>
        <p:blipFill>
          <a:blip r:embed="rId4"/>
          <a:stretch/>
        </p:blipFill>
        <p:spPr>
          <a:xfrm>
            <a:off x="2362320" y="4495680"/>
            <a:ext cx="2628720" cy="175284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14" descr=""/>
          <p:cNvPicPr/>
          <p:nvPr/>
        </p:nvPicPr>
        <p:blipFill>
          <a:blip r:embed="rId5"/>
          <a:stretch/>
        </p:blipFill>
        <p:spPr>
          <a:xfrm>
            <a:off x="6019920" y="4572000"/>
            <a:ext cx="24638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Android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Linux+Google+Intel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Imagen 9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761760" cy="901440"/>
          </a:xfrm>
          <a:prstGeom prst="rect">
            <a:avLst/>
          </a:prstGeom>
          <a:ln w="0">
            <a:noFill/>
          </a:ln>
        </p:spPr>
      </p:pic>
      <p:pic>
        <p:nvPicPr>
          <p:cNvPr id="396" name="Imagen 10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1400040" cy="2489040"/>
          </a:xfrm>
          <a:prstGeom prst="rect">
            <a:avLst/>
          </a:prstGeom>
          <a:ln w="0">
            <a:noFill/>
          </a:ln>
        </p:spPr>
      </p:pic>
      <p:pic>
        <p:nvPicPr>
          <p:cNvPr id="397" name="Imagen 11" descr=""/>
          <p:cNvPicPr/>
          <p:nvPr/>
        </p:nvPicPr>
        <p:blipFill>
          <a:blip r:embed="rId4"/>
          <a:stretch/>
        </p:blipFill>
        <p:spPr>
          <a:xfrm>
            <a:off x="4876920" y="213372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398" name="Imagen 12" descr=""/>
          <p:cNvPicPr/>
          <p:nvPr/>
        </p:nvPicPr>
        <p:blipFill>
          <a:blip r:embed="rId5"/>
          <a:stretch/>
        </p:blipFill>
        <p:spPr>
          <a:xfrm>
            <a:off x="6248520" y="4648320"/>
            <a:ext cx="2228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oyect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Objetiv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i="1" lang="es-CL" sz="2000" spc="-1" strike="noStrike">
                <a:solidFill>
                  <a:srgbClr val="595959"/>
                </a:solidFill>
                <a:latin typeface="Calisto MT"/>
              </a:rPr>
              <a:t>Desarrollar un POC (Proof of Concept) para dispositivo móvi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Principales Alternativ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2"/>
          <a:stretch/>
        </p:blipFill>
        <p:spPr>
          <a:xfrm>
            <a:off x="1365120" y="3193920"/>
            <a:ext cx="3895920" cy="28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5944680" y="5029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5718960" y="38862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ias/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7"/>
          <p:cNvCxnSpPr/>
          <p:nvPr/>
        </p:nvCxnSpPr>
        <p:spPr>
          <a:xfrm flipH="1" flipV="1">
            <a:off x="4647600" y="4114440"/>
            <a:ext cx="99108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  <p:cxnSp>
        <p:nvCxnSpPr>
          <p:cNvPr id="405" name="Straight Arrow Connector 8"/>
          <p:cNvCxnSpPr/>
          <p:nvPr/>
        </p:nvCxnSpPr>
        <p:spPr>
          <a:xfrm flipH="1" flipV="1">
            <a:off x="4800240" y="5257440"/>
            <a:ext cx="99144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53:09Z</dcterms:created>
  <dc:creator>egodoy</dc:creator>
  <dc:description/>
  <dc:language>en-US</dc:language>
  <cp:lastModifiedBy>Alejandro Ituarte</cp:lastModifiedBy>
  <dcterms:modified xsi:type="dcterms:W3CDTF">2010-08-20T20:22:22Z</dcterms:modified>
  <cp:revision>16</cp:revision>
  <dc:subject/>
  <dc:title>CC61Y Desarrollo de Aplicaciones para MID (RC)</dc:title>
</cp:coreProperties>
</file>