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1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88A9-6010-4247-B2C6-4FF8697D10B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sistente: El mensaje es guardado en el sitema de 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hasta que éste llega a su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Transiente: El mensaje es almacenado sólo mientras el proceso de envío y recepción se produzca, en caso de falla el mensaje se pie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rocesos se comunican mediante cola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eneral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un MQ-System para integración de 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terfaz aumenta/disminuye las tasas de streaming de audio/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jemplo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claro: MPEG-2 (usando buff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FF5-F48C-45CB-8323-E70B844D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6107-CC58-4A48-98EB-2F1DA925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EC1-9D3E-4081-B2E8-1608BF20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7DF-60F7-4715-A630-BEBEFE75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7DA7-7713-4EB6-99F6-BDB8153F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0693-F6EE-4D58-80CE-037F9416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A2E9-35D0-4202-AD1B-384C50F1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6999-3484-4604-9173-6BCB8B68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4E2B-3B96-4132-A86C-BDF56EC7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8C14-A779-4771-846F-25026CF0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FF47-50FC-4781-91D3-8D57DE44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AE1-6F9C-4FEA-8220-3C745122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5858-ABBA-45EF-A729-2DB32D45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7381-FD5B-4AC9-B738-72788733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3D7D-A5EE-4302-A3DD-A42AB330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FCF8-C7CB-49F0-86C8-D312AD93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EAE1-A1F8-43DD-93D5-793DA991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296-5175-4B81-99D0-0F566C0D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5FF-4D3F-4BED-A0B5-03B825C0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6D3-1911-4D69-901D-05AF970D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DAE5-A2FE-43DD-B31E-B4C27AC4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B70-9A73-404C-A507-2FB0E16B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310-A95E-483B-BD9D-98244F77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602-5D6F-432E-947C-9499077F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21FE-7835-44DC-B5F3-740C2FBC4A51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24760" y="47520"/>
            <a:ext cx="109080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0F12-F588-4EA9-B21D-F487A1DED1A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37520" y="3024360"/>
            <a:ext cx="1643040" cy="223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municacion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Bustos J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: arquitec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original en un Pentium: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recibido en una SPARC &lt;83.886.080,”JILL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mensaje luego de ser invertido para la SPARC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1594" t="46979" r="20309" b="42297"/>
          <a:stretch/>
        </p:blipFill>
        <p:spPr>
          <a:xfrm>
            <a:off x="647640" y="1600200"/>
            <a:ext cx="7724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54864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Tradi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20309" t="43807" r="16677" b="39578"/>
          <a:stretch/>
        </p:blipFill>
        <p:spPr>
          <a:xfrm>
            <a:off x="9360" y="1562040"/>
            <a:ext cx="91346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 (Respuest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4347" t="44714" r="24347" b="39578"/>
          <a:stretch/>
        </p:blipFill>
        <p:spPr>
          <a:xfrm>
            <a:off x="954000" y="2660760"/>
            <a:ext cx="71247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os Distribuidos (RM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309" t="40030" r="17318" b="34743"/>
          <a:stretch/>
        </p:blipFill>
        <p:spPr>
          <a:xfrm>
            <a:off x="554040" y="1887480"/>
            <a:ext cx="80294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 de par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met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 objeto puede ser duplicado por copia o refe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9455" t="42297" r="16675" b="36254"/>
          <a:stretch/>
        </p:blipFill>
        <p:spPr>
          <a:xfrm>
            <a:off x="406440" y="2382840"/>
            <a:ext cx="82627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Java R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se env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un objeto como parámetro se realiza una cop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se envía el stub de un objeto como parámetro se está realizando un duplicado de l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i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 info: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ttp://java.sun.com/docs/books/tutorial/rmi/index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19455" t="41541" r="16035" b="37010"/>
          <a:stretch/>
        </p:blipFill>
        <p:spPr>
          <a:xfrm>
            <a:off x="228600" y="2016000"/>
            <a:ext cx="8534520" cy="4015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02240" y="6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Basado en el antiguo “pony-express”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ent communication of letters back in the days of the Pony Exp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7152" t="43505" r="24347" b="38972"/>
          <a:stretch/>
        </p:blipFill>
        <p:spPr>
          <a:xfrm>
            <a:off x="309600" y="1757520"/>
            <a:ext cx="8643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jemplos de comunicaci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4720" y="5599080"/>
            <a:ext cx="70624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18053" t="27644" r="17021" b="54231"/>
          <a:stretch/>
        </p:blipFill>
        <p:spPr>
          <a:xfrm>
            <a:off x="492120" y="1638360"/>
            <a:ext cx="7991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5653080"/>
            <a:ext cx="796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pt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20097" t="44865" r="17104" b="37462"/>
          <a:stretch/>
        </p:blipFill>
        <p:spPr>
          <a:xfrm>
            <a:off x="360360" y="1844640"/>
            <a:ext cx="79916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O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8649" t="40484" r="24318" b="34743"/>
          <a:stretch/>
        </p:blipFill>
        <p:spPr>
          <a:xfrm>
            <a:off x="1359000" y="2143080"/>
            <a:ext cx="5790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42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52578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18172" t="61933" r="17744" b="22055"/>
          <a:stretch/>
        </p:blipFill>
        <p:spPr>
          <a:xfrm>
            <a:off x="0" y="1833480"/>
            <a:ext cx="91440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orientada a los mensaj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s e implementados en la capa de transporte (message-oriented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ansi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erkeley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sist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-Queuing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 Br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330066"/>
                </a:solidFill>
                <a:latin typeface="Arial"/>
              </a:rPr>
              <a:t>Berkeley Sockets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21165" t="46677" r="19243" b="40785"/>
          <a:stretch/>
        </p:blipFill>
        <p:spPr>
          <a:xfrm>
            <a:off x="387360" y="2482920"/>
            <a:ext cx="79516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essage-Passing Interface (MPI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r que define la sintaxis y la sem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ca de las funciones contenidas en una biblioteca de paso de mensajes d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para ser usada en programas que exploten la existencia de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ples proces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procesos invocan diferentes funciones MPI que perm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iciar, gestionar y finalizar procesos MP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unicar datos entre dos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alizar operaciones de comunicaci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tre grupos de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rear tipos arbitrarios de da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info: http://www-unix.mcs.anl.gov/mpi/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-Queu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580" t="39578" r="24347" b="34139"/>
          <a:stretch/>
        </p:blipFill>
        <p:spPr>
          <a:xfrm>
            <a:off x="1484280" y="1868400"/>
            <a:ext cx="58244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Arquitectura de un MQ-System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1165" t="44260" r="20097" b="37916"/>
          <a:stretch/>
        </p:blipFill>
        <p:spPr>
          <a:xfrm>
            <a:off x="382680" y="2246400"/>
            <a:ext cx="8524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Arquitectura de un MQ-System con router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27152" t="39275" r="24347" b="33535"/>
          <a:stretch/>
        </p:blipFill>
        <p:spPr>
          <a:xfrm>
            <a:off x="1393920" y="1986120"/>
            <a:ext cx="5900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Brok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32424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4347" t="42750" r="21594" b="36858"/>
          <a:stretch/>
        </p:blipFill>
        <p:spPr>
          <a:xfrm>
            <a:off x="343080" y="1886040"/>
            <a:ext cx="8300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stream-orient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rientada a multi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se envía en ráfa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idea es preservar el orden de envío de los paquetes al recibir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6938" t="54080" r="24347" b="32175"/>
          <a:stretch/>
        </p:blipFill>
        <p:spPr>
          <a:xfrm>
            <a:off x="1424160" y="3973680"/>
            <a:ext cx="6559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Multicasting para la transm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icast: el mensaje es reenviado a todos los que pertenecen al grupo de comun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30788" t="45922" r="28647" b="40333"/>
          <a:stretch/>
        </p:blipFill>
        <p:spPr>
          <a:xfrm>
            <a:off x="1349280" y="2803680"/>
            <a:ext cx="6529320" cy="313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71960" y="3838680"/>
            <a:ext cx="3349440" cy="26366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31000" y="4005360"/>
            <a:ext cx="1549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co paquete de mensa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7338" t="44411" r="24347" b="39275"/>
          <a:stretch/>
        </p:blipFill>
        <p:spPr>
          <a:xfrm>
            <a:off x="214200" y="2195640"/>
            <a:ext cx="861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-Bucket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5143680"/>
            <a:ext cx="823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io d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ken bucket algorith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El stream irregular es almacenado en burbujas (buckets) de tamaño fijo, las cuales son enviadas por la red a una tasa consta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24347" t="45318" r="21594" b="39426"/>
          <a:stretch/>
        </p:blipFill>
        <p:spPr>
          <a:xfrm>
            <a:off x="500040" y="1714680"/>
            <a:ext cx="8034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fluj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58720" y="511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pecif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flujo que se requiere a partir de la información de la ent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12800" y="1996920"/>
          <a:ext cx="7742160" cy="2933640"/>
        </p:xfrm>
        <a:graphic>
          <a:graphicData uri="http://schemas.openxmlformats.org/drawingml/2006/table">
            <a:tbl>
              <a:tblPr/>
              <a:tblGrid>
                <a:gridCol w="3770280"/>
                <a:gridCol w="3971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ác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ísticas de la 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oS requer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ata uni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transmission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sensitivity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interval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st loss sensitivity (data 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imum delay noticed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elay variatio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ity of guarant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oS: Resource reSerVation Protocol (RSV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9455" t="40030" r="17532" b="35045"/>
          <a:stretch/>
        </p:blipFill>
        <p:spPr>
          <a:xfrm>
            <a:off x="995400" y="1874880"/>
            <a:ext cx="76104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31214" t="44865" r="29289" b="38972"/>
          <a:stretch/>
        </p:blipFill>
        <p:spPr>
          <a:xfrm>
            <a:off x="3516480" y="3438360"/>
            <a:ext cx="5195880" cy="3009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hardco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n: 320x240 @30Hz =&gt; 76.800 Bytes cada 33 ms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: sampling stereo a 11.760 bytes (33 ms de audio) por ca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: 2 audio x 1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Interfa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synchronization as supported by high-level interfa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3048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27792" t="43959" r="24347" b="38520"/>
          <a:stretch/>
        </p:blipFill>
        <p:spPr>
          <a:xfrm>
            <a:off x="324000" y="1687680"/>
            <a:ext cx="8529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en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ata Link Lay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1567" t="39578" r="20097" b="33988"/>
          <a:stretch/>
        </p:blipFill>
        <p:spPr>
          <a:xfrm>
            <a:off x="615960" y="1585800"/>
            <a:ext cx="76914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ent-Server TC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62400" y="3474720"/>
            <a:ext cx="28558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97" t="38066" r="17104" b="30816"/>
          <a:stretch/>
        </p:blipFill>
        <p:spPr>
          <a:xfrm>
            <a:off x="0" y="1890720"/>
            <a:ext cx="6078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Modelos de 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unto a punto (un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ltipunto (mult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s de interac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/servid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ódigo móv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ecnologías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so de mensajes: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soc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lamada a procedimientos remotos (RP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vocación de métodos remotos (RM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ecnologías de objetos distribuidos: CORBA, DCOM, EJ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rvicios web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uerdo: Llamada de proced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1840" y="2174760"/>
            <a:ext cx="355284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ck de ejecu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ntes de llamar 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stack cuando ya se efect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 el llam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0574" t="42901" r="27792" b="37010"/>
          <a:stretch/>
        </p:blipFill>
        <p:spPr>
          <a:xfrm>
            <a:off x="4349880" y="1866960"/>
            <a:ext cx="47941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mote Procedure Call (RP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711" t="45318" r="30788" b="41088"/>
          <a:stretch/>
        </p:blipFill>
        <p:spPr>
          <a:xfrm>
            <a:off x="480960" y="1644480"/>
            <a:ext cx="7921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s de RP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8840" y="2332080"/>
            <a:ext cx="302760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5760" y="2346480"/>
            <a:ext cx="319248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6400" y="5784840"/>
            <a:ext cx="723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10000" y="47354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9880" y="47498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4600" y="4168800"/>
            <a:ext cx="2016000" cy="52560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2920" y="4183200"/>
            <a:ext cx="2016360" cy="52524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3800" y="2428920"/>
            <a:ext cx="855360" cy="828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18160" y="2443320"/>
            <a:ext cx="773280" cy="8143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81200" y="316224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ub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4560" y="314172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kel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18800" y="2581200"/>
            <a:ext cx="1706040" cy="581400"/>
            <a:chOff x="1918800" y="2581200"/>
            <a:chExt cx="1706040" cy="581400"/>
          </a:xfrm>
        </p:grpSpPr>
        <p:sp>
          <p:nvSpPr>
            <p:cNvPr id="128" name=""/>
            <p:cNvSpPr/>
            <p:nvPr/>
          </p:nvSpPr>
          <p:spPr>
            <a:xfrm>
              <a:off x="2954880" y="25812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B.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3" idx="6"/>
              <a:endCxn id="125" idx="0"/>
            </p:cNvCxnSpPr>
            <p:nvPr/>
          </p:nvCxnSpPr>
          <p:spPr>
            <a:xfrm>
              <a:off x="1918800" y="2843280"/>
              <a:ext cx="1297800" cy="31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2621880" y="3754080"/>
            <a:ext cx="1334880" cy="421920"/>
            <a:chOff x="2621880" y="3754080"/>
            <a:chExt cx="1334880" cy="421920"/>
          </a:xfrm>
        </p:grpSpPr>
        <p:cxnSp>
          <p:nvCxnSpPr>
            <p:cNvPr id="131" name=""/>
            <p:cNvCxnSpPr>
              <a:stCxn id="125" idx="4"/>
              <a:endCxn id="121" idx="0"/>
            </p:cNvCxnSpPr>
            <p:nvPr/>
          </p:nvCxnSpPr>
          <p:spPr>
            <a:xfrm rot="5400000">
              <a:off x="2711520" y="3664440"/>
              <a:ext cx="415080" cy="594360"/>
            </a:xfrm>
            <a:prstGeom prst="bentConnector3">
              <a:avLst>
                <a:gd name="adj1" fmla="val 497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142080" y="383868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294280" y="1825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10360" y="1824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21520" y="4694040"/>
            <a:ext cx="3839040" cy="938880"/>
            <a:chOff x="2621520" y="4694040"/>
            <a:chExt cx="3839040" cy="938880"/>
          </a:xfrm>
        </p:grpSpPr>
        <p:cxnSp>
          <p:nvCxnSpPr>
            <p:cNvPr id="136" name=""/>
            <p:cNvCxnSpPr>
              <a:stCxn id="121" idx="2"/>
              <a:endCxn id="122" idx="2"/>
            </p:cNvCxnSpPr>
            <p:nvPr/>
          </p:nvCxnSpPr>
          <p:spPr>
            <a:xfrm flipH="1" rot="16200000">
              <a:off x="4533840" y="2781720"/>
              <a:ext cx="14760" cy="3839400"/>
            </a:xfrm>
            <a:prstGeom prst="bentConnector3">
              <a:avLst>
                <a:gd name="adj1" fmla="val 6520000"/>
              </a:avLst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2986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4240" y="521352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7504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6736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256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530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712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232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284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755400" y="3733560"/>
            <a:ext cx="942840" cy="713160"/>
            <a:chOff x="6755400" y="3733560"/>
            <a:chExt cx="942840" cy="713160"/>
          </a:xfrm>
        </p:grpSpPr>
        <p:cxnSp>
          <p:nvCxnSpPr>
            <p:cNvPr id="147" name=""/>
            <p:cNvCxnSpPr>
              <a:stCxn id="122" idx="3"/>
              <a:endCxn id="126" idx="4"/>
            </p:cNvCxnSpPr>
            <p:nvPr/>
          </p:nvCxnSpPr>
          <p:spPr>
            <a:xfrm flipH="1" flipV="1">
              <a:off x="7329240" y="3733560"/>
              <a:ext cx="140400" cy="713520"/>
            </a:xfrm>
            <a:prstGeom prst="bentConnector4">
              <a:avLst>
                <a:gd name="adj1" fmla="val -163496"/>
                <a:gd name="adj2" fmla="val 685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6755400" y="388152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391080" y="2581200"/>
            <a:ext cx="938520" cy="560160"/>
            <a:chOff x="6391080" y="2581200"/>
            <a:chExt cx="938520" cy="560160"/>
          </a:xfrm>
        </p:grpSpPr>
        <p:cxnSp>
          <p:nvCxnSpPr>
            <p:cNvPr id="150" name=""/>
            <p:cNvCxnSpPr>
              <a:stCxn id="126" idx="0"/>
              <a:endCxn id="124" idx="6"/>
            </p:cNvCxnSpPr>
            <p:nvPr/>
          </p:nvCxnSpPr>
          <p:spPr>
            <a:xfrm flipV="1" rot="16200000">
              <a:off x="6714720" y="2526480"/>
              <a:ext cx="291240" cy="93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6608160" y="2581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14000" y="3257640"/>
            <a:ext cx="880920" cy="353160"/>
            <a:chOff x="5814000" y="3257640"/>
            <a:chExt cx="880920" cy="353160"/>
          </a:xfrm>
        </p:grpSpPr>
        <p:cxnSp>
          <p:nvCxnSpPr>
            <p:cNvPr id="153" name=""/>
            <p:cNvCxnSpPr>
              <a:stCxn id="124" idx="4"/>
              <a:endCxn id="126" idx="2"/>
            </p:cNvCxnSpPr>
            <p:nvPr/>
          </p:nvCxnSpPr>
          <p:spPr>
            <a:xfrm flipH="1" rot="16200000">
              <a:off x="6259680" y="3003120"/>
              <a:ext cx="181440" cy="68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5814000" y="32734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873040" y="3437280"/>
            <a:ext cx="821520" cy="745200"/>
            <a:chOff x="5873040" y="3437280"/>
            <a:chExt cx="821520" cy="745200"/>
          </a:xfrm>
        </p:grpSpPr>
        <p:cxnSp>
          <p:nvCxnSpPr>
            <p:cNvPr id="156" name=""/>
            <p:cNvCxnSpPr>
              <a:stCxn id="126" idx="2"/>
              <a:endCxn id="122" idx="0"/>
            </p:cNvCxnSpPr>
            <p:nvPr/>
          </p:nvCxnSpPr>
          <p:spPr>
            <a:xfrm flipV="1" rot="10800000">
              <a:off x="6460560" y="3437280"/>
              <a:ext cx="234000" cy="74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5873040" y="371628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33160" y="4721040"/>
            <a:ext cx="4334400" cy="1689120"/>
            <a:chOff x="2333160" y="4721040"/>
            <a:chExt cx="4334400" cy="1689120"/>
          </a:xfrm>
        </p:grpSpPr>
        <p:sp>
          <p:nvSpPr>
            <p:cNvPr id="159" name=""/>
            <p:cNvSpPr/>
            <p:nvPr/>
          </p:nvSpPr>
          <p:spPr>
            <a:xfrm>
              <a:off x="6667560" y="4749840"/>
              <a:ext cx="0" cy="132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333160" y="6073920"/>
              <a:ext cx="4334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346480" y="4721040"/>
              <a:ext cx="0" cy="135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3064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5840" y="61246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7000" y="6134040"/>
              <a:ext cx="29016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896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416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46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6872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642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13680" y="3458520"/>
            <a:ext cx="808560" cy="709920"/>
            <a:chOff x="1813680" y="3458520"/>
            <a:chExt cx="808560" cy="709920"/>
          </a:xfrm>
        </p:grpSpPr>
        <p:cxnSp>
          <p:nvCxnSpPr>
            <p:cNvPr id="171" name=""/>
            <p:cNvCxnSpPr>
              <a:stCxn id="121" idx="0"/>
              <a:endCxn id="125" idx="2"/>
            </p:cNvCxnSpPr>
            <p:nvPr/>
          </p:nvCxnSpPr>
          <p:spPr>
            <a:xfrm flipV="1" rot="16200000">
              <a:off x="2246400" y="3792600"/>
              <a:ext cx="710280" cy="41760"/>
            </a:xfrm>
            <a:prstGeom prst="curvedConnector5">
              <a:avLst>
                <a:gd name="adj1" fmla="val 29056"/>
                <a:gd name="adj2" fmla="val 329565"/>
                <a:gd name="adj3" fmla="val 290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1813680" y="376092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86640" y="3257280"/>
            <a:ext cx="1294200" cy="451800"/>
            <a:chOff x="1286640" y="3257280"/>
            <a:chExt cx="1294200" cy="451800"/>
          </a:xfrm>
        </p:grpSpPr>
        <p:cxnSp>
          <p:nvCxnSpPr>
            <p:cNvPr id="174" name=""/>
            <p:cNvCxnSpPr>
              <a:stCxn id="125" idx="2"/>
              <a:endCxn id="123" idx="4"/>
            </p:cNvCxnSpPr>
            <p:nvPr/>
          </p:nvCxnSpPr>
          <p:spPr>
            <a:xfrm rot="10800000">
              <a:off x="1491480" y="3256920"/>
              <a:ext cx="1089720" cy="202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1286640" y="33717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19:24Z</dcterms:created>
  <dc:creator>Steve  Armstrong</dc:creator>
  <dc:description/>
  <dc:language>en-US</dc:language>
  <cp:lastModifiedBy>Usuario de Office 2004 Test Drive</cp:lastModifiedBy>
  <dcterms:modified xsi:type="dcterms:W3CDTF">2009-03-25T13:42:29Z</dcterms:modified>
  <cp:revision>33</cp:revision>
  <dc:subject/>
  <dc:title>Communication</dc:title>
</cp:coreProperties>
</file>