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ct" ContentType="image/x-pict"/>
  <Override PartName="/ppt/media/image14.png" ContentType="image/png"/>
  <Override PartName="/ppt/media/image22.png" ContentType="image/png"/>
  <Override PartName="/ppt/media/image1.pct" ContentType="image/x-pict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D0EC-3076-43EC-A21A-5DCA31E65B8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ersistente: El mensaje es guardado en el sitema de comunic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hasta que éste llega a su dest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unic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Transiente: El mensaje es almacenado sólo mientras el proceso de envío y recepción se produzca, en caso de falla el mensaje se pier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os procesos se comunican mediante colas de mensaj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eneral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de un MQ-System para integración de 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interfaz aumenta/disminuye las tasas de streaming de audio/vid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jemplo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claro: MPEG-2 (usando buffe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9FF2-BF09-43FF-8AA8-ADD4968E4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6BA2-A907-4BD7-A06D-B5E343A2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839E-AE18-4E9F-9D02-CA9FB930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94BA-D1E4-4096-AFDB-CD1BA2FB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8657-95E6-412C-AA33-333D0979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9E91-3EB7-4C2D-B3CC-87888796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B61F-1DCD-4164-A17B-741072B0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9457-2F51-4B4F-9E5C-9FE1F8FB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2364-99FC-4C0D-808C-FCEC160C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1AE7-4C72-492F-BF8B-5E164B44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1BC6-2500-42E9-8173-C36BFFE3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40B7-0614-4C4C-B1B6-CE0F260C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DBC0-5CCE-4B67-8227-F0FA1FF9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7B9E-76F4-494C-BBE0-787039B2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B875-F9E6-4067-8634-176ABE2A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2DBC-DDA5-4570-9C64-30F34398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D4D8-BC6C-4EC4-940F-6464BCED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01F8-32ED-422F-A238-749E6A82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C2F1-8E98-4F30-9EC1-C869D66E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A5AF-C778-4954-9262-B6BA06E6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F8F6-FEB8-4DE1-9620-8893975D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9985-B4AF-42ED-B912-F372AD8A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EA38-2876-4AA0-9700-3ADD87F3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4B31-05F5-4DD7-BF8E-E08D62FD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643D-B1D7-428F-8F9C-F7050395DABB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024760" y="47520"/>
            <a:ext cx="109080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37B9-1AC2-441D-B6CB-E5A398B1D814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37520" y="3024360"/>
            <a:ext cx="1643040" cy="2236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omunicacion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er Bustos J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a: arquitec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472428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saje original en un Pentium: &lt;5,”LLIJ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saje recibido en una SPARC &lt;83.886.080,”JILL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mensaje luego de ser invertido para la SPARC &lt;5,”LLIJ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1594" t="46979" r="20309" b="42297"/>
          <a:stretch/>
        </p:blipFill>
        <p:spPr>
          <a:xfrm>
            <a:off x="647640" y="1600200"/>
            <a:ext cx="77248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ncron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95280" y="54864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PC Tradi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PC 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20309" t="43807" r="16677" b="39578"/>
          <a:stretch/>
        </p:blipFill>
        <p:spPr>
          <a:xfrm>
            <a:off x="9360" y="1562040"/>
            <a:ext cx="913464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ncrono (Respuest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4347" t="44714" r="24347" b="39578"/>
          <a:stretch/>
        </p:blipFill>
        <p:spPr>
          <a:xfrm>
            <a:off x="954000" y="2660760"/>
            <a:ext cx="71247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os Distribuidos (RMI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20309" t="40030" r="17318" b="34743"/>
          <a:stretch/>
        </p:blipFill>
        <p:spPr>
          <a:xfrm>
            <a:off x="554040" y="1887480"/>
            <a:ext cx="80294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o de par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metr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 objeto puede ser duplicado por copia o refer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19455" t="42297" r="16675" b="36254"/>
          <a:stretch/>
        </p:blipFill>
        <p:spPr>
          <a:xfrm>
            <a:off x="406440" y="2382840"/>
            <a:ext cx="826272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Java RM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i se env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un objeto como parámetro se realiza una cop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se envía el stub de un objeto como parámetro se está realizando un duplicado de la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erenci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 info: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http://java.sun.com/docs/books/tutorial/rmi/index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38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persistente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19455" t="41541" r="16035" b="37010"/>
          <a:stretch/>
        </p:blipFill>
        <p:spPr>
          <a:xfrm>
            <a:off x="228600" y="2016000"/>
            <a:ext cx="8534520" cy="4015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02240" y="6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Basado en el antiguo “pony-express”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istent communication of letters back in the days of the Pony Expr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27152" t="43505" r="24347" b="38972"/>
          <a:stretch/>
        </p:blipFill>
        <p:spPr>
          <a:xfrm>
            <a:off x="309600" y="1757520"/>
            <a:ext cx="86439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jemplos de comunicaci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persistent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4720" y="5599080"/>
            <a:ext cx="70624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c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2895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18053" t="27644" r="17021" b="54231"/>
          <a:stretch/>
        </p:blipFill>
        <p:spPr>
          <a:xfrm>
            <a:off x="492120" y="1638360"/>
            <a:ext cx="7991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Transiente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5653080"/>
            <a:ext cx="7968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pt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20097" t="44865" r="17104" b="37462"/>
          <a:stretch/>
        </p:blipFill>
        <p:spPr>
          <a:xfrm>
            <a:off x="360360" y="1844640"/>
            <a:ext cx="79916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OS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8649" t="40484" r="24318" b="34743"/>
          <a:stretch/>
        </p:blipFill>
        <p:spPr>
          <a:xfrm>
            <a:off x="1359000" y="2143080"/>
            <a:ext cx="57909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42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Transiente</a:t>
            </a:r>
            <a:endParaRPr b="1" lang="en-US" sz="4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52578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very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e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18172" t="61933" r="17744" b="22055"/>
          <a:stretch/>
        </p:blipFill>
        <p:spPr>
          <a:xfrm>
            <a:off x="0" y="1833480"/>
            <a:ext cx="91440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orientada a los mensaj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ñ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s e implementados en la capa de transporte (message-oriented mod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ransi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erkeley Soc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rsist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ssage-Queuing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ssage Bro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330066"/>
                </a:solidFill>
                <a:latin typeface="Arial"/>
              </a:rPr>
              <a:t>Berkeley Sockets</a:t>
            </a:r>
            <a:endParaRPr b="1" lang="en-US" sz="47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21165" t="46677" r="19243" b="40785"/>
          <a:stretch/>
        </p:blipFill>
        <p:spPr>
          <a:xfrm>
            <a:off x="387360" y="2482920"/>
            <a:ext cx="79516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Message-Passing Interface (MPI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án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ar que define la sintaxis y la sem</a:t>
            </a:r>
            <a:r>
              <a:rPr b="0" lang="es-ES_tradnl" sz="2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á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ica de las funciones contenidas en una biblioteca de paso de mensajes di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 para ser usada en programas que exploten la existencia de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ples procesad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procesos invocan diferentes funciones MPI que perm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iniciar, gestionar y finalizar procesos MP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omunicar datos entre dos pro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alizar operaciones de comunicaci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ó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ntre grupos de pro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rear tipos arbitrarios de da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ás info: http://www-unix.mcs.anl.gov/mpi/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-Queuing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2514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27580" t="39578" r="24347" b="34139"/>
          <a:stretch/>
        </p:blipFill>
        <p:spPr>
          <a:xfrm>
            <a:off x="1484280" y="1868400"/>
            <a:ext cx="582444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Arquitectura de un MQ-System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21165" t="44260" r="20097" b="37916"/>
          <a:stretch/>
        </p:blipFill>
        <p:spPr>
          <a:xfrm>
            <a:off x="382680" y="2246400"/>
            <a:ext cx="85248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Arquitectura de un MQ-System con routers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42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27152" t="39275" r="24347" b="33535"/>
          <a:stretch/>
        </p:blipFill>
        <p:spPr>
          <a:xfrm>
            <a:off x="1393920" y="1986120"/>
            <a:ext cx="59007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 Brok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332424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24347" t="42750" r="21594" b="36858"/>
          <a:stretch/>
        </p:blipFill>
        <p:spPr>
          <a:xfrm>
            <a:off x="343080" y="1886040"/>
            <a:ext cx="83008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stream-orient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rientada a multi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inform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se envía en ráfag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idea es preservar el orden de envío de los paquetes al recibir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26938" t="54080" r="24347" b="32175"/>
          <a:stretch/>
        </p:blipFill>
        <p:spPr>
          <a:xfrm>
            <a:off x="1424160" y="3973680"/>
            <a:ext cx="65592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Multicasting para la transm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ulticast: el mensaje es reenviado a todos los que pertenecen al grupo de comunica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30788" t="45922" r="28647" b="40333"/>
          <a:stretch/>
        </p:blipFill>
        <p:spPr>
          <a:xfrm>
            <a:off x="1349280" y="2803680"/>
            <a:ext cx="6529320" cy="3132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071960" y="3838680"/>
            <a:ext cx="3349440" cy="26366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831000" y="4005360"/>
            <a:ext cx="15494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ico paquete de mensa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7338" t="44411" r="24347" b="39275"/>
          <a:stretch/>
        </p:blipFill>
        <p:spPr>
          <a:xfrm>
            <a:off x="214200" y="2195640"/>
            <a:ext cx="861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dad de Servicio (QoS)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ken-Bucket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5143680"/>
            <a:ext cx="8234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incipio del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oken bucket algorith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El stream irregular es almacenado en burbujas (buckets) de tamaño fijo, las cuales son enviadas por la red a una tasa constant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24347" t="45318" r="21594" b="39426"/>
          <a:stretch/>
        </p:blipFill>
        <p:spPr>
          <a:xfrm>
            <a:off x="500040" y="1714680"/>
            <a:ext cx="80344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dad de Servicio (QoS)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fluj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58720" y="511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pecifica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flujo que se requiere a partir de la información de la entr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12800" y="1996920"/>
          <a:ext cx="7742160" cy="2933640"/>
        </p:xfrm>
        <a:graphic>
          <a:graphicData uri="http://schemas.openxmlformats.org/drawingml/2006/table">
            <a:tbl>
              <a:tblPr/>
              <a:tblGrid>
                <a:gridCol w="3770280"/>
                <a:gridCol w="3971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áct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ísticas de la ent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oS requer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data unit 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ken bucket rate (bytes/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ken bucket 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transmission rate (bytes/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sensitivity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interval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rst loss sensitivity (data un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imum delay noticed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delay variation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lity of guarant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oS: Resource reSerVation Protocol (RSVP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19455" t="40030" r="17532" b="35045"/>
          <a:stretch/>
        </p:blipFill>
        <p:spPr>
          <a:xfrm>
            <a:off x="995400" y="1874880"/>
            <a:ext cx="76104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rcRect l="31214" t="44865" r="29289" b="38972"/>
          <a:stretch/>
        </p:blipFill>
        <p:spPr>
          <a:xfrm>
            <a:off x="3516480" y="3438360"/>
            <a:ext cx="5195880" cy="30099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canismos de sincron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: hardco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n: 320x240 @30Hz =&gt; 76.800 Bytes cada 33 mse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dio: sampling stereo a 11.760 bytes (33 ms de audio) por ca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: 2 audio x 1 vid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canismos de sincron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: Interfaz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synchronization as supported by high-level interfa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3048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27792" t="43959" r="24347" b="38520"/>
          <a:stretch/>
        </p:blipFill>
        <p:spPr>
          <a:xfrm>
            <a:off x="324000" y="1687680"/>
            <a:ext cx="8529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en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ata Link Laye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21567" t="39578" r="20097" b="33988"/>
          <a:stretch/>
        </p:blipFill>
        <p:spPr>
          <a:xfrm>
            <a:off x="615960" y="1585800"/>
            <a:ext cx="76914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ent-Server TC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62400" y="3474720"/>
            <a:ext cx="285588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T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al T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0097" t="38066" r="17104" b="30816"/>
          <a:stretch/>
        </p:blipFill>
        <p:spPr>
          <a:xfrm>
            <a:off x="0" y="1890720"/>
            <a:ext cx="6078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Modelos de 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de comun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unto a punto (unica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ultipunto (multica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odelos de interac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liente/servid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Peer-to-pe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ódigo móv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ecnologías de comun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so de mensajes: 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soc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lamada a procedimientos remotos (RP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vocación de métodos remotos (RM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ecnologías de objetos distribuidos: CORBA, DCOM, EJ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rvicios web.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uerdo: Llamada de procedimi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1840" y="2174760"/>
            <a:ext cx="355284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ck de ejecu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ntes de llamar al proced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stack cuando ya se efect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 el llam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30574" t="42901" r="27792" b="37010"/>
          <a:stretch/>
        </p:blipFill>
        <p:spPr>
          <a:xfrm>
            <a:off x="4349880" y="1866960"/>
            <a:ext cx="479412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mote Procedure Call (RPC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2711" t="45318" r="30788" b="41088"/>
          <a:stretch/>
        </p:blipFill>
        <p:spPr>
          <a:xfrm>
            <a:off x="480960" y="1644480"/>
            <a:ext cx="79218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os de RP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8840" y="2332080"/>
            <a:ext cx="3027600" cy="239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65760" y="2346480"/>
            <a:ext cx="3192480" cy="239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76400" y="5784840"/>
            <a:ext cx="723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10000" y="4735440"/>
            <a:ext cx="0" cy="10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19880" y="4749840"/>
            <a:ext cx="0" cy="10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4600" y="4168800"/>
            <a:ext cx="2016000" cy="525600"/>
          </a:xfrm>
          <a:prstGeom prst="roundRect">
            <a:avLst>
              <a:gd name="adj" fmla="val 16667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52920" y="4183200"/>
            <a:ext cx="2016360" cy="525240"/>
          </a:xfrm>
          <a:prstGeom prst="roundRect">
            <a:avLst>
              <a:gd name="adj" fmla="val 16667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3800" y="2428920"/>
            <a:ext cx="855360" cy="828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18160" y="2443320"/>
            <a:ext cx="773280" cy="8143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81200" y="3162240"/>
            <a:ext cx="1270080" cy="59220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ub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94560" y="3141720"/>
            <a:ext cx="1270080" cy="59220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kel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18800" y="2581200"/>
            <a:ext cx="1706040" cy="581400"/>
            <a:chOff x="1918800" y="2581200"/>
            <a:chExt cx="1706040" cy="581400"/>
          </a:xfrm>
        </p:grpSpPr>
        <p:sp>
          <p:nvSpPr>
            <p:cNvPr id="128" name=""/>
            <p:cNvSpPr/>
            <p:nvPr/>
          </p:nvSpPr>
          <p:spPr>
            <a:xfrm>
              <a:off x="2954880" y="2581200"/>
              <a:ext cx="6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B.f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" name=""/>
            <p:cNvCxnSpPr>
              <a:stCxn id="123" idx="6"/>
              <a:endCxn id="125" idx="0"/>
            </p:cNvCxnSpPr>
            <p:nvPr/>
          </p:nvCxnSpPr>
          <p:spPr>
            <a:xfrm>
              <a:off x="1918800" y="2843280"/>
              <a:ext cx="1297800" cy="31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0" name=""/>
          <p:cNvGrpSpPr/>
          <p:nvPr/>
        </p:nvGrpSpPr>
        <p:grpSpPr>
          <a:xfrm>
            <a:off x="2621880" y="3754080"/>
            <a:ext cx="1334880" cy="421920"/>
            <a:chOff x="2621880" y="3754080"/>
            <a:chExt cx="1334880" cy="421920"/>
          </a:xfrm>
        </p:grpSpPr>
        <p:cxnSp>
          <p:nvCxnSpPr>
            <p:cNvPr id="131" name=""/>
            <p:cNvCxnSpPr>
              <a:stCxn id="125" idx="4"/>
              <a:endCxn id="121" idx="0"/>
            </p:cNvCxnSpPr>
            <p:nvPr/>
          </p:nvCxnSpPr>
          <p:spPr>
            <a:xfrm rot="5400000">
              <a:off x="2711520" y="3664440"/>
              <a:ext cx="415080" cy="594360"/>
            </a:xfrm>
            <a:prstGeom prst="bentConnector3">
              <a:avLst>
                <a:gd name="adj1" fmla="val 4973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3142080" y="383868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B,f,x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294280" y="1825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10360" y="18241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621520" y="4694040"/>
            <a:ext cx="3839040" cy="938880"/>
            <a:chOff x="2621520" y="4694040"/>
            <a:chExt cx="3839040" cy="938880"/>
          </a:xfrm>
        </p:grpSpPr>
        <p:cxnSp>
          <p:nvCxnSpPr>
            <p:cNvPr id="136" name=""/>
            <p:cNvCxnSpPr>
              <a:stCxn id="121" idx="2"/>
              <a:endCxn id="122" idx="2"/>
            </p:cNvCxnSpPr>
            <p:nvPr/>
          </p:nvCxnSpPr>
          <p:spPr>
            <a:xfrm flipH="1" rot="16200000">
              <a:off x="4533840" y="2781720"/>
              <a:ext cx="14760" cy="3839400"/>
            </a:xfrm>
            <a:prstGeom prst="bentConnector3">
              <a:avLst>
                <a:gd name="adj1" fmla="val 6520000"/>
              </a:avLst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</p:cxnSp>
        <p:sp>
          <p:nvSpPr>
            <p:cNvPr id="137" name=""/>
            <p:cNvSpPr/>
            <p:nvPr/>
          </p:nvSpPr>
          <p:spPr>
            <a:xfrm>
              <a:off x="329868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94240" y="521352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7504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6736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6256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5308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3712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232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2284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755400" y="3733560"/>
            <a:ext cx="942840" cy="713160"/>
            <a:chOff x="6755400" y="3733560"/>
            <a:chExt cx="942840" cy="713160"/>
          </a:xfrm>
        </p:grpSpPr>
        <p:cxnSp>
          <p:nvCxnSpPr>
            <p:cNvPr id="147" name=""/>
            <p:cNvCxnSpPr>
              <a:stCxn id="122" idx="3"/>
              <a:endCxn id="126" idx="4"/>
            </p:cNvCxnSpPr>
            <p:nvPr/>
          </p:nvCxnSpPr>
          <p:spPr>
            <a:xfrm flipH="1" flipV="1">
              <a:off x="7329240" y="3733560"/>
              <a:ext cx="140400" cy="713520"/>
            </a:xfrm>
            <a:prstGeom prst="bentConnector4">
              <a:avLst>
                <a:gd name="adj1" fmla="val -163496"/>
                <a:gd name="adj2" fmla="val 6855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"/>
            <p:cNvSpPr/>
            <p:nvPr/>
          </p:nvSpPr>
          <p:spPr>
            <a:xfrm>
              <a:off x="6755400" y="388152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B,f,x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391080" y="2581200"/>
            <a:ext cx="938520" cy="560160"/>
            <a:chOff x="6391080" y="2581200"/>
            <a:chExt cx="938520" cy="560160"/>
          </a:xfrm>
        </p:grpSpPr>
        <p:cxnSp>
          <p:nvCxnSpPr>
            <p:cNvPr id="150" name=""/>
            <p:cNvCxnSpPr>
              <a:stCxn id="126" idx="0"/>
              <a:endCxn id="124" idx="6"/>
            </p:cNvCxnSpPr>
            <p:nvPr/>
          </p:nvCxnSpPr>
          <p:spPr>
            <a:xfrm flipV="1" rot="16200000">
              <a:off x="6714720" y="2526480"/>
              <a:ext cx="291240" cy="938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6608160" y="258120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f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814000" y="3257640"/>
            <a:ext cx="880920" cy="353160"/>
            <a:chOff x="5814000" y="3257640"/>
            <a:chExt cx="880920" cy="353160"/>
          </a:xfrm>
        </p:grpSpPr>
        <p:cxnSp>
          <p:nvCxnSpPr>
            <p:cNvPr id="153" name=""/>
            <p:cNvCxnSpPr>
              <a:stCxn id="124" idx="4"/>
              <a:endCxn id="126" idx="2"/>
            </p:cNvCxnSpPr>
            <p:nvPr/>
          </p:nvCxnSpPr>
          <p:spPr>
            <a:xfrm flipH="1" rot="16200000">
              <a:off x="6259680" y="3003120"/>
              <a:ext cx="181440" cy="68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5814000" y="327348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873040" y="3437280"/>
            <a:ext cx="821520" cy="745200"/>
            <a:chOff x="5873040" y="3437280"/>
            <a:chExt cx="821520" cy="745200"/>
          </a:xfrm>
        </p:grpSpPr>
        <p:cxnSp>
          <p:nvCxnSpPr>
            <p:cNvPr id="156" name=""/>
            <p:cNvCxnSpPr>
              <a:stCxn id="126" idx="2"/>
              <a:endCxn id="122" idx="0"/>
            </p:cNvCxnSpPr>
            <p:nvPr/>
          </p:nvCxnSpPr>
          <p:spPr>
            <a:xfrm flipV="1" rot="10800000">
              <a:off x="6460560" y="3437280"/>
              <a:ext cx="234000" cy="745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5873040" y="371628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A,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333160" y="4721040"/>
            <a:ext cx="4334400" cy="1689120"/>
            <a:chOff x="2333160" y="4721040"/>
            <a:chExt cx="4334400" cy="1689120"/>
          </a:xfrm>
        </p:grpSpPr>
        <p:sp>
          <p:nvSpPr>
            <p:cNvPr id="159" name=""/>
            <p:cNvSpPr/>
            <p:nvPr/>
          </p:nvSpPr>
          <p:spPr>
            <a:xfrm>
              <a:off x="6667560" y="4749840"/>
              <a:ext cx="0" cy="132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333160" y="6073920"/>
              <a:ext cx="4334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346480" y="4721040"/>
              <a:ext cx="0" cy="135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3064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25840" y="61246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07000" y="6134040"/>
              <a:ext cx="29016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98960" y="613404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9416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468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68720" y="613404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6428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813680" y="3458520"/>
            <a:ext cx="808560" cy="709920"/>
            <a:chOff x="1813680" y="3458520"/>
            <a:chExt cx="808560" cy="709920"/>
          </a:xfrm>
        </p:grpSpPr>
        <p:cxnSp>
          <p:nvCxnSpPr>
            <p:cNvPr id="171" name=""/>
            <p:cNvCxnSpPr>
              <a:stCxn id="121" idx="0"/>
              <a:endCxn id="125" idx="2"/>
            </p:cNvCxnSpPr>
            <p:nvPr/>
          </p:nvCxnSpPr>
          <p:spPr>
            <a:xfrm flipV="1" rot="16200000">
              <a:off x="2246400" y="3792600"/>
              <a:ext cx="710280" cy="41760"/>
            </a:xfrm>
            <a:prstGeom prst="curvedConnector5">
              <a:avLst>
                <a:gd name="adj1" fmla="val 29056"/>
                <a:gd name="adj2" fmla="val 329565"/>
                <a:gd name="adj3" fmla="val 2905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2" name=""/>
            <p:cNvSpPr/>
            <p:nvPr/>
          </p:nvSpPr>
          <p:spPr>
            <a:xfrm>
              <a:off x="1813680" y="376092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A,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286640" y="3257280"/>
            <a:ext cx="1294200" cy="451800"/>
            <a:chOff x="1286640" y="3257280"/>
            <a:chExt cx="1294200" cy="451800"/>
          </a:xfrm>
        </p:grpSpPr>
        <p:cxnSp>
          <p:nvCxnSpPr>
            <p:cNvPr id="174" name=""/>
            <p:cNvCxnSpPr>
              <a:stCxn id="125" idx="2"/>
              <a:endCxn id="123" idx="4"/>
            </p:cNvCxnSpPr>
            <p:nvPr/>
          </p:nvCxnSpPr>
          <p:spPr>
            <a:xfrm rot="10800000">
              <a:off x="1491480" y="3256920"/>
              <a:ext cx="1089720" cy="202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5" name=""/>
            <p:cNvSpPr/>
            <p:nvPr/>
          </p:nvSpPr>
          <p:spPr>
            <a:xfrm>
              <a:off x="1286640" y="33717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8:19:24Z</dcterms:created>
  <dc:creator>Steve  Armstrong</dc:creator>
  <dc:description/>
  <dc:language>en-US</dc:language>
  <cp:lastModifiedBy>Usuario de Office 2004 Test Drive</cp:lastModifiedBy>
  <dcterms:modified xsi:type="dcterms:W3CDTF">2009-03-25T13:42:29Z</dcterms:modified>
  <cp:revision>33</cp:revision>
  <dc:subject/>
  <dc:title>Communication</dc:title>
</cp:coreProperties>
</file>