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E8072-D3A7-4F4A-B7A3-B9D20B56D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4080C-892A-439F-ABD2-70871B28F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D779D-8A34-48F0-95DD-5CEE1D2C4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AB7E3-2C81-4144-BB2B-8F2AAFEF8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C5431F-C289-472F-BBA2-C4219CC668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972A2-44AD-4962-A336-6BA05C1A4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8108A-FE4F-4661-A62D-7F1554EFE3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3FB1D-2A7C-4336-B88B-07F9CC68F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7A222-6652-462F-BEBF-E7C63215D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D9097-98AC-4B6A-BEDE-5459202A4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D77E6-54F2-446B-A284-B0572EFBE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77ACE-C912-4A0C-BDCE-94AE30B5A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4542F-6CEC-400A-8FCA-4465D53EC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8EF99-283D-4191-A9BA-BDB0F8508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33CDC-2D14-4A3F-9573-50B4C51E3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C48B06-8CF1-4502-BE1E-F6762692C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C0C599-E59A-48B8-A42F-307E54D24A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9D557-28D1-4BC9-BF85-F9BF836E8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C899D-7E15-4023-BC27-8F3775F80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67FAE-C7A7-4611-8954-113AB2C8B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78E80-907C-4018-A8BA-A6BD889D4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8B406-FD90-45A4-89ED-0F382FB20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DDC9A-196A-4D77-9732-2F742C709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BDC84-AFA6-4282-9BB0-242D17A0A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CE155-257F-4628-9636-4608A7A6727D}"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053B-E95F-4339-A550-84EA55F28809}"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A5261AF-910B-40A6-BEA1-56CCFE858F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1D7F79E-7B74-42FB-8A0B-7D3534D233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856D1FD-491B-4253-87B1-C67C1169BE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8AA5425-AF6E-4CD4-8EF6-1094E9A9DD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60622EC-25BB-4225-A710-79E57AE078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AA217CD-3546-4795-B710-62DFD0DC49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16558DB-4BF4-4304-8AA2-DCFCA7AB8B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7C9945B-F0AF-4899-A931-832D5CBA66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28E7FDCD-1CF2-4A26-A3FC-0F0F0C4456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38962AB-AFE3-4BC0-B67A-9DFABC61EE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F7B0DFE-6BC6-4827-BB18-2228832ED3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AA21FD1-083D-4079-A1B3-DBF71438AD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ACE36BD-F057-4C7F-AD23-E5E3B2AEB1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A0E3AB51-26B5-4D00-9B00-6749F20C6D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6803DCBC-14F0-4348-9B85-83E4B3D2FD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C8D53B28-FF7D-46F3-9DF8-5D58F93644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BB131D4-E669-4E7F-9902-EC0560BEEB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1028877-0715-4BD6-AEB6-B953D79CE2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5C069E6-B627-4A90-ADF2-5678E1FE2A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8035BD2F-37F1-4FE6-9058-79238CED03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FCC2409-26B1-48AB-915E-F3F8076700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C3440B1-BD72-42B7-8906-42CDC7915F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C0220C57-3C2A-4971-964D-B8C6C70AA3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1CBC037E-39E8-42E3-9B6F-FE3F7D0010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10AE3932-2FBF-4B5C-BBE0-63767195CCAD}"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55A585B-0A42-4943-B373-041ECC6D33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CF8536A-9D2D-476F-9223-CE4956129E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E66BAAF-1535-4C59-A467-4BEAC3F06D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087C411-77A3-423F-A373-9A66901401A5}"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5CDF64B-B19D-4B3B-B2B7-0D463C76BC93}"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FE8FC6BD-59B7-4360-BB67-2F51B6F3D0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Javier Bustos Jiménez</dc:creator>
  <dc:description/>
  <dc:language>en-US</dc:language>
  <cp:lastModifiedBy>Javier Bustos Jiménez</cp:lastModifiedBy>
  <cp:lastPrinted>1999-11-27T07:19:44Z</cp:lastPrinted>
  <dcterms:modified xsi:type="dcterms:W3CDTF">2007-07-27T16:40:31Z</dcterms:modified>
  <cp:revision>894</cp:revision>
  <dc:subject/>
  <dc:title>Migración</dc:title>
</cp:coreProperties>
</file>