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CA87-ADBF-4EA4-BD7B-51855584EA3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B6BF-6BF4-40E2-B102-BED92B4A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98E9-1812-48DD-866C-3B2D6FFC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1582-120D-49A2-BC49-F8AABE4C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8B6-23E6-4F11-8B48-49885F7B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C186-3FF4-4844-A6D3-F03DE16B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C16D-A316-4858-90DC-0BA01D43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DBB9-2D67-4C62-B03A-A2039672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5861-40C4-4B66-83BF-C79AEB74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D66C-C63C-4C5D-A288-6700FC7A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4A57-B390-4F6C-98A9-A7F757F5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35D3-7B76-4733-ABDF-842C3124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FA30-7463-41FC-B7B1-831EBD85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FF4B-24CC-4088-B573-E33E8D38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5D6F-B060-4C8E-85E2-6AE119B2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21B6-1DFA-443E-8A29-7BD06C80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D71B-15F9-4607-81D1-15EDA988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9130-A04C-4BA7-9295-CE52521D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5776-0C64-4E7E-8DB7-68715E36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8697-53B9-44D9-B1C4-F29B7A3A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F9A-9F1C-4B99-B8EB-513E147E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BCFE-C908-4FD0-8D29-20EE3BE7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E4DA-935C-497D-B482-FDAA68E5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ECD0-724E-41DB-875F-4FC3A9CE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4372-78EE-4A8B-A056-E5C033B0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187A-A81A-416D-B1A2-6A51BCD2806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1ED8-2ADA-46F2-B896-75D41D6B881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9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50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3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6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9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6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70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6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9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2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5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8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11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4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7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20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3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6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9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2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5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8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41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4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51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4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7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60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6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6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5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rte Consistente: Implement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stema distribuido interconectado por un canal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iable (no se pierden ni se desordenan los paque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 recibir la marca de inicio, todos los procesos graban su estado local y luego los mensajes recibidos y procesados hasta recibir la marca de f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do local enviado “a quien corresponda” (x ej: el que inició el proce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36130" t="40333" r="37843" b="46828"/>
          <a:stretch/>
        </p:blipFill>
        <p:spPr>
          <a:xfrm>
            <a:off x="3970440" y="4005360"/>
            <a:ext cx="36496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Loc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19883" t="53325" r="16461" b="34290"/>
          <a:stretch/>
        </p:blipFill>
        <p:spPr>
          <a:xfrm>
            <a:off x="533520" y="3429000"/>
            <a:ext cx="8381880" cy="23972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57200" y="1752480"/>
            <a:ext cx="7962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proceso Q recibe la primera marca, graba su estado local y en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la marca por sus canales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graba todos los mensaje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ibe la marca de fin por su canal de entrada y finaliza la grabac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1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Q recibe la primera marca del corte consistente, verifica qu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n le envió la marca (y lo identifica como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edecesor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 recibe la marca de fin, si no tiene sucesor envía a su predecesor un mensaj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N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Sino, espera por el mensaje DO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uien inicia el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napshot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istribuido recibe el mensaje DONE de todos sus sucesores quiere decir que la aplicación termin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o… 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¿qu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  <a:ea typeface="ＭＳ Ｐゴシック"/>
              </a:rPr>
              <a:t>é pasa con los mensajes que estaban en tránsito fuera del corte consist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2 (usando DONE y CONTINUE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enviará DONE sólo cuand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sucesores de Q hayan retornado D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no haya recibido mensajes entre la primera y segunda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otro caso, Q enviará un CONTINUE a su predece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quien inició el algoritmo recibe sólo mensajes DONE, la aplicación terminó, sino quiere decir que había mensajes en tránsito y debe reiniciar el algorit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56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67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7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86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91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99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12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2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5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80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16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19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22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25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28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744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6936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6012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0948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8276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28316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9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34120" y="4008600"/>
            <a:ext cx="116208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60520" y="4408560"/>
            <a:ext cx="50616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353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9353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353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8844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8844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8844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87608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7608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8760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4572000"/>
            <a:ext cx="1143000" cy="860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80032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76840" y="374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roces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0800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7152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es:</a:t>
            </a:r>
            <a:br>
              <a:rPr sz="4400"/>
            </a:b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¿por qué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4347" t="46376" r="20925" b="41692"/>
          <a:stretch/>
        </p:blipFill>
        <p:spPr>
          <a:xfrm>
            <a:off x="762120" y="2743200"/>
            <a:ext cx="79246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742200" y="3305160"/>
            <a:ext cx="4328280" cy="1826640"/>
            <a:chOff x="3742200" y="3305160"/>
            <a:chExt cx="4328280" cy="1826640"/>
          </a:xfrm>
        </p:grpSpPr>
        <p:sp>
          <p:nvSpPr>
            <p:cNvPr id="873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4220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8660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5512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9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3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1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0108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69844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8872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3796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2240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07052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224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31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8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4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5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7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8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4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4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3T16:05:42Z</dcterms:modified>
  <cp:revision>130</cp:revision>
  <dc:subject/>
  <dc:title>Sistemas Distribuídos</dc:title>
</cp:coreProperties>
</file>