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D6A2-A0D2-49BE-AEFC-282A4FC15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27DE-4457-40BE-A454-0215A4ACD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C373-29E0-4792-91C7-14DCEC4A7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BB6DA-2E74-4125-BCE6-65C1F179B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706A-369E-468C-807B-254526446F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B64F-13AF-438B-BFAC-7569E9BA6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D1429-6548-432D-8033-896F0AED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8AEB1-F379-4F74-8DAF-1F33F50B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F0DF6-F94B-4533-A6B0-D8AB9E736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672C4-2E6D-4342-B0C3-AE2E346E4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B06B5-9A3A-4700-9BA5-4AC47E026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B8450-EC9F-4DF1-BFE9-FCFBB4DAE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6E53B-629A-4DE2-A26C-6FF19975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F0BD5-CFD5-4F72-923E-14A680A41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CC2FD-61EE-4489-B115-DAEB2C493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5BC8F-7DA4-4F35-9CD2-C08EF9693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D26A-D6D0-40A2-8A1A-78041239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76EB-004B-405D-96DF-45C045E0D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7DB18-8190-4584-A8A8-80AE08AB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445F-CA7E-4536-B694-9E284635A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CF9F1-156E-430E-A15E-09FDA1605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0D79-F41E-41E6-8160-780B64FFE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0539-E4A7-40C2-9063-171DB5ED7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DC32-7A6C-4429-A616-062F2A051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5CF3-630F-43BE-8D8E-091B243559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BBC8-42BC-46FA-8F7F-5B23AFD36E7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1979640"/>
            <a:ext cx="9144000" cy="17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imes New Roman"/>
              </a:rPr>
              <a:t>Distributed File 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7280" y="3792600"/>
            <a:ext cx="858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55ED-D19C-4B6E-A8F4-49B37DC9B9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rtial contents of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for Edlab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r1/mail@elux3.cs.umass.edu:/var/spool/mai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users/users1@elsrv1:/users/users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courses/cs300@elsrv3:/courses/cs30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rcf/common@elsrv1:/exp/rcf/comm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D7C5-DA9A-493F-B21B-CF3A68B87AD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471840" y="1959120"/>
            <a:ext cx="5164200" cy="451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19E2-F7DD-42D9-9700-100E54D161F1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ngle name spa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FS (CMU’s Andrew File Syst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rite (Berkele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atter which node you are on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enames remain the s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: gets filename structure from server(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users access files, server sends copies to workstation, where they are ca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93B0-7EFC-4355-91B4-112C91C1422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Global Name Space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ing – consis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all files are same regardless of where you log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te bind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of nam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oving them is eas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for OS to keep files consistent (cach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name space may limit 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8120" indent="-2379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ance iss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104-BB31-465A-A6CA-1574EE87F953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FB25-477C-4008-9B08-912E7E134AC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Access &amp;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ccess fi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tely: returns results using RPC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emote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 part of file, perform local access =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7000" indent="-297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ching issu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re &amp; when are file blocks cached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re modifications propagated back to remot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5120" indent="-24840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 happens when multiple clients cache same fil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3F21-C15B-4A27-8594-19272A5DA884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mote File Cach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dis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access time (compared to remot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fe if node f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client to have disk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3760" indent="-29376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Local memo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 access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ithout dis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keep local copy consistent with remote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cache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8280" indent="-2458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CC94-73BD-4C4C-9663-B968AF6F743D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Update Polici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through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to remote di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-performance = remote service for all wr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9600" indent="-3096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Write-bac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 write only to cach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rite to disk on evictions, periodic sy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i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Wingdings 2" charset="2"/>
              <a:buChar char="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s network traffic (repeated writes to same blo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-258840">
              <a:spcBef>
                <a:spcPts val="601"/>
              </a:spcBef>
              <a:buClr>
                <a:srgbClr val="ff0000"/>
              </a:buClr>
              <a:buSzPct val="70000"/>
              <a:buFont typeface="Tahoma"/>
              <a:buChar char="–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achine crashes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ata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2480" indent="0">
              <a:spcBef>
                <a:spcPts val="601"/>
              </a:spcBef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4CD0-2ED5-4BCE-9EC8-60BF0570EF62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che Consist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lient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ent contacts server and checks consis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heck every acces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given intervals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upon opening a fi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erver-initiated consistenc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 detects potential conflicts, invalidates ca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 needs to know which clients have cached which parts of which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clients are readers &amp; which are wri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BFD1-A5FD-4439-A4DF-E156DD10B6F5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Consistency Maintenance in Various Storag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554040" y="2232000"/>
            <a:ext cx="7911360" cy="4076640"/>
            <a:chOff x="554040" y="2232000"/>
            <a:chExt cx="7911360" cy="4076640"/>
          </a:xfrm>
        </p:grpSpPr>
        <p:sp>
          <p:nvSpPr>
            <p:cNvPr id="178" name=""/>
            <p:cNvSpPr/>
            <p:nvPr/>
          </p:nvSpPr>
          <p:spPr>
            <a:xfrm>
              <a:off x="3115080" y="2346120"/>
              <a:ext cx="6469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Shar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882600" y="2346120"/>
              <a:ext cx="57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Persis-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881880" y="2558880"/>
              <a:ext cx="42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te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588560" y="2346120"/>
              <a:ext cx="927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Distribu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588920" y="2558880"/>
              <a:ext cx="11865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ache/replica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826240" y="2346120"/>
              <a:ext cx="983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Consistenc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826240" y="2558880"/>
              <a:ext cx="1040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maintenan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924600" y="2346120"/>
              <a:ext cx="711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600" spc="-1" strike="noStrike">
                  <a:solidFill>
                    <a:srgbClr val="000000"/>
                  </a:solidFill>
                  <a:latin typeface="Times New Roman"/>
                </a:rPr>
                <a:t>Examp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04440" y="2984400"/>
              <a:ext cx="11545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Main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924600" y="3047760"/>
              <a:ext cx="4626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04080" y="343044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927840" y="3430440"/>
              <a:ext cx="1441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UNIX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6240" y="3792240"/>
              <a:ext cx="18493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file syst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23880" y="3792240"/>
              <a:ext cx="739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Sun 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01560" y="4195440"/>
              <a:ext cx="384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926040" y="4111200"/>
              <a:ext cx="93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Web serv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06240" y="4600440"/>
              <a:ext cx="2221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Distributed shared memor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924960" y="4600440"/>
              <a:ext cx="9990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Ivy (Ch. 16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05520" y="5003640"/>
              <a:ext cx="2298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Remote objects (RMI/OR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923160" y="5003640"/>
              <a:ext cx="70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5880" y="5408280"/>
              <a:ext cx="17823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sistent object sto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156000" y="540684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5320" y="5408280"/>
              <a:ext cx="15400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CORBA Persist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926760" y="5621040"/>
              <a:ext cx="12002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Object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4000" y="5981400"/>
              <a:ext cx="25441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Times New Roman"/>
                </a:rPr>
                <a:t>Persistent distributed object store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926400" y="5981400"/>
              <a:ext cx="1396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PerDiS, Khazan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3429000" y="3105000"/>
              <a:ext cx="117360" cy="126360"/>
              <a:chOff x="3429000" y="3105000"/>
              <a:chExt cx="117360" cy="126360"/>
            </a:xfrm>
          </p:grpSpPr>
          <p:sp>
            <p:nvSpPr>
              <p:cNvPr id="205" name=""/>
              <p:cNvSpPr/>
              <p:nvPr/>
            </p:nvSpPr>
            <p:spPr>
              <a:xfrm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H="1">
                <a:off x="3429000" y="3105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4052880" y="3095280"/>
              <a:ext cx="115920" cy="126720"/>
              <a:chOff x="4052880" y="3095280"/>
              <a:chExt cx="115920" cy="126720"/>
            </a:xfrm>
          </p:grpSpPr>
          <p:sp>
            <p:nvSpPr>
              <p:cNvPr id="208" name=""/>
              <p:cNvSpPr/>
              <p:nvPr/>
            </p:nvSpPr>
            <p:spPr>
              <a:xfrm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>
                <a:off x="4052880" y="3095280"/>
                <a:ext cx="1159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4915080" y="3085920"/>
              <a:ext cx="117360" cy="126720"/>
              <a:chOff x="4915080" y="3085920"/>
              <a:chExt cx="117360" cy="126720"/>
            </a:xfrm>
          </p:grpSpPr>
          <p:sp>
            <p:nvSpPr>
              <p:cNvPr id="211" name=""/>
              <p:cNvSpPr/>
              <p:nvPr/>
            </p:nvSpPr>
            <p:spPr>
              <a:xfrm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>
                <a:off x="4915080" y="3085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3" name=""/>
            <p:cNvGrpSpPr/>
            <p:nvPr/>
          </p:nvGrpSpPr>
          <p:grpSpPr>
            <a:xfrm>
              <a:off x="3441240" y="3479400"/>
              <a:ext cx="118080" cy="126720"/>
              <a:chOff x="3441240" y="3479400"/>
              <a:chExt cx="118080" cy="126720"/>
            </a:xfrm>
          </p:grpSpPr>
          <p:sp>
            <p:nvSpPr>
              <p:cNvPr id="214" name=""/>
              <p:cNvSpPr/>
              <p:nvPr/>
            </p:nvSpPr>
            <p:spPr>
              <a:xfrm>
                <a:off x="344160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>
                <a:off x="3441240" y="3479400"/>
                <a:ext cx="11772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6" name=""/>
            <p:cNvGrpSpPr/>
            <p:nvPr/>
          </p:nvGrpSpPr>
          <p:grpSpPr>
            <a:xfrm>
              <a:off x="4046400" y="3463560"/>
              <a:ext cx="117000" cy="133200"/>
              <a:chOff x="4046400" y="3463560"/>
              <a:chExt cx="117000" cy="133200"/>
            </a:xfrm>
          </p:grpSpPr>
          <p:sp>
            <p:nvSpPr>
              <p:cNvPr id="217" name=""/>
              <p:cNvSpPr/>
              <p:nvPr/>
            </p:nvSpPr>
            <p:spPr>
              <a:xfrm>
                <a:off x="4046400" y="35456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>
                <a:off x="4063680" y="346356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9" name=""/>
            <p:cNvGrpSpPr/>
            <p:nvPr/>
          </p:nvGrpSpPr>
          <p:grpSpPr>
            <a:xfrm>
              <a:off x="4927680" y="3460320"/>
              <a:ext cx="117360" cy="126720"/>
              <a:chOff x="4927680" y="3460320"/>
              <a:chExt cx="117360" cy="126720"/>
            </a:xfrm>
          </p:grpSpPr>
          <p:sp>
            <p:nvSpPr>
              <p:cNvPr id="220" name=""/>
              <p:cNvSpPr/>
              <p:nvPr/>
            </p:nvSpPr>
            <p:spPr>
              <a:xfrm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>
                <a:off x="4927680" y="34603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4052880" y="3838320"/>
              <a:ext cx="115200" cy="132840"/>
              <a:chOff x="4052880" y="3838320"/>
              <a:chExt cx="115200" cy="132840"/>
            </a:xfrm>
          </p:grpSpPr>
          <p:sp>
            <p:nvSpPr>
              <p:cNvPr id="223" name=""/>
              <p:cNvSpPr/>
              <p:nvPr/>
            </p:nvSpPr>
            <p:spPr>
              <a:xfrm>
                <a:off x="4052880" y="39200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>
                <a:off x="4069800" y="383832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"/>
            <p:cNvGrpSpPr/>
            <p:nvPr/>
          </p:nvGrpSpPr>
          <p:grpSpPr>
            <a:xfrm>
              <a:off x="3440160" y="3844800"/>
              <a:ext cx="117000" cy="132840"/>
              <a:chOff x="3440160" y="3844800"/>
              <a:chExt cx="117000" cy="132840"/>
            </a:xfrm>
          </p:grpSpPr>
          <p:sp>
            <p:nvSpPr>
              <p:cNvPr id="226" name=""/>
              <p:cNvSpPr/>
              <p:nvPr/>
            </p:nvSpPr>
            <p:spPr>
              <a:xfrm>
                <a:off x="3440160" y="39265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H="1">
                <a:off x="3457800" y="38448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4911840" y="3850920"/>
              <a:ext cx="115200" cy="133200"/>
              <a:chOff x="4911840" y="3850920"/>
              <a:chExt cx="115200" cy="133200"/>
            </a:xfrm>
          </p:grpSpPr>
          <p:sp>
            <p:nvSpPr>
              <p:cNvPr id="229" name=""/>
              <p:cNvSpPr/>
              <p:nvPr/>
            </p:nvSpPr>
            <p:spPr>
              <a:xfrm>
                <a:off x="4911840" y="3933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flipH="1">
                <a:off x="4928760" y="3850920"/>
                <a:ext cx="9828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1" name=""/>
            <p:cNvGrpSpPr/>
            <p:nvPr/>
          </p:nvGrpSpPr>
          <p:grpSpPr>
            <a:xfrm>
              <a:off x="6145200" y="3857400"/>
              <a:ext cx="117000" cy="132840"/>
              <a:chOff x="6145200" y="3857400"/>
              <a:chExt cx="117000" cy="132840"/>
            </a:xfrm>
          </p:grpSpPr>
          <p:sp>
            <p:nvSpPr>
              <p:cNvPr id="232" name=""/>
              <p:cNvSpPr/>
              <p:nvPr/>
            </p:nvSpPr>
            <p:spPr>
              <a:xfrm>
                <a:off x="6145200" y="3939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162840" y="38574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4057560" y="4238280"/>
              <a:ext cx="117000" cy="133200"/>
              <a:chOff x="4057560" y="4238280"/>
              <a:chExt cx="117000" cy="133200"/>
            </a:xfrm>
          </p:grpSpPr>
          <p:sp>
            <p:nvSpPr>
              <p:cNvPr id="235" name=""/>
              <p:cNvSpPr/>
              <p:nvPr/>
            </p:nvSpPr>
            <p:spPr>
              <a:xfrm>
                <a:off x="4057560" y="43203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flipH="1">
                <a:off x="4074840" y="42382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7" name=""/>
            <p:cNvGrpSpPr/>
            <p:nvPr/>
          </p:nvGrpSpPr>
          <p:grpSpPr>
            <a:xfrm>
              <a:off x="3444840" y="4244760"/>
              <a:ext cx="117000" cy="132840"/>
              <a:chOff x="3444840" y="4244760"/>
              <a:chExt cx="117000" cy="132840"/>
            </a:xfrm>
          </p:grpSpPr>
          <p:sp>
            <p:nvSpPr>
              <p:cNvPr id="238" name=""/>
              <p:cNvSpPr/>
              <p:nvPr/>
            </p:nvSpPr>
            <p:spPr>
              <a:xfrm>
                <a:off x="3444840" y="43264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flipH="1">
                <a:off x="3462120" y="424476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4916520" y="4251240"/>
              <a:ext cx="117000" cy="132840"/>
              <a:chOff x="4916520" y="4251240"/>
              <a:chExt cx="117000" cy="132840"/>
            </a:xfrm>
          </p:grpSpPr>
          <p:sp>
            <p:nvSpPr>
              <p:cNvPr id="241" name=""/>
              <p:cNvSpPr/>
              <p:nvPr/>
            </p:nvSpPr>
            <p:spPr>
              <a:xfrm>
                <a:off x="4916520" y="43329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H="1">
                <a:off x="4934160" y="425124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3" name=""/>
            <p:cNvGrpSpPr/>
            <p:nvPr/>
          </p:nvGrpSpPr>
          <p:grpSpPr>
            <a:xfrm>
              <a:off x="3451320" y="4644720"/>
              <a:ext cx="117000" cy="133200"/>
              <a:chOff x="3451320" y="4644720"/>
              <a:chExt cx="117000" cy="133200"/>
            </a:xfrm>
          </p:grpSpPr>
          <p:sp>
            <p:nvSpPr>
              <p:cNvPr id="244" name=""/>
              <p:cNvSpPr/>
              <p:nvPr/>
            </p:nvSpPr>
            <p:spPr>
              <a:xfrm>
                <a:off x="3451320" y="47268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>
                <a:off x="3468960" y="46447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4923000" y="4651200"/>
              <a:ext cx="117000" cy="132840"/>
              <a:chOff x="4923000" y="4651200"/>
              <a:chExt cx="117000" cy="132840"/>
            </a:xfrm>
          </p:grpSpPr>
          <p:sp>
            <p:nvSpPr>
              <p:cNvPr id="247" name=""/>
              <p:cNvSpPr/>
              <p:nvPr/>
            </p:nvSpPr>
            <p:spPr>
              <a:xfrm>
                <a:off x="4923000" y="47329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>
                <a:off x="4940640" y="465120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6145200" y="4657320"/>
              <a:ext cx="117000" cy="133200"/>
              <a:chOff x="6145200" y="4657320"/>
              <a:chExt cx="117000" cy="133200"/>
            </a:xfrm>
          </p:grpSpPr>
          <p:sp>
            <p:nvSpPr>
              <p:cNvPr id="250" name=""/>
              <p:cNvSpPr/>
              <p:nvPr/>
            </p:nvSpPr>
            <p:spPr>
              <a:xfrm>
                <a:off x="6145200" y="47394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>
                <a:off x="6162840" y="46573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3457440" y="5044680"/>
              <a:ext cx="117000" cy="133200"/>
              <a:chOff x="3457440" y="5044680"/>
              <a:chExt cx="117000" cy="133200"/>
            </a:xfrm>
          </p:grpSpPr>
          <p:sp>
            <p:nvSpPr>
              <p:cNvPr id="253" name=""/>
              <p:cNvSpPr/>
              <p:nvPr/>
            </p:nvSpPr>
            <p:spPr>
              <a:xfrm>
                <a:off x="3457440" y="512676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>
                <a:off x="3474720" y="5044680"/>
                <a:ext cx="9972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4075200" y="5438520"/>
              <a:ext cx="117000" cy="132840"/>
              <a:chOff x="4075200" y="5438520"/>
              <a:chExt cx="117000" cy="132840"/>
            </a:xfrm>
          </p:grpSpPr>
          <p:sp>
            <p:nvSpPr>
              <p:cNvPr id="256" name=""/>
              <p:cNvSpPr/>
              <p:nvPr/>
            </p:nvSpPr>
            <p:spPr>
              <a:xfrm>
                <a:off x="4075200" y="552024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>
                <a:off x="4092840" y="543852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3463920" y="5445000"/>
              <a:ext cx="115200" cy="132840"/>
              <a:chOff x="3463920" y="5445000"/>
              <a:chExt cx="115200" cy="132840"/>
            </a:xfrm>
          </p:grpSpPr>
          <p:sp>
            <p:nvSpPr>
              <p:cNvPr id="259" name=""/>
              <p:cNvSpPr/>
              <p:nvPr/>
            </p:nvSpPr>
            <p:spPr>
              <a:xfrm>
                <a:off x="3463920" y="55267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flipH="1">
                <a:off x="3480840" y="5445000"/>
                <a:ext cx="9828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1" name=""/>
            <p:cNvGrpSpPr/>
            <p:nvPr/>
          </p:nvGrpSpPr>
          <p:grpSpPr>
            <a:xfrm>
              <a:off x="4081680" y="6028920"/>
              <a:ext cx="117000" cy="133200"/>
              <a:chOff x="4081680" y="6028920"/>
              <a:chExt cx="117000" cy="133200"/>
            </a:xfrm>
          </p:grpSpPr>
          <p:sp>
            <p:nvSpPr>
              <p:cNvPr id="262" name=""/>
              <p:cNvSpPr/>
              <p:nvPr/>
            </p:nvSpPr>
            <p:spPr>
              <a:xfrm>
                <a:off x="4081680" y="61110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>
                <a:off x="4099320" y="602892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468600" y="6035400"/>
              <a:ext cx="117000" cy="132840"/>
              <a:chOff x="3468600" y="6035400"/>
              <a:chExt cx="117000" cy="132840"/>
            </a:xfrm>
          </p:grpSpPr>
          <p:sp>
            <p:nvSpPr>
              <p:cNvPr id="265" name=""/>
              <p:cNvSpPr/>
              <p:nvPr/>
            </p:nvSpPr>
            <p:spPr>
              <a:xfrm>
                <a:off x="3468600" y="611712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flipH="1">
                <a:off x="3485880" y="6035400"/>
                <a:ext cx="9972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7" name=""/>
            <p:cNvGrpSpPr/>
            <p:nvPr/>
          </p:nvGrpSpPr>
          <p:grpSpPr>
            <a:xfrm>
              <a:off x="4940280" y="6041880"/>
              <a:ext cx="117000" cy="132840"/>
              <a:chOff x="4940280" y="6041880"/>
              <a:chExt cx="117000" cy="132840"/>
            </a:xfrm>
          </p:grpSpPr>
          <p:sp>
            <p:nvSpPr>
              <p:cNvPr id="268" name=""/>
              <p:cNvSpPr/>
              <p:nvPr/>
            </p:nvSpPr>
            <p:spPr>
              <a:xfrm>
                <a:off x="4940280" y="612360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H="1">
                <a:off x="4957920" y="6041880"/>
                <a:ext cx="99360" cy="13284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0" name=""/>
            <p:cNvGrpSpPr/>
            <p:nvPr/>
          </p:nvGrpSpPr>
          <p:grpSpPr>
            <a:xfrm>
              <a:off x="6145200" y="6048000"/>
              <a:ext cx="117000" cy="133200"/>
              <a:chOff x="6145200" y="6048000"/>
              <a:chExt cx="117000" cy="133200"/>
            </a:xfrm>
          </p:grpSpPr>
          <p:sp>
            <p:nvSpPr>
              <p:cNvPr id="271" name=""/>
              <p:cNvSpPr/>
              <p:nvPr/>
            </p:nvSpPr>
            <p:spPr>
              <a:xfrm>
                <a:off x="6145200" y="6130080"/>
                <a:ext cx="11520" cy="378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6162840" y="6048000"/>
                <a:ext cx="99360" cy="13320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4915080" y="5460840"/>
              <a:ext cx="117360" cy="126720"/>
              <a:chOff x="4915080" y="5460840"/>
              <a:chExt cx="117360" cy="126720"/>
            </a:xfrm>
          </p:grpSpPr>
          <p:sp>
            <p:nvSpPr>
              <p:cNvPr id="274" name=""/>
              <p:cNvSpPr/>
              <p:nvPr/>
            </p:nvSpPr>
            <p:spPr>
              <a:xfrm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H="1">
                <a:off x="4915080" y="546084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6" name=""/>
            <p:cNvGrpSpPr/>
            <p:nvPr/>
          </p:nvGrpSpPr>
          <p:grpSpPr>
            <a:xfrm>
              <a:off x="4044960" y="4647960"/>
              <a:ext cx="117360" cy="126720"/>
              <a:chOff x="4044960" y="4647960"/>
              <a:chExt cx="117360" cy="126720"/>
            </a:xfrm>
          </p:grpSpPr>
          <p:sp>
            <p:nvSpPr>
              <p:cNvPr id="277" name=""/>
              <p:cNvSpPr/>
              <p:nvPr/>
            </p:nvSpPr>
            <p:spPr>
              <a:xfrm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flipH="1">
                <a:off x="4044960" y="464796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4051440" y="5047920"/>
              <a:ext cx="117360" cy="126720"/>
              <a:chOff x="4051440" y="5047920"/>
              <a:chExt cx="117360" cy="126720"/>
            </a:xfrm>
          </p:grpSpPr>
          <p:sp>
            <p:nvSpPr>
              <p:cNvPr id="280" name=""/>
              <p:cNvSpPr/>
              <p:nvPr/>
            </p:nvSpPr>
            <p:spPr>
              <a:xfrm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flipH="1">
                <a:off x="4051440" y="50479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2" name=""/>
            <p:cNvGrpSpPr/>
            <p:nvPr/>
          </p:nvGrpSpPr>
          <p:grpSpPr>
            <a:xfrm>
              <a:off x="4915080" y="5060520"/>
              <a:ext cx="117360" cy="126720"/>
              <a:chOff x="4915080" y="5060520"/>
              <a:chExt cx="117360" cy="126720"/>
            </a:xfrm>
          </p:grpSpPr>
          <p:sp>
            <p:nvSpPr>
              <p:cNvPr id="283" name=""/>
              <p:cNvSpPr/>
              <p:nvPr/>
            </p:nvSpPr>
            <p:spPr>
              <a:xfrm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flipH="1">
                <a:off x="4915080" y="5060520"/>
                <a:ext cx="117360" cy="12672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145200" y="4248000"/>
              <a:ext cx="117360" cy="126360"/>
              <a:chOff x="6145200" y="4248000"/>
              <a:chExt cx="117360" cy="126360"/>
            </a:xfrm>
          </p:grpSpPr>
          <p:sp>
            <p:nvSpPr>
              <p:cNvPr id="286" name=""/>
              <p:cNvSpPr/>
              <p:nvPr/>
            </p:nvSpPr>
            <p:spPr>
              <a:xfrm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 flipH="1">
                <a:off x="6145200" y="4248000"/>
                <a:ext cx="117360" cy="126360"/>
              </a:xfrm>
              <a:prstGeom prst="line">
                <a:avLst/>
              </a:prstGeom>
              <a:ln w="1908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8" name=""/>
            <p:cNvSpPr/>
            <p:nvPr/>
          </p:nvSpPr>
          <p:spPr>
            <a:xfrm>
              <a:off x="6156000" y="5022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156000" y="342072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156000" y="3041280"/>
              <a:ext cx="115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3300"/>
                  </a:solidFill>
                  <a:latin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54040" y="630864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4040" y="223200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54040" y="2866680"/>
              <a:ext cx="78771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6F721-E1DB-4E98-878E-905A45ACDC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ile Servic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860400" y="2279520"/>
            <a:ext cx="7432200" cy="3725640"/>
            <a:chOff x="860400" y="2279520"/>
            <a:chExt cx="7432200" cy="3725640"/>
          </a:xfrm>
        </p:grpSpPr>
        <p:sp>
          <p:nvSpPr>
            <p:cNvPr id="102" name=""/>
            <p:cNvSpPr/>
            <p:nvPr/>
          </p:nvSpPr>
          <p:spPr>
            <a:xfrm>
              <a:off x="5628600" y="2562120"/>
              <a:ext cx="264060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6286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60400" y="2562120"/>
              <a:ext cx="2642040" cy="341928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400" y="2562120"/>
              <a:ext cx="2664000" cy="3443040"/>
            </a:xfrm>
            <a:prstGeom prst="rect">
              <a:avLst/>
            </a:prstGeom>
            <a:noFill/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995040" y="3749400"/>
              <a:ext cx="239400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610640" y="2279520"/>
              <a:ext cx="142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89560" y="2279520"/>
              <a:ext cx="1500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rver comput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41960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41960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41960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41960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6584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151520" y="2634840"/>
              <a:ext cx="849960" cy="3249720"/>
            </a:xfrm>
            <a:prstGeom prst="ellipse">
              <a:avLst/>
            </a:prstGeom>
            <a:solidFill>
              <a:srgbClr val="ffdc99"/>
            </a:solidFill>
            <a:ln w="34920">
              <a:solidFill>
                <a:srgbClr val="ffd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995040" y="2658960"/>
              <a:ext cx="9846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05264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15560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9280" y="2658960"/>
              <a:ext cx="1008000" cy="10191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140200" y="2985840"/>
              <a:ext cx="9957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pplic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41720" y="3203280"/>
              <a:ext cx="7552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ogra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744920" y="4633560"/>
              <a:ext cx="12427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lient modul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600" y="3338280"/>
              <a:ext cx="2394360" cy="210996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510960" y="4222440"/>
              <a:ext cx="1357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Flat file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63600" y="2658960"/>
              <a:ext cx="2394360" cy="60624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99640" y="2912760"/>
              <a:ext cx="15141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irectory servic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435120" y="4138200"/>
              <a:ext cx="2282760" cy="243000"/>
            </a:xfrm>
            <a:prstGeom prst="rect">
              <a:avLst/>
            </a:prstGeom>
            <a:solidFill>
              <a:srgbClr val="ffd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658920" y="578772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658920" y="5738400"/>
              <a:ext cx="60372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658920" y="5689440"/>
              <a:ext cx="60372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658920" y="5617800"/>
              <a:ext cx="60372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90516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896800" y="578772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896800" y="5738400"/>
              <a:ext cx="605160" cy="12096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896800" y="5689440"/>
              <a:ext cx="605160" cy="9828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896800" y="5617800"/>
              <a:ext cx="605160" cy="120600"/>
            </a:xfrm>
            <a:prstGeom prst="ellipse">
              <a:avLst/>
            </a:prstGeom>
            <a:solidFill>
              <a:srgbClr val="ffffff"/>
            </a:solidFill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166800" y="5181480"/>
              <a:ext cx="89280" cy="484200"/>
            </a:xfrm>
            <a:prstGeom prst="rect">
              <a:avLst/>
            </a:prstGeom>
            <a:solidFill>
              <a:srgbClr val="d9aa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1442880" y="5186520"/>
            <a:ext cx="141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69000" y="4869000"/>
            <a:ext cx="250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File caching/repl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330000" y="6049800"/>
            <a:ext cx="261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onsistency mainten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5600880" y="5295600"/>
            <a:ext cx="304560" cy="85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3238200" y="5346720"/>
            <a:ext cx="444600" cy="799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217E6-0D19-4146-8FAF-254681F994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Servic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248760" y="2017800"/>
            <a:ext cx="870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Flat fil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accessing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iding a place to manage remote file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unit to transfer data (at server or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? file, block or byte?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sharing semantics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ing similar to Unix but weaker file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pdate semant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caching mechanism: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sca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le-replication mechanis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ing performance/availabi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</a:rPr>
              <a:t>Directory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pping between text file names and reference to files, (i.e. file I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6BB-7C30-4423-9A43-694F7582964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Flat File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297" name=""/>
          <p:cNvGrpSpPr/>
          <p:nvPr/>
        </p:nvGrpSpPr>
        <p:grpSpPr>
          <a:xfrm>
            <a:off x="620640" y="2766960"/>
            <a:ext cx="8265960" cy="2910600"/>
            <a:chOff x="620640" y="2766960"/>
            <a:chExt cx="8265960" cy="2910600"/>
          </a:xfrm>
        </p:grpSpPr>
        <p:sp>
          <p:nvSpPr>
            <p:cNvPr id="298" name=""/>
            <p:cNvSpPr/>
            <p:nvPr/>
          </p:nvSpPr>
          <p:spPr>
            <a:xfrm>
              <a:off x="649080" y="2892240"/>
              <a:ext cx="25261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Read(FileId, i, n) -&gt; Dat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613240" y="28922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50520" y="314604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30240" y="314604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504080" y="314604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3348000" y="2892240"/>
              <a:ext cx="55386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Reads a sequence of up to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item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356640" y="3146040"/>
              <a:ext cx="4840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rom a file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and returns it in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20640" y="276696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329640" y="276696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3351600" y="276696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3329640" y="2788920"/>
              <a:ext cx="21600" cy="6019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49440" y="3493800"/>
              <a:ext cx="20793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Write(FileId, i, Data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441880" y="349380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50520" y="3747960"/>
              <a:ext cx="2750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930240" y="3747960"/>
              <a:ext cx="6559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503720" y="3747960"/>
              <a:ext cx="12531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BadPosition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3348000" y="3493800"/>
              <a:ext cx="55224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1 ≤ i ≤ Length(File)+1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: Writes a sequence of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ata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to a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355560" y="3747960"/>
              <a:ext cx="5092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file, starting at item </a:t>
              </a: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, extending the file if necessary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329640" y="3390840"/>
              <a:ext cx="21600" cy="599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50520" y="4093920"/>
              <a:ext cx="177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Create() -&gt; FileId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358800" y="4093920"/>
              <a:ext cx="546120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Creates a new file of length 0 and delivers a UFID for it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8181720" y="409392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29640" y="399060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49800" y="4439880"/>
              <a:ext cx="137988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Delete(FileId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80360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865880" y="443988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58800" y="4439880"/>
              <a:ext cx="3490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moves the file from the file stor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29640" y="4336920"/>
              <a:ext cx="21600" cy="347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49800" y="4787640"/>
              <a:ext cx="2789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GetAttributes(FileId) -&gt; Attr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9152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955240" y="478764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358440" y="4787640"/>
              <a:ext cx="3585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Returns the file attributes for the file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6559200" y="4787640"/>
              <a:ext cx="1227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329640" y="4684320"/>
              <a:ext cx="21600" cy="346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48720" y="5133600"/>
              <a:ext cx="24926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SetAttributes(FileId, Attr)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870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933280" y="5133600"/>
              <a:ext cx="6156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357720" y="5133600"/>
              <a:ext cx="533772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ets the file attributes (only those attributes that are not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361320" y="5387760"/>
              <a:ext cx="1119240" cy="2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Times New Roman"/>
                </a:rPr>
                <a:t>shaded in ).</a:t>
              </a:r>
              <a:endParaRPr b="0" lang="en-US" sz="1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20640" y="5668920"/>
              <a:ext cx="26884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329640" y="5030640"/>
              <a:ext cx="21600" cy="600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329640" y="5668920"/>
              <a:ext cx="108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351600" y="5668920"/>
              <a:ext cx="5076360" cy="1440"/>
            </a:xfrm>
            <a:prstGeom prst="line">
              <a:avLst/>
            </a:prstGeom>
            <a:ln w="33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E7EC-A614-4C1E-A6A3-FC84E9EA4B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Directory Service Oper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342" name=""/>
          <p:cNvGrpSpPr/>
          <p:nvPr/>
        </p:nvGrpSpPr>
        <p:grpSpPr>
          <a:xfrm>
            <a:off x="539640" y="2098800"/>
            <a:ext cx="8177040" cy="2995560"/>
            <a:chOff x="539640" y="2098800"/>
            <a:chExt cx="8177040" cy="2995560"/>
          </a:xfrm>
        </p:grpSpPr>
        <p:sp>
          <p:nvSpPr>
            <p:cNvPr id="343" name=""/>
            <p:cNvSpPr/>
            <p:nvPr/>
          </p:nvSpPr>
          <p:spPr>
            <a:xfrm>
              <a:off x="562680" y="2214720"/>
              <a:ext cx="25639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Lookup(Dir, Name) -&gt; FileI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67000" y="2449800"/>
              <a:ext cx="217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—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64280" y="244980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3320" y="244980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352160" y="244980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00320" y="24498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88640" y="2214720"/>
              <a:ext cx="4606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Locates the text name in the directory and returns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86120" y="2449800"/>
              <a:ext cx="4930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levant UFID. 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throws an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3680" y="2684520"/>
              <a:ext cx="895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602600" y="268452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539640" y="2098800"/>
              <a:ext cx="320796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66680" y="2121120"/>
              <a:ext cx="20520" cy="1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6680" y="2098800"/>
              <a:ext cx="10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7200" y="2098800"/>
              <a:ext cx="4664880" cy="180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66680" y="2121120"/>
              <a:ext cx="20520" cy="78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61960" y="3003840"/>
              <a:ext cx="23720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AddName(Dir, Name, Fil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692800" y="30038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6640" y="323856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3320" y="323856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351800" y="3238560"/>
              <a:ext cx="1413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Duplicat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612880" y="32385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787200" y="3003840"/>
              <a:ext cx="4816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, adds (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,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Fil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) to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790800" y="3238560"/>
              <a:ext cx="4110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directory and updates the file’s attribute record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787920" y="3473640"/>
              <a:ext cx="4878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already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8204760" y="347364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766680" y="2910240"/>
              <a:ext cx="20520" cy="78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62680" y="3792600"/>
              <a:ext cx="183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UnName(Dir, Name)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200320" y="379260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6640" y="4027680"/>
              <a:ext cx="2476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—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823320" y="4027680"/>
              <a:ext cx="588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throw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52160" y="4027680"/>
              <a:ext cx="933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otFound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20032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789360" y="3792600"/>
              <a:ext cx="4878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in the directory: the entry containing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791880" y="4027680"/>
              <a:ext cx="243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moved from the directory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961240" y="402768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89000" y="4262760"/>
              <a:ext cx="45190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If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Name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is not in the directory: throws an exception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929360" y="4262760"/>
              <a:ext cx="1105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766680" y="3697560"/>
              <a:ext cx="20520" cy="78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61240" y="4581720"/>
              <a:ext cx="32497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GetNames(Dir, Pattern) -&gt; NameSeq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26340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323160" y="4581720"/>
              <a:ext cx="554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791160" y="4581720"/>
              <a:ext cx="48988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turns all the text names in the directory that match the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792960" y="4816800"/>
              <a:ext cx="2347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regular expression </a:t>
              </a:r>
              <a:r>
                <a:rPr b="0" i="1" lang="en-GB" sz="1700" spc="-1" strike="noStrike">
                  <a:solidFill>
                    <a:srgbClr val="000000"/>
                  </a:solidFill>
                  <a:latin typeface="Times New Roman"/>
                </a:rPr>
                <a:t>Pattern</a:t>
              </a:r>
              <a:r>
                <a:rPr b="0" lang="en-GB" sz="17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539640" y="5092920"/>
              <a:ext cx="320796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766680" y="4486320"/>
              <a:ext cx="20520" cy="555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766680" y="5092920"/>
              <a:ext cx="10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787200" y="5092920"/>
              <a:ext cx="4664880" cy="144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>
            <a:off x="1625760" y="52196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3720" y="5994360"/>
            <a:ext cx="3073320" cy="52092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492360" y="6058080"/>
            <a:ext cx="393840" cy="368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2652480" y="6126120"/>
            <a:ext cx="464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D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65640" y="5207040"/>
            <a:ext cx="583920" cy="355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863960" y="5194440"/>
            <a:ext cx="584280" cy="355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host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94040" y="5587920"/>
            <a:ext cx="1485720" cy="55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708360" y="5562720"/>
            <a:ext cx="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3822480" y="5549760"/>
            <a:ext cx="132084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50280" y="5719680"/>
            <a:ext cx="265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ddName( Dir, Name, fil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2184120" y="545472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3733560" y="558180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762080" y="5556240"/>
            <a:ext cx="694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ja-JP" sz="1200" spc="-1" strike="noStrike">
                <a:solidFill>
                  <a:srgbClr val="000000"/>
                </a:solidFill>
                <a:latin typeface="Tahoma"/>
              </a:rPr>
              <a:t>Name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816000" y="6087960"/>
            <a:ext cx="411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Ref count=3    if ref_count = 0, file 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D83E-1A79-4E89-8D94-60CB490D6F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Accessing Model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076400" y="1875960"/>
            <a:ext cx="777240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essing Remote Fil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"/>
          <p:cNvSpPr/>
          <p:nvPr/>
        </p:nvSpPr>
        <p:spPr>
          <a:xfrm>
            <a:off x="675000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ache consistency probl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735440" y="3119400"/>
            <a:ext cx="201456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ducing network traff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717640" y="3119400"/>
            <a:ext cx="201780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client that cached a file 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00200" y="3119400"/>
            <a:ext cx="2017440" cy="5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ata caching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75000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mmunication overh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735440" y="2557440"/>
            <a:ext cx="201456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imple imple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17640" y="2557440"/>
            <a:ext cx="2017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 a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00200" y="2557440"/>
            <a:ext cx="201744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mote service 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75000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735440" y="2259000"/>
            <a:ext cx="201456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i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717640" y="2259000"/>
            <a:ext cx="20178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00200" y="2259000"/>
            <a:ext cx="201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85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00200" y="255744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0200" y="3119400"/>
            <a:ext cx="8067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00200" y="3625920"/>
            <a:ext cx="80676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00200" y="2259000"/>
            <a:ext cx="0" cy="136692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7176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73544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750000" y="2259000"/>
            <a:ext cx="0" cy="1366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8767800" y="2259000"/>
            <a:ext cx="0" cy="29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750000" y="2259000"/>
            <a:ext cx="20178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00200" y="2259000"/>
            <a:ext cx="6049800" cy="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767800" y="2557440"/>
            <a:ext cx="0" cy="1068480"/>
          </a:xfrm>
          <a:prstGeom prst="line">
            <a:avLst/>
          </a:prstGeom>
          <a:ln cap="sq"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71680" y="3967200"/>
          <a:ext cx="8319960" cy="2556000"/>
        </p:xfrm>
        <a:graphic>
          <a:graphicData uri="http://schemas.openxmlformats.org/drawingml/2006/table">
            <a:tbl>
              <a:tblPr/>
              <a:tblGrid>
                <a:gridCol w="1542960"/>
                <a:gridCol w="3299040"/>
                <a:gridCol w="347796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nsfer lev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il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imple, less communication overhead, and immune to ser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lo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A client not required to have large storage sp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/overhe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y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Flexibility maximiz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ifficult cache management to handle the variable-length da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Recor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Handling structured and indexed fi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re overhead to re-construct a file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0" name=""/>
          <p:cNvSpPr/>
          <p:nvPr/>
        </p:nvSpPr>
        <p:spPr>
          <a:xfrm>
            <a:off x="1119240" y="3641760"/>
            <a:ext cx="7772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t of Data Trans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193680" y="3137040"/>
            <a:ext cx="2409840" cy="2260440"/>
            <a:chOff x="193680" y="3137040"/>
            <a:chExt cx="2409840" cy="2260440"/>
          </a:xfrm>
        </p:grpSpPr>
        <p:sp>
          <p:nvSpPr>
            <p:cNvPr id="432" name=""/>
            <p:cNvSpPr/>
            <p:nvPr/>
          </p:nvSpPr>
          <p:spPr>
            <a:xfrm>
              <a:off x="698400" y="3137040"/>
              <a:ext cx="1905120" cy="49500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609480" y="4863960"/>
              <a:ext cx="1397160" cy="533520"/>
            </a:xfrm>
            <a:prstGeom prst="ellipse">
              <a:avLst/>
            </a:prstGeom>
            <a:solidFill>
              <a:srgbClr val="ccccff">
                <a:alpha val="15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93680" y="3560760"/>
              <a:ext cx="55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NF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419040" y="3505320"/>
              <a:ext cx="381240" cy="101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95360" y="3822840"/>
              <a:ext cx="469800" cy="105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9B6C2-CD63-42B8-9646-8A1D38179D0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044720" y="617040"/>
            <a:ext cx="78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519120" y="2357280"/>
            <a:ext cx="8283600" cy="352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when modifications of the file data made by a user are observable by other us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x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utable shared-files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ion-like seman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593-7C34-41B6-834E-30D9C16E4E1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Unix Semantics (One-copy Update Semantics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0" name=""/>
          <p:cNvSpPr/>
          <p:nvPr/>
        </p:nvSpPr>
        <p:spPr>
          <a:xfrm>
            <a:off x="684360" y="2025720"/>
            <a:ext cx="8297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olute Ordering (seen to all clients as if only a single copy exis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is updated immediate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447120" y="3809880"/>
            <a:ext cx="8087040" cy="823320"/>
            <a:chOff x="447120" y="3809880"/>
            <a:chExt cx="8087040" cy="823320"/>
          </a:xfrm>
        </p:grpSpPr>
        <p:sp>
          <p:nvSpPr>
            <p:cNvPr id="442" name=""/>
            <p:cNvSpPr/>
            <p:nvPr/>
          </p:nvSpPr>
          <p:spPr>
            <a:xfrm flipV="1">
              <a:off x="682200" y="4071600"/>
              <a:ext cx="7851960" cy="1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3" name=""/>
            <p:cNvGrpSpPr/>
            <p:nvPr/>
          </p:nvGrpSpPr>
          <p:grpSpPr>
            <a:xfrm>
              <a:off x="447120" y="3836880"/>
              <a:ext cx="369720" cy="788040"/>
              <a:chOff x="447120" y="3836880"/>
              <a:chExt cx="369720" cy="788040"/>
            </a:xfrm>
          </p:grpSpPr>
          <p:sp>
            <p:nvSpPr>
              <p:cNvPr id="444" name=""/>
              <p:cNvSpPr/>
              <p:nvPr/>
            </p:nvSpPr>
            <p:spPr>
              <a:xfrm>
                <a:off x="684000" y="3836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447120" y="4287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1872720" y="3845160"/>
              <a:ext cx="369720" cy="788040"/>
              <a:chOff x="1872720" y="3845160"/>
              <a:chExt cx="369720" cy="788040"/>
            </a:xfrm>
          </p:grpSpPr>
          <p:sp>
            <p:nvSpPr>
              <p:cNvPr id="447" name=""/>
              <p:cNvSpPr/>
              <p:nvPr/>
            </p:nvSpPr>
            <p:spPr>
              <a:xfrm>
                <a:off x="2109600" y="3845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1872720" y="4295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49" name=""/>
            <p:cNvGrpSpPr/>
            <p:nvPr/>
          </p:nvGrpSpPr>
          <p:grpSpPr>
            <a:xfrm>
              <a:off x="3413160" y="3835440"/>
              <a:ext cx="369720" cy="788040"/>
              <a:chOff x="3413160" y="3835440"/>
              <a:chExt cx="369720" cy="788040"/>
            </a:xfrm>
          </p:grpSpPr>
          <p:sp>
            <p:nvSpPr>
              <p:cNvPr id="450" name=""/>
              <p:cNvSpPr/>
              <p:nvPr/>
            </p:nvSpPr>
            <p:spPr>
              <a:xfrm>
                <a:off x="3650040" y="383544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413160" y="428616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3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2" name=""/>
            <p:cNvGrpSpPr/>
            <p:nvPr/>
          </p:nvGrpSpPr>
          <p:grpSpPr>
            <a:xfrm>
              <a:off x="4906080" y="3827520"/>
              <a:ext cx="369720" cy="788040"/>
              <a:chOff x="4906080" y="3827520"/>
              <a:chExt cx="369720" cy="788040"/>
            </a:xfrm>
          </p:grpSpPr>
          <p:sp>
            <p:nvSpPr>
              <p:cNvPr id="453" name=""/>
              <p:cNvSpPr/>
              <p:nvPr/>
            </p:nvSpPr>
            <p:spPr>
              <a:xfrm>
                <a:off x="5142960" y="382752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4906080" y="427824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4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5" name=""/>
            <p:cNvGrpSpPr/>
            <p:nvPr/>
          </p:nvGrpSpPr>
          <p:grpSpPr>
            <a:xfrm>
              <a:off x="6377040" y="3818160"/>
              <a:ext cx="369720" cy="788040"/>
              <a:chOff x="6377040" y="3818160"/>
              <a:chExt cx="369720" cy="788040"/>
            </a:xfrm>
          </p:grpSpPr>
          <p:sp>
            <p:nvSpPr>
              <p:cNvPr id="456" name=""/>
              <p:cNvSpPr/>
              <p:nvPr/>
            </p:nvSpPr>
            <p:spPr>
              <a:xfrm>
                <a:off x="6613920" y="381816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377040" y="426888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5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58" name=""/>
            <p:cNvGrpSpPr/>
            <p:nvPr/>
          </p:nvGrpSpPr>
          <p:grpSpPr>
            <a:xfrm>
              <a:off x="7823160" y="3809880"/>
              <a:ext cx="369720" cy="788040"/>
              <a:chOff x="7823160" y="3809880"/>
              <a:chExt cx="369720" cy="788040"/>
            </a:xfrm>
          </p:grpSpPr>
          <p:sp>
            <p:nvSpPr>
              <p:cNvPr id="459" name=""/>
              <p:cNvSpPr/>
              <p:nvPr/>
            </p:nvSpPr>
            <p:spPr>
              <a:xfrm>
                <a:off x="8060040" y="3809880"/>
                <a:ext cx="0" cy="48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823160" y="4260600"/>
                <a:ext cx="3697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6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61" name=""/>
          <p:cNvGrpSpPr/>
          <p:nvPr/>
        </p:nvGrpSpPr>
        <p:grpSpPr>
          <a:xfrm>
            <a:off x="412920" y="3549600"/>
            <a:ext cx="545400" cy="294840"/>
            <a:chOff x="412920" y="3549600"/>
            <a:chExt cx="545400" cy="294840"/>
          </a:xfrm>
        </p:grpSpPr>
        <p:sp>
          <p:nvSpPr>
            <p:cNvPr id="462" name=""/>
            <p:cNvSpPr/>
            <p:nvPr/>
          </p:nvSpPr>
          <p:spPr>
            <a:xfrm>
              <a:off x="412920" y="3549600"/>
              <a:ext cx="268200" cy="2869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0480" y="35571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4" name=""/>
          <p:cNvSpPr/>
          <p:nvPr/>
        </p:nvSpPr>
        <p:spPr>
          <a:xfrm>
            <a:off x="1749600" y="357840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990800" y="3587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2235240" y="3594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3213000" y="360360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471840" y="36115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3695760" y="3602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356080" y="361332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56732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826160" y="36212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87880" y="361332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59007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17868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438960" y="362268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6699240" y="36147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940440" y="362268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5754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835760" y="3621240"/>
            <a:ext cx="26856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09640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8356680" y="361944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8597880" y="3629160"/>
            <a:ext cx="268200" cy="287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219600" y="278136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9120" y="503244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489320" y="4517640"/>
            <a:ext cx="1143720" cy="626760"/>
            <a:chOff x="1489320" y="4517640"/>
            <a:chExt cx="1143720" cy="626760"/>
          </a:xfrm>
        </p:grpSpPr>
        <p:sp>
          <p:nvSpPr>
            <p:cNvPr id="487" name=""/>
            <p:cNvSpPr/>
            <p:nvPr/>
          </p:nvSpPr>
          <p:spPr>
            <a:xfrm flipV="1">
              <a:off x="2027160" y="4517640"/>
              <a:ext cx="1440" cy="412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1489320" y="4807080"/>
              <a:ext cx="1143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ppend(c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615920" y="4816440"/>
            <a:ext cx="117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5184720" y="4572000"/>
            <a:ext cx="0" cy="341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6638760" y="319104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317760" y="292428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737120" y="4853160"/>
            <a:ext cx="61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6114960" y="2870280"/>
            <a:ext cx="1160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053560" y="457200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V="1">
            <a:off x="3660840" y="315576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1260720" y="5765760"/>
            <a:ext cx="682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ays (Inevitable to have a weaker semant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160880" y="394344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84800" y="3933720"/>
            <a:ext cx="268200" cy="2872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0" name=""/>
          <p:cNvGrpSpPr/>
          <p:nvPr/>
        </p:nvGrpSpPr>
        <p:grpSpPr>
          <a:xfrm>
            <a:off x="1014480" y="3332160"/>
            <a:ext cx="3200400" cy="1563480"/>
            <a:chOff x="1014480" y="3332160"/>
            <a:chExt cx="3200400" cy="1563480"/>
          </a:xfrm>
        </p:grpSpPr>
        <p:sp>
          <p:nvSpPr>
            <p:cNvPr id="501" name=""/>
            <p:cNvSpPr/>
            <p:nvPr/>
          </p:nvSpPr>
          <p:spPr>
            <a:xfrm flipV="1">
              <a:off x="2170080" y="4212720"/>
              <a:ext cx="2044800" cy="682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678760" y="453852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902040" y="39355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193920" y="3443400"/>
              <a:ext cx="26856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52760" y="3451320"/>
              <a:ext cx="268200" cy="287280"/>
            </a:xfrm>
            <a:prstGeom prst="rect">
              <a:avLst/>
            </a:pr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1014480" y="3501720"/>
              <a:ext cx="2235240" cy="2379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1992960" y="3332160"/>
              <a:ext cx="929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delay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7EB5-105C-4B88-9666-AA552EC34E5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803240" y="4508640"/>
            <a:ext cx="5600880" cy="13968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828800" y="2590920"/>
            <a:ext cx="0" cy="18795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255840" y="187308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5352120" y="1835280"/>
            <a:ext cx="95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5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516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519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2" name=""/>
          <p:cNvGrpSpPr/>
          <p:nvPr/>
        </p:nvGrpSpPr>
        <p:grpSpPr>
          <a:xfrm>
            <a:off x="1542960" y="3397320"/>
            <a:ext cx="1079280" cy="287280"/>
            <a:chOff x="1542960" y="3397320"/>
            <a:chExt cx="1079280" cy="287280"/>
          </a:xfrm>
        </p:grpSpPr>
        <p:sp>
          <p:nvSpPr>
            <p:cNvPr id="523" name=""/>
            <p:cNvSpPr/>
            <p:nvPr/>
          </p:nvSpPr>
          <p:spPr>
            <a:xfrm>
              <a:off x="1542960" y="3397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1820520" y="3405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208728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354040" y="34052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7" name=""/>
          <p:cNvGrpSpPr/>
          <p:nvPr/>
        </p:nvGrpSpPr>
        <p:grpSpPr>
          <a:xfrm>
            <a:off x="1542960" y="3905280"/>
            <a:ext cx="1346400" cy="287280"/>
            <a:chOff x="1542960" y="3905280"/>
            <a:chExt cx="1346400" cy="287280"/>
          </a:xfrm>
        </p:grpSpPr>
        <p:sp>
          <p:nvSpPr>
            <p:cNvPr id="528" name=""/>
            <p:cNvSpPr/>
            <p:nvPr/>
          </p:nvSpPr>
          <p:spPr>
            <a:xfrm>
              <a:off x="1542960" y="39052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182088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08764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354400" y="39132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2620800" y="39132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3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334120" y="3911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334120" y="444492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346720" y="4940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543920" y="3778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519800" y="4286160"/>
            <a:ext cx="91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y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544280" y="4781520"/>
            <a:ext cx="90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34120" y="53974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4561200" y="52768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1827360" y="2236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770280" y="22510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6584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549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7410600" y="4489560"/>
            <a:ext cx="1345680" cy="287280"/>
            <a:chOff x="7410600" y="4489560"/>
            <a:chExt cx="1345680" cy="287280"/>
          </a:xfrm>
        </p:grpSpPr>
        <p:sp>
          <p:nvSpPr>
            <p:cNvPr id="552" name=""/>
            <p:cNvSpPr/>
            <p:nvPr/>
          </p:nvSpPr>
          <p:spPr>
            <a:xfrm>
              <a:off x="7410600" y="44895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68816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95492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8221680" y="44974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488080" y="44974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3251160" y="515772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424960" y="5010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5607000" y="3259080"/>
            <a:ext cx="546120" cy="287280"/>
            <a:chOff x="5607000" y="3259080"/>
            <a:chExt cx="546120" cy="287280"/>
          </a:xfrm>
        </p:grpSpPr>
        <p:sp>
          <p:nvSpPr>
            <p:cNvPr id="560" name=""/>
            <p:cNvSpPr/>
            <p:nvPr/>
          </p:nvSpPr>
          <p:spPr>
            <a:xfrm>
              <a:off x="5607000" y="32590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84560" y="32670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5334120" y="336708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507560" y="321948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4" name=""/>
          <p:cNvGrpSpPr/>
          <p:nvPr/>
        </p:nvGrpSpPr>
        <p:grpSpPr>
          <a:xfrm>
            <a:off x="3498840" y="5035680"/>
            <a:ext cx="1345680" cy="287280"/>
            <a:chOff x="3498840" y="5035680"/>
            <a:chExt cx="1345680" cy="287280"/>
          </a:xfrm>
        </p:grpSpPr>
        <p:sp>
          <p:nvSpPr>
            <p:cNvPr id="565" name=""/>
            <p:cNvSpPr/>
            <p:nvPr/>
          </p:nvSpPr>
          <p:spPr>
            <a:xfrm>
              <a:off x="3498840" y="50356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377640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04316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309920" y="504360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576320" y="5043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0" name=""/>
          <p:cNvGrpSpPr/>
          <p:nvPr/>
        </p:nvGrpSpPr>
        <p:grpSpPr>
          <a:xfrm>
            <a:off x="5594400" y="3790800"/>
            <a:ext cx="812880" cy="287640"/>
            <a:chOff x="5594400" y="3790800"/>
            <a:chExt cx="812880" cy="287640"/>
          </a:xfrm>
        </p:grpSpPr>
        <p:sp>
          <p:nvSpPr>
            <p:cNvPr id="571" name=""/>
            <p:cNvSpPr/>
            <p:nvPr/>
          </p:nvSpPr>
          <p:spPr>
            <a:xfrm>
              <a:off x="5594400" y="37908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872320" y="37990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138720" y="37990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4" name=""/>
          <p:cNvGrpSpPr/>
          <p:nvPr/>
        </p:nvGrpSpPr>
        <p:grpSpPr>
          <a:xfrm>
            <a:off x="5594400" y="4260960"/>
            <a:ext cx="1079280" cy="287280"/>
            <a:chOff x="5594400" y="4260960"/>
            <a:chExt cx="1079280" cy="287280"/>
          </a:xfrm>
        </p:grpSpPr>
        <p:sp>
          <p:nvSpPr>
            <p:cNvPr id="575" name=""/>
            <p:cNvSpPr/>
            <p:nvPr/>
          </p:nvSpPr>
          <p:spPr>
            <a:xfrm>
              <a:off x="5594400" y="4260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871960" y="42688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13872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6405480" y="4268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9" name=""/>
          <p:cNvGrpSpPr/>
          <p:nvPr/>
        </p:nvGrpSpPr>
        <p:grpSpPr>
          <a:xfrm>
            <a:off x="5594400" y="4768920"/>
            <a:ext cx="1345680" cy="287280"/>
            <a:chOff x="5594400" y="4768920"/>
            <a:chExt cx="1345680" cy="287280"/>
          </a:xfrm>
        </p:grpSpPr>
        <p:sp>
          <p:nvSpPr>
            <p:cNvPr id="580" name=""/>
            <p:cNvSpPr/>
            <p:nvPr/>
          </p:nvSpPr>
          <p:spPr>
            <a:xfrm>
              <a:off x="5594400" y="47689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87196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13872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6405480" y="47768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6671880" y="47768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5" name=""/>
          <p:cNvGrpSpPr/>
          <p:nvPr/>
        </p:nvGrpSpPr>
        <p:grpSpPr>
          <a:xfrm>
            <a:off x="7423200" y="5403960"/>
            <a:ext cx="1345680" cy="287280"/>
            <a:chOff x="7423200" y="5403960"/>
            <a:chExt cx="1345680" cy="287280"/>
          </a:xfrm>
        </p:grpSpPr>
        <p:sp>
          <p:nvSpPr>
            <p:cNvPr id="586" name=""/>
            <p:cNvSpPr/>
            <p:nvPr/>
          </p:nvSpPr>
          <p:spPr>
            <a:xfrm>
              <a:off x="7423200" y="540396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770076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96752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8234280" y="541188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y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8500680" y="541188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z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238560" y="591804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2465640" y="57974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3263760" y="56530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2329200" y="55306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5" name=""/>
          <p:cNvGrpSpPr/>
          <p:nvPr/>
        </p:nvGrpSpPr>
        <p:grpSpPr>
          <a:xfrm>
            <a:off x="3511440" y="5530680"/>
            <a:ext cx="1346400" cy="287280"/>
            <a:chOff x="3511440" y="5530680"/>
            <a:chExt cx="1346400" cy="287280"/>
          </a:xfrm>
        </p:grpSpPr>
        <p:sp>
          <p:nvSpPr>
            <p:cNvPr id="596" name=""/>
            <p:cNvSpPr/>
            <p:nvPr/>
          </p:nvSpPr>
          <p:spPr>
            <a:xfrm>
              <a:off x="3511440" y="55306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378936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5612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322880" y="553860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589280" y="553860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1" name=""/>
          <p:cNvSpPr/>
          <p:nvPr/>
        </p:nvSpPr>
        <p:spPr>
          <a:xfrm>
            <a:off x="4843440" y="5540400"/>
            <a:ext cx="268200" cy="2746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2" name=""/>
          <p:cNvGrpSpPr/>
          <p:nvPr/>
        </p:nvGrpSpPr>
        <p:grpSpPr>
          <a:xfrm>
            <a:off x="7391520" y="5924520"/>
            <a:ext cx="1345680" cy="287280"/>
            <a:chOff x="7391520" y="5924520"/>
            <a:chExt cx="1345680" cy="287280"/>
          </a:xfrm>
        </p:grpSpPr>
        <p:sp>
          <p:nvSpPr>
            <p:cNvPr id="603" name=""/>
            <p:cNvSpPr/>
            <p:nvPr/>
          </p:nvSpPr>
          <p:spPr>
            <a:xfrm>
              <a:off x="7391520" y="592452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766908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793584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202600" y="5932440"/>
              <a:ext cx="26784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8469000" y="5932440"/>
              <a:ext cx="26820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8" name=""/>
          <p:cNvSpPr/>
          <p:nvPr/>
        </p:nvSpPr>
        <p:spPr>
          <a:xfrm>
            <a:off x="8723160" y="5934240"/>
            <a:ext cx="268560" cy="274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6159600" y="2451240"/>
            <a:ext cx="1549440" cy="888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282680" y="35686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295280" y="40640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400" y="340992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92480" y="3905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282680" y="452124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10120" y="44006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867280" y="5397480"/>
            <a:ext cx="1549440" cy="1652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838760" y="4699080"/>
            <a:ext cx="2565360" cy="46980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784680" y="5931000"/>
            <a:ext cx="3619440" cy="12708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5854320" y="3390840"/>
            <a:ext cx="25560" cy="19814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772080" y="5194440"/>
            <a:ext cx="0" cy="736560"/>
          </a:xfrm>
          <a:prstGeom prst="line">
            <a:avLst/>
          </a:prstGeom>
          <a:ln w="28440">
            <a:solidFill>
              <a:srgbClr val="cc99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05200" y="6012000"/>
            <a:ext cx="44647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writes may overwrite previous upda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 lock is needed to prevent this overwri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A79E-691D-4130-B379-B69A28A1D03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"/>
          <p:cNvSpPr/>
          <p:nvPr/>
        </p:nvSpPr>
        <p:spPr>
          <a:xfrm flipH="1">
            <a:off x="2107800" y="2374920"/>
            <a:ext cx="5575320" cy="203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1943280" y="5105520"/>
            <a:ext cx="5435280" cy="41904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1828800" y="2590920"/>
            <a:ext cx="12600" cy="2133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Session Semantics with File Lock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28" name=""/>
          <p:cNvSpPr/>
          <p:nvPr/>
        </p:nvSpPr>
        <p:spPr>
          <a:xfrm>
            <a:off x="1310400" y="186048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4385880" y="1809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1568520" y="2457360"/>
            <a:ext cx="546120" cy="287280"/>
            <a:chOff x="1568520" y="2457360"/>
            <a:chExt cx="546120" cy="287280"/>
          </a:xfrm>
        </p:grpSpPr>
        <p:sp>
          <p:nvSpPr>
            <p:cNvPr id="631" name=""/>
            <p:cNvSpPr/>
            <p:nvPr/>
          </p:nvSpPr>
          <p:spPr>
            <a:xfrm>
              <a:off x="1568520" y="24573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846080" y="246528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3" name=""/>
          <p:cNvGrpSpPr/>
          <p:nvPr/>
        </p:nvGrpSpPr>
        <p:grpSpPr>
          <a:xfrm>
            <a:off x="1542960" y="2914560"/>
            <a:ext cx="812880" cy="287280"/>
            <a:chOff x="1542960" y="2914560"/>
            <a:chExt cx="812880" cy="287280"/>
          </a:xfrm>
        </p:grpSpPr>
        <p:sp>
          <p:nvSpPr>
            <p:cNvPr id="634" name=""/>
            <p:cNvSpPr/>
            <p:nvPr/>
          </p:nvSpPr>
          <p:spPr>
            <a:xfrm>
              <a:off x="1542960" y="29145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820880" y="29224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087280" y="29224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7" name=""/>
          <p:cNvSpPr/>
          <p:nvPr/>
        </p:nvSpPr>
        <p:spPr>
          <a:xfrm>
            <a:off x="1295280" y="25653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519840" y="244476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502440" y="35622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745360" y="442584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839960" y="22114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811760" y="2162160"/>
            <a:ext cx="0" cy="429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961400" y="2209680"/>
            <a:ext cx="0" cy="4241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551000" y="183528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5" name=""/>
          <p:cNvGrpSpPr/>
          <p:nvPr/>
        </p:nvGrpSpPr>
        <p:grpSpPr>
          <a:xfrm>
            <a:off x="7689960" y="2254320"/>
            <a:ext cx="546120" cy="287280"/>
            <a:chOff x="7689960" y="2254320"/>
            <a:chExt cx="546120" cy="287280"/>
          </a:xfrm>
        </p:grpSpPr>
        <p:sp>
          <p:nvSpPr>
            <p:cNvPr id="646" name=""/>
            <p:cNvSpPr/>
            <p:nvPr/>
          </p:nvSpPr>
          <p:spPr>
            <a:xfrm>
              <a:off x="7689960" y="22543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67520" y="22622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8" name=""/>
          <p:cNvSpPr/>
          <p:nvPr/>
        </p:nvSpPr>
        <p:spPr>
          <a:xfrm>
            <a:off x="4280040" y="329076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3479040" y="3156120"/>
            <a:ext cx="8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en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3517920" y="455940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292640" y="3697200"/>
            <a:ext cx="25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H="1">
            <a:off x="5117760" y="2451240"/>
            <a:ext cx="2590920" cy="72360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2680" y="303516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93200" y="2901960"/>
            <a:ext cx="90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ppend(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 flipH="1">
            <a:off x="2336760" y="2413080"/>
            <a:ext cx="5321520" cy="59688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3424320" y="25830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7" name=""/>
          <p:cNvGrpSpPr/>
          <p:nvPr/>
        </p:nvGrpSpPr>
        <p:grpSpPr>
          <a:xfrm>
            <a:off x="4552920" y="3156120"/>
            <a:ext cx="546120" cy="287280"/>
            <a:chOff x="4552920" y="3156120"/>
            <a:chExt cx="546120" cy="287280"/>
          </a:xfrm>
        </p:grpSpPr>
        <p:sp>
          <p:nvSpPr>
            <p:cNvPr id="658" name=""/>
            <p:cNvSpPr/>
            <p:nvPr/>
          </p:nvSpPr>
          <p:spPr>
            <a:xfrm>
              <a:off x="4552920" y="315612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830480" y="3164040"/>
              <a:ext cx="268560" cy="2746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0" name=""/>
          <p:cNvGrpSpPr/>
          <p:nvPr/>
        </p:nvGrpSpPr>
        <p:grpSpPr>
          <a:xfrm>
            <a:off x="4438800" y="4362480"/>
            <a:ext cx="812160" cy="287280"/>
            <a:chOff x="4438800" y="4362480"/>
            <a:chExt cx="812160" cy="287280"/>
          </a:xfrm>
        </p:grpSpPr>
        <p:sp>
          <p:nvSpPr>
            <p:cNvPr id="661" name=""/>
            <p:cNvSpPr/>
            <p:nvPr/>
          </p:nvSpPr>
          <p:spPr>
            <a:xfrm>
              <a:off x="4438800" y="4362480"/>
              <a:ext cx="26784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716360" y="4370400"/>
              <a:ext cx="26784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98276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4" name=""/>
          <p:cNvSpPr/>
          <p:nvPr/>
        </p:nvSpPr>
        <p:spPr>
          <a:xfrm>
            <a:off x="4451400" y="3498840"/>
            <a:ext cx="1753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it,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teal, or </a:t>
            </a:r>
            <a:r>
              <a:rPr b="1" lang="ja-JP" sz="12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roc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 flipH="1">
            <a:off x="3848040" y="3987720"/>
            <a:ext cx="990720" cy="39384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4813200" y="3987720"/>
            <a:ext cx="978120" cy="35568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362320" y="3162240"/>
            <a:ext cx="2387520" cy="1193760"/>
          </a:xfrm>
          <a:prstGeom prst="line">
            <a:avLst/>
          </a:prstGeom>
          <a:ln w="28440">
            <a:solidFill>
              <a:srgbClr val="00e4a8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8" name=""/>
          <p:cNvGrpSpPr/>
          <p:nvPr/>
        </p:nvGrpSpPr>
        <p:grpSpPr>
          <a:xfrm>
            <a:off x="5416560" y="4362480"/>
            <a:ext cx="812880" cy="287280"/>
            <a:chOff x="5416560" y="4362480"/>
            <a:chExt cx="812880" cy="287280"/>
          </a:xfrm>
        </p:grpSpPr>
        <p:sp>
          <p:nvSpPr>
            <p:cNvPr id="669" name=""/>
            <p:cNvSpPr/>
            <p:nvPr/>
          </p:nvSpPr>
          <p:spPr>
            <a:xfrm>
              <a:off x="5416560" y="436248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694480" y="437040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960880" y="437040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2" name=""/>
          <p:cNvSpPr/>
          <p:nvPr/>
        </p:nvSpPr>
        <p:spPr>
          <a:xfrm>
            <a:off x="4902120" y="4660920"/>
            <a:ext cx="2514600" cy="33012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7435800" y="4705200"/>
            <a:ext cx="812880" cy="287640"/>
            <a:chOff x="7435800" y="4705200"/>
            <a:chExt cx="812880" cy="287640"/>
          </a:xfrm>
        </p:grpSpPr>
        <p:sp>
          <p:nvSpPr>
            <p:cNvPr id="674" name=""/>
            <p:cNvSpPr/>
            <p:nvPr/>
          </p:nvSpPr>
          <p:spPr>
            <a:xfrm>
              <a:off x="743580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71372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798012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7" name=""/>
          <p:cNvSpPr/>
          <p:nvPr/>
        </p:nvSpPr>
        <p:spPr>
          <a:xfrm>
            <a:off x="4696920" y="4576680"/>
            <a:ext cx="61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6235560" y="4368960"/>
            <a:ext cx="2514600" cy="3045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6245280" y="4208400"/>
            <a:ext cx="6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^x^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8331120" y="4705200"/>
            <a:ext cx="812880" cy="287640"/>
            <a:chOff x="8331120" y="4705200"/>
            <a:chExt cx="812880" cy="287640"/>
          </a:xfrm>
        </p:grpSpPr>
        <p:sp>
          <p:nvSpPr>
            <p:cNvPr id="681" name=""/>
            <p:cNvSpPr/>
            <p:nvPr/>
          </p:nvSpPr>
          <p:spPr>
            <a:xfrm>
              <a:off x="8331120" y="4705200"/>
              <a:ext cx="268200" cy="28764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609040" y="4713480"/>
              <a:ext cx="26820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875440" y="4713480"/>
              <a:ext cx="268560" cy="27432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x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4" name=""/>
          <p:cNvSpPr/>
          <p:nvPr/>
        </p:nvSpPr>
        <p:spPr>
          <a:xfrm>
            <a:off x="8279640" y="22017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593840" y="4944960"/>
            <a:ext cx="4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327880" y="493236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-7560" y="4591080"/>
            <a:ext cx="87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ose(fil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765000" y="4724280"/>
            <a:ext cx="2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9" name=""/>
          <p:cNvGrpSpPr/>
          <p:nvPr/>
        </p:nvGrpSpPr>
        <p:grpSpPr>
          <a:xfrm>
            <a:off x="7385040" y="5403960"/>
            <a:ext cx="812880" cy="287280"/>
            <a:chOff x="7385040" y="5403960"/>
            <a:chExt cx="812880" cy="287280"/>
          </a:xfrm>
        </p:grpSpPr>
        <p:sp>
          <p:nvSpPr>
            <p:cNvPr id="690" name=""/>
            <p:cNvSpPr/>
            <p:nvPr/>
          </p:nvSpPr>
          <p:spPr>
            <a:xfrm>
              <a:off x="7385040" y="540396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662960" y="541188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29360" y="541188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3" name=""/>
          <p:cNvGrpSpPr/>
          <p:nvPr/>
        </p:nvGrpSpPr>
        <p:grpSpPr>
          <a:xfrm>
            <a:off x="8331120" y="5365800"/>
            <a:ext cx="812880" cy="287280"/>
            <a:chOff x="8331120" y="5365800"/>
            <a:chExt cx="812880" cy="287280"/>
          </a:xfrm>
        </p:grpSpPr>
        <p:sp>
          <p:nvSpPr>
            <p:cNvPr id="694" name=""/>
            <p:cNvSpPr/>
            <p:nvPr/>
          </p:nvSpPr>
          <p:spPr>
            <a:xfrm>
              <a:off x="8331120" y="5365800"/>
              <a:ext cx="268200" cy="28728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609040" y="5373720"/>
              <a:ext cx="26820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875440" y="5373720"/>
              <a:ext cx="268560" cy="2739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7" name=""/>
          <p:cNvSpPr/>
          <p:nvPr/>
        </p:nvSpPr>
        <p:spPr>
          <a:xfrm>
            <a:off x="797400" y="4692600"/>
            <a:ext cx="2474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User need to choos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Quit, save anyway, or type ^x^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813200" y="3149640"/>
            <a:ext cx="12960" cy="1181160"/>
          </a:xfrm>
          <a:prstGeom prst="line">
            <a:avLst/>
          </a:prstGeom>
          <a:ln w="28440">
            <a:solidFill>
              <a:srgbClr val="3333cc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44720" y="5067360"/>
            <a:ext cx="6083280" cy="27936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8416800" y="5668920"/>
            <a:ext cx="5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file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711000" y="5092560"/>
            <a:ext cx="253800" cy="216000"/>
          </a:xfrm>
          <a:prstGeom prst="line">
            <a:avLst/>
          </a:prstGeom>
          <a:ln w="2844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21680" y="4322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3333cc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483120" y="52498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Tahoma"/>
              </a:rPr>
              <a:t>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02240" y="3497400"/>
            <a:ext cx="63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lock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1E40-9707-459B-A700-E45AA9A5D03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5" name=""/>
          <p:cNvGrpSpPr/>
          <p:nvPr/>
        </p:nvGrpSpPr>
        <p:grpSpPr>
          <a:xfrm>
            <a:off x="7404120" y="5435640"/>
            <a:ext cx="368280" cy="520560"/>
            <a:chOff x="7404120" y="5435640"/>
            <a:chExt cx="368280" cy="520560"/>
          </a:xfrm>
        </p:grpSpPr>
        <p:sp>
          <p:nvSpPr>
            <p:cNvPr id="706" name=""/>
            <p:cNvSpPr/>
            <p:nvPr/>
          </p:nvSpPr>
          <p:spPr>
            <a:xfrm>
              <a:off x="7404120" y="543564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404120" y="568944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Transaction-Like Semantics (Concurrency Control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09" name=""/>
          <p:cNvSpPr/>
          <p:nvPr/>
        </p:nvSpPr>
        <p:spPr>
          <a:xfrm>
            <a:off x="4432320" y="2057400"/>
            <a:ext cx="0" cy="410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048320" y="1859040"/>
            <a:ext cx="21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815800" y="180828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rward valid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609480" y="2629080"/>
            <a:ext cx="368280" cy="1663560"/>
            <a:chOff x="609480" y="2629080"/>
            <a:chExt cx="368280" cy="1663560"/>
          </a:xfrm>
        </p:grpSpPr>
        <p:sp>
          <p:nvSpPr>
            <p:cNvPr id="713" name=""/>
            <p:cNvSpPr/>
            <p:nvPr/>
          </p:nvSpPr>
          <p:spPr>
            <a:xfrm>
              <a:off x="60948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4" name=""/>
            <p:cNvGrpSpPr/>
            <p:nvPr/>
          </p:nvGrpSpPr>
          <p:grpSpPr>
            <a:xfrm>
              <a:off x="609480" y="3772080"/>
              <a:ext cx="368280" cy="520560"/>
              <a:chOff x="609480" y="3772080"/>
              <a:chExt cx="368280" cy="520560"/>
            </a:xfrm>
          </p:grpSpPr>
          <p:sp>
            <p:nvSpPr>
              <p:cNvPr id="715" name=""/>
              <p:cNvSpPr/>
              <p:nvPr/>
            </p:nvSpPr>
            <p:spPr>
              <a:xfrm>
                <a:off x="60948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0948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7" name=""/>
          <p:cNvGrpSpPr/>
          <p:nvPr/>
        </p:nvGrpSpPr>
        <p:grpSpPr>
          <a:xfrm>
            <a:off x="1333440" y="3213000"/>
            <a:ext cx="368280" cy="1650600"/>
            <a:chOff x="1333440" y="3213000"/>
            <a:chExt cx="368280" cy="1650600"/>
          </a:xfrm>
        </p:grpSpPr>
        <p:sp>
          <p:nvSpPr>
            <p:cNvPr id="718" name=""/>
            <p:cNvSpPr/>
            <p:nvPr/>
          </p:nvSpPr>
          <p:spPr>
            <a:xfrm>
              <a:off x="1333440" y="321300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19" name=""/>
            <p:cNvGrpSpPr/>
            <p:nvPr/>
          </p:nvGrpSpPr>
          <p:grpSpPr>
            <a:xfrm>
              <a:off x="1333440" y="4343040"/>
              <a:ext cx="368280" cy="520560"/>
              <a:chOff x="1333440" y="4343040"/>
              <a:chExt cx="368280" cy="520560"/>
            </a:xfrm>
          </p:grpSpPr>
          <p:sp>
            <p:nvSpPr>
              <p:cNvPr id="720" name=""/>
              <p:cNvSpPr/>
              <p:nvPr/>
            </p:nvSpPr>
            <p:spPr>
              <a:xfrm>
                <a:off x="1333440" y="434304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1333440" y="459684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2" name=""/>
          <p:cNvGrpSpPr/>
          <p:nvPr/>
        </p:nvGrpSpPr>
        <p:grpSpPr>
          <a:xfrm>
            <a:off x="2044800" y="3759120"/>
            <a:ext cx="368280" cy="1663560"/>
            <a:chOff x="2044800" y="3759120"/>
            <a:chExt cx="368280" cy="1663560"/>
          </a:xfrm>
        </p:grpSpPr>
        <p:sp>
          <p:nvSpPr>
            <p:cNvPr id="723" name=""/>
            <p:cNvSpPr/>
            <p:nvPr/>
          </p:nvSpPr>
          <p:spPr>
            <a:xfrm>
              <a:off x="2044800" y="375912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9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8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24" name=""/>
            <p:cNvGrpSpPr/>
            <p:nvPr/>
          </p:nvGrpSpPr>
          <p:grpSpPr>
            <a:xfrm>
              <a:off x="2044800" y="4902120"/>
              <a:ext cx="368280" cy="520560"/>
              <a:chOff x="2044800" y="4902120"/>
              <a:chExt cx="368280" cy="520560"/>
            </a:xfrm>
          </p:grpSpPr>
          <p:sp>
            <p:nvSpPr>
              <p:cNvPr id="725" name=""/>
              <p:cNvSpPr/>
              <p:nvPr/>
            </p:nvSpPr>
            <p:spPr>
              <a:xfrm>
                <a:off x="2044800" y="490212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044800" y="515592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"/>
          <p:cNvSpPr/>
          <p:nvPr/>
        </p:nvSpPr>
        <p:spPr>
          <a:xfrm>
            <a:off x="275580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2755800" y="544824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H="1" flipV="1">
            <a:off x="977760" y="35053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flipH="1" flipV="1">
            <a:off x="977760" y="3048120"/>
            <a:ext cx="355680" cy="49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 flipH="1" flipV="1">
            <a:off x="977760" y="2844720"/>
            <a:ext cx="3556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 flipH="1" flipV="1">
            <a:off x="1689120" y="4051440"/>
            <a:ext cx="35568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1689120" y="3632040"/>
            <a:ext cx="35568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H="1" flipV="1">
            <a:off x="1689120" y="3416400"/>
            <a:ext cx="34272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 flipH="1" flipV="1">
            <a:off x="2400480" y="3974760"/>
            <a:ext cx="3427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 flipV="1">
            <a:off x="2413080" y="4203360"/>
            <a:ext cx="3556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1688760" y="3835080"/>
            <a:ext cx="1066680" cy="10414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 flipV="1">
            <a:off x="2413080" y="4775040"/>
            <a:ext cx="355680" cy="3175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755800" y="5994360"/>
            <a:ext cx="355680" cy="35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508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104904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77264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0920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27540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1037160" y="476892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735920" y="534024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2516040" y="561960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2503440" y="578484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364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24876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1796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119412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96956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71836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5" name=""/>
          <p:cNvGrpSpPr/>
          <p:nvPr/>
        </p:nvGrpSpPr>
        <p:grpSpPr>
          <a:xfrm>
            <a:off x="5257800" y="2629080"/>
            <a:ext cx="368280" cy="1663560"/>
            <a:chOff x="5257800" y="2629080"/>
            <a:chExt cx="368280" cy="1663560"/>
          </a:xfrm>
        </p:grpSpPr>
        <p:sp>
          <p:nvSpPr>
            <p:cNvPr id="756" name=""/>
            <p:cNvSpPr/>
            <p:nvPr/>
          </p:nvSpPr>
          <p:spPr>
            <a:xfrm>
              <a:off x="5257800" y="2629080"/>
              <a:ext cx="368280" cy="1143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R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W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7" name=""/>
            <p:cNvGrpSpPr/>
            <p:nvPr/>
          </p:nvGrpSpPr>
          <p:grpSpPr>
            <a:xfrm>
              <a:off x="5257800" y="3772080"/>
              <a:ext cx="368280" cy="520560"/>
              <a:chOff x="5257800" y="3772080"/>
              <a:chExt cx="368280" cy="520560"/>
            </a:xfrm>
          </p:grpSpPr>
          <p:sp>
            <p:nvSpPr>
              <p:cNvPr id="758" name=""/>
              <p:cNvSpPr/>
              <p:nvPr/>
            </p:nvSpPr>
            <p:spPr>
              <a:xfrm>
                <a:off x="5257800" y="3772080"/>
                <a:ext cx="368280" cy="266400"/>
              </a:xfrm>
              <a:prstGeom prst="rect">
                <a:avLst/>
              </a:prstGeom>
              <a:solidFill>
                <a:srgbClr val="ff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5257800" y="4025880"/>
                <a:ext cx="368280" cy="266760"/>
              </a:xfrm>
              <a:prstGeom prst="rect">
                <a:avLst/>
              </a:prstGeom>
              <a:solidFill>
                <a:srgbClr val="00e4a8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60" name=""/>
          <p:cNvSpPr/>
          <p:nvPr/>
        </p:nvSpPr>
        <p:spPr>
          <a:xfrm>
            <a:off x="5981760" y="321300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6692760" y="375912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04120" y="4305240"/>
            <a:ext cx="368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5981760" y="4356000"/>
            <a:ext cx="368280" cy="2667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956200" y="4952880"/>
            <a:ext cx="35568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973040" y="243216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5697000" y="297828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6420960" y="349884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157520" y="40831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4923360" y="42354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7082280" y="588636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5627520" y="456552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ab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5615280" y="4730760"/>
            <a:ext cx="112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rest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4971960" y="3790800"/>
            <a:ext cx="88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alid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896720" y="4019400"/>
            <a:ext cx="112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mit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5066280" y="2241720"/>
            <a:ext cx="77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5842440" y="2241720"/>
            <a:ext cx="77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6617880" y="2254320"/>
            <a:ext cx="76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7366680" y="225432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lient 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5626080" y="3213000"/>
            <a:ext cx="1904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5638680" y="3619440"/>
            <a:ext cx="1652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6337440" y="3797280"/>
            <a:ext cx="1066680" cy="10540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7061040" y="4788000"/>
            <a:ext cx="355680" cy="291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362640" y="4229280"/>
            <a:ext cx="13968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061040" y="4317840"/>
            <a:ext cx="165240" cy="165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772400" y="5334120"/>
            <a:ext cx="1778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2210040" y="2584440"/>
            <a:ext cx="1630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reads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ormer w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7076520" y="2546280"/>
            <a:ext cx="1591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are write wi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ater 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8" name=""/>
          <p:cNvGrpSpPr/>
          <p:nvPr/>
        </p:nvGrpSpPr>
        <p:grpSpPr>
          <a:xfrm>
            <a:off x="6692760" y="4902120"/>
            <a:ext cx="368280" cy="520560"/>
            <a:chOff x="6692760" y="4902120"/>
            <a:chExt cx="368280" cy="520560"/>
          </a:xfrm>
        </p:grpSpPr>
        <p:sp>
          <p:nvSpPr>
            <p:cNvPr id="789" name=""/>
            <p:cNvSpPr/>
            <p:nvPr/>
          </p:nvSpPr>
          <p:spPr>
            <a:xfrm>
              <a:off x="6692760" y="4902120"/>
              <a:ext cx="368280" cy="266400"/>
            </a:xfrm>
            <a:prstGeom prst="rect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692760" y="5155920"/>
              <a:ext cx="368280" cy="266760"/>
            </a:xfrm>
            <a:prstGeom prst="rect">
              <a:avLst/>
            </a:prstGeom>
            <a:solidFill>
              <a:srgbClr val="00e4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1" name=""/>
          <p:cNvSpPr/>
          <p:nvPr/>
        </p:nvSpPr>
        <p:spPr>
          <a:xfrm>
            <a:off x="6396480" y="535320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_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2" name=""/>
          <p:cNvGrpSpPr/>
          <p:nvPr/>
        </p:nvGrpSpPr>
        <p:grpSpPr>
          <a:xfrm>
            <a:off x="7314840" y="5168880"/>
            <a:ext cx="609480" cy="1015920"/>
            <a:chOff x="7314840" y="5168880"/>
            <a:chExt cx="609480" cy="1015920"/>
          </a:xfrm>
        </p:grpSpPr>
        <p:sp>
          <p:nvSpPr>
            <p:cNvPr id="793" name=""/>
            <p:cNvSpPr/>
            <p:nvPr/>
          </p:nvSpPr>
          <p:spPr>
            <a:xfrm>
              <a:off x="7365960" y="5168880"/>
              <a:ext cx="520920" cy="1015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314840" y="5181480"/>
              <a:ext cx="609480" cy="99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5" name=""/>
          <p:cNvSpPr/>
          <p:nvPr/>
        </p:nvSpPr>
        <p:spPr>
          <a:xfrm>
            <a:off x="4922280" y="5505480"/>
            <a:ext cx="3850560" cy="3070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ort itself or conflicting active transa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219480" y="6176880"/>
            <a:ext cx="288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Which validation is better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65B8-04B3-4C13-AE6F-817F1DEF8A6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Sharing Semantic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Immutable Shared-Files Semantic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98" name=""/>
          <p:cNvSpPr/>
          <p:nvPr/>
        </p:nvSpPr>
        <p:spPr>
          <a:xfrm>
            <a:off x="6350040" y="2565360"/>
            <a:ext cx="558720" cy="584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048120" y="326376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22440" y="3225960"/>
            <a:ext cx="558720" cy="58392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Tenta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based 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1.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6362640" y="3784680"/>
            <a:ext cx="558720" cy="584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 flipH="1">
            <a:off x="3594240" y="3137040"/>
            <a:ext cx="27684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1218960" y="2717640"/>
            <a:ext cx="514332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352680" y="3860640"/>
            <a:ext cx="30099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6667560" y="3137040"/>
            <a:ext cx="0" cy="672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939960" y="3822840"/>
            <a:ext cx="5054400" cy="1549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5910480" y="4627440"/>
            <a:ext cx="175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Version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969160" y="5359320"/>
            <a:ext cx="558720" cy="584280"/>
          </a:xfrm>
          <a:prstGeom prst="rect">
            <a:avLst/>
          </a:prstGeom>
          <a:solidFill>
            <a:srgbClr val="99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7581960" y="5346720"/>
            <a:ext cx="558720" cy="584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.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466240" y="5897520"/>
            <a:ext cx="156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gnore confli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496640" y="5884920"/>
            <a:ext cx="8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990720" y="3809880"/>
            <a:ext cx="660384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6654960" y="4356000"/>
            <a:ext cx="914400" cy="965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1423440" y="4906800"/>
            <a:ext cx="714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876240" y="3809880"/>
            <a:ext cx="80028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317280" y="2176560"/>
            <a:ext cx="83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3051000" y="2214720"/>
            <a:ext cx="96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495720" y="2239920"/>
            <a:ext cx="97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579960" y="5237280"/>
            <a:ext cx="419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pend on each file system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ortion is simple (later, the client A c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cide to overwrite it with its tentative 1.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y changing the corresponding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5A16-32DF-4846-8325-53BCAA4817A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common use of distributed syste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5040" indent="-275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Idea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set of disks attached to different nodes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 as if all were attached to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every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597600" indent="-2300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dlab: one server, workstations on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9080" indent="-18288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eShare: nodes are servers with disk &amp; cl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DB87-FAE9-454F-9F40-87E4733AB3FB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Loc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1" name=""/>
          <p:cNvSpPr/>
          <p:nvPr/>
        </p:nvSpPr>
        <p:spPr>
          <a:xfrm>
            <a:off x="376200" y="408636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58920" y="276228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3" name=""/>
          <p:cNvGraphicFramePr/>
          <p:nvPr/>
        </p:nvGraphicFramePr>
        <p:xfrm>
          <a:off x="2957400" y="2081160"/>
          <a:ext cx="5970600" cy="4381560"/>
        </p:xfrm>
        <a:graphic>
          <a:graphicData uri="http://schemas.openxmlformats.org/drawingml/2006/table">
            <a:tbl>
              <a:tblPr/>
              <a:tblGrid>
                <a:gridCol w="1560600"/>
                <a:gridCol w="2170080"/>
                <a:gridCol w="2239920"/>
              </a:tblGrid>
              <a:tr h="300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o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Demer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cach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modific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server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disk access</a:t>
                      </a: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asy implemen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nix-like file-sharing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Busy network traffi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9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di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One-time networ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No size restri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ile access semantics,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Frequent disk access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Tahoma"/>
                        </a:rPr>
                        <a:t>No Diskless workst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28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n client’s main 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aximum performance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Diskless worksta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Scalabil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ze restriction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Cache consistency problem,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85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ile access semantic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24" name=""/>
          <p:cNvSpPr/>
          <p:nvPr/>
        </p:nvSpPr>
        <p:spPr>
          <a:xfrm>
            <a:off x="1909800" y="4094280"/>
            <a:ext cx="879480" cy="95076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1892160" y="2770200"/>
            <a:ext cx="914400" cy="7714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1631880" y="2421000"/>
            <a:ext cx="0" cy="261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871920" y="1920960"/>
            <a:ext cx="167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de bound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61520" y="220500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2006640" y="22604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2098800" y="4822920"/>
            <a:ext cx="41256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2455920" y="3763440"/>
            <a:ext cx="179280" cy="104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 flipV="1">
            <a:off x="1130400" y="2492280"/>
            <a:ext cx="1272960" cy="10209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 flipV="1">
            <a:off x="1037880" y="2563560"/>
            <a:ext cx="1058760" cy="2276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1039680" y="3406680"/>
            <a:ext cx="1198800" cy="1165320"/>
          </a:xfrm>
          <a:custGeom>
            <a:avLst/>
            <a:gdLst/>
            <a:ahLst/>
            <a:rect l="l" t="t" r="r" b="b"/>
            <a:pathLst>
              <a:path w="698" h="734">
                <a:moveTo>
                  <a:pt x="598" y="734"/>
                </a:moveTo>
                <a:cubicBezTo>
                  <a:pt x="648" y="401"/>
                  <a:pt x="698" y="68"/>
                  <a:pt x="598" y="34"/>
                </a:cubicBezTo>
                <a:cubicBezTo>
                  <a:pt x="498" y="0"/>
                  <a:pt x="249" y="265"/>
                  <a:pt x="0" y="531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34513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538200" y="421308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816120" y="339552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 flipV="1">
            <a:off x="883800" y="2538000"/>
            <a:ext cx="179640" cy="8240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 flipH="1" flipV="1">
            <a:off x="565200" y="2520720"/>
            <a:ext cx="179280" cy="17017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 flipH="1" flipV="1">
            <a:off x="1218960" y="3728520"/>
            <a:ext cx="788760" cy="111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H="1">
            <a:off x="6364440" y="2527200"/>
            <a:ext cx="412560" cy="41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 flipH="1">
            <a:off x="6203520" y="3084480"/>
            <a:ext cx="5382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5504040" y="4822920"/>
            <a:ext cx="1272960" cy="788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5898960" y="5181480"/>
            <a:ext cx="84276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2A3B-B840-4326-B30F-FF4E1D766826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"/>
          <p:cNvSpPr/>
          <p:nvPr/>
        </p:nvSpPr>
        <p:spPr>
          <a:xfrm>
            <a:off x="189396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Modification Propag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3102120" y="1945800"/>
            <a:ext cx="585288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rite-through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Unix-like semantics and high reliabilit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Poor write performan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layed-write sche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ache displacemen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eriodic wri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on clos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Tahoma"/>
              </a:rPr>
              <a:t>Pro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rite accesses complete quickl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me writes may be omitted by the following write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athering all writes mitigates network overhead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5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laying of write propagation results in fuzzier file-sharing semantics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8" name=""/>
          <p:cNvSpPr/>
          <p:nvPr/>
        </p:nvSpPr>
        <p:spPr>
          <a:xfrm>
            <a:off x="128268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471680" y="374796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5728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1400" y="2732040"/>
            <a:ext cx="41256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2" name=""/>
          <p:cNvGrpSpPr/>
          <p:nvPr/>
        </p:nvGrpSpPr>
        <p:grpSpPr>
          <a:xfrm>
            <a:off x="2242800" y="2637000"/>
            <a:ext cx="579960" cy="805320"/>
            <a:chOff x="2242800" y="2637000"/>
            <a:chExt cx="579960" cy="805320"/>
          </a:xfrm>
        </p:grpSpPr>
        <p:grpSp>
          <p:nvGrpSpPr>
            <p:cNvPr id="853" name=""/>
            <p:cNvGrpSpPr/>
            <p:nvPr/>
          </p:nvGrpSpPr>
          <p:grpSpPr>
            <a:xfrm>
              <a:off x="2292480" y="2886120"/>
              <a:ext cx="452520" cy="556200"/>
              <a:chOff x="2292480" y="2886120"/>
              <a:chExt cx="452520" cy="556200"/>
            </a:xfrm>
          </p:grpSpPr>
          <p:sp>
            <p:nvSpPr>
              <p:cNvPr id="854" name=""/>
              <p:cNvSpPr/>
              <p:nvPr/>
            </p:nvSpPr>
            <p:spPr>
              <a:xfrm>
                <a:off x="2332440" y="2886120"/>
                <a:ext cx="412560" cy="377640"/>
              </a:xfrm>
              <a:prstGeom prst="flowChartDocument">
                <a:avLst/>
              </a:prstGeom>
              <a:solidFill>
                <a:srgbClr val="99ccff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py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92480" y="3105000"/>
                <a:ext cx="362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600" spc="-1" strike="noStrike">
                    <a:solidFill>
                      <a:srgbClr val="ff0000"/>
                    </a:solidFill>
                    <a:latin typeface="Tahoma"/>
                  </a:rPr>
                  <a:t>W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242800" y="2637000"/>
              <a:ext cx="579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ne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57" name=""/>
          <p:cNvSpPr/>
          <p:nvPr/>
        </p:nvSpPr>
        <p:spPr>
          <a:xfrm>
            <a:off x="53892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185508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9" name=""/>
          <p:cNvGrpSpPr/>
          <p:nvPr/>
        </p:nvGrpSpPr>
        <p:grpSpPr>
          <a:xfrm>
            <a:off x="-49320" y="2905200"/>
            <a:ext cx="1959120" cy="1332720"/>
            <a:chOff x="-49320" y="2905200"/>
            <a:chExt cx="1959120" cy="1332720"/>
          </a:xfrm>
        </p:grpSpPr>
        <p:sp>
          <p:nvSpPr>
            <p:cNvPr id="860" name=""/>
            <p:cNvSpPr/>
            <p:nvPr/>
          </p:nvSpPr>
          <p:spPr>
            <a:xfrm>
              <a:off x="857160" y="29052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1547640" y="39006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1111320" y="3137040"/>
              <a:ext cx="646200" cy="807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-49320" y="3300480"/>
              <a:ext cx="1756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Immediate wri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64" name=""/>
          <p:cNvSpPr/>
          <p:nvPr/>
        </p:nvSpPr>
        <p:spPr>
          <a:xfrm>
            <a:off x="1893960" y="4594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282680" y="541512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471680" y="6072120"/>
            <a:ext cx="41256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557280" y="45673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941400" y="5056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857160" y="522936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2080" y="521028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242800" y="496080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8920" y="4297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855080" y="432432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-40680" y="5624640"/>
            <a:ext cx="146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22160" y="538164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CD09-3103-4F4C-8DC2-DFB6250624C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Client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3746160" y="2322000"/>
            <a:ext cx="5405400" cy="24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before every access (Unix-like semantics but too slow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periodically (better performance but fuzzy file-sharing 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ing on file open (simple, suitable for session-semantic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 High network traffi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8" name=""/>
          <p:cNvSpPr/>
          <p:nvPr/>
        </p:nvSpPr>
        <p:spPr>
          <a:xfrm>
            <a:off x="2019240" y="2270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407960" y="3090960"/>
            <a:ext cx="75420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596960" y="3747960"/>
            <a:ext cx="412920" cy="37800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82560" y="224316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066680" y="2732040"/>
            <a:ext cx="412920" cy="3780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64560" y="1973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980360" y="200016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2457360" y="2886120"/>
            <a:ext cx="41292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2016000" y="4538520"/>
            <a:ext cx="80640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1405080" y="5359320"/>
            <a:ext cx="753840" cy="87948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593720" y="6016680"/>
            <a:ext cx="412920" cy="3776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679320" y="4511520"/>
            <a:ext cx="806760" cy="5922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63800" y="500076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2490840" y="5245200"/>
            <a:ext cx="412560" cy="3776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015920" y="5213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661320" y="4241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977480" y="4268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"/>
          <p:cNvGrpSpPr/>
          <p:nvPr/>
        </p:nvGrpSpPr>
        <p:grpSpPr>
          <a:xfrm>
            <a:off x="1019160" y="2944800"/>
            <a:ext cx="1794960" cy="1313640"/>
            <a:chOff x="1019160" y="2944800"/>
            <a:chExt cx="1794960" cy="1313640"/>
          </a:xfrm>
        </p:grpSpPr>
        <p:sp>
          <p:nvSpPr>
            <p:cNvPr id="896" name=""/>
            <p:cNvSpPr/>
            <p:nvPr/>
          </p:nvSpPr>
          <p:spPr>
            <a:xfrm>
              <a:off x="1019160" y="2944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1458720" y="392112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8" name=""/>
            <p:cNvGrpSpPr/>
            <p:nvPr/>
          </p:nvGrpSpPr>
          <p:grpSpPr>
            <a:xfrm>
              <a:off x="2552400" y="2967120"/>
              <a:ext cx="261720" cy="314280"/>
              <a:chOff x="2552400" y="2967120"/>
              <a:chExt cx="261720" cy="314280"/>
            </a:xfrm>
          </p:grpSpPr>
          <p:sp>
            <p:nvSpPr>
              <p:cNvPr id="899" name=""/>
              <p:cNvSpPr/>
              <p:nvPr/>
            </p:nvSpPr>
            <p:spPr>
              <a:xfrm>
                <a:off x="2580840" y="2976480"/>
                <a:ext cx="23328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H="1">
                <a:off x="2552400" y="2967120"/>
                <a:ext cx="232920" cy="30492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01" name=""/>
          <p:cNvSpPr/>
          <p:nvPr/>
        </p:nvSpPr>
        <p:spPr>
          <a:xfrm>
            <a:off x="1273320" y="3173400"/>
            <a:ext cx="1307880" cy="917640"/>
          </a:xfrm>
          <a:custGeom>
            <a:avLst/>
            <a:gdLst/>
            <a:ahLst/>
            <a:rect l="l" t="t" r="r" b="b"/>
            <a:pathLst>
              <a:path w="824" h="578">
                <a:moveTo>
                  <a:pt x="0" y="0"/>
                </a:moveTo>
                <a:cubicBezTo>
                  <a:pt x="61" y="276"/>
                  <a:pt x="123" y="552"/>
                  <a:pt x="260" y="565"/>
                </a:cubicBezTo>
                <a:cubicBezTo>
                  <a:pt x="397" y="578"/>
                  <a:pt x="610" y="328"/>
                  <a:pt x="824" y="79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290320" y="3427560"/>
            <a:ext cx="1436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 befo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very ac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173520" y="3311640"/>
            <a:ext cx="152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-35280" y="3662280"/>
            <a:ext cx="168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828360" y="536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6" name=""/>
          <p:cNvGrpSpPr/>
          <p:nvPr/>
        </p:nvGrpSpPr>
        <p:grpSpPr>
          <a:xfrm>
            <a:off x="676080" y="5500800"/>
            <a:ext cx="1141560" cy="1026360"/>
            <a:chOff x="676080" y="5500800"/>
            <a:chExt cx="1141560" cy="1026360"/>
          </a:xfrm>
        </p:grpSpPr>
        <p:sp>
          <p:nvSpPr>
            <p:cNvPr id="907" name=""/>
            <p:cNvSpPr/>
            <p:nvPr/>
          </p:nvSpPr>
          <p:spPr>
            <a:xfrm>
              <a:off x="1455480" y="618984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76080" y="5500800"/>
              <a:ext cx="362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ff0000"/>
                  </a:solidFill>
                  <a:latin typeface="Tahoma"/>
                </a:rPr>
                <a:t>W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9" name=""/>
          <p:cNvSpPr/>
          <p:nvPr/>
        </p:nvSpPr>
        <p:spPr>
          <a:xfrm>
            <a:off x="79560" y="5803920"/>
            <a:ext cx="155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-on-clo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2253600" y="5792760"/>
            <a:ext cx="1617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eck-on-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236600" y="5468760"/>
            <a:ext cx="1398600" cy="893880"/>
          </a:xfrm>
          <a:custGeom>
            <a:avLst/>
            <a:gdLst/>
            <a:ahLst/>
            <a:rect l="l" t="t" r="r" b="b"/>
            <a:pathLst>
              <a:path w="881" h="563">
                <a:moveTo>
                  <a:pt x="0" y="0"/>
                </a:moveTo>
                <a:cubicBezTo>
                  <a:pt x="28" y="260"/>
                  <a:pt x="57" y="521"/>
                  <a:pt x="204" y="542"/>
                </a:cubicBezTo>
                <a:cubicBezTo>
                  <a:pt x="351" y="563"/>
                  <a:pt x="616" y="343"/>
                  <a:pt x="881" y="124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2423880" y="5024520"/>
            <a:ext cx="5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2295000" y="5989680"/>
            <a:ext cx="178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Check-on-clos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505D-6A50-4D21-99D2-E94F79F05F8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le-Caching Scheme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Cache Validation Schemes – Server-Initiated Approach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19120" y="4247640"/>
            <a:ext cx="8005680" cy="217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eeping track of clients having a co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nying a new request, queuing it, and disabling cac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ing all clients of any update on the original fi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5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blem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olating client-server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eful serv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5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eck-on-open still needed for the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ile opening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6" name=""/>
          <p:cNvSpPr/>
          <p:nvPr/>
        </p:nvSpPr>
        <p:spPr>
          <a:xfrm>
            <a:off x="3235320" y="2063880"/>
            <a:ext cx="806400" cy="5299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3160800" y="3208320"/>
            <a:ext cx="753840" cy="78732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is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3349800" y="3865680"/>
            <a:ext cx="412560" cy="338040"/>
          </a:xfrm>
          <a:prstGeom prst="flowChartDocumen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2149560" y="20368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2533680" y="2525760"/>
            <a:ext cx="41256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621240" y="2554200"/>
            <a:ext cx="412560" cy="33840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2485800" y="273852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131200" y="1766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96440" y="179388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211200" y="403848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298600" y="2890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2145960" y="3025800"/>
            <a:ext cx="36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Tahoma"/>
              </a:rPr>
              <a:t>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4319640" y="207180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4705200" y="2581200"/>
            <a:ext cx="412920" cy="338040"/>
          </a:xfrm>
          <a:prstGeom prst="flowChartDocument">
            <a:avLst/>
          </a:prstGeom>
          <a:solidFill>
            <a:srgbClr val="99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op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4280760" y="180180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2814480" y="2959200"/>
            <a:ext cx="503280" cy="86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 flipV="1">
            <a:off x="3728880" y="2885760"/>
            <a:ext cx="90720" cy="819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 flipV="1">
            <a:off x="3800520" y="2993760"/>
            <a:ext cx="1041480" cy="787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868920" y="3211560"/>
            <a:ext cx="185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otify (invalidat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5" name=""/>
          <p:cNvGrpSpPr/>
          <p:nvPr/>
        </p:nvGrpSpPr>
        <p:grpSpPr>
          <a:xfrm>
            <a:off x="3700440" y="2610000"/>
            <a:ext cx="262080" cy="280440"/>
            <a:chOff x="3700440" y="2610000"/>
            <a:chExt cx="262080" cy="280440"/>
          </a:xfrm>
        </p:grpSpPr>
        <p:sp>
          <p:nvSpPr>
            <p:cNvPr id="936" name=""/>
            <p:cNvSpPr/>
            <p:nvPr/>
          </p:nvSpPr>
          <p:spPr>
            <a:xfrm>
              <a:off x="3728880" y="261828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 flipH="1">
              <a:off x="3700440" y="261000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"/>
          <p:cNvGrpSpPr/>
          <p:nvPr/>
        </p:nvGrpSpPr>
        <p:grpSpPr>
          <a:xfrm>
            <a:off x="4802040" y="2652840"/>
            <a:ext cx="262080" cy="280440"/>
            <a:chOff x="4802040" y="2652840"/>
            <a:chExt cx="262080" cy="280440"/>
          </a:xfrm>
        </p:grpSpPr>
        <p:sp>
          <p:nvSpPr>
            <p:cNvPr id="939" name=""/>
            <p:cNvSpPr/>
            <p:nvPr/>
          </p:nvSpPr>
          <p:spPr>
            <a:xfrm>
              <a:off x="4830480" y="2661120"/>
              <a:ext cx="23364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 flipH="1">
              <a:off x="4802040" y="2652840"/>
              <a:ext cx="233280" cy="2721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1" name=""/>
          <p:cNvSpPr/>
          <p:nvPr/>
        </p:nvSpPr>
        <p:spPr>
          <a:xfrm>
            <a:off x="5403960" y="2062080"/>
            <a:ext cx="806400" cy="53028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65080" y="1792440"/>
            <a:ext cx="893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890880" y="2689200"/>
            <a:ext cx="2232000" cy="1157400"/>
          </a:xfrm>
          <a:custGeom>
            <a:avLst/>
            <a:gdLst/>
            <a:ahLst/>
            <a:rect l="l" t="t" r="r" b="b"/>
            <a:pathLst>
              <a:path w="1406" h="813">
                <a:moveTo>
                  <a:pt x="0" y="813"/>
                </a:moveTo>
                <a:cubicBezTo>
                  <a:pt x="472" y="796"/>
                  <a:pt x="944" y="779"/>
                  <a:pt x="1175" y="644"/>
                </a:cubicBezTo>
                <a:cubicBezTo>
                  <a:pt x="1406" y="509"/>
                  <a:pt x="1353" y="107"/>
                  <a:pt x="1389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5526360" y="28717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ny for a new op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1638360" y="3220920"/>
            <a:ext cx="157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rite throug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elayed write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524E-8476-4390-A3F5-5ED10959FE88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ase Study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n’s Network File 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: standard for distributed UNIX file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igned to run on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are both servers &amp; cl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ers have no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0240" indent="-3002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mount protocol to make global name lo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export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local names server willing to ex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1960" indent="-250920">
              <a:lnSpc>
                <a:spcPct val="10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: lists global names that local nodes im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02600" indent="-19944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rresponding global name must be in /etc/exports on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081E-795F-4DE7-AAC8-EFD67485844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185840" y="2041560"/>
            <a:ext cx="7770960" cy="449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FS defines set of RPC operations for remote file acces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ory search, reading directory ent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ipulating links &amp; directo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ing file attrib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Tahoma"/>
              <a:buAutoNum type="arabicPeriod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ding/writing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rely on node homogene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12960" indent="-4953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terogeneous nodes support NFS mount &amp; remote access protocols using RP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52600" indent="-5526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may need to know different names depending upon which node they log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FBCEA-FDB0-485D-8A5D-CB8EDFA8330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51" name="" descr=""/>
          <p:cNvPicPr/>
          <p:nvPr/>
        </p:nvPicPr>
        <p:blipFill>
          <a:blip r:embed="rId1"/>
          <a:stretch/>
        </p:blipFill>
        <p:spPr>
          <a:xfrm>
            <a:off x="846000" y="2122560"/>
            <a:ext cx="8150400" cy="3489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4FCA-4418-47DA-BD0A-C9C75ADF1F33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"/>
          <p:cNvSpPr/>
          <p:nvPr/>
        </p:nvSpPr>
        <p:spPr>
          <a:xfrm>
            <a:off x="1779480" y="33480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F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4" name=""/>
          <p:cNvSpPr/>
          <p:nvPr/>
        </p:nvSpPr>
        <p:spPr>
          <a:xfrm>
            <a:off x="711360" y="614664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901800" y="2425680"/>
            <a:ext cx="181584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1638360" y="255276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1917720" y="29718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320840" y="29973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273400" y="36068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05408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46052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854360" y="35812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2311560" y="41403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1943280" y="41148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>
            <a:off x="1486080" y="275580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1828800" y="276876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 flipH="1">
            <a:off x="1193400" y="3213000"/>
            <a:ext cx="15228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2031840" y="31878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 flipH="1">
            <a:off x="1638360" y="318780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1994040" y="318780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2349360" y="38228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>
            <a:off x="2107800" y="38354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1193760" y="46227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990720" y="5003640"/>
            <a:ext cx="583920" cy="25416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778040" y="4991040"/>
            <a:ext cx="69840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1155600" y="54482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1752480" y="54990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 flipH="1">
            <a:off x="1257120" y="4813200"/>
            <a:ext cx="368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295280" y="52578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1841400" y="48261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2108160" y="52322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380360" y="33606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502320" y="2438280"/>
            <a:ext cx="1816200" cy="3505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238880" y="25653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518240" y="298440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21360" y="3009960"/>
            <a:ext cx="19080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7873920" y="36194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665496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7061040" y="3581280"/>
            <a:ext cx="24156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7454880" y="359424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912080" y="415296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754380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 flipH="1">
            <a:off x="7086600" y="2768760"/>
            <a:ext cx="13968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429680" y="2781360"/>
            <a:ext cx="885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 flipH="1">
            <a:off x="6794280" y="322596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7632720" y="320040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 flipH="1">
            <a:off x="7238520" y="320040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7594560" y="320040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7950240" y="383544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 flipH="1">
            <a:off x="7708680" y="384804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794640" y="4635360"/>
            <a:ext cx="1066680" cy="2034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591240" y="5016600"/>
            <a:ext cx="584280" cy="2538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378560" y="5003640"/>
            <a:ext cx="6987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756480" y="54608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7353360" y="5511960"/>
            <a:ext cx="73656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 flipH="1">
            <a:off x="6857640" y="4826160"/>
            <a:ext cx="36828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896160" y="52704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7442280" y="4838760"/>
            <a:ext cx="26676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7709040" y="52452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4611600" y="3335400"/>
            <a:ext cx="898560" cy="1274760"/>
          </a:xfrm>
          <a:custGeom>
            <a:avLst/>
            <a:gdLst/>
            <a:ahLst/>
            <a:rect l="l" t="t" r="r" b="b"/>
            <a:pathLst>
              <a:path w="566" h="803">
                <a:moveTo>
                  <a:pt x="447" y="91"/>
                </a:moveTo>
                <a:cubicBezTo>
                  <a:pt x="408" y="0"/>
                  <a:pt x="331" y="66"/>
                  <a:pt x="263" y="163"/>
                </a:cubicBezTo>
                <a:cubicBezTo>
                  <a:pt x="195" y="260"/>
                  <a:pt x="0" y="584"/>
                  <a:pt x="39" y="675"/>
                </a:cubicBezTo>
                <a:cubicBezTo>
                  <a:pt x="78" y="766"/>
                  <a:pt x="424" y="803"/>
                  <a:pt x="495" y="707"/>
                </a:cubicBezTo>
                <a:cubicBezTo>
                  <a:pt x="566" y="611"/>
                  <a:pt x="486" y="182"/>
                  <a:pt x="447" y="91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3733920" y="2413080"/>
            <a:ext cx="1815840" cy="3504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4470480" y="254016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4749840" y="2959200"/>
            <a:ext cx="190440" cy="21564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152960" y="2984400"/>
            <a:ext cx="190440" cy="216000"/>
          </a:xfrm>
          <a:prstGeom prst="rect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5105520" y="359424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3886200" y="35434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4292640" y="3556080"/>
            <a:ext cx="241200" cy="25380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686480" y="3568680"/>
            <a:ext cx="241200" cy="25416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5143680" y="412740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4775040" y="4102200"/>
            <a:ext cx="24156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>
            <a:off x="4317480" y="2743200"/>
            <a:ext cx="140040" cy="203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4660920" y="275580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 flipH="1">
            <a:off x="4025520" y="320040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4863960" y="31748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 flipH="1">
            <a:off x="4470480" y="3174840"/>
            <a:ext cx="3427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4826160" y="31748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5181480" y="3809880"/>
            <a:ext cx="7632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 flipH="1">
            <a:off x="4939920" y="382284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4025880" y="4610160"/>
            <a:ext cx="1066680" cy="2030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3822840" y="4991040"/>
            <a:ext cx="583920" cy="254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cal F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4610160" y="4978440"/>
            <a:ext cx="698400" cy="2538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3987720" y="543564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4584600" y="5486400"/>
            <a:ext cx="736560" cy="2541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 st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 flipH="1">
            <a:off x="4089240" y="4800600"/>
            <a:ext cx="368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4127400" y="524520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4673520" y="4813200"/>
            <a:ext cx="26676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940280" y="5219640"/>
            <a:ext cx="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2082960" y="5740560"/>
            <a:ext cx="2806560" cy="291960"/>
          </a:xfrm>
          <a:custGeom>
            <a:avLst/>
            <a:gdLst/>
            <a:ahLst/>
            <a:rect l="l" t="t" r="r" b="b"/>
            <a:pathLst>
              <a:path w="1768" h="184">
                <a:moveTo>
                  <a:pt x="0" y="0"/>
                </a:moveTo>
                <a:lnTo>
                  <a:pt x="0" y="184"/>
                </a:lnTo>
                <a:lnTo>
                  <a:pt x="1768" y="184"/>
                </a:lnTo>
                <a:lnTo>
                  <a:pt x="1768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177804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4648320" y="593100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7442280" y="593100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016600" y="5740560"/>
            <a:ext cx="2705040" cy="317520"/>
          </a:xfrm>
          <a:custGeom>
            <a:avLst/>
            <a:gdLst/>
            <a:ahLst/>
            <a:rect l="l" t="t" r="r" b="b"/>
            <a:pathLst>
              <a:path w="1704" h="200">
                <a:moveTo>
                  <a:pt x="1704" y="16"/>
                </a:moveTo>
                <a:lnTo>
                  <a:pt x="1704" y="200"/>
                </a:lnTo>
                <a:lnTo>
                  <a:pt x="0" y="20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473800" y="4102200"/>
            <a:ext cx="194292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H="1">
            <a:off x="2755800" y="4076640"/>
            <a:ext cx="1943280" cy="0"/>
          </a:xfrm>
          <a:prstGeom prst="line">
            <a:avLst/>
          </a:prstGeom>
          <a:ln w="28440">
            <a:solidFill>
              <a:srgbClr val="9999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4030920" y="20876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1375920" y="2100240"/>
            <a:ext cx="907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859800" y="2087640"/>
            <a:ext cx="909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 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2994480" y="37893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750640" y="3801960"/>
            <a:ext cx="80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1206360" y="394956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1574640" y="4406760"/>
            <a:ext cx="1400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6591240" y="408924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7124760" y="4444920"/>
            <a:ext cx="1396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B857-05ED-43C7-A7BC-2E27521AFD8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Installa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5" name=""/>
          <p:cNvSpPr/>
          <p:nvPr/>
        </p:nvSpPr>
        <p:spPr>
          <a:xfrm>
            <a:off x="598320" y="1700280"/>
            <a:ext cx="8572680" cy="38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if NFS is running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info –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rt NSF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etc/rc.d/init.d/nfs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dit /etc/exports file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dir/to/export client1(permissions), client2(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 dirs in /etc/export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portfs –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eck exported directories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owmount –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mport a server’s directory: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unt –o options server_name:/dir /my_d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g: continue working on importing upon a failure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tr: a process will be interupted if its I/O request to the server dir is pend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ft: allowing a client to time out the connection after a number of ret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051560" indent="-2102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w/ro: normal r/w or read on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derlying Connec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664240" y="5257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7057080" y="507204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H="1">
            <a:off x="5702040" y="5346720"/>
            <a:ext cx="1384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448600" y="5289480"/>
            <a:ext cx="186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FS mount service 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664240" y="567684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7126560" y="5567400"/>
            <a:ext cx="939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unt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H="1">
            <a:off x="5664240" y="576576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955840" y="56959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er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626080" y="603252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7069680" y="5923080"/>
            <a:ext cx="133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ortmapp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H="1">
            <a:off x="5651280" y="6121440"/>
            <a:ext cx="140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6174720" y="6076800"/>
            <a:ext cx="528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04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842360" y="511020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5613480" y="6400800"/>
            <a:ext cx="146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638680" y="64897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74440" y="6278400"/>
            <a:ext cx="47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f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6185880" y="6318360"/>
            <a:ext cx="41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FAA7-1E1B-4370-9A3A-523CF97A2EBC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826920" y="2017440"/>
            <a:ext cx="7772400" cy="394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munic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: a compound procedur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ookup, Open, and Read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rver statu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less: simple implementation in ver 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tatefull: allowing clients to cache files in ver 4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call back from a server to invalidate a client’s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ynchroniz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in ver 4: lock, lockt, locku, and renew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x. Emacs: Tests with lockt when modifying buffer, locks a file with lockt, and unlock with locku after writing buffer contents to the fil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hare reservation: specify how to share a file (with ro, wo, or r/w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3B9-A168-408B-8A9F-EACCBFA7690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tributed File Systems: Issu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aming &amp; transparen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ote fil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rver with state or withou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52418-C26C-4D49-A09C-6C0AA6C1961B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Overviews (Cont’d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82692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ch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 client’s memory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ssion semantic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validation of client’s cache upon re-opening the same fil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n delegation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delegates a open decision to a writing client which can handle an open request from other clients on the same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 server calls back the client when receiving an open request from another machine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PC failure: use a duplicate-request cach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 locking failure: provide a grace period during which a client reclaim locks previously granted and the server builds up its previous stat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0988C-BF79-44DC-95B2-69B60834316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Sun NFS</a:t>
            </a:r>
            <a:br>
              <a:rPr sz="4400"/>
            </a:br>
            <a:r>
              <a:rPr b="0" lang="ja-JP" sz="2400" spc="-1" strike="noStrike">
                <a:solidFill>
                  <a:srgbClr val="333399"/>
                </a:solidFill>
                <a:latin typeface="Tahoma"/>
              </a:rPr>
              <a:t>Duplicate Request Cach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8" name=""/>
          <p:cNvSpPr/>
          <p:nvPr/>
        </p:nvSpPr>
        <p:spPr>
          <a:xfrm>
            <a:off x="32112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56312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62244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198108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2244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69408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22440" y="321300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H="1">
            <a:off x="62244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102600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219708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199404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2082960" y="4152960"/>
            <a:ext cx="26640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719280" y="31813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890720" y="342252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212760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3242160" y="21765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483800" y="21510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3543480" y="24764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902120" y="24512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3543480" y="280656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3614760" y="27241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3568680" y="4317840"/>
            <a:ext cx="135900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 flipH="1">
            <a:off x="3543480" y="444492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3947040" y="4400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118120" y="44197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915080" y="31114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5003640" y="41529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3652920" y="412128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296600" y="4819680"/>
            <a:ext cx="1535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Just replied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5048280" y="379080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099840" y="2189160"/>
            <a:ext cx="6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7341480" y="216360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6400800" y="2489040"/>
            <a:ext cx="0" cy="322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7759800" y="2463840"/>
            <a:ext cx="0" cy="3225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6400800" y="2819520"/>
            <a:ext cx="1359000" cy="29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6472440" y="273672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6426360" y="4952880"/>
            <a:ext cx="1358640" cy="29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 flipH="1">
            <a:off x="6997320" y="4457880"/>
            <a:ext cx="762120" cy="164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7058520" y="433692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7975440" y="4432320"/>
            <a:ext cx="317520" cy="3175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7772400" y="3124080"/>
            <a:ext cx="203040" cy="1359000"/>
          </a:xfrm>
          <a:custGeom>
            <a:avLst/>
            <a:gdLst/>
            <a:ahLst/>
            <a:rect l="l" t="t" r="r" b="b"/>
            <a:pathLst>
              <a:path w="128" h="856">
                <a:moveTo>
                  <a:pt x="0" y="0"/>
                </a:moveTo>
                <a:cubicBezTo>
                  <a:pt x="64" y="80"/>
                  <a:pt x="128" y="161"/>
                  <a:pt x="128" y="304"/>
                </a:cubicBezTo>
                <a:cubicBezTo>
                  <a:pt x="128" y="447"/>
                  <a:pt x="64" y="651"/>
                  <a:pt x="0" y="856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7861320" y="4165560"/>
            <a:ext cx="266760" cy="27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6612120" y="4896000"/>
            <a:ext cx="94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ID = 12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7669440" y="3435480"/>
            <a:ext cx="139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oo soon, ign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7905960" y="3803760"/>
            <a:ext cx="1022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rans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le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 flipH="1">
            <a:off x="6388200" y="5435640"/>
            <a:ext cx="13586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6855480" y="5327640"/>
            <a:ext cx="54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p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6858000" y="4546440"/>
            <a:ext cx="279360" cy="19080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2960" bIns="12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7759800" y="4635360"/>
            <a:ext cx="419040" cy="800280"/>
          </a:xfrm>
          <a:custGeom>
            <a:avLst/>
            <a:gdLst/>
            <a:ahLst/>
            <a:rect l="l" t="t" r="r" b="b"/>
            <a:pathLst>
              <a:path w="264" h="504">
                <a:moveTo>
                  <a:pt x="264" y="0"/>
                </a:moveTo>
                <a:cubicBezTo>
                  <a:pt x="258" y="90"/>
                  <a:pt x="252" y="180"/>
                  <a:pt x="208" y="264"/>
                </a:cubicBezTo>
                <a:cubicBezTo>
                  <a:pt x="164" y="348"/>
                  <a:pt x="82" y="426"/>
                  <a:pt x="0" y="504"/>
                </a:cubicBezTo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2525760" y="5973840"/>
            <a:ext cx="528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en, when does the server delete this cached result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7C95-C0D1-46D4-B90C-ED1BF9FABBC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" descr=""/>
          <p:cNvPicPr/>
          <p:nvPr/>
        </p:nvPicPr>
        <p:blipFill>
          <a:blip r:embed="rId1"/>
          <a:stretch/>
        </p:blipFill>
        <p:spPr>
          <a:xfrm>
            <a:off x="1359000" y="1855800"/>
            <a:ext cx="6778440" cy="4846680"/>
          </a:xfrm>
          <a:prstGeom prst="rect">
            <a:avLst/>
          </a:prstGeom>
          <a:ln w="0">
            <a:noFill/>
          </a:ln>
        </p:spPr>
      </p:pic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D110F-6239-4860-8E4B-4C5F506343FE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"/>
          <p:cNvSpPr/>
          <p:nvPr/>
        </p:nvSpPr>
        <p:spPr>
          <a:xfrm>
            <a:off x="1309680" y="29098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File Name Space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2" name=""/>
          <p:cNvSpPr/>
          <p:nvPr/>
        </p:nvSpPr>
        <p:spPr>
          <a:xfrm>
            <a:off x="711360" y="6451560"/>
            <a:ext cx="77086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901800" y="2184480"/>
            <a:ext cx="1815840" cy="40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1638360" y="22734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1917720" y="26924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1320840" y="27176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2273400" y="3327480"/>
            <a:ext cx="19044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1054080" y="3276720"/>
            <a:ext cx="241200" cy="253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1460520" y="32893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1854360" y="330192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2311560" y="3860640"/>
            <a:ext cx="241200" cy="254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1943280" y="3835440"/>
            <a:ext cx="241200" cy="253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 flipH="1">
            <a:off x="1486080" y="24764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1828800" y="2489040"/>
            <a:ext cx="8892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 flipH="1">
            <a:off x="1193400" y="2933640"/>
            <a:ext cx="15228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2031840" y="2908440"/>
            <a:ext cx="25416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 flipH="1">
            <a:off x="1638360" y="2908440"/>
            <a:ext cx="34272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1994040" y="2908440"/>
            <a:ext cx="0" cy="393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2349360" y="3543480"/>
            <a:ext cx="76320" cy="317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 flipH="1">
            <a:off x="2107800" y="3556080"/>
            <a:ext cx="22860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1092240" y="5791320"/>
            <a:ext cx="368280" cy="39348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1231920" y="5600880"/>
            <a:ext cx="0" cy="17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1079640" y="52196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1778040" y="623556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5981760" y="6235560"/>
            <a:ext cx="0" cy="241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1374480" y="1871640"/>
            <a:ext cx="72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3342240" y="348624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1866960" y="4470480"/>
            <a:ext cx="81288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en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2298600" y="5257800"/>
            <a:ext cx="368280" cy="393840"/>
          </a:xfrm>
          <a:prstGeom prst="flowChartMagneticDisk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ac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015920" y="4572000"/>
            <a:ext cx="533520" cy="45720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1346040" y="5016600"/>
            <a:ext cx="1526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"/>
          <p:cNvSpPr/>
          <p:nvPr/>
        </p:nvSpPr>
        <p:spPr>
          <a:xfrm flipV="1">
            <a:off x="1841400" y="5079960"/>
            <a:ext cx="190440" cy="139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5614920" y="2922480"/>
            <a:ext cx="1444680" cy="1428840"/>
          </a:xfrm>
          <a:custGeom>
            <a:avLst/>
            <a:gdLst/>
            <a:ahLst/>
            <a:rect l="l" t="t" r="r" b="b"/>
            <a:pathLst>
              <a:path w="910" h="900">
                <a:moveTo>
                  <a:pt x="631" y="63"/>
                </a:moveTo>
                <a:cubicBezTo>
                  <a:pt x="530" y="36"/>
                  <a:pt x="268" y="0"/>
                  <a:pt x="167" y="63"/>
                </a:cubicBezTo>
                <a:cubicBezTo>
                  <a:pt x="66" y="126"/>
                  <a:pt x="0" y="327"/>
                  <a:pt x="23" y="439"/>
                </a:cubicBezTo>
                <a:cubicBezTo>
                  <a:pt x="46" y="551"/>
                  <a:pt x="168" y="672"/>
                  <a:pt x="303" y="735"/>
                </a:cubicBezTo>
                <a:cubicBezTo>
                  <a:pt x="438" y="798"/>
                  <a:pt x="752" y="900"/>
                  <a:pt x="831" y="815"/>
                </a:cubicBezTo>
                <a:cubicBezTo>
                  <a:pt x="910" y="730"/>
                  <a:pt x="804" y="344"/>
                  <a:pt x="775" y="223"/>
                </a:cubicBezTo>
                <a:cubicBezTo>
                  <a:pt x="746" y="102"/>
                  <a:pt x="732" y="90"/>
                  <a:pt x="631" y="63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>
            <a:off x="5207040" y="2197080"/>
            <a:ext cx="1816200" cy="405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5943600" y="228600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6222960" y="2705040"/>
            <a:ext cx="190440" cy="21600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s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5626080" y="2730600"/>
            <a:ext cx="190440" cy="215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6578640" y="33400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"/>
          <p:cNvSpPr/>
          <p:nvPr/>
        </p:nvSpPr>
        <p:spPr>
          <a:xfrm>
            <a:off x="5359320" y="3289320"/>
            <a:ext cx="241560" cy="2541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"/>
          <p:cNvSpPr/>
          <p:nvPr/>
        </p:nvSpPr>
        <p:spPr>
          <a:xfrm>
            <a:off x="5765760" y="330192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"/>
          <p:cNvSpPr/>
          <p:nvPr/>
        </p:nvSpPr>
        <p:spPr>
          <a:xfrm>
            <a:off x="6159600" y="331488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"/>
          <p:cNvSpPr/>
          <p:nvPr/>
        </p:nvSpPr>
        <p:spPr>
          <a:xfrm>
            <a:off x="6616800" y="3873600"/>
            <a:ext cx="241200" cy="2538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248520" y="3848040"/>
            <a:ext cx="241200" cy="25416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 flipH="1">
            <a:off x="5791320" y="2489040"/>
            <a:ext cx="139680" cy="203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6134040" y="2502000"/>
            <a:ext cx="8892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"/>
          <p:cNvSpPr/>
          <p:nvPr/>
        </p:nvSpPr>
        <p:spPr>
          <a:xfrm flipH="1">
            <a:off x="5499000" y="2946240"/>
            <a:ext cx="15264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"/>
          <p:cNvSpPr/>
          <p:nvPr/>
        </p:nvSpPr>
        <p:spPr>
          <a:xfrm>
            <a:off x="6337440" y="2921040"/>
            <a:ext cx="25380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"/>
          <p:cNvSpPr/>
          <p:nvPr/>
        </p:nvSpPr>
        <p:spPr>
          <a:xfrm flipH="1">
            <a:off x="5943240" y="2921040"/>
            <a:ext cx="34308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"/>
          <p:cNvSpPr/>
          <p:nvPr/>
        </p:nvSpPr>
        <p:spPr>
          <a:xfrm>
            <a:off x="6299280" y="29210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"/>
          <p:cNvSpPr/>
          <p:nvPr/>
        </p:nvSpPr>
        <p:spPr>
          <a:xfrm>
            <a:off x="6654960" y="3556080"/>
            <a:ext cx="75960" cy="31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"/>
          <p:cNvSpPr/>
          <p:nvPr/>
        </p:nvSpPr>
        <p:spPr>
          <a:xfrm flipH="1">
            <a:off x="6413040" y="3568680"/>
            <a:ext cx="228600" cy="254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"/>
          <p:cNvSpPr/>
          <p:nvPr/>
        </p:nvSpPr>
        <p:spPr>
          <a:xfrm>
            <a:off x="6502320" y="5803920"/>
            <a:ext cx="368280" cy="393840"/>
          </a:xfrm>
          <a:prstGeom prst="flowChartMagneticDisk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"/>
          <p:cNvSpPr/>
          <p:nvPr/>
        </p:nvSpPr>
        <p:spPr>
          <a:xfrm>
            <a:off x="6642000" y="5613480"/>
            <a:ext cx="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"/>
          <p:cNvSpPr/>
          <p:nvPr/>
        </p:nvSpPr>
        <p:spPr>
          <a:xfrm>
            <a:off x="5842080" y="5232240"/>
            <a:ext cx="1066680" cy="3812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x 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Unix F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5681880" y="1884240"/>
            <a:ext cx="79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856840" y="4133880"/>
            <a:ext cx="119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ymbolic lin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283360" y="4432320"/>
            <a:ext cx="812520" cy="6094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"/>
          <p:cNvSpPr/>
          <p:nvPr/>
        </p:nvSpPr>
        <p:spPr>
          <a:xfrm>
            <a:off x="6083280" y="5054760"/>
            <a:ext cx="1522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"/>
          <p:cNvSpPr/>
          <p:nvPr/>
        </p:nvSpPr>
        <p:spPr>
          <a:xfrm>
            <a:off x="2666880" y="4762440"/>
            <a:ext cx="2616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"/>
          <p:cNvSpPr/>
          <p:nvPr/>
        </p:nvSpPr>
        <p:spPr>
          <a:xfrm>
            <a:off x="2459160" y="4859280"/>
            <a:ext cx="4170240" cy="1058760"/>
          </a:xfrm>
          <a:custGeom>
            <a:avLst/>
            <a:gdLst/>
            <a:ahLst/>
            <a:rect l="l" t="t" r="r" b="b"/>
            <a:pathLst>
              <a:path w="2627" h="667">
                <a:moveTo>
                  <a:pt x="2627" y="667"/>
                </a:moveTo>
                <a:cubicBezTo>
                  <a:pt x="2547" y="593"/>
                  <a:pt x="2468" y="519"/>
                  <a:pt x="2363" y="419"/>
                </a:cubicBezTo>
                <a:cubicBezTo>
                  <a:pt x="2258" y="319"/>
                  <a:pt x="2311" y="134"/>
                  <a:pt x="1995" y="67"/>
                </a:cubicBezTo>
                <a:cubicBezTo>
                  <a:pt x="1679" y="0"/>
                  <a:pt x="787" y="7"/>
                  <a:pt x="467" y="19"/>
                </a:cubicBezTo>
                <a:cubicBezTo>
                  <a:pt x="147" y="31"/>
                  <a:pt x="150" y="94"/>
                  <a:pt x="75" y="139"/>
                </a:cubicBezTo>
                <a:cubicBezTo>
                  <a:pt x="0" y="184"/>
                  <a:pt x="9" y="237"/>
                  <a:pt x="19" y="291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"/>
          <p:cNvSpPr/>
          <p:nvPr/>
        </p:nvSpPr>
        <p:spPr>
          <a:xfrm>
            <a:off x="1397160" y="4952880"/>
            <a:ext cx="977760" cy="443160"/>
          </a:xfrm>
          <a:custGeom>
            <a:avLst/>
            <a:gdLst/>
            <a:ahLst/>
            <a:rect l="l" t="t" r="r" b="b"/>
            <a:pathLst>
              <a:path w="616" h="279">
                <a:moveTo>
                  <a:pt x="616" y="224"/>
                </a:moveTo>
                <a:cubicBezTo>
                  <a:pt x="590" y="128"/>
                  <a:pt x="565" y="32"/>
                  <a:pt x="528" y="40"/>
                </a:cubicBezTo>
                <a:cubicBezTo>
                  <a:pt x="491" y="48"/>
                  <a:pt x="480" y="279"/>
                  <a:pt x="392" y="272"/>
                </a:cubicBezTo>
                <a:cubicBezTo>
                  <a:pt x="304" y="265"/>
                  <a:pt x="152" y="132"/>
                  <a:pt x="0" y="0"/>
                </a:cubicBezTo>
              </a:path>
            </a:pathLst>
          </a:custGeom>
          <a:noFill/>
          <a:ln w="93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"/>
          <p:cNvSpPr/>
          <p:nvPr/>
        </p:nvSpPr>
        <p:spPr>
          <a:xfrm>
            <a:off x="2438280" y="3543480"/>
            <a:ext cx="4140360" cy="242640"/>
          </a:xfrm>
          <a:custGeom>
            <a:avLst/>
            <a:gdLst/>
            <a:ahLst/>
            <a:rect l="l" t="t" r="r" b="b"/>
            <a:pathLst>
              <a:path w="2608" h="153">
                <a:moveTo>
                  <a:pt x="0" y="0"/>
                </a:moveTo>
                <a:cubicBezTo>
                  <a:pt x="414" y="75"/>
                  <a:pt x="829" y="151"/>
                  <a:pt x="1264" y="152"/>
                </a:cubicBezTo>
                <a:cubicBezTo>
                  <a:pt x="1699" y="153"/>
                  <a:pt x="2153" y="80"/>
                  <a:pt x="2608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"/>
          <p:cNvSpPr/>
          <p:nvPr/>
        </p:nvSpPr>
        <p:spPr>
          <a:xfrm>
            <a:off x="2502000" y="4076640"/>
            <a:ext cx="4114800" cy="344520"/>
          </a:xfrm>
          <a:custGeom>
            <a:avLst/>
            <a:gdLst/>
            <a:ahLst/>
            <a:rect l="l" t="t" r="r" b="b"/>
            <a:pathLst>
              <a:path w="2592" h="217">
                <a:moveTo>
                  <a:pt x="0" y="0"/>
                </a:moveTo>
                <a:cubicBezTo>
                  <a:pt x="372" y="107"/>
                  <a:pt x="744" y="215"/>
                  <a:pt x="1176" y="216"/>
                </a:cubicBezTo>
                <a:cubicBezTo>
                  <a:pt x="1608" y="217"/>
                  <a:pt x="2100" y="112"/>
                  <a:pt x="2592" y="8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"/>
          <p:cNvSpPr/>
          <p:nvPr/>
        </p:nvSpPr>
        <p:spPr>
          <a:xfrm>
            <a:off x="2133720" y="3962520"/>
            <a:ext cx="4114800" cy="261720"/>
          </a:xfrm>
          <a:custGeom>
            <a:avLst/>
            <a:gdLst/>
            <a:ahLst/>
            <a:rect l="l" t="t" r="r" b="b"/>
            <a:pathLst>
              <a:path w="2592" h="165">
                <a:moveTo>
                  <a:pt x="0" y="0"/>
                </a:moveTo>
                <a:cubicBezTo>
                  <a:pt x="372" y="61"/>
                  <a:pt x="744" y="123"/>
                  <a:pt x="1096" y="144"/>
                </a:cubicBezTo>
                <a:cubicBezTo>
                  <a:pt x="1448" y="165"/>
                  <a:pt x="1863" y="147"/>
                  <a:pt x="2112" y="128"/>
                </a:cubicBezTo>
                <a:cubicBezTo>
                  <a:pt x="2361" y="109"/>
                  <a:pt x="2476" y="70"/>
                  <a:pt x="2592" y="3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"/>
          <p:cNvSpPr/>
          <p:nvPr/>
        </p:nvSpPr>
        <p:spPr>
          <a:xfrm>
            <a:off x="2019240" y="3492360"/>
            <a:ext cx="4203720" cy="506520"/>
          </a:xfrm>
          <a:custGeom>
            <a:avLst/>
            <a:gdLst/>
            <a:ahLst/>
            <a:rect l="l" t="t" r="r" b="b"/>
            <a:pathLst>
              <a:path w="2648" h="319">
                <a:moveTo>
                  <a:pt x="0" y="0"/>
                </a:moveTo>
                <a:cubicBezTo>
                  <a:pt x="419" y="152"/>
                  <a:pt x="839" y="305"/>
                  <a:pt x="1280" y="312"/>
                </a:cubicBezTo>
                <a:cubicBezTo>
                  <a:pt x="1721" y="319"/>
                  <a:pt x="2184" y="179"/>
                  <a:pt x="2648" y="4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"/>
          <p:cNvSpPr/>
          <p:nvPr/>
        </p:nvSpPr>
        <p:spPr>
          <a:xfrm>
            <a:off x="1612800" y="3505320"/>
            <a:ext cx="4191120" cy="436320"/>
          </a:xfrm>
          <a:custGeom>
            <a:avLst/>
            <a:gdLst/>
            <a:ahLst/>
            <a:rect l="l" t="t" r="r" b="b"/>
            <a:pathLst>
              <a:path w="2640" h="275">
                <a:moveTo>
                  <a:pt x="0" y="16"/>
                </a:moveTo>
                <a:cubicBezTo>
                  <a:pt x="188" y="145"/>
                  <a:pt x="376" y="275"/>
                  <a:pt x="816" y="272"/>
                </a:cubicBezTo>
                <a:cubicBezTo>
                  <a:pt x="1256" y="269"/>
                  <a:pt x="1948" y="134"/>
                  <a:pt x="264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"/>
          <p:cNvSpPr/>
          <p:nvPr/>
        </p:nvSpPr>
        <p:spPr>
          <a:xfrm>
            <a:off x="1816200" y="2362320"/>
            <a:ext cx="4381560" cy="355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"/>
          <p:cNvSpPr/>
          <p:nvPr/>
        </p:nvSpPr>
        <p:spPr>
          <a:xfrm>
            <a:off x="604440" y="2874960"/>
            <a:ext cx="672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"/>
          <p:cNvSpPr/>
          <p:nvPr/>
        </p:nvSpPr>
        <p:spPr>
          <a:xfrm>
            <a:off x="2285280" y="2849400"/>
            <a:ext cx="85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a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0BF4-9954-4B43-A175-A87209E3CF5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System Call Interception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01" name="" descr=""/>
          <p:cNvPicPr/>
          <p:nvPr/>
        </p:nvPicPr>
        <p:blipFill>
          <a:blip r:embed="rId1"/>
          <a:stretch/>
        </p:blipFill>
        <p:spPr>
          <a:xfrm>
            <a:off x="1041480" y="1847880"/>
            <a:ext cx="7242120" cy="4597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AAEA3-9B0E-4E6F-8049-4F31FCD3CF36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"/>
          <p:cNvSpPr/>
          <p:nvPr/>
        </p:nvSpPr>
        <p:spPr>
          <a:xfrm>
            <a:off x="1612800" y="1625760"/>
            <a:ext cx="647712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1099800" y="-36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AFS</a:t>
            </a:r>
            <a:br>
              <a:rPr sz="4400"/>
            </a:br>
            <a:r>
              <a:rPr b="0" lang="en-GB" sz="2400" spc="-1" strike="noStrike">
                <a:solidFill>
                  <a:srgbClr val="333399"/>
                </a:solidFill>
                <a:latin typeface="Tahoma"/>
              </a:rPr>
              <a:t>Implementation of file system call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4" name=""/>
          <p:cNvSpPr/>
          <p:nvPr/>
        </p:nvSpPr>
        <p:spPr>
          <a:xfrm>
            <a:off x="2401920" y="6262560"/>
            <a:ext cx="4700520" cy="5572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5" name="" descr=""/>
          <p:cNvPicPr/>
          <p:nvPr/>
        </p:nvPicPr>
        <p:blipFill>
          <a:blip r:embed="rId1"/>
          <a:stretch/>
        </p:blipFill>
        <p:spPr>
          <a:xfrm>
            <a:off x="1781280" y="1254240"/>
            <a:ext cx="5790960" cy="5600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C748-96CE-4965-9C12-C5AB6CC3167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7" name=""/>
          <p:cNvSpPr/>
          <p:nvPr/>
        </p:nvSpPr>
        <p:spPr>
          <a:xfrm>
            <a:off x="1038240" y="5145120"/>
            <a:ext cx="7548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"/>
          <p:cNvSpPr/>
          <p:nvPr/>
        </p:nvSpPr>
        <p:spPr>
          <a:xfrm>
            <a:off x="1449360" y="38894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"/>
          <p:cNvSpPr/>
          <p:nvPr/>
        </p:nvSpPr>
        <p:spPr>
          <a:xfrm>
            <a:off x="1434960" y="210168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"/>
          <p:cNvSpPr/>
          <p:nvPr/>
        </p:nvSpPr>
        <p:spPr>
          <a:xfrm>
            <a:off x="3413160" y="38973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"/>
          <p:cNvSpPr/>
          <p:nvPr/>
        </p:nvSpPr>
        <p:spPr>
          <a:xfrm>
            <a:off x="6970680" y="21668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ta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"/>
          <p:cNvSpPr/>
          <p:nvPr/>
        </p:nvSpPr>
        <p:spPr>
          <a:xfrm>
            <a:off x="5286240" y="214776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"/>
          <p:cNvSpPr/>
          <p:nvPr/>
        </p:nvSpPr>
        <p:spPr>
          <a:xfrm>
            <a:off x="6999120" y="391464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to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"/>
          <p:cNvSpPr/>
          <p:nvPr/>
        </p:nvSpPr>
        <p:spPr>
          <a:xfrm>
            <a:off x="5332320" y="3952800"/>
            <a:ext cx="1076400" cy="7351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"/>
          <p:cNvSpPr/>
          <p:nvPr/>
        </p:nvSpPr>
        <p:spPr>
          <a:xfrm>
            <a:off x="1271520" y="1917720"/>
            <a:ext cx="1416240" cy="295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"/>
          <p:cNvSpPr/>
          <p:nvPr/>
        </p:nvSpPr>
        <p:spPr>
          <a:xfrm>
            <a:off x="3252960" y="1962000"/>
            <a:ext cx="1415880" cy="292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"/>
          <p:cNvSpPr/>
          <p:nvPr/>
        </p:nvSpPr>
        <p:spPr>
          <a:xfrm>
            <a:off x="5108400" y="2006640"/>
            <a:ext cx="1416240" cy="288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6819840" y="2016000"/>
            <a:ext cx="1416240" cy="285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1989000" y="4876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3935520" y="488484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826240" y="491328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7502400" y="4903920"/>
            <a:ext cx="0" cy="268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393840" y="5754600"/>
            <a:ext cx="3335040" cy="4302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1506600" y="5127480"/>
            <a:ext cx="0" cy="64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5" name=""/>
          <p:cNvGrpSpPr/>
          <p:nvPr/>
        </p:nvGrpSpPr>
        <p:grpSpPr>
          <a:xfrm>
            <a:off x="-34920" y="4626000"/>
            <a:ext cx="1952640" cy="1398600"/>
            <a:chOff x="-34920" y="4626000"/>
            <a:chExt cx="1952640" cy="1398600"/>
          </a:xfrm>
        </p:grpSpPr>
        <p:sp>
          <p:nvSpPr>
            <p:cNvPr id="1226" name=""/>
            <p:cNvSpPr/>
            <p:nvPr/>
          </p:nvSpPr>
          <p:spPr>
            <a:xfrm>
              <a:off x="1260360" y="4626000"/>
              <a:ext cx="657360" cy="1398600"/>
            </a:xfrm>
            <a:custGeom>
              <a:avLst/>
              <a:gdLst/>
              <a:ahLst/>
              <a:rect l="l" t="t" r="r" b="b"/>
              <a:pathLst>
                <a:path w="414" h="881">
                  <a:moveTo>
                    <a:pt x="30" y="881"/>
                  </a:moveTo>
                  <a:cubicBezTo>
                    <a:pt x="15" y="637"/>
                    <a:pt x="0" y="393"/>
                    <a:pt x="53" y="282"/>
                  </a:cubicBezTo>
                  <a:cubicBezTo>
                    <a:pt x="106" y="171"/>
                    <a:pt x="287" y="261"/>
                    <a:pt x="347" y="214"/>
                  </a:cubicBezTo>
                  <a:cubicBezTo>
                    <a:pt x="407" y="167"/>
                    <a:pt x="403" y="36"/>
                    <a:pt x="414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-34920" y="4843440"/>
              <a:ext cx="180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1: Write reques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8" name=""/>
          <p:cNvGrpSpPr/>
          <p:nvPr/>
        </p:nvGrpSpPr>
        <p:grpSpPr>
          <a:xfrm>
            <a:off x="475200" y="2814480"/>
            <a:ext cx="1424880" cy="1076400"/>
            <a:chOff x="475200" y="2814480"/>
            <a:chExt cx="1424880" cy="1076400"/>
          </a:xfrm>
        </p:grpSpPr>
        <p:sp>
          <p:nvSpPr>
            <p:cNvPr id="1229" name=""/>
            <p:cNvSpPr/>
            <p:nvPr/>
          </p:nvSpPr>
          <p:spPr>
            <a:xfrm flipV="1">
              <a:off x="1900080" y="2814480"/>
              <a:ext cx="0" cy="1076400"/>
            </a:xfrm>
            <a:prstGeom prst="line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75200" y="3166920"/>
              <a:ext cx="14166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2: Log the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in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1" name=""/>
          <p:cNvGrpSpPr/>
          <p:nvPr/>
        </p:nvGrpSpPr>
        <p:grpSpPr>
          <a:xfrm>
            <a:off x="2509920" y="2386080"/>
            <a:ext cx="6741360" cy="3592080"/>
            <a:chOff x="2509920" y="2386080"/>
            <a:chExt cx="6741360" cy="3592080"/>
          </a:xfrm>
        </p:grpSpPr>
        <p:sp>
          <p:nvSpPr>
            <p:cNvPr id="1232" name=""/>
            <p:cNvSpPr/>
            <p:nvPr/>
          </p:nvSpPr>
          <p:spPr>
            <a:xfrm>
              <a:off x="2509920" y="2386080"/>
              <a:ext cx="1326960" cy="3052800"/>
            </a:xfrm>
            <a:custGeom>
              <a:avLst/>
              <a:gdLst/>
              <a:ahLst/>
              <a:rect l="l" t="t" r="r" b="b"/>
              <a:pathLst>
                <a:path w="836" h="1923">
                  <a:moveTo>
                    <a:pt x="0" y="33"/>
                  </a:moveTo>
                  <a:cubicBezTo>
                    <a:pt x="60" y="16"/>
                    <a:pt x="120" y="0"/>
                    <a:pt x="158" y="169"/>
                  </a:cubicBezTo>
                  <a:cubicBezTo>
                    <a:pt x="196" y="338"/>
                    <a:pt x="209" y="782"/>
                    <a:pt x="226" y="1049"/>
                  </a:cubicBezTo>
                  <a:cubicBezTo>
                    <a:pt x="243" y="1316"/>
                    <a:pt x="181" y="1636"/>
                    <a:pt x="260" y="1772"/>
                  </a:cubicBezTo>
                  <a:cubicBezTo>
                    <a:pt x="339" y="1908"/>
                    <a:pt x="604" y="1923"/>
                    <a:pt x="700" y="1863"/>
                  </a:cubicBezTo>
                  <a:cubicBezTo>
                    <a:pt x="796" y="1803"/>
                    <a:pt x="813" y="1486"/>
                    <a:pt x="836" y="1411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3568680" y="4643280"/>
              <a:ext cx="3925800" cy="765360"/>
            </a:xfrm>
            <a:custGeom>
              <a:avLst/>
              <a:gdLst/>
              <a:ahLst/>
              <a:rect l="l" t="t" r="r" b="b"/>
              <a:pathLst>
                <a:path w="2473" h="482">
                  <a:moveTo>
                    <a:pt x="0" y="452"/>
                  </a:moveTo>
                  <a:cubicBezTo>
                    <a:pt x="782" y="467"/>
                    <a:pt x="1564" y="482"/>
                    <a:pt x="1976" y="407"/>
                  </a:cubicBezTo>
                  <a:cubicBezTo>
                    <a:pt x="2388" y="332"/>
                    <a:pt x="2390" y="68"/>
                    <a:pt x="2473" y="0"/>
                  </a:cubicBezTo>
                </a:path>
              </a:pathLst>
            </a:custGeom>
            <a:noFill/>
            <a:ln w="93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5159880" y="5397480"/>
              <a:ext cx="40914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3: Fragment a segme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and sent them to a strip group of server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5" name=""/>
          <p:cNvGrpSpPr/>
          <p:nvPr/>
        </p:nvGrpSpPr>
        <p:grpSpPr>
          <a:xfrm>
            <a:off x="1469880" y="4697280"/>
            <a:ext cx="4213440" cy="1290600"/>
            <a:chOff x="1469880" y="4697280"/>
            <a:chExt cx="4213440" cy="1290600"/>
          </a:xfrm>
        </p:grpSpPr>
        <p:sp>
          <p:nvSpPr>
            <p:cNvPr id="1236" name=""/>
            <p:cNvSpPr/>
            <p:nvPr/>
          </p:nvSpPr>
          <p:spPr>
            <a:xfrm>
              <a:off x="1469880" y="4697280"/>
              <a:ext cx="4213440" cy="1290600"/>
            </a:xfrm>
            <a:custGeom>
              <a:avLst/>
              <a:gdLst/>
              <a:ahLst/>
              <a:rect l="l" t="t" r="r" b="b"/>
              <a:pathLst>
                <a:path w="2654" h="813">
                  <a:moveTo>
                    <a:pt x="68" y="813"/>
                  </a:moveTo>
                  <a:cubicBezTo>
                    <a:pt x="34" y="643"/>
                    <a:pt x="0" y="474"/>
                    <a:pt x="147" y="373"/>
                  </a:cubicBezTo>
                  <a:cubicBezTo>
                    <a:pt x="294" y="272"/>
                    <a:pt x="644" y="231"/>
                    <a:pt x="949" y="203"/>
                  </a:cubicBezTo>
                  <a:cubicBezTo>
                    <a:pt x="1254" y="175"/>
                    <a:pt x="1693" y="237"/>
                    <a:pt x="1977" y="203"/>
                  </a:cubicBezTo>
                  <a:cubicBezTo>
                    <a:pt x="2261" y="169"/>
                    <a:pt x="2541" y="34"/>
                    <a:pt x="2654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1541880" y="5533920"/>
              <a:ext cx="16711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1: Read reques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8" name=""/>
          <p:cNvGrpSpPr/>
          <p:nvPr/>
        </p:nvGrpSpPr>
        <p:grpSpPr>
          <a:xfrm>
            <a:off x="2384280" y="2851200"/>
            <a:ext cx="3424320" cy="2885040"/>
            <a:chOff x="2384280" y="2851200"/>
            <a:chExt cx="3424320" cy="2885040"/>
          </a:xfrm>
        </p:grpSpPr>
        <p:sp>
          <p:nvSpPr>
            <p:cNvPr id="1239" name=""/>
            <p:cNvSpPr/>
            <p:nvPr/>
          </p:nvSpPr>
          <p:spPr>
            <a:xfrm>
              <a:off x="2384280" y="2851200"/>
              <a:ext cx="3424320" cy="2870280"/>
            </a:xfrm>
            <a:custGeom>
              <a:avLst/>
              <a:gdLst/>
              <a:ahLst/>
              <a:rect l="l" t="t" r="r" b="b"/>
              <a:pathLst>
                <a:path w="2157" h="1808">
                  <a:moveTo>
                    <a:pt x="2157" y="1152"/>
                  </a:moveTo>
                  <a:cubicBezTo>
                    <a:pt x="2060" y="1388"/>
                    <a:pt x="1963" y="1624"/>
                    <a:pt x="1694" y="1716"/>
                  </a:cubicBezTo>
                  <a:cubicBezTo>
                    <a:pt x="1425" y="1808"/>
                    <a:pt x="802" y="1808"/>
                    <a:pt x="542" y="1705"/>
                  </a:cubicBezTo>
                  <a:cubicBezTo>
                    <a:pt x="282" y="1602"/>
                    <a:pt x="204" y="1321"/>
                    <a:pt x="136" y="1095"/>
                  </a:cubicBezTo>
                  <a:cubicBezTo>
                    <a:pt x="68" y="869"/>
                    <a:pt x="159" y="532"/>
                    <a:pt x="136" y="350"/>
                  </a:cubicBezTo>
                  <a:cubicBezTo>
                    <a:pt x="113" y="168"/>
                    <a:pt x="56" y="84"/>
                    <a:pt x="0" y="0"/>
                  </a:cubicBezTo>
                </a:path>
              </a:pathLst>
            </a:custGeom>
            <a:noFill/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3313080" y="5398920"/>
              <a:ext cx="207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2: Query a manage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1" name=""/>
          <p:cNvGrpSpPr/>
          <p:nvPr/>
        </p:nvGrpSpPr>
        <p:grpSpPr>
          <a:xfrm>
            <a:off x="2120040" y="2814480"/>
            <a:ext cx="4172040" cy="1094040"/>
            <a:chOff x="2120040" y="2814480"/>
            <a:chExt cx="4172040" cy="1094040"/>
          </a:xfrm>
        </p:grpSpPr>
        <p:sp>
          <p:nvSpPr>
            <p:cNvPr id="1242" name=""/>
            <p:cNvSpPr/>
            <p:nvPr/>
          </p:nvSpPr>
          <p:spPr>
            <a:xfrm>
              <a:off x="2187720" y="2814480"/>
              <a:ext cx="0" cy="1094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2120040" y="3238560"/>
              <a:ext cx="41720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3: Collaborative cach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Read data from another client if possible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093A-422E-4989-AECE-23A6D910EB07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"/>
          <p:cNvSpPr/>
          <p:nvPr/>
        </p:nvSpPr>
        <p:spPr>
          <a:xfrm>
            <a:off x="352584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2789280" y="2941560"/>
            <a:ext cx="722160" cy="1001880"/>
          </a:xfrm>
          <a:custGeom>
            <a:avLst/>
            <a:gdLst/>
            <a:ahLst/>
            <a:rect l="l" t="t" r="r" b="b"/>
            <a:pathLst>
              <a:path w="455" h="631">
                <a:moveTo>
                  <a:pt x="243" y="67"/>
                </a:moveTo>
                <a:cubicBezTo>
                  <a:pt x="192" y="0"/>
                  <a:pt x="147" y="76"/>
                  <a:pt x="115" y="155"/>
                </a:cubicBezTo>
                <a:cubicBezTo>
                  <a:pt x="83" y="234"/>
                  <a:pt x="0" y="472"/>
                  <a:pt x="51" y="539"/>
                </a:cubicBezTo>
                <a:cubicBezTo>
                  <a:pt x="102" y="606"/>
                  <a:pt x="383" y="631"/>
                  <a:pt x="419" y="555"/>
                </a:cubicBezTo>
                <a:cubicBezTo>
                  <a:pt x="455" y="479"/>
                  <a:pt x="294" y="134"/>
                  <a:pt x="243" y="6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2017800" y="3035160"/>
            <a:ext cx="815760" cy="843120"/>
          </a:xfrm>
          <a:custGeom>
            <a:avLst/>
            <a:gdLst/>
            <a:ahLst/>
            <a:rect l="l" t="t" r="r" b="b"/>
            <a:pathLst>
              <a:path w="514" h="531">
                <a:moveTo>
                  <a:pt x="49" y="40"/>
                </a:moveTo>
                <a:cubicBezTo>
                  <a:pt x="0" y="80"/>
                  <a:pt x="60" y="381"/>
                  <a:pt x="129" y="456"/>
                </a:cubicBezTo>
                <a:cubicBezTo>
                  <a:pt x="198" y="531"/>
                  <a:pt x="416" y="528"/>
                  <a:pt x="465" y="488"/>
                </a:cubicBezTo>
                <a:cubicBezTo>
                  <a:pt x="514" y="448"/>
                  <a:pt x="498" y="293"/>
                  <a:pt x="425" y="216"/>
                </a:cubicBezTo>
                <a:cubicBezTo>
                  <a:pt x="352" y="139"/>
                  <a:pt x="98" y="0"/>
                  <a:pt x="49" y="40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1049400" y="2965320"/>
            <a:ext cx="1266840" cy="989280"/>
          </a:xfrm>
          <a:custGeom>
            <a:avLst/>
            <a:gdLst/>
            <a:ahLst/>
            <a:rect l="l" t="t" r="r" b="b"/>
            <a:pathLst>
              <a:path w="798" h="623">
                <a:moveTo>
                  <a:pt x="531" y="76"/>
                </a:moveTo>
                <a:cubicBezTo>
                  <a:pt x="464" y="0"/>
                  <a:pt x="400" y="33"/>
                  <a:pt x="323" y="100"/>
                </a:cubicBezTo>
                <a:cubicBezTo>
                  <a:pt x="246" y="167"/>
                  <a:pt x="0" y="400"/>
                  <a:pt x="67" y="476"/>
                </a:cubicBezTo>
                <a:cubicBezTo>
                  <a:pt x="134" y="552"/>
                  <a:pt x="648" y="623"/>
                  <a:pt x="723" y="556"/>
                </a:cubicBezTo>
                <a:cubicBezTo>
                  <a:pt x="798" y="489"/>
                  <a:pt x="598" y="152"/>
                  <a:pt x="531" y="76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4519440" y="47005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>
            <a:off x="6526080" y="468792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2728800" y="4738680"/>
            <a:ext cx="793800" cy="1263600"/>
          </a:xfrm>
          <a:custGeom>
            <a:avLst/>
            <a:gdLst/>
            <a:ahLst/>
            <a:rect l="l" t="t" r="r" b="b"/>
            <a:pathLst>
              <a:path w="500" h="796">
                <a:moveTo>
                  <a:pt x="233" y="95"/>
                </a:moveTo>
                <a:cubicBezTo>
                  <a:pt x="184" y="0"/>
                  <a:pt x="200" y="46"/>
                  <a:pt x="169" y="135"/>
                </a:cubicBezTo>
                <a:cubicBezTo>
                  <a:pt x="138" y="224"/>
                  <a:pt x="0" y="536"/>
                  <a:pt x="49" y="631"/>
                </a:cubicBezTo>
                <a:cubicBezTo>
                  <a:pt x="98" y="726"/>
                  <a:pt x="430" y="796"/>
                  <a:pt x="465" y="703"/>
                </a:cubicBezTo>
                <a:cubicBezTo>
                  <a:pt x="500" y="610"/>
                  <a:pt x="282" y="190"/>
                  <a:pt x="233" y="95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915840" y="4751280"/>
            <a:ext cx="1175040" cy="1225800"/>
          </a:xfrm>
          <a:custGeom>
            <a:avLst/>
            <a:gdLst/>
            <a:ahLst/>
            <a:rect l="l" t="t" r="r" b="b"/>
            <a:pathLst>
              <a:path w="740" h="772">
                <a:moveTo>
                  <a:pt x="399" y="87"/>
                </a:moveTo>
                <a:cubicBezTo>
                  <a:pt x="328" y="0"/>
                  <a:pt x="310" y="66"/>
                  <a:pt x="255" y="159"/>
                </a:cubicBezTo>
                <a:cubicBezTo>
                  <a:pt x="200" y="252"/>
                  <a:pt x="0" y="560"/>
                  <a:pt x="71" y="647"/>
                </a:cubicBezTo>
                <a:cubicBezTo>
                  <a:pt x="142" y="734"/>
                  <a:pt x="618" y="772"/>
                  <a:pt x="679" y="679"/>
                </a:cubicBezTo>
                <a:cubicBezTo>
                  <a:pt x="740" y="586"/>
                  <a:pt x="470" y="174"/>
                  <a:pt x="399" y="87"/>
                </a:cubicBezTo>
                <a:close/>
              </a:path>
            </a:pathLst>
          </a:custGeom>
          <a:solidFill>
            <a:srgbClr val="c0c0c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FS Example</a:t>
            </a:r>
            <a:br>
              <a:rPr sz="4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3" name=""/>
          <p:cNvSpPr/>
          <p:nvPr/>
        </p:nvSpPr>
        <p:spPr>
          <a:xfrm>
            <a:off x="2514600" y="223524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139716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1079640" y="554976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85436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3048120" y="287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2360" y="4915080"/>
            <a:ext cx="190440" cy="21564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30988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768760" y="55753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959200" y="49402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4788000" y="490212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87028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318780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1727280" y="55627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 flipH="1">
            <a:off x="3009960" y="308628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3174840" y="308628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 flipH="1">
            <a:off x="1244520" y="5130720"/>
            <a:ext cx="25416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523880" y="5130720"/>
            <a:ext cx="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1549440" y="5143680"/>
            <a:ext cx="25380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 flipH="1">
            <a:off x="2870280" y="5168880"/>
            <a:ext cx="164880" cy="406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3073320" y="5168880"/>
            <a:ext cx="11448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2705040" y="2451240"/>
            <a:ext cx="330120" cy="419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 flipH="1">
            <a:off x="2044800" y="2463840"/>
            <a:ext cx="4572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1574640" y="35560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1257480" y="35560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"/>
          <p:cNvSpPr/>
          <p:nvPr/>
        </p:nvSpPr>
        <p:spPr>
          <a:xfrm>
            <a:off x="2540160" y="359424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8" name=""/>
          <p:cNvSpPr/>
          <p:nvPr/>
        </p:nvSpPr>
        <p:spPr>
          <a:xfrm>
            <a:off x="2209680" y="35812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"/>
          <p:cNvSpPr/>
          <p:nvPr/>
        </p:nvSpPr>
        <p:spPr>
          <a:xfrm>
            <a:off x="1905120" y="356868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"/>
          <p:cNvSpPr/>
          <p:nvPr/>
        </p:nvSpPr>
        <p:spPr>
          <a:xfrm flipH="1">
            <a:off x="1422000" y="3073320"/>
            <a:ext cx="444600" cy="482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"/>
          <p:cNvSpPr/>
          <p:nvPr/>
        </p:nvSpPr>
        <p:spPr>
          <a:xfrm flipH="1">
            <a:off x="1701360" y="3111480"/>
            <a:ext cx="16524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"/>
          <p:cNvSpPr/>
          <p:nvPr/>
        </p:nvSpPr>
        <p:spPr>
          <a:xfrm>
            <a:off x="1866960" y="3086280"/>
            <a:ext cx="114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2070000" y="3098880"/>
            <a:ext cx="24156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2082960" y="3086280"/>
            <a:ext cx="546120" cy="482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"/>
          <p:cNvSpPr/>
          <p:nvPr/>
        </p:nvSpPr>
        <p:spPr>
          <a:xfrm>
            <a:off x="461016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"/>
          <p:cNvSpPr/>
          <p:nvPr/>
        </p:nvSpPr>
        <p:spPr>
          <a:xfrm>
            <a:off x="4927680" y="55879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"/>
          <p:cNvSpPr/>
          <p:nvPr/>
        </p:nvSpPr>
        <p:spPr>
          <a:xfrm flipH="1">
            <a:off x="4749840" y="5118120"/>
            <a:ext cx="10152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4915080" y="5118120"/>
            <a:ext cx="88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>
            <a:off x="6883560" y="558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6591240" y="560088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"/>
          <p:cNvSpPr/>
          <p:nvPr/>
        </p:nvSpPr>
        <p:spPr>
          <a:xfrm flipH="1">
            <a:off x="6730920" y="5130720"/>
            <a:ext cx="101520" cy="4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"/>
          <p:cNvSpPr/>
          <p:nvPr/>
        </p:nvSpPr>
        <p:spPr>
          <a:xfrm>
            <a:off x="6896160" y="513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"/>
          <p:cNvSpPr/>
          <p:nvPr/>
        </p:nvSpPr>
        <p:spPr>
          <a:xfrm>
            <a:off x="6769080" y="495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"/>
          <p:cNvSpPr/>
          <p:nvPr/>
        </p:nvSpPr>
        <p:spPr>
          <a:xfrm>
            <a:off x="2120760" y="5067360"/>
            <a:ext cx="330480" cy="58428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>
            <a:off x="3568680" y="5054760"/>
            <a:ext cx="330120" cy="583920"/>
          </a:xfrm>
          <a:prstGeom prst="can">
            <a:avLst>
              <a:gd name="adj" fmla="val 25000"/>
            </a:avLst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"/>
          <p:cNvSpPr/>
          <p:nvPr/>
        </p:nvSpPr>
        <p:spPr>
          <a:xfrm>
            <a:off x="4579920" y="5969160"/>
            <a:ext cx="254160" cy="29196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"/>
          <p:cNvSpPr/>
          <p:nvPr/>
        </p:nvSpPr>
        <p:spPr>
          <a:xfrm>
            <a:off x="4973760" y="5956200"/>
            <a:ext cx="253800" cy="292320"/>
          </a:xfrm>
          <a:custGeom>
            <a:avLst/>
            <a:gdLst/>
            <a:ahLst/>
            <a:rect l="l" t="t" r="r" b="b"/>
            <a:pathLst>
              <a:path w="712" h="616">
                <a:moveTo>
                  <a:pt x="323" y="0"/>
                </a:moveTo>
                <a:cubicBezTo>
                  <a:pt x="222" y="16"/>
                  <a:pt x="122" y="33"/>
                  <a:pt x="75" y="104"/>
                </a:cubicBezTo>
                <a:cubicBezTo>
                  <a:pt x="28" y="175"/>
                  <a:pt x="0" y="340"/>
                  <a:pt x="43" y="424"/>
                </a:cubicBezTo>
                <a:cubicBezTo>
                  <a:pt x="86" y="508"/>
                  <a:pt x="230" y="600"/>
                  <a:pt x="331" y="608"/>
                </a:cubicBezTo>
                <a:cubicBezTo>
                  <a:pt x="432" y="616"/>
                  <a:pt x="590" y="545"/>
                  <a:pt x="651" y="472"/>
                </a:cubicBezTo>
                <a:cubicBezTo>
                  <a:pt x="712" y="399"/>
                  <a:pt x="705" y="283"/>
                  <a:pt x="699" y="168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"/>
          <p:cNvSpPr/>
          <p:nvPr/>
        </p:nvSpPr>
        <p:spPr>
          <a:xfrm>
            <a:off x="1079640" y="2006640"/>
            <a:ext cx="3200400" cy="1892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990720" y="4699080"/>
            <a:ext cx="10411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2717640" y="46864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4495680" y="4711680"/>
            <a:ext cx="74952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477120" y="4686480"/>
            <a:ext cx="749160" cy="1244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1024560" y="44258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2561400" y="4400640"/>
            <a:ext cx="103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File serv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161240" y="4438800"/>
            <a:ext cx="16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omputation 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56720" y="443880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673200" y="4127400"/>
            <a:ext cx="7315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2400480" y="3898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"/>
          <p:cNvSpPr/>
          <p:nvPr/>
        </p:nvSpPr>
        <p:spPr>
          <a:xfrm>
            <a:off x="1536840" y="4127400"/>
            <a:ext cx="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"/>
          <p:cNvSpPr/>
          <p:nvPr/>
        </p:nvSpPr>
        <p:spPr>
          <a:xfrm>
            <a:off x="3111480" y="4127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"/>
          <p:cNvSpPr/>
          <p:nvPr/>
        </p:nvSpPr>
        <p:spPr>
          <a:xfrm>
            <a:off x="4927680" y="4127400"/>
            <a:ext cx="0" cy="36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"/>
          <p:cNvSpPr/>
          <p:nvPr/>
        </p:nvSpPr>
        <p:spPr>
          <a:xfrm>
            <a:off x="6896160" y="4127400"/>
            <a:ext cx="0" cy="292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"/>
          <p:cNvSpPr/>
          <p:nvPr/>
        </p:nvSpPr>
        <p:spPr>
          <a:xfrm>
            <a:off x="1304280" y="1733400"/>
            <a:ext cx="59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73600" y="3517920"/>
            <a:ext cx="21564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581280" y="3530520"/>
            <a:ext cx="216000" cy="228600"/>
          </a:xfrm>
          <a:prstGeom prst="ellipse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 flipH="1">
            <a:off x="3720600" y="3060720"/>
            <a:ext cx="1018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"/>
          <p:cNvSpPr/>
          <p:nvPr/>
        </p:nvSpPr>
        <p:spPr>
          <a:xfrm>
            <a:off x="3886200" y="3060720"/>
            <a:ext cx="889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"/>
          <p:cNvSpPr/>
          <p:nvPr/>
        </p:nvSpPr>
        <p:spPr>
          <a:xfrm>
            <a:off x="3759120" y="2882880"/>
            <a:ext cx="190440" cy="21600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"/>
          <p:cNvSpPr/>
          <p:nvPr/>
        </p:nvSpPr>
        <p:spPr>
          <a:xfrm>
            <a:off x="2692440" y="2413080"/>
            <a:ext cx="111744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"/>
          <p:cNvSpPr/>
          <p:nvPr/>
        </p:nvSpPr>
        <p:spPr>
          <a:xfrm>
            <a:off x="774720" y="3809880"/>
            <a:ext cx="558720" cy="1422360"/>
          </a:xfrm>
          <a:custGeom>
            <a:avLst/>
            <a:gdLst/>
            <a:ahLst/>
            <a:rect l="l" t="t" r="r" b="b"/>
            <a:pathLst>
              <a:path w="352" h="896">
                <a:moveTo>
                  <a:pt x="256" y="896"/>
                </a:moveTo>
                <a:cubicBezTo>
                  <a:pt x="128" y="810"/>
                  <a:pt x="0" y="725"/>
                  <a:pt x="16" y="576"/>
                </a:cubicBezTo>
                <a:cubicBezTo>
                  <a:pt x="32" y="427"/>
                  <a:pt x="192" y="213"/>
                  <a:pt x="352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"/>
          <p:cNvSpPr/>
          <p:nvPr/>
        </p:nvSpPr>
        <p:spPr>
          <a:xfrm>
            <a:off x="2577960" y="3848040"/>
            <a:ext cx="292320" cy="1409760"/>
          </a:xfrm>
          <a:custGeom>
            <a:avLst/>
            <a:gdLst/>
            <a:ahLst/>
            <a:rect l="l" t="t" r="r" b="b"/>
            <a:pathLst>
              <a:path w="184" h="888">
                <a:moveTo>
                  <a:pt x="184" y="888"/>
                </a:moveTo>
                <a:cubicBezTo>
                  <a:pt x="131" y="866"/>
                  <a:pt x="79" y="844"/>
                  <a:pt x="48" y="696"/>
                </a:cubicBezTo>
                <a:cubicBezTo>
                  <a:pt x="17" y="548"/>
                  <a:pt x="8" y="27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3429000" y="3822840"/>
            <a:ext cx="1231920" cy="1447560"/>
          </a:xfrm>
          <a:custGeom>
            <a:avLst/>
            <a:gdLst/>
            <a:ahLst/>
            <a:rect l="l" t="t" r="r" b="b"/>
            <a:pathLst>
              <a:path w="776" h="912">
                <a:moveTo>
                  <a:pt x="0" y="0"/>
                </a:moveTo>
                <a:cubicBezTo>
                  <a:pt x="103" y="12"/>
                  <a:pt x="207" y="24"/>
                  <a:pt x="336" y="176"/>
                </a:cubicBezTo>
                <a:cubicBezTo>
                  <a:pt x="465" y="328"/>
                  <a:pt x="620" y="620"/>
                  <a:pt x="776" y="912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4102200" y="3403440"/>
            <a:ext cx="2565360" cy="1791000"/>
          </a:xfrm>
          <a:custGeom>
            <a:avLst/>
            <a:gdLst/>
            <a:ahLst/>
            <a:rect l="l" t="t" r="r" b="b"/>
            <a:pathLst>
              <a:path w="1616" h="1128">
                <a:moveTo>
                  <a:pt x="1616" y="1128"/>
                </a:moveTo>
                <a:cubicBezTo>
                  <a:pt x="1406" y="754"/>
                  <a:pt x="1197" y="380"/>
                  <a:pt x="928" y="192"/>
                </a:cubicBezTo>
                <a:cubicBezTo>
                  <a:pt x="659" y="4"/>
                  <a:pt x="329" y="2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684360" y="387972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"/>
          <p:cNvSpPr/>
          <p:nvPr/>
        </p:nvSpPr>
        <p:spPr>
          <a:xfrm>
            <a:off x="2525760" y="39178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"/>
          <p:cNvSpPr/>
          <p:nvPr/>
        </p:nvSpPr>
        <p:spPr>
          <a:xfrm>
            <a:off x="3839040" y="3892680"/>
            <a:ext cx="65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"/>
          <p:cNvSpPr/>
          <p:nvPr/>
        </p:nvSpPr>
        <p:spPr>
          <a:xfrm>
            <a:off x="5383440" y="3460680"/>
            <a:ext cx="66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m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"/>
          <p:cNvSpPr/>
          <p:nvPr/>
        </p:nvSpPr>
        <p:spPr>
          <a:xfrm>
            <a:off x="6997680" y="5829480"/>
            <a:ext cx="736560" cy="266400"/>
          </a:xfrm>
          <a:custGeom>
            <a:avLst/>
            <a:gdLst/>
            <a:ahLst/>
            <a:rect l="l" t="t" r="r" b="b"/>
            <a:pathLst>
              <a:path w="464" h="168">
                <a:moveTo>
                  <a:pt x="0" y="0"/>
                </a:moveTo>
                <a:lnTo>
                  <a:pt x="0" y="168"/>
                </a:lnTo>
                <a:lnTo>
                  <a:pt x="464" y="168"/>
                </a:lnTo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7410240" y="5835600"/>
            <a:ext cx="76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nter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"/>
          <p:cNvSpPr/>
          <p:nvPr/>
        </p:nvSpPr>
        <p:spPr>
          <a:xfrm>
            <a:off x="627480" y="286380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Union direc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"/>
          <p:cNvSpPr/>
          <p:nvPr/>
        </p:nvSpPr>
        <p:spPr>
          <a:xfrm>
            <a:off x="5151600" y="6000840"/>
            <a:ext cx="147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Remote exec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"/>
          <p:cNvSpPr/>
          <p:nvPr/>
        </p:nvSpPr>
        <p:spPr>
          <a:xfrm>
            <a:off x="7303680" y="5416560"/>
            <a:ext cx="129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etwork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81BA7-66FF-4678-B5C3-AC56F814C338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aper Review by Stud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n N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rew Fil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n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F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at file-sharing semantics is each system based 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server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client-side cach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client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hich systems use the server-initiated validation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D4E8-BE0A-4810-A52F-7D631EDEF798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6" name=""/>
          <p:cNvSpPr/>
          <p:nvPr/>
        </p:nvSpPr>
        <p:spPr>
          <a:xfrm>
            <a:off x="504720" y="1876320"/>
            <a:ext cx="8639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Tahoma"/>
              </a:rPr>
              <a:t>Q1.</a:t>
            </a:r>
            <a:r>
              <a:rPr b="0" lang="fr-FR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In transaction-like semantics a.k.a. concurrency control, compare the pros and cons of backward and forward transactions. In particular, consider the case where each transaction includes more read than write operation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Back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Forward trans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Pro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Answer the following five questions about file-caching. When you are asked to show which systems use a given caching scheme, choose all applicable systems from NFS, AFS, xFS and Plan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1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Why can file-caching contribute to performance improvement? Answer two reason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1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 2: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2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State one merit for using server-side caching? Which system uses server-side-caching?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Meri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E29-5DE7-4A97-9608-5BCC6375B12C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&amp; 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 are files named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reveal location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file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filenames change i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us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move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66B8-F52F-4C3D-8E73-E52E5932355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on-Turn-In Exercis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8" name=""/>
          <p:cNvSpPr/>
          <p:nvPr/>
        </p:nvSpPr>
        <p:spPr>
          <a:xfrm>
            <a:off x="212760" y="2120760"/>
            <a:ext cx="8639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3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Client-side caching allows multiple clients to cache the same file. There are two schemes to validate the contents of a locally-cached file (or invalidate the contents of the same file cached at remote clients.) Those are client-initiated and server-initiated validations. Does the client-initiated validation require a file server to be stateful? Justify your answer. Also show which systems use the client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s: NFS, Plan9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Q2-4.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Does the server-initiated validation require a file server to be stateful? Justify your answer. Also show which system uses the server-initiated validat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tateless or stateful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Reaso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System: AFS, xFS (Answ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97D9-AB4A-4D0B-876C-89D9FE578ED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arenc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transparency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does not reveal physical storage lo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Location independenc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 filename need not change if file’s storage location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7640" indent="-287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practic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naming schemes do not have location indepen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have location transpar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DB26-CA0B-4737-8B69-424553B67B73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bsolute Nam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97600" y="3144600"/>
            <a:ext cx="387648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must know complete name – aware of which files are local &amp; which are remo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is location dependent (cannot mov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s sharing ha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ault-toler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100160" y="2844720"/>
            <a:ext cx="389556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679320" indent="-2617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840" indent="-3128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find fully specified filen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add &amp; delete new na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global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9320" indent="-26172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cales easi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031840" y="2041560"/>
            <a:ext cx="5080320" cy="101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0080" rIns="100080" tIns="50040" bIns="50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Linotype"/>
              </a:rPr>
              <a:t>&lt;machine name, pathnam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00040" algn="ctr">
              <a:lnSpc>
                <a:spcPct val="100000"/>
              </a:lnSpc>
              <a:tabLst>
                <a:tab algn="l" pos="0"/>
                <a:tab algn="l" pos="1000080"/>
                <a:tab algn="l" pos="2000160"/>
                <a:tab algn="l" pos="3000240"/>
                <a:tab algn="l" pos="4000680"/>
                <a:tab algn="l" pos="5000760"/>
                <a:tab algn="l" pos="6000840"/>
                <a:tab algn="l" pos="7000920"/>
                <a:tab algn="l" pos="8001000"/>
                <a:tab algn="l" pos="9001080"/>
                <a:tab algn="l" pos="1000116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Examples: </a:t>
            </a: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AppleShare, Windows 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479-085B-4571-BFF4-E04E2EE09E7D}" type="slidenum">
              <a:t>7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aming Strategies: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185840" y="2041200"/>
            <a:ext cx="777096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87640" indent="-287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unt points (NFS – Network File System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host has set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local nam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emote lo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unt table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/etc/fstab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: specifies &lt;remote pathname @ machine name, local path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boot: bind local name to remo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4960" indent="-2404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s refer to local path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60840" indent="-19116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FS manages ma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B2C8F-488C-43DA-8989-0BFDEA9862B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2000" y="617040"/>
            <a:ext cx="7791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unt Points: Pros &amp; C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4040" y="2017440"/>
            <a:ext cx="77706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ote name can change across reboo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840" indent="0">
              <a:spcBef>
                <a:spcPts val="799"/>
              </a:spcBef>
              <a:buNone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840" indent="-3128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isadvantag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unified strategy hard to maint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9320" indent="-26172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836640"/>
                <a:tab algn="l" pos="1673280"/>
                <a:tab algn="l" pos="2509920"/>
                <a:tab algn="l" pos="3346560"/>
                <a:tab algn="l" pos="4183200"/>
                <a:tab algn="l" pos="5019840"/>
                <a:tab algn="l" pos="5856120"/>
                <a:tab algn="l" pos="6692760"/>
                <a:tab algn="l" pos="7529400"/>
                <a:tab algn="l" pos="8366040"/>
                <a:tab algn="l" pos="9202680"/>
                <a:tab algn="l" pos="10039320"/>
                <a:tab algn="l" pos="108759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ile can have different n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8843-3772-440D-B68D-2D39D85D88A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6T06:33:48Z</dcterms:created>
  <dc:creator>Munehiro Fukuda</dc:creator>
  <dc:description/>
  <dc:language>en-US</dc:language>
  <cp:lastModifiedBy>Javier Bustos Jiménez</cp:lastModifiedBy>
  <cp:lastPrinted>1999-11-27T07:19:44Z</cp:lastPrinted>
  <dcterms:modified xsi:type="dcterms:W3CDTF">2007-10-08T15:46:50Z</dcterms:modified>
  <cp:revision>958</cp:revision>
  <dc:subject>Distributed File Systems</dc:subject>
  <dc:title>CSS434: Parallel &amp; Distributed Computing</dc:title>
</cp:coreProperties>
</file>