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png" ContentType="image/png"/>
  <Override PartName="/ppt/media/image26.png" ContentType="image/pn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PlaceHolder 1"/>
          <p:cNvSpPr>
            <a:spLocks noGrp="1"/>
          </p:cNvSpPr>
          <p:nvPr>
            <p:ph type="sldImg"/>
          </p:nvPr>
        </p:nvSpPr>
        <p:spPr>
          <a:xfrm>
            <a:off x="-11798280" y="-11798280"/>
            <a:ext cx="11791800" cy="1234764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0" name="PlaceHolder 2"/>
          <p:cNvSpPr>
            <a:spLocks noGrp="1"/>
          </p:cNvSpPr>
          <p:nvPr>
            <p:ph type="body"/>
          </p:nvPr>
        </p:nvSpPr>
        <p:spPr>
          <a:xfrm>
            <a:off x="960480" y="3474720"/>
            <a:ext cx="7672320" cy="32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C3F433-CDB4-4505-8753-D803C9CB762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640F882C-47CA-449D-8D9B-004EEEF74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F38771A0-3A6C-4B49-B080-CE5666E64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8ACC4B86-3546-4912-B142-E7169F9F72A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BFDCC3-C1D5-40D6-BF26-EBFB701499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D3CD80FA-5614-45D9-AF25-A0AE5776A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82C82783-5CAF-4455-A0A7-7465D867F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B5B8D995-9A69-44CD-B1E7-18DF2554F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2D5427FA-1BB3-4E4F-9E1D-BB42835F47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F45E6554-AFA9-48EB-B2F2-9E315A68A7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981D83B9-A4A2-4239-AD8A-67DC44EA4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47E19D6B-A6F9-4181-8082-633FDA467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ADC53797-E371-440C-8B2A-6F36D4C7C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965F843-6983-4FCF-8FC4-A1421536D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8CAD5E4E-99D0-4F34-8E35-0BAE77ADC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75C27462-BE32-45A9-84D8-99CC81553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24D5BA70-A0E0-4682-8477-62AE8282EF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73E0A4A-8D7A-4AE2-97B6-F43500C1703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C7B5F832-DBE8-4806-8014-40CAA6B825D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3365CE06-4A70-40E0-8F93-99963C93469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2C91A8AB-C944-487D-935D-3BCC8C0479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932D0906-2110-4231-BD4C-E72E548B81C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BB0DCABC-A326-4569-96E7-C834AC200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55B13F91-9585-45ED-8D35-3840A5F51AB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331E4AF-7333-4402-99B8-5FA39B5A61C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3EF7EDE1-65A1-435B-9C10-4D663CCB65C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79D8D8C-E68F-4B91-8B67-08751C6AAED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D5DEBFAD-8823-4ABB-9063-5DBE7E228B5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157B7945-D785-4296-81BA-8E0C4DA878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7825BD5A-131B-4000-8AEE-D1CF34AA49B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5C61867-7048-4C72-AE46-00F67CB7611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5E9FAD9F-D634-4B73-9F22-7DA4E75BBB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DCD152D0-DC5F-4866-9459-F40E434683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14270486-4822-400E-A8F0-6E611FB3E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467860F9-7C09-4529-8706-B995CF3C3E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D27338A0-ACF9-46F0-9CF6-72D30E99A7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D616365E-B779-438C-94A1-7B0365B901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8CAB911-3372-480F-B921-27D926DA6C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2C63254-B8D8-4B59-A744-E706114715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E864FE0-A865-42D3-BC55-10AB62E244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184B793F-DB0E-4C71-84E2-9EF50B0B99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7E98261F-090B-4A48-A848-E58FF272A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A360E5BE-BEEA-4854-96BF-C07EB4B116E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8D4209C-67D2-4583-9C9A-7B2B379B296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0DE9349D-8229-46EF-BF5F-2F91F3CAC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5AEA4554-9C10-43B5-B856-821F4E6C54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7F7B0C3C-8AD6-4B0E-8CD9-ED39C7B91C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F09A32FD-6D2E-4CFC-B4BA-01DE626ECC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97063497-B896-437D-B2DD-A4BDCA01F7D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77517BC9-B432-4245-8C5A-300BFCE1E6E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ADEA42A-04CF-4A1F-A4D8-1CC9152271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6FBCFFE-CF96-4518-922B-E63047C3E6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A207AA3E-D56A-43F8-9D6B-D0A27F6FB4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74F5BCF6-A4AE-4C7C-ABDC-E3B4E41651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11A2B67D-4985-430C-8451-867EB3E20E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5360AC60-887C-4619-BA70-F27BBC967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C0B86EA9-37E5-4254-AA43-6243C21B1D2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99B1020-AA7C-4C77-B517-52677329AC1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5F336769-FE16-4B07-B31F-70E9400FA2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E6287B49-AA16-4913-9C9A-037626E01F1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8483AF3-55E8-41FD-9399-69B0B647BD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94268EC7-61F8-43F8-83B8-A6B2A3030B8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08E737B6-53E3-4AB9-967F-2D15339B641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4023D6F-6833-42C0-8BD2-9B2CC5D1BF5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60EE7B0E-FBCE-40A8-9067-D248EC54CE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3AD7BE11-2D73-494B-8EE0-AEC5A01AB4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B83A3F1-9EB0-4CE8-8315-77DAF6CAC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23B112E8-3485-451A-8EB1-406DAAA942B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673CA3E5-994D-4A0A-8261-CCF31CA814E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E87BD249-24EE-46D2-8125-48C45B7B13D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CB66A36-D500-4FA4-886B-BAE6F4EC446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6545F9A9-9948-4A2C-9B34-2A5AD8FD5B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0691B196-E435-4264-87D8-E03CE895B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EC4036F1-8278-4BD5-A2A1-6778F2E3A6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593D9E38-FC7D-4C89-8422-42034A8440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E9F887EA-427A-4B41-8BFC-D832086F8D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3941E9C-B3A5-4BCB-8D24-CBD6271888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959A1C9-7093-4138-A538-51806A17C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9FCDC8B-1B01-4F3D-8B7D-596B08D370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FD8615E-B9D5-4297-B4E0-3D70D25772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D3C57C3C-DED4-4685-8147-4A338D37CB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B0572AA5-53F3-4579-95A6-33C0CAADC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A072AD04-B5DF-4D8B-BA6B-F240BF5D066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C64DD38-9EAD-47E6-9193-532552B9B64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BCAF39-8844-46E2-AB83-753E6A72B98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4320" y="6553080"/>
            <a:ext cx="166824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9BAB500-195F-4200-958E-E2F7A010F879}"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BC7033D-5187-4AC4-AD5A-BA92A24462CC}"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536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C33E75E-ECDD-4A99-BB8A-2B7E31BBC5C6}"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DC73E6B-8B64-4308-B602-21E42B75061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122F892-6DE7-4374-9F86-B9B947FE612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7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FE88F3F-E9A5-4AD7-9E4A-755825E7258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841400" y="5834160"/>
            <a:ext cx="6637320" cy="500040"/>
            <a:chOff x="1841400" y="5834160"/>
            <a:chExt cx="6637320" cy="500040"/>
          </a:xfrm>
        </p:grpSpPr>
        <p:pic>
          <p:nvPicPr>
            <p:cNvPr id="332" name="" descr=""/>
            <p:cNvPicPr/>
            <p:nvPr/>
          </p:nvPicPr>
          <p:blipFill>
            <a:blip r:embed="rId1"/>
            <a:stretch/>
          </p:blipFill>
          <p:spPr>
            <a:xfrm>
              <a:off x="1841400" y="5834160"/>
              <a:ext cx="6637320" cy="500040"/>
            </a:xfrm>
            <a:prstGeom prst="rect">
              <a:avLst/>
            </a:prstGeom>
            <a:ln w="0">
              <a:noFill/>
            </a:ln>
          </p:spPr>
        </p:pic>
        <p:sp>
          <p:nvSpPr>
            <p:cNvPr id="333"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5"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1" name="" descr=""/>
          <p:cNvPicPr/>
          <p:nvPr/>
        </p:nvPicPr>
        <p:blipFill>
          <a:blip r:embed="rId1"/>
          <a:stretch/>
        </p:blipFill>
        <p:spPr>
          <a:xfrm>
            <a:off x="1979640" y="3906720"/>
            <a:ext cx="6985080" cy="125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06" name=""/>
          <p:cNvGraphicFramePr/>
          <p:nvPr/>
        </p:nvGraphicFramePr>
        <p:xfrm>
          <a:off x="2195640" y="5338800"/>
          <a:ext cx="6543720" cy="1403280"/>
        </p:xfrm>
        <a:graphic>
          <a:graphicData uri="http://schemas.openxmlformats.org/presentationml/2006/ole">
            <p:oleObj r:id="rId1" spid="">
              <p:embed/>
              <p:pic>
                <p:nvPicPr>
                  <p:cNvPr id="407"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37"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0"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6" name=""/>
          <p:cNvGraphicFramePr/>
          <p:nvPr/>
        </p:nvGraphicFramePr>
        <p:xfrm>
          <a:off x="1960560" y="3141720"/>
          <a:ext cx="7075440" cy="2108160"/>
        </p:xfrm>
        <a:graphic>
          <a:graphicData uri="http://schemas.openxmlformats.org/presentationml/2006/ole">
            <p:oleObj r:id="rId1" spid="">
              <p:embed/>
              <p:pic>
                <p:nvPicPr>
                  <p:cNvPr id="417"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1"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3"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5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8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7"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6480" indent="-449280">
              <a:lnSpc>
                <a:spcPct val="10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endParaRPr b="0" lang="en-US" sz="16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3" name=""/>
          <p:cNvGrpSpPr/>
          <p:nvPr/>
        </p:nvGrpSpPr>
        <p:grpSpPr>
          <a:xfrm>
            <a:off x="2708280" y="5667480"/>
            <a:ext cx="5978520" cy="1190520"/>
            <a:chOff x="2708280" y="5667480"/>
            <a:chExt cx="5978520" cy="1190520"/>
          </a:xfrm>
        </p:grpSpPr>
        <p:sp>
          <p:nvSpPr>
            <p:cNvPr id="474"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89"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0"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1"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2" name=""/>
            <p:cNvSpPr/>
            <p:nvPr/>
          </p:nvSpPr>
          <p:spPr>
            <a:xfrm flipV="1">
              <a:off x="4205160" y="6469200"/>
              <a:ext cx="18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6927840" y="6469200"/>
              <a:ext cx="144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7"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8"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68" name=""/>
          <p:cNvGrpSpPr/>
          <p:nvPr/>
        </p:nvGrpSpPr>
        <p:grpSpPr>
          <a:xfrm>
            <a:off x="3452040" y="3357720"/>
            <a:ext cx="4535280" cy="3288600"/>
            <a:chOff x="3452040" y="3357720"/>
            <a:chExt cx="4535280" cy="3288600"/>
          </a:xfrm>
        </p:grpSpPr>
        <p:sp>
          <p:nvSpPr>
            <p:cNvPr id="569"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77"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78"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79"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0"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1"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2"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9"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0"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1"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96"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597"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8"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9"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0"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7250040" y="4032000"/>
              <a:ext cx="1800" cy="89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5"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0"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5"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6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6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5" name=""/>
          <p:cNvGrpSpPr/>
          <p:nvPr/>
        </p:nvGrpSpPr>
        <p:grpSpPr>
          <a:xfrm>
            <a:off x="2635560" y="2565360"/>
            <a:ext cx="5348160" cy="3848040"/>
            <a:chOff x="2635560" y="2565360"/>
            <a:chExt cx="5348160" cy="3848040"/>
          </a:xfrm>
        </p:grpSpPr>
        <p:sp>
          <p:nvSpPr>
            <p:cNvPr id="636"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37"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38"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39" name=""/>
            <p:cNvSpPr/>
            <p:nvPr/>
          </p:nvSpPr>
          <p:spPr>
            <a:xfrm rot="780000">
              <a:off x="3976920" y="343836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0" name=""/>
            <p:cNvSpPr/>
            <p:nvPr/>
          </p:nvSpPr>
          <p:spPr>
            <a:xfrm rot="780000">
              <a:off x="6438960" y="3723840"/>
              <a:ext cx="144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5"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46"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3760560" y="4329000"/>
              <a:ext cx="37242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49" name=""/>
            <p:cNvSpPr/>
            <p:nvPr/>
          </p:nvSpPr>
          <p:spPr>
            <a:xfrm rot="20760000">
              <a:off x="4407840" y="477360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0"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1" name=""/>
            <p:cNvSpPr/>
            <p:nvPr/>
          </p:nvSpPr>
          <p:spPr>
            <a:xfrm rot="20760000">
              <a:off x="3809880" y="444636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56"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66"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0"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76"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77"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1"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graphicFrame>
        <p:nvGraphicFramePr>
          <p:cNvPr id="691" name=""/>
          <p:cNvGraphicFramePr/>
          <p:nvPr/>
        </p:nvGraphicFramePr>
        <p:xfrm>
          <a:off x="3059280" y="3284640"/>
          <a:ext cx="5041800" cy="3132000"/>
        </p:xfrm>
        <a:graphic>
          <a:graphicData uri="http://schemas.openxmlformats.org/presentationml/2006/ole">
            <p:oleObj r:id="rId1" spid="">
              <p:embed/>
              <p:pic>
                <p:nvPicPr>
                  <p:cNvPr id="692"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6"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graphicFrame>
        <p:nvGraphicFramePr>
          <p:cNvPr id="697" name=""/>
          <p:cNvGraphicFramePr/>
          <p:nvPr/>
        </p:nvGraphicFramePr>
        <p:xfrm>
          <a:off x="3780000" y="3933720"/>
          <a:ext cx="4038480" cy="2808360"/>
        </p:xfrm>
        <a:graphic>
          <a:graphicData uri="http://schemas.openxmlformats.org/presentationml/2006/ole">
            <p:oleObj r:id="rId1" spid="">
              <p:embed/>
              <p:pic>
                <p:nvPicPr>
                  <p:cNvPr id="698"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6480" indent="-449280">
              <a:lnSpc>
                <a:spcPct val="80000"/>
              </a:lnSpc>
              <a:spcBef>
                <a:spcPts val="1800"/>
              </a:spcBef>
              <a:buClr>
                <a:srgbClr val="000000"/>
              </a:buClr>
              <a:buFont typeface="Times New Roman"/>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
        <p:nvSpPr>
          <p:cNvPr id="715"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9280" indent="-449280">
              <a:lnSpc>
                <a:spcPct val="80000"/>
              </a:lnSpc>
              <a:spcBef>
                <a:spcPts val="1800"/>
              </a:spcBef>
              <a:buSzPct val="100000"/>
              <a:buBlip>
                <a:blip r:embed="rId7"/>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2081160" y="1012680"/>
            <a:ext cx="6400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