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D6FFDA-2AC6-49DC-A8A6-C85284C0EE4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72C1833-6D5F-483A-A4B8-D69824C0D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521F17C6-43DD-4CC1-B877-39728A880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FB21DD1D-7D65-4E9B-A238-CB539DDD970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E5299B-FF01-4AEB-9301-22480654FE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6294EE72-52CF-45E1-A8DA-212BA178F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1AF191C7-B2DD-4522-A70B-4C4624C33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ACA89636-6FB8-4378-A766-3CA1C66F4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B2B8F39B-A2E9-4FD6-942E-8CFA64D9EE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91A024D0-4F5E-4970-950F-A9CE5191CC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5144098A-74F5-4A16-9889-8B09C1CD5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F3D932CF-B9CB-43E1-9D51-A11A72A0E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E8F07032-CC73-4791-85A2-AB564FF66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B70A471D-045D-4CA1-841C-0BE76B381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97C4C306-9D35-4A4E-B584-01C7C468A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2654518B-59BF-4931-A089-82C7F1DAD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DE964828-C422-457A-BF25-0A701B51E8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81B3ECE-788D-415A-AEC1-0357A55769E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38F18561-A3E5-4DE7-A397-5308320BBFD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3B1CB3CB-837D-4B96-BB15-26CB9C8C364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692644E8-2927-4BD9-B7F7-1059D7D6F4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5A482AB8-E956-44DD-ADA7-715EBEACE3E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91906C9B-0D4B-42D6-9762-437EB097F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36007441-C1CD-4753-A7AA-C30CB22F512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2AD5B86-0C88-445D-852A-94CE7500CB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E29D2A6-8518-4A93-92D7-E1963081D84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88572BA-3703-4091-8A8E-BD30FE6073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888F342-683A-4523-B80B-25E06842008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D7A0BAFE-5103-458F-8C20-1835EAE8AE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390E4E62-A502-424D-8BCF-A06E2602942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0142457-BBC5-431E-AEA5-91B93D906B8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362E71D5-AAE9-449B-B56A-ED56B54F47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471D61E9-4A0B-4514-A910-8F2BE93D9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BC1F73DD-E374-4FA0-AA39-210A347D0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DF637F4D-E650-4373-82E7-B43AE19AA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B6352C89-414F-4307-86BC-174C5B4E42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5C69CCB6-A3F7-4658-B8AE-D1D82E806B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E7D563A9-363B-4FD6-9806-5B8BA7977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15B792B9-CFB4-4BB7-8C2B-226540A666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791CECD-BD84-468E-9091-A613F20011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1B51BF5-C680-4F1A-BE42-ADC74029D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6220CF1B-C199-4DE8-ADB2-BF5126912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7E7E53CB-C9E9-4D11-AE81-C63492F0239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002FA1F-1881-4148-8CBC-AFFB24B9F8B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B8416B2E-D4E9-4A62-9BAC-F9AEAC854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7F53CB3F-18D7-4DA4-8EC4-2BD9029123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1F189986-1485-4508-B12F-A592B039F9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ED5F8298-36D1-4A2A-91C6-82682A9A01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F9A1BD15-8994-4552-A0DC-AB3A017931B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6AC63F0C-65E7-430E-85CB-B363C425A98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899B948-DD17-4A98-AE91-5602691E79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A21375E1-510A-45B5-A062-4F6A92B534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86A01E55-C3CD-4AD3-AE6C-E5ACDE5B36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4B829770-6398-41A2-9559-26FD8441AC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522918D4-47E1-4394-A6EE-9FC16EFA14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1C0AEB9B-C457-43F9-A198-F8A486D46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F1B4CB96-8B99-495A-BC5F-32AE7138D1C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D3433AC-5F46-4CDE-861F-303E8EDAAC7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A22A3A76-38EA-438C-9C85-96DD9157001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539B9049-85A1-4832-B6EB-3EF358B2B3C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2BCC74F9-5A83-4C46-9A0C-BCD3DE6405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6906BF40-D190-4DFD-A356-1F1FB32EB9B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43B15CFE-316D-4E13-9E39-E0F72ADE5BE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0E33789-27CD-465A-A4F8-DFE4047942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C6033B5-ADF7-4351-9002-6AE0C1248C9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8D1E8DD-CFBB-40AE-9A51-81C9206B795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12D46D1-C2C2-48DC-9881-5B43CB7F6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5D2E74BD-AE51-4819-9170-38C9BCD264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CD72F9BF-E7C2-477C-A0FE-EA34743D6B7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4455C3EE-DE97-4ED1-82FF-3BA52E4DB5B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D75FF13-7410-49F5-BCFD-36B8B135412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9C1878E7-E80C-4D42-9244-866E291D03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F4872BD8-3025-43F3-BEC5-5BF56AFC72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A658763-19AC-4F23-BA71-E83396DD26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F828D02A-A71C-4C81-BEC8-8E3BC27060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CEA609AD-04BE-4556-944C-EF5731E951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715D9D48-57CD-4FE4-BAB7-A3A3740224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523430A-6CFC-4B52-99AF-0A89EC593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F791F84-B510-47AD-8CB4-E7CB42E9E8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53A4EB0-84C7-46EF-9F11-D02EB373D5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18BB0581-3C15-468A-9EB4-AC2C277957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D1A0256D-632E-4156-B74F-ACCA921F0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6814A9F0-6530-452C-BA3D-546559103CF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39353D2-586C-42E1-BED3-19E9F08F285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96DD8E-F2FA-4CCC-A365-C03847E0EB6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1F90563-B12C-431D-809D-F14B438FC99F}"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69122D9-E4CB-4812-BE85-1C5AE112AF1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CD30596-B670-4A51-8817-1BEE0F23EB5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4367688-0068-4CC0-8234-5C17480F22B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A1C1548-EBE1-4BB8-8A26-00FF29B2F8D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2B4540E-8D8E-43C1-8F2D-5279D8EF5B5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7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000000"/>
              </a:solidFill>
              <a:latin typeface="Arial"/>
            </a:endParaRPr>
          </a:p>
        </p:txBody>
      </p:sp>
      <p:sp>
        <p:nvSpPr>
          <p:cNvPr id="6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6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06"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15"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3" name=""/>
          <p:cNvGrpSpPr/>
          <p:nvPr/>
        </p:nvGrpSpPr>
        <p:grpSpPr>
          <a:xfrm>
            <a:off x="2149920" y="3357720"/>
            <a:ext cx="2350800" cy="1627200"/>
            <a:chOff x="2149920" y="3357720"/>
            <a:chExt cx="2350800" cy="1627200"/>
          </a:xfrm>
        </p:grpSpPr>
        <p:sp>
          <p:nvSpPr>
            <p:cNvPr id="724" name=""/>
            <p:cNvSpPr/>
            <p:nvPr/>
          </p:nvSpPr>
          <p:spPr>
            <a:xfrm>
              <a:off x="2449440" y="3409920"/>
              <a:ext cx="2051280" cy="15750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2414520" y="3357720"/>
              <a:ext cx="2051280" cy="15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417760" y="3983040"/>
              <a:ext cx="20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214992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28" name=""/>
            <p:cNvSpPr/>
            <p:nvPr/>
          </p:nvSpPr>
          <p:spPr>
            <a:xfrm>
              <a:off x="2417760" y="3662280"/>
              <a:ext cx="2043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a:off x="2417760" y="4417920"/>
              <a:ext cx="204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0" name=""/>
            <p:cNvSpPr/>
            <p:nvPr/>
          </p:nvSpPr>
          <p:spPr>
            <a:xfrm>
              <a:off x="314316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28788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43368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57840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43756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35"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36" name=""/>
            <p:cNvSpPr/>
            <p:nvPr/>
          </p:nvSpPr>
          <p:spPr>
            <a:xfrm>
              <a:off x="289404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37"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38" name=""/>
            <p:cNvSpPr/>
            <p:nvPr/>
          </p:nvSpPr>
          <p:spPr>
            <a:xfrm>
              <a:off x="357984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39" name=""/>
            <p:cNvSpPr/>
            <p:nvPr/>
          </p:nvSpPr>
          <p:spPr>
            <a:xfrm>
              <a:off x="34657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0" name=""/>
          <p:cNvGrpSpPr/>
          <p:nvPr/>
        </p:nvGrpSpPr>
        <p:grpSpPr>
          <a:xfrm>
            <a:off x="6048000" y="2133720"/>
            <a:ext cx="2845080" cy="4441680"/>
            <a:chOff x="6048000" y="2133720"/>
            <a:chExt cx="2845080" cy="4441680"/>
          </a:xfrm>
        </p:grpSpPr>
        <p:sp>
          <p:nvSpPr>
            <p:cNvPr id="741" name=""/>
            <p:cNvSpPr/>
            <p:nvPr/>
          </p:nvSpPr>
          <p:spPr>
            <a:xfrm>
              <a:off x="6461280" y="217800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418440" y="2133720"/>
              <a:ext cx="2431800" cy="12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4800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44" name=""/>
            <p:cNvSpPr/>
            <p:nvPr/>
          </p:nvSpPr>
          <p:spPr>
            <a:xfrm>
              <a:off x="6423120" y="264960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a:off x="6423120" y="239076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
            <p:cNvSpPr/>
            <p:nvPr/>
          </p:nvSpPr>
          <p:spPr>
            <a:xfrm>
              <a:off x="6423120" y="3003480"/>
              <a:ext cx="243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728352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45488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26240" y="2390760"/>
              <a:ext cx="180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79940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7280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2"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3" name=""/>
            <p:cNvSpPr/>
            <p:nvPr/>
          </p:nvSpPr>
          <p:spPr>
            <a:xfrm>
              <a:off x="703440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54"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55" name=""/>
            <p:cNvSpPr/>
            <p:nvPr/>
          </p:nvSpPr>
          <p:spPr>
            <a:xfrm>
              <a:off x="783108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56" name=""/>
            <p:cNvSpPr/>
            <p:nvPr/>
          </p:nvSpPr>
          <p:spPr>
            <a:xfrm>
              <a:off x="76694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57" name=""/>
            <p:cNvSpPr/>
            <p:nvPr/>
          </p:nvSpPr>
          <p:spPr>
            <a:xfrm>
              <a:off x="6461280" y="3726000"/>
              <a:ext cx="2431800" cy="129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418440" y="3684600"/>
              <a:ext cx="2431800" cy="129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423120" y="420228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a:off x="6423120" y="39434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6423120" y="4557600"/>
              <a:ext cx="242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728964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6280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3416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807320" y="3943440"/>
              <a:ext cx="144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8072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67" name=""/>
            <p:cNvSpPr/>
            <p:nvPr/>
          </p:nvSpPr>
          <p:spPr>
            <a:xfrm>
              <a:off x="704700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8"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9" name=""/>
            <p:cNvSpPr/>
            <p:nvPr/>
          </p:nvSpPr>
          <p:spPr>
            <a:xfrm>
              <a:off x="780660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0" name=""/>
            <p:cNvSpPr/>
            <p:nvPr/>
          </p:nvSpPr>
          <p:spPr>
            <a:xfrm>
              <a:off x="76773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1"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2" name=""/>
            <p:cNvSpPr/>
            <p:nvPr/>
          </p:nvSpPr>
          <p:spPr>
            <a:xfrm>
              <a:off x="6461280" y="527832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18440" y="5235480"/>
              <a:ext cx="243180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423120" y="57578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flipH="1">
              <a:off x="6418440" y="5499000"/>
              <a:ext cx="24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6423120" y="611352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a:off x="729612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46928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64064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1380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8864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2"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3" name=""/>
            <p:cNvSpPr/>
            <p:nvPr/>
          </p:nvSpPr>
          <p:spPr>
            <a:xfrm>
              <a:off x="705168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84"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85" name=""/>
            <p:cNvSpPr/>
            <p:nvPr/>
          </p:nvSpPr>
          <p:spPr>
            <a:xfrm>
              <a:off x="781812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86" name=""/>
            <p:cNvSpPr/>
            <p:nvPr/>
          </p:nvSpPr>
          <p:spPr>
            <a:xfrm>
              <a:off x="768348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87"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2"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7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79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900" spc="-1" strike="noStrike">
              <a:solidFill>
                <a:srgbClr val="000000"/>
              </a:solidFill>
              <a:latin typeface="Arial"/>
            </a:endParaRPr>
          </a:p>
        </p:txBody>
      </p:sp>
      <p:sp>
        <p:nvSpPr>
          <p:cNvPr id="8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8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35622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1"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26"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2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3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39" name=""/>
          <p:cNvSpPr/>
          <p:nvPr/>
        </p:nvSpPr>
        <p:spPr>
          <a:xfrm>
            <a:off x="2664000" y="2852640"/>
            <a:ext cx="6229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Pnet = getnet(dgram.destI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IPnet,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oute != NOT_FOUN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efault, tabl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 != NOT_FOUND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error(dgram, "Net Unreach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905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