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4.png" ContentType="image/png"/>
  <Override PartName="/ppt/media/image5.png" ContentType="image/png"/>
  <Override PartName="/ppt/media/image10.png" ContentType="image/png"/>
  <Override PartName="/ppt/media/image3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F3D33F-578E-4A0B-B170-7853294891D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418E1E5B-02C5-4943-8588-4AF9A6FB0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06BE8725-E218-48E9-A475-8289ED427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02A84A6A-AAC5-427F-B22A-4886B8F1E91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10FA12-CEF1-412E-A6A2-7F89E1CDC7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FD8924A2-920F-4308-9F2F-E1900F7218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89601884-5463-4A2D-BCB5-99614D462A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F31F191A-9984-4BB2-A2FF-491CFF9A04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5AD4E45D-A9E4-4295-9CFF-64702E12A9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83104D8B-1BE7-41E4-BEE9-B419E78FD1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DB4866DE-4422-4464-83FE-82039D0F8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F1A33536-7227-4F7F-8245-EADADB1CA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05C87496-4BEC-4822-BBAA-9C8A813B7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A3635E28-58BA-48E1-8D62-0BAE17F29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ADE4CF47-EB90-4713-BA5C-CA403C42FC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8C64E2E7-8A3F-459E-996F-9C39E97279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B75ADC15-5C1F-450A-A377-7ECC223985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820A213-5F15-4982-8A3E-BFE273EC725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3A07DF3A-A1D8-4C4B-85BB-B166AD56EFC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FD5A056A-6C2B-40D5-A6BA-75B28358F37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3B4F6DE9-9147-4C96-BA0F-9DD9FC945E9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F379837E-DFC7-4B38-8746-CCEBB313642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C1B2A7B2-32C6-41DA-8CD3-84F47754A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A3C6520E-FA5D-4185-8D00-14EFA05BC7A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9589A412-794E-42C2-B388-34AB0E49EFB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28B42795-4FCF-4DDB-8338-B7150CF15A5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FD9C397A-B0F5-4B99-90FD-5393A561EF1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D2AB94D0-FEBF-4E1A-B481-41B4B3F0931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C264CD4B-F3D6-4AA9-8D2A-2448C1D10F1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17BCDB85-8B0F-4FE9-A7C7-2169187664D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1632C93-9E68-4551-8466-8382D60A286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F5F65DF5-B9FD-4070-AA7D-9ADCF8E93E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9090DA7D-E471-45C2-87E9-E310980163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9EA59A1C-E8F2-4209-82BC-63E1FD8D9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036E7DAC-D0AA-44EF-A5A3-1028DA561C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24C3BF70-5398-4B13-B7D9-9168471552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79FD9A20-71B1-4644-A7BC-838DAF5129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6E67FEED-B234-473E-BBCD-529A9FCAB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BE7E1317-02D3-4E0B-A24A-3D49D1C4DF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0543818E-2659-4167-809C-93994CB283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0513DE34-D613-4CCB-80DE-948347C358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E352CE91-7FB4-4876-B094-8817E67EA1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D74CEA33-12A2-4557-83DE-AB0FE264D16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027D16F-2AC7-4BDA-B8A9-A8B5C15FBA3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B33FE287-CD3A-4B87-867F-D7A4909DF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E4BBF422-07A2-4418-A532-7D5394D1B7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458EFDA6-F331-4684-B8F2-FAFA3175AD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F349C9A9-E34D-4307-9202-250B965863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57C20ACF-5FD0-4FB0-BE02-017F98B4428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36ABF868-9860-406C-9DA0-487BED0B7C6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A2DCBA5-8142-455F-B35A-D588D55A29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28EE846E-0308-4884-94D1-534F42FD83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CDE02DD-FCC5-495D-94D2-F359B6BC3B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13772470-6DDE-42DC-921B-18F366B765D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EFE53230-2E5D-4CDA-8437-FD4C4EF2B1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811B238B-EC8D-4B13-B8CF-ADEE8B9C4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6CA5BB60-42C0-4314-98D4-5C776BDBCA4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C89C2EC-521D-4F13-826B-20CFB5A0EA3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CCEDBDB1-0917-4847-9FD0-687B9295931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544FF6FB-DD83-4F41-A4EF-984CD4A0762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EF6B4F0B-E794-455B-B86A-9D288A599E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390BD944-D2E8-4DFF-A942-6253B38A4E6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22F03D99-86CC-4563-AC85-4A93F39741A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BF008E0B-0320-4E62-AC91-EF049C5FA10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C3656C3F-1134-4D5E-BCBD-EFF50860B3C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3EC441D8-D0F0-4658-BAAA-68E48045F3E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9924EA0-8F18-4428-B02A-123CF277C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8B0D14B0-E054-4D66-968C-B8A0F08BCD9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07A03B77-0BF4-4760-83B9-A59C67C0DFC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7A5D22D4-EE9A-4AEC-85D3-603D254DEEF4}"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DA42B6B-B4D5-47AC-8E14-D087CA3D1F1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BEEF8AED-F4EF-4301-9207-B895905C0E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4C334CC8-8A87-44E1-AA8E-E926170F5B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B6492ECC-25DD-44E8-9E81-784650AA97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C78A1FB8-EC6A-4D76-AF18-08EE76C722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AAB73830-E1BC-4BC2-80D7-51434AA513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4F9276DB-5438-43BA-9A23-6E71ECA277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B902B7BD-42C1-4619-961A-611F84A69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0219D06A-E60E-4904-B7F7-7AC02A0867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593AD960-00B3-4745-B807-0BB22C7049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F7DE342B-A7E6-4EEB-BB45-2AAEEA2907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5E5101A0-8D3D-4DC8-9FC3-1AA233914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E1CD445D-9CE0-4F67-8C31-BE7D3247225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7EA7F40-2A27-4D6D-9913-992892222EA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31006E-14B3-49E8-9AE8-01C20ED8BEAB}"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6393CB4-3E65-402D-AB7A-75F91250F854}"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903392B-9EFD-4234-89FD-6DE5106B5D7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06FECAF-7A5D-4DC2-9878-C1C38BD3DAF1}"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626FFAC-C9AC-4521-AB7C-EF3F56AFD8E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32C8972-69C5-48E2-9A29-DAF867B0416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C8C7FD7-E879-44CC-A7F1-AF85FABFEA3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1828800" y="5611680"/>
            <a:ext cx="1371600" cy="101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