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3400" y="676080"/>
            <a:ext cx="4603680" cy="34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3890880" y="8894880"/>
            <a:ext cx="29926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AutoShape 1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67" name="Group 2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268" name="AutoShape 3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" name="Text Box 4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70" name="AutoShape 5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AutoShape 6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AutoShape 1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18" name="Group 2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319" name="AutoShape 3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0" name="Text Box 4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21" name="AutoShape 5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AutoShape 6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AutoShape 1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26" name="Group 2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327" name="AutoShape 3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Text Box 4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29" name="AutoShape 5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AutoShape 6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AutoShape 2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34" name="Group 3"/>
          <p:cNvGrpSpPr/>
          <p:nvPr/>
        </p:nvGrpSpPr>
        <p:grpSpPr>
          <a:xfrm>
            <a:off x="3900600" y="8715240"/>
            <a:ext cx="2914560" cy="425520"/>
            <a:chOff x="3900600" y="8715240"/>
            <a:chExt cx="2914560" cy="425520"/>
          </a:xfrm>
        </p:grpSpPr>
        <p:sp>
          <p:nvSpPr>
            <p:cNvPr id="335" name="AutoShape 4"/>
            <p:cNvSpPr/>
            <p:nvPr/>
          </p:nvSpPr>
          <p:spPr>
            <a:xfrm>
              <a:off x="3900600" y="8715240"/>
              <a:ext cx="2914560" cy="42552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Text Box 5"/>
            <p:cNvSpPr/>
            <p:nvPr/>
          </p:nvSpPr>
          <p:spPr>
            <a:xfrm>
              <a:off x="3900600" y="8996040"/>
              <a:ext cx="291456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37" name="AutoShape 6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AutoShape 7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AutoShape 1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42" name="Group 2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343" name="AutoShape 3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Text Box 4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45" name="AutoShape 5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AutoShape 2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50" name="Group 3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351" name="AutoShape 4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Text Box 5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53" name="AutoShape 6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AutoShape 7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AutoShape 1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58" name="Group 2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359" name="AutoShape 3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Text Box 4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61" name="AutoShape 5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AutoShape 6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AutoShape 1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66" name="Group 2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367" name="AutoShape 3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8" name="Text Box 4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69" name="AutoShape 5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AutoShape 6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AutoShape 1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74" name="Group 2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375" name="AutoShape 3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" name="Text Box 4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77" name="AutoShape 5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AutoShape 6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AutoShape 2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82" name="Group 3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383" name="AutoShape 4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Text Box 5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85" name="AutoShape 6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AutoShape 7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AutoShape 1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90" name="Group 2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391" name="AutoShape 3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Text Box 4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93" name="AutoShape 5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AutoShape 6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AutoShape 1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98" name="Group 2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399" name="AutoShape 3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Text Box 4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01" name="AutoShape 5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AutoShape 6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AutoShape 1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06" name="Group 2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407" name="AutoShape 3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Text Box 4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09" name="AutoShape 5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AutoShape 6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AutoShape 1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14" name="Group 2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415" name="AutoShape 3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Text Box 4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17" name="AutoShape 5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AutoShape 6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AutoShape 2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22" name="Group 3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423" name="AutoShape 4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Text Box 5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25" name="AutoShape 6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AutoShape 7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AutoShape 2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30" name="Group 3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431" name="AutoShape 4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Text Box 5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33" name="AutoShape 6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AutoShape 7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D39F-992E-4856-888D-2250E1BAD815}" type="slidenum"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755720" y="762120"/>
            <a:ext cx="3351240" cy="25146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898200" y="4349520"/>
            <a:ext cx="5011560" cy="41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AutoShape 1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78" name="Group 2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279" name="AutoShape 3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" name="Text Box 4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1" name="AutoShape 5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AutoShape 6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AutoShape 1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86" name="Group 2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287" name="AutoShape 3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Text Box 4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9" name="AutoShape 5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AutoShape 6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AutoShape 1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94" name="Group 2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295" name="AutoShape 3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Text Box 4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97" name="AutoShape 5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AutoShape 6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AutoShape 1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02" name="Group 2"/>
          <p:cNvGrpSpPr/>
          <p:nvPr/>
        </p:nvGrpSpPr>
        <p:grpSpPr>
          <a:xfrm>
            <a:off x="3900600" y="8715240"/>
            <a:ext cx="2913120" cy="424080"/>
            <a:chOff x="3900600" y="8715240"/>
            <a:chExt cx="2913120" cy="424080"/>
          </a:xfrm>
        </p:grpSpPr>
        <p:sp>
          <p:nvSpPr>
            <p:cNvPr id="303" name="AutoShape 3"/>
            <p:cNvSpPr/>
            <p:nvPr/>
          </p:nvSpPr>
          <p:spPr>
            <a:xfrm>
              <a:off x="3900600" y="8715240"/>
              <a:ext cx="2913120" cy="42408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Text Box 4"/>
            <p:cNvSpPr/>
            <p:nvPr/>
          </p:nvSpPr>
          <p:spPr>
            <a:xfrm>
              <a:off x="3900600" y="8994600"/>
              <a:ext cx="2913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05" name="AutoShape 5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AutoShape 6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AutoShape 2"/>
          <p:cNvSpPr/>
          <p:nvPr/>
        </p:nvSpPr>
        <p:spPr>
          <a:xfrm>
            <a:off x="3900600" y="0"/>
            <a:ext cx="291780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10" name="Group 3"/>
          <p:cNvGrpSpPr/>
          <p:nvPr/>
        </p:nvGrpSpPr>
        <p:grpSpPr>
          <a:xfrm>
            <a:off x="3900600" y="8715240"/>
            <a:ext cx="2914560" cy="425520"/>
            <a:chOff x="3900600" y="8715240"/>
            <a:chExt cx="2914560" cy="425520"/>
          </a:xfrm>
        </p:grpSpPr>
        <p:sp>
          <p:nvSpPr>
            <p:cNvPr id="311" name="AutoShape 4"/>
            <p:cNvSpPr/>
            <p:nvPr/>
          </p:nvSpPr>
          <p:spPr>
            <a:xfrm>
              <a:off x="3900600" y="8715240"/>
              <a:ext cx="2914560" cy="42552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Text Box 5"/>
            <p:cNvSpPr/>
            <p:nvPr/>
          </p:nvSpPr>
          <p:spPr>
            <a:xfrm>
              <a:off x="3900600" y="8996040"/>
              <a:ext cx="291456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0" bIns="0" anchor="b">
              <a:spAutoFit/>
            </a:bodyPr>
            <a:p>
              <a:pPr algn="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13" name="AutoShape 6"/>
          <p:cNvSpPr/>
          <p:nvPr/>
        </p:nvSpPr>
        <p:spPr>
          <a:xfrm>
            <a:off x="-38160" y="871524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AutoShape 7"/>
          <p:cNvSpPr/>
          <p:nvPr/>
        </p:nvSpPr>
        <p:spPr>
          <a:xfrm>
            <a:off x="-38160" y="0"/>
            <a:ext cx="2994120" cy="428760"/>
          </a:xfrm>
          <a:prstGeom prst="roundRect">
            <a:avLst>
              <a:gd name="adj" fmla="val 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898200" y="4354200"/>
            <a:ext cx="5011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440" y="41274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596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820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44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164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820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440" y="609480"/>
            <a:ext cx="77677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63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596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b9f"/>
            </a:gs>
            <a:gs pos="100000">
              <a:srgbClr val="ffffc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8360" indent="-281160">
              <a:spcBef>
                <a:spcPts val="1463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1463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1463"/>
              </a:spcBef>
              <a:buClr>
                <a:srgbClr val="000066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1463"/>
              </a:spcBef>
              <a:buClr>
                <a:srgbClr val="000066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1463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1463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0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b9f"/>
            </a:gs>
            <a:gs pos="100000">
              <a:srgbClr val="ffffc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75096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a50021"/>
                </a:solidFill>
                <a:latin typeface="Tahoma"/>
                <a:ea typeface="Times New Roman"/>
              </a:rPr>
              <a:t>Introducción a la Arquitectura de Software: </a:t>
            </a:r>
            <a:br>
              <a:rPr sz="3600"/>
            </a:br>
            <a:br>
              <a:rPr sz="3600"/>
            </a:br>
            <a:r>
              <a:rPr b="0" i="1" lang="en-GB" sz="3600" spc="-1" strike="noStrike">
                <a:solidFill>
                  <a:srgbClr val="a50021"/>
                </a:solidFill>
                <a:latin typeface="Tahoma"/>
              </a:rPr>
              <a:t>Arquitecturas de Software Genéricas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grpSp>
        <p:nvGrpSpPr>
          <p:cNvPr id="48" name="Group 4"/>
          <p:cNvGrpSpPr/>
          <p:nvPr/>
        </p:nvGrpSpPr>
        <p:grpSpPr>
          <a:xfrm>
            <a:off x="1295280" y="3798720"/>
            <a:ext cx="6397920" cy="2816640"/>
            <a:chOff x="1295280" y="3798720"/>
            <a:chExt cx="6397920" cy="2816640"/>
          </a:xfrm>
        </p:grpSpPr>
        <p:sp>
          <p:nvSpPr>
            <p:cNvPr id="49" name="AutoShape 5"/>
            <p:cNvSpPr/>
            <p:nvPr/>
          </p:nvSpPr>
          <p:spPr>
            <a:xfrm>
              <a:off x="1295280" y="3798720"/>
              <a:ext cx="6397920" cy="1751040"/>
            </a:xfrm>
            <a:prstGeom prst="roundRect">
              <a:avLst>
                <a:gd name="adj" fmla="val 8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" name="Text Box 6"/>
            <p:cNvSpPr/>
            <p:nvPr/>
          </p:nvSpPr>
          <p:spPr>
            <a:xfrm>
              <a:off x="1295280" y="3798720"/>
              <a:ext cx="6397920" cy="281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463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463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66"/>
                  </a:solidFill>
                  <a:latin typeface="Tahoma"/>
                </a:rPr>
                <a:t>Primavera de 20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463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13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66"/>
                  </a:solidFill>
                  <a:latin typeface="Tahoma"/>
                </a:rPr>
                <a:t>Prof. Sergio Ochoa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13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66"/>
                  </a:solidFill>
                  <a:latin typeface="Tahoma"/>
                </a:rPr>
                <a:t>sochoa@dcc.uchile.c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13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66"/>
                  </a:solidFill>
                  <a:latin typeface="Tahoma"/>
                </a:rPr>
                <a:t>DCC, Univ. de Chil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b9f"/>
            </a:gs>
            <a:gs pos="100000">
              <a:srgbClr val="ffffc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1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AutoShape 2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336600"/>
            <a:ext cx="8458200" cy="11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Tahoma"/>
              </a:rPr>
              <a:t>Características del Modelo de Repositorio (1)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1760" y="175896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4440" indent="0">
              <a:spcBef>
                <a:spcPts val="1349"/>
              </a:spcBef>
              <a:spcAft>
                <a:spcPts val="901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Como todos los modelos, éste tiene ventajas y desventaj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4440" indent="-334440">
              <a:spcBef>
                <a:spcPts val="1349"/>
              </a:spcBef>
              <a:spcAft>
                <a:spcPts val="901"/>
              </a:spcAft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ahoma"/>
              </a:rPr>
              <a:t>Ventaja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0800" indent="-278280">
              <a:spcBef>
                <a:spcPts val="1125"/>
              </a:spcBef>
              <a:spcAft>
                <a:spcPts val="751"/>
              </a:spcAft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Es una forma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 eficiente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de 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compartir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grandes volúmenes de 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datos.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0800" indent="-278280">
              <a:spcBef>
                <a:spcPts val="1125"/>
              </a:spcBef>
              <a:spcAft>
                <a:spcPts val="751"/>
              </a:spcAft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Los sub-sistemas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que producen datos 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no necesitan saber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cómo estos datos serán utilizad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0800" indent="-278280">
              <a:spcBef>
                <a:spcPts val="1125"/>
              </a:spcBef>
              <a:spcAft>
                <a:spcPts val="751"/>
              </a:spcAft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Proporciona un 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manejo centralizado de los datos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producidos, lo cual facilita su administración (respaldo, seguridad, etc)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0800" indent="-278280">
              <a:spcBef>
                <a:spcPts val="1125"/>
              </a:spcBef>
              <a:spcAft>
                <a:spcPts val="751"/>
              </a:spcAft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El modelo permite 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compartir facilmente los datos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del repositorio, con todos los subsistemas (existentes o futuros).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0800" indent="-278280">
              <a:spcBef>
                <a:spcPts val="1125"/>
              </a:spcBef>
              <a:spcAft>
                <a:spcPts val="751"/>
              </a:spcAft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El sistema se vuelve 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más fácil de mantener, extender y escalar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b9f"/>
            </a:gs>
            <a:gs pos="100000">
              <a:srgbClr val="ffffc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1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AutoShape 2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-50760"/>
            <a:ext cx="8458200" cy="11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Tahoma"/>
              </a:rPr>
              <a:t>Características del Modelo de Repositorio (2)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27600" indent="-327600">
              <a:spcBef>
                <a:spcPts val="1199"/>
              </a:spcBef>
              <a:spcAft>
                <a:spcPts val="1049"/>
              </a:spcAft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ahoma"/>
              </a:rPr>
              <a:t>Desventaja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16040" indent="-272520">
              <a:spcBef>
                <a:spcPts val="1001"/>
              </a:spcBef>
              <a:spcAft>
                <a:spcPts val="876"/>
              </a:spcAft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Los sub-sistemas 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deben hacer 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coincidir sus modelos de datos,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con el del repositorio, lo cual es inevitablemente un compromis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6040" indent="-272520">
              <a:spcBef>
                <a:spcPts val="1001"/>
              </a:spcBef>
              <a:spcAft>
                <a:spcPts val="876"/>
              </a:spcAft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Los cambios 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en el modelo de datos 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son caros y difíciles 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de implementar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6040" indent="-272520">
              <a:spcBef>
                <a:spcPts val="1001"/>
              </a:spcBef>
              <a:spcAft>
                <a:spcPts val="876"/>
              </a:spcAft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El modelo de repositorio fuerza a que todos 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los subsistemas unifiquen la política de administración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de sus dat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6040" indent="-272520">
              <a:spcBef>
                <a:spcPts val="1001"/>
              </a:spcBef>
              <a:spcAft>
                <a:spcPts val="876"/>
              </a:spcAft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El repositorio se vuelve un 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punto vulnerable.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Por otra parte, es dificil distribuir el repositorio en diferentes máquinas, ya que esto tiene una complejidad y un costo similar a las B.D. distribuid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6040" indent="-272520">
              <a:spcBef>
                <a:spcPts val="1001"/>
              </a:spcBef>
              <a:spcAft>
                <a:spcPts val="876"/>
              </a:spcAft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El conocimiento del negocio está distribuido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(y a veces replicado) en diferentes subsistem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2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AutoShape 3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30556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Tahoma"/>
              </a:rPr>
              <a:t>Repositorio: Modelo Estructural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785960" y="1071720"/>
            <a:ext cx="5572080" cy="55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b9f"/>
            </a:gs>
            <a:gs pos="100000">
              <a:srgbClr val="ffffc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1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AutoShape 2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192240"/>
            <a:ext cx="8458200" cy="11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Tahoma"/>
              </a:rPr>
              <a:t>Características del Modelo de Repositorio (3)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61424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spcBef>
                <a:spcPts val="2100"/>
              </a:spcBef>
              <a:spcAft>
                <a:spcPts val="1199"/>
              </a:spcAft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El modelo de 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repositorio es pasivo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, el control corre por cuenta de los sistemas involucrad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8040" indent="-338040">
              <a:spcBef>
                <a:spcPts val="2100"/>
              </a:spcBef>
              <a:spcAft>
                <a:spcPts val="1199"/>
              </a:spcAft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Existe una 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variante 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a este modelo, la cual es conocida como el modelo de </a:t>
            </a:r>
            <a:r>
              <a:rPr b="0" i="1" lang="en-GB" sz="2400" spc="-1" strike="noStrike">
                <a:solidFill>
                  <a:srgbClr val="cc3300"/>
                </a:solidFill>
                <a:latin typeface="Tahoma"/>
              </a:rPr>
              <a:t>pizarrón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8040" indent="-338040">
              <a:spcBef>
                <a:spcPts val="2100"/>
              </a:spcBef>
              <a:spcAft>
                <a:spcPts val="1199"/>
              </a:spcAft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Este modelo mantiene una arquitectura general, similar a la de repositorio, pero 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es proactivo…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8040" indent="-338040">
              <a:spcBef>
                <a:spcPts val="2100"/>
              </a:spcBef>
              <a:spcAft>
                <a:spcPts val="1199"/>
              </a:spcAft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Cada vez que llegan datos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 al repositorio, éste 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hace una notificación inteligente 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a todos los subsistemas involucrad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2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AutoShape 3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15920"/>
            <a:ext cx="8458200" cy="11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Tahoma"/>
              </a:rPr>
              <a:t>Variante del Modelo de Repositorio: </a:t>
            </a:r>
            <a:r>
              <a:rPr b="1" lang="en-GB" sz="3600" spc="-1" strike="noStrike">
                <a:solidFill>
                  <a:srgbClr val="a50021"/>
                </a:solidFill>
                <a:latin typeface="Tahoma"/>
              </a:rPr>
              <a:t>Pizarrón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1"/>
          <a:stretch/>
        </p:blipFill>
        <p:spPr>
          <a:xfrm>
            <a:off x="4427640" y="4014720"/>
            <a:ext cx="4716360" cy="2870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tretch/>
        </p:blipFill>
        <p:spPr>
          <a:xfrm>
            <a:off x="0" y="1265400"/>
            <a:ext cx="4861080" cy="26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43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ente-Servidor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57240" y="39600"/>
            <a:ext cx="90295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b9f"/>
            </a:gs>
            <a:gs pos="100000">
              <a:srgbClr val="ffffc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1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AutoShape 2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-21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Tahoma"/>
              </a:rPr>
              <a:t>Modelo Cliente-Servidor (1)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19808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0680" indent="-310680">
              <a:lnSpc>
                <a:spcPct val="90000"/>
              </a:lnSpc>
              <a:spcBef>
                <a:spcPts val="1199"/>
              </a:spcBef>
              <a:spcAft>
                <a:spcPts val="751"/>
              </a:spcAft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Este modelo brinda 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otra alternativa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 para estructurar los sistem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0680" indent="-310680">
              <a:lnSpc>
                <a:spcPct val="90000"/>
              </a:lnSpc>
              <a:spcBef>
                <a:spcPts val="1199"/>
              </a:spcBef>
              <a:spcAft>
                <a:spcPts val="751"/>
              </a:spcAft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Es un 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modelo de Sistemas Distribuido (parcialmente distribuido)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, el cual muestra cómo los 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datos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 y el 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procesamiento se distribuye 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entre un rango de computadores.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0680" indent="-310680">
              <a:lnSpc>
                <a:spcPct val="90000"/>
              </a:lnSpc>
              <a:spcBef>
                <a:spcPts val="1199"/>
              </a:spcBef>
              <a:spcAft>
                <a:spcPts val="751"/>
              </a:spcAft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Típicamente, está compuesto por 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tres component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78960" indent="-258480">
              <a:lnSpc>
                <a:spcPct val="90000"/>
              </a:lnSpc>
              <a:spcBef>
                <a:spcPts val="1001"/>
              </a:spcBef>
              <a:spcAft>
                <a:spcPts val="624"/>
              </a:spcAft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Conjunto de </a:t>
            </a:r>
            <a:r>
              <a:rPr b="1" i="1" lang="en-GB" sz="2000" spc="-1" strike="noStrike">
                <a:solidFill>
                  <a:srgbClr val="000066"/>
                </a:solidFill>
                <a:latin typeface="Tahoma"/>
              </a:rPr>
              <a:t>servidores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“stand-alone”, los cuales proporcionan servicios específicos como impresión, manejo de datos, etc.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78960" indent="-258480">
              <a:lnSpc>
                <a:spcPct val="90000"/>
              </a:lnSpc>
              <a:spcBef>
                <a:spcPts val="1001"/>
              </a:spcBef>
              <a:spcAft>
                <a:spcPts val="624"/>
              </a:spcAft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Conjunto de </a:t>
            </a:r>
            <a:r>
              <a:rPr b="1" i="1" lang="en-GB" sz="2000" spc="-1" strike="noStrike">
                <a:solidFill>
                  <a:srgbClr val="000066"/>
                </a:solidFill>
                <a:latin typeface="Tahoma"/>
              </a:rPr>
              <a:t>clientes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que llaman a estos servicios.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78960" indent="-258480">
              <a:lnSpc>
                <a:spcPct val="90000"/>
              </a:lnSpc>
              <a:spcBef>
                <a:spcPts val="1001"/>
              </a:spcBef>
              <a:spcAft>
                <a:spcPts val="624"/>
              </a:spcAft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66"/>
                </a:solidFill>
                <a:latin typeface="Tahoma"/>
              </a:rPr>
              <a:t>Redes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que permiten que los clientes accedan a los servidor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10680" indent="-310680">
              <a:lnSpc>
                <a:spcPct val="90000"/>
              </a:lnSpc>
              <a:spcBef>
                <a:spcPts val="1199"/>
              </a:spcBef>
              <a:spcAft>
                <a:spcPts val="751"/>
              </a:spcAft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Este modelo cuenta con la 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arquitectura 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básica 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más utilizada en la actualidad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b9f"/>
            </a:gs>
            <a:gs pos="100000">
              <a:srgbClr val="ffffc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1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AutoShape 2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0320" y="573408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a50021"/>
                </a:solidFill>
                <a:latin typeface="Tahoma"/>
              </a:rPr>
              <a:t>Ejemplo: Arq. de un Sistema Bibliotecario de Películas e Imágenes</a:t>
            </a:r>
            <a:endParaRPr b="0" lang="en-US" sz="2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31" name="Oval 4"/>
          <p:cNvSpPr/>
          <p:nvPr/>
        </p:nvSpPr>
        <p:spPr>
          <a:xfrm>
            <a:off x="996840" y="1606680"/>
            <a:ext cx="978120" cy="5968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69696"/>
              </a:gs>
            </a:gsLst>
            <a:lin ang="162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048320" y="1698480"/>
            <a:ext cx="88920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Cliente 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Oval 6"/>
          <p:cNvSpPr/>
          <p:nvPr/>
        </p:nvSpPr>
        <p:spPr>
          <a:xfrm>
            <a:off x="2901960" y="1606680"/>
            <a:ext cx="977760" cy="5968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69696"/>
              </a:gs>
            </a:gsLst>
            <a:lin ang="162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2953440" y="1698480"/>
            <a:ext cx="88920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Cliente 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Oval 8"/>
          <p:cNvSpPr/>
          <p:nvPr/>
        </p:nvSpPr>
        <p:spPr>
          <a:xfrm>
            <a:off x="4959360" y="1606680"/>
            <a:ext cx="977760" cy="5968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69696"/>
              </a:gs>
            </a:gsLst>
            <a:lin ang="162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5010840" y="1698480"/>
            <a:ext cx="88920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Cliente 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Oval 10"/>
          <p:cNvSpPr/>
          <p:nvPr/>
        </p:nvSpPr>
        <p:spPr>
          <a:xfrm>
            <a:off x="7016760" y="1606680"/>
            <a:ext cx="977760" cy="5968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69696"/>
              </a:gs>
            </a:gsLst>
            <a:lin ang="162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7068240" y="1698480"/>
            <a:ext cx="88920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Cliente 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AutoShape 12"/>
          <p:cNvSpPr/>
          <p:nvPr/>
        </p:nvSpPr>
        <p:spPr>
          <a:xfrm>
            <a:off x="844560" y="2825640"/>
            <a:ext cx="7302600" cy="520920"/>
          </a:xfrm>
          <a:prstGeom prst="roundRect">
            <a:avLst>
              <a:gd name="adj" fmla="val 301"/>
            </a:avLst>
          </a:prstGeom>
          <a:gradFill rotWithShape="0">
            <a:gsLst>
              <a:gs pos="0">
                <a:srgbClr val="fefefe"/>
              </a:gs>
              <a:gs pos="100000">
                <a:srgbClr val="969696"/>
              </a:gs>
            </a:gsLst>
            <a:lin ang="162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3184560" y="2894040"/>
            <a:ext cx="2531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</a:rPr>
              <a:t>Ancho de Banda de la r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AutoShape 14"/>
          <p:cNvSpPr/>
          <p:nvPr/>
        </p:nvSpPr>
        <p:spPr>
          <a:xfrm>
            <a:off x="768240" y="3968640"/>
            <a:ext cx="1587600" cy="1511280"/>
          </a:xfrm>
          <a:prstGeom prst="roundRect">
            <a:avLst>
              <a:gd name="adj" fmla="val 12500"/>
            </a:avLst>
          </a:prstGeom>
          <a:gradFill rotWithShape="0">
            <a:gsLst>
              <a:gs pos="0">
                <a:srgbClr val="fefefe"/>
              </a:gs>
              <a:gs pos="100000">
                <a:srgbClr val="969696"/>
              </a:gs>
            </a:gsLst>
            <a:lin ang="162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971280" y="4213080"/>
            <a:ext cx="109800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Servidor 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Catálog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Catálog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AutoShape 16"/>
          <p:cNvSpPr/>
          <p:nvPr/>
        </p:nvSpPr>
        <p:spPr>
          <a:xfrm>
            <a:off x="2749680" y="3968640"/>
            <a:ext cx="1587240" cy="1511280"/>
          </a:xfrm>
          <a:prstGeom prst="roundRect">
            <a:avLst>
              <a:gd name="adj" fmla="val 12500"/>
            </a:avLst>
          </a:prstGeom>
          <a:gradFill rotWithShape="0">
            <a:gsLst>
              <a:gs pos="0">
                <a:srgbClr val="fefefe"/>
              </a:gs>
              <a:gs pos="100000">
                <a:srgbClr val="969696"/>
              </a:gs>
            </a:gsLst>
            <a:lin ang="162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Text Box 17"/>
          <p:cNvSpPr/>
          <p:nvPr/>
        </p:nvSpPr>
        <p:spPr>
          <a:xfrm>
            <a:off x="2875320" y="4137120"/>
            <a:ext cx="12394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Servidor 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Víde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Archivos clip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de Películ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AutoShape 18"/>
          <p:cNvSpPr/>
          <p:nvPr/>
        </p:nvSpPr>
        <p:spPr>
          <a:xfrm>
            <a:off x="4807080" y="3968640"/>
            <a:ext cx="1587240" cy="1511280"/>
          </a:xfrm>
          <a:prstGeom prst="roundRect">
            <a:avLst>
              <a:gd name="adj" fmla="val 12500"/>
            </a:avLst>
          </a:prstGeom>
          <a:gradFill rotWithShape="0">
            <a:gsLst>
              <a:gs pos="0">
                <a:srgbClr val="fefefe"/>
              </a:gs>
              <a:gs pos="100000">
                <a:srgbClr val="969696"/>
              </a:gs>
            </a:gsLst>
            <a:lin ang="162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Text Box 19"/>
          <p:cNvSpPr/>
          <p:nvPr/>
        </p:nvSpPr>
        <p:spPr>
          <a:xfrm>
            <a:off x="4933440" y="4137120"/>
            <a:ext cx="109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Servidor 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Fotografí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AutoShape 20"/>
          <p:cNvSpPr/>
          <p:nvPr/>
        </p:nvSpPr>
        <p:spPr>
          <a:xfrm>
            <a:off x="6711840" y="3968640"/>
            <a:ext cx="1587600" cy="1511280"/>
          </a:xfrm>
          <a:prstGeom prst="roundRect">
            <a:avLst>
              <a:gd name="adj" fmla="val 12500"/>
            </a:avLst>
          </a:prstGeom>
          <a:gradFill rotWithShape="0">
            <a:gsLst>
              <a:gs pos="0">
                <a:srgbClr val="fefefe"/>
              </a:gs>
              <a:gs pos="100000">
                <a:srgbClr val="969696"/>
              </a:gs>
            </a:gsLst>
            <a:lin ang="162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Text Box 21"/>
          <p:cNvSpPr/>
          <p:nvPr/>
        </p:nvSpPr>
        <p:spPr>
          <a:xfrm>
            <a:off x="4952880" y="4822920"/>
            <a:ext cx="11131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Fotografí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Digitalizad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Text Box 22"/>
          <p:cNvSpPr/>
          <p:nvPr/>
        </p:nvSpPr>
        <p:spPr>
          <a:xfrm>
            <a:off x="6914880" y="4137120"/>
            <a:ext cx="109800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Servidor 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Hipertext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Hipertext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WE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Line 23"/>
          <p:cNvSpPr/>
          <p:nvPr/>
        </p:nvSpPr>
        <p:spPr>
          <a:xfrm>
            <a:off x="762120" y="4724280"/>
            <a:ext cx="1600200" cy="18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Line 24"/>
          <p:cNvSpPr/>
          <p:nvPr/>
        </p:nvSpPr>
        <p:spPr>
          <a:xfrm>
            <a:off x="2743200" y="4724280"/>
            <a:ext cx="1600200" cy="18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Line 25"/>
          <p:cNvSpPr/>
          <p:nvPr/>
        </p:nvSpPr>
        <p:spPr>
          <a:xfrm>
            <a:off x="4800600" y="4724280"/>
            <a:ext cx="1600200" cy="18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Line 26"/>
          <p:cNvSpPr/>
          <p:nvPr/>
        </p:nvSpPr>
        <p:spPr>
          <a:xfrm>
            <a:off x="6705720" y="4724280"/>
            <a:ext cx="1600200" cy="18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Line 27"/>
          <p:cNvSpPr/>
          <p:nvPr/>
        </p:nvSpPr>
        <p:spPr>
          <a:xfrm>
            <a:off x="1447920" y="2133720"/>
            <a:ext cx="1440" cy="685800"/>
          </a:xfrm>
          <a:prstGeom prst="line">
            <a:avLst/>
          </a:prstGeom>
          <a:ln w="50760">
            <a:solidFill>
              <a:srgbClr val="000066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Line 28"/>
          <p:cNvSpPr/>
          <p:nvPr/>
        </p:nvSpPr>
        <p:spPr>
          <a:xfrm>
            <a:off x="3352680" y="2133720"/>
            <a:ext cx="1800" cy="685800"/>
          </a:xfrm>
          <a:prstGeom prst="line">
            <a:avLst/>
          </a:prstGeom>
          <a:ln w="50760">
            <a:solidFill>
              <a:srgbClr val="000066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Line 29"/>
          <p:cNvSpPr/>
          <p:nvPr/>
        </p:nvSpPr>
        <p:spPr>
          <a:xfrm>
            <a:off x="5486400" y="2133720"/>
            <a:ext cx="1440" cy="685800"/>
          </a:xfrm>
          <a:prstGeom prst="line">
            <a:avLst/>
          </a:prstGeom>
          <a:ln w="50760">
            <a:solidFill>
              <a:srgbClr val="000066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Line 30"/>
          <p:cNvSpPr/>
          <p:nvPr/>
        </p:nvSpPr>
        <p:spPr>
          <a:xfrm>
            <a:off x="7543800" y="2209680"/>
            <a:ext cx="1440" cy="685800"/>
          </a:xfrm>
          <a:prstGeom prst="line">
            <a:avLst/>
          </a:prstGeom>
          <a:ln w="50760">
            <a:solidFill>
              <a:srgbClr val="000066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Line 31"/>
          <p:cNvSpPr/>
          <p:nvPr/>
        </p:nvSpPr>
        <p:spPr>
          <a:xfrm>
            <a:off x="1447920" y="3276720"/>
            <a:ext cx="1440" cy="685800"/>
          </a:xfrm>
          <a:prstGeom prst="line">
            <a:avLst/>
          </a:prstGeom>
          <a:ln w="50760">
            <a:solidFill>
              <a:srgbClr val="000066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Line 32"/>
          <p:cNvSpPr/>
          <p:nvPr/>
        </p:nvSpPr>
        <p:spPr>
          <a:xfrm>
            <a:off x="3352680" y="3276720"/>
            <a:ext cx="1800" cy="685800"/>
          </a:xfrm>
          <a:prstGeom prst="line">
            <a:avLst/>
          </a:prstGeom>
          <a:ln w="50760">
            <a:solidFill>
              <a:srgbClr val="000066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Line 33"/>
          <p:cNvSpPr/>
          <p:nvPr/>
        </p:nvSpPr>
        <p:spPr>
          <a:xfrm>
            <a:off x="5562720" y="3276720"/>
            <a:ext cx="1440" cy="685800"/>
          </a:xfrm>
          <a:prstGeom prst="line">
            <a:avLst/>
          </a:prstGeom>
          <a:ln w="50760">
            <a:solidFill>
              <a:srgbClr val="000066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Line 34"/>
          <p:cNvSpPr/>
          <p:nvPr/>
        </p:nvSpPr>
        <p:spPr>
          <a:xfrm>
            <a:off x="7543800" y="3276720"/>
            <a:ext cx="1440" cy="685800"/>
          </a:xfrm>
          <a:prstGeom prst="line">
            <a:avLst/>
          </a:prstGeom>
          <a:ln w="50760">
            <a:solidFill>
              <a:srgbClr val="000066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914400" y="-27000"/>
            <a:ext cx="7769160" cy="1139760"/>
            <a:chOff x="914400" y="-27000"/>
            <a:chExt cx="7769160" cy="1139760"/>
          </a:xfrm>
        </p:grpSpPr>
        <p:sp>
          <p:nvSpPr>
            <p:cNvPr id="163" name="AutoShape 36"/>
            <p:cNvSpPr/>
            <p:nvPr/>
          </p:nvSpPr>
          <p:spPr>
            <a:xfrm>
              <a:off x="914400" y="-27000"/>
              <a:ext cx="7769160" cy="1139760"/>
            </a:xfrm>
            <a:prstGeom prst="roundRect">
              <a:avLst>
                <a:gd name="adj" fmla="val 1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Text Box 37"/>
            <p:cNvSpPr/>
            <p:nvPr/>
          </p:nvSpPr>
          <p:spPr>
            <a:xfrm>
              <a:off x="914400" y="471240"/>
              <a:ext cx="77691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b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a50021"/>
                  </a:solidFill>
                  <a:latin typeface="Tahoma"/>
                </a:rPr>
                <a:t>Modelo Cliente-Servidor (2)</a:t>
              </a: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b9f"/>
            </a:gs>
            <a:gs pos="100000">
              <a:srgbClr val="ffffc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1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-50760"/>
            <a:ext cx="8610480" cy="11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Tahoma"/>
              </a:rPr>
              <a:t>Características del Modelo Cliente-Servidor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440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27600" indent="-327600"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ahoma"/>
              </a:rPr>
              <a:t>Ventaja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6040" indent="-272520"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La </a:t>
            </a:r>
            <a:r>
              <a:rPr b="0" lang="en-GB" sz="1800" spc="-1" strike="noStrike">
                <a:solidFill>
                  <a:srgbClr val="cc3300"/>
                </a:solidFill>
                <a:latin typeface="Tahoma"/>
              </a:rPr>
              <a:t>distribución</a:t>
            </a: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 de datos es </a:t>
            </a:r>
            <a:r>
              <a:rPr b="0" lang="en-GB" sz="1800" spc="-1" strike="noStrike">
                <a:solidFill>
                  <a:srgbClr val="cc3300"/>
                </a:solidFill>
                <a:latin typeface="Tahoma"/>
              </a:rPr>
              <a:t>directa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16040" indent="-272520"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Permite el </a:t>
            </a:r>
            <a:r>
              <a:rPr b="0" lang="en-GB" sz="1800" spc="-1" strike="noStrike">
                <a:solidFill>
                  <a:srgbClr val="cc3300"/>
                </a:solidFill>
                <a:latin typeface="Tahoma"/>
              </a:rPr>
              <a:t>uso efectivo de sistemas</a:t>
            </a: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 de red. Generalmente requiere </a:t>
            </a:r>
            <a:r>
              <a:rPr b="0" lang="en-GB" sz="1800" spc="-1" strike="noStrike">
                <a:solidFill>
                  <a:srgbClr val="cc3300"/>
                </a:solidFill>
                <a:latin typeface="Tahoma"/>
              </a:rPr>
              <a:t>hardware barato</a:t>
            </a: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16040" indent="-272520"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Es fácil </a:t>
            </a:r>
            <a:r>
              <a:rPr b="0" lang="en-GB" sz="1800" spc="-1" strike="noStrike">
                <a:solidFill>
                  <a:srgbClr val="cc3300"/>
                </a:solidFill>
                <a:latin typeface="Tahoma"/>
              </a:rPr>
              <a:t>añadir</a:t>
            </a: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 nuevos </a:t>
            </a:r>
            <a:r>
              <a:rPr b="0" lang="en-GB" sz="1800" spc="-1" strike="noStrike">
                <a:solidFill>
                  <a:srgbClr val="cc3300"/>
                </a:solidFill>
                <a:latin typeface="Tahoma"/>
              </a:rPr>
              <a:t>servidores</a:t>
            </a: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 (escalabilidad) o </a:t>
            </a:r>
            <a:r>
              <a:rPr b="0" lang="en-GB" sz="1800" spc="-1" strike="noStrike">
                <a:solidFill>
                  <a:srgbClr val="cc3300"/>
                </a:solidFill>
                <a:latin typeface="Tahoma"/>
              </a:rPr>
              <a:t>actualizar</a:t>
            </a: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 los existentes. 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27600" indent="-327600"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ahoma"/>
              </a:rPr>
              <a:t>Desventaja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6040" indent="-272520"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El modelo </a:t>
            </a:r>
            <a:r>
              <a:rPr b="0" lang="en-GB" sz="1800" spc="-1" strike="noStrike">
                <a:solidFill>
                  <a:srgbClr val="cc3300"/>
                </a:solidFill>
                <a:latin typeface="Tahoma"/>
              </a:rPr>
              <a:t>no comparte datos</a:t>
            </a: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 con los diferentes subsistemas (duplicidad de datos). El </a:t>
            </a:r>
            <a:r>
              <a:rPr b="0" lang="en-GB" sz="1800" spc="-1" strike="noStrike">
                <a:solidFill>
                  <a:srgbClr val="cc3300"/>
                </a:solidFill>
                <a:latin typeface="Tahoma"/>
              </a:rPr>
              <a:t>intercambio</a:t>
            </a: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 de datos puede ser </a:t>
            </a:r>
            <a:r>
              <a:rPr b="0" lang="en-GB" sz="1800" spc="-1" strike="noStrike">
                <a:solidFill>
                  <a:srgbClr val="cc3300"/>
                </a:solidFill>
                <a:latin typeface="Tahoma"/>
              </a:rPr>
              <a:t>ineficiente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16040" indent="-272520"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Si se intercambian grandes volúmenes de datos, quien más </a:t>
            </a:r>
            <a:r>
              <a:rPr b="0" lang="en-GB" sz="1800" spc="-1" strike="noStrike">
                <a:solidFill>
                  <a:srgbClr val="cc3300"/>
                </a:solidFill>
                <a:latin typeface="Tahoma"/>
              </a:rPr>
              <a:t>sufrirá </a:t>
            </a: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será </a:t>
            </a:r>
            <a:r>
              <a:rPr b="0" lang="en-GB" sz="1800" spc="-1" strike="noStrike">
                <a:solidFill>
                  <a:srgbClr val="cc3300"/>
                </a:solidFill>
                <a:latin typeface="Tahoma"/>
              </a:rPr>
              <a:t>la performance</a:t>
            </a: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16040" indent="-272520"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Hay </a:t>
            </a:r>
            <a:r>
              <a:rPr b="0" lang="en-GB" sz="1800" spc="-1" strike="noStrike">
                <a:solidFill>
                  <a:srgbClr val="cc3300"/>
                </a:solidFill>
                <a:latin typeface="Tahoma"/>
              </a:rPr>
              <a:t>administración redundante</a:t>
            </a: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 en cada servidor (trabajo solapado)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16040" indent="-272520"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Tahoma"/>
              </a:rPr>
              <a:t>No existen registros centrales</a:t>
            </a: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 de nombres y servicios, esto hace difícil encontrar los servidores y servicios disponibles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16040" indent="-272520"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Tahoma"/>
              </a:rPr>
              <a:t>Es más dificil</a:t>
            </a: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 realizar datamining, o procesos de inteligencia de negocio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2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5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Tahoma"/>
              </a:rPr>
              <a:t>Evolución del Modelo C/S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928800" y="2357280"/>
            <a:ext cx="7377120" cy="41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2600" y="85716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ahoma"/>
              </a:rPr>
              <a:t>Desmitificando del Tema…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3192120"/>
            <a:ext cx="784692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Arquitectura = Diseño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  <a:p>
            <a:pPr marL="2023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  <a:p>
            <a:pPr marL="2023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  <a:p>
            <a:pPr marL="2023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.. pero diseño que funciona!!!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  <a:p>
            <a:pPr marL="202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202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43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Máquina Abstracta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0" y="1633680"/>
            <a:ext cx="3500280" cy="3009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"/>
          <p:cNvPicPr/>
          <p:nvPr/>
        </p:nvPicPr>
        <p:blipFill>
          <a:blip r:embed="rId2"/>
          <a:stretch/>
        </p:blipFill>
        <p:spPr>
          <a:xfrm>
            <a:off x="3568680" y="1704960"/>
            <a:ext cx="5575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b9f"/>
            </a:gs>
            <a:gs pos="100000">
              <a:srgbClr val="ffffc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1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AutoShape 2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Tahoma"/>
              </a:rPr>
              <a:t>Modelo de Máquina Abstracta (1)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8153280" cy="536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Este modelo 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también es conocido como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 el modelo de 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capas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, o estratificad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Es 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utilizado para modelar las interfaces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 entre los subsistem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El modelo 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organiza el sistema en base a un conjunto de capas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 (o máquinas abstractas), cada una de las cuales proporciona un conjunto de servici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Soporta el desarrollo incremental de subsistemas 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en las diferentes capas. Cuando la interfaz de una capa cambia, solamente 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la capa adyacente se ve afectada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Sin embargo, es 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difícil estructurar los sistemas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 de esta maner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b9f"/>
            </a:gs>
            <a:gs pos="100000">
              <a:srgbClr val="ffffc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1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AutoShape 2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Tahoma"/>
              </a:rPr>
              <a:t>Modelo de Máquina Abstracta (2)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7840" indent="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None/>
              <a:tabLst>
                <a:tab algn="l" pos="0"/>
                <a:tab algn="l" pos="565200"/>
                <a:tab algn="l" pos="1014480"/>
                <a:tab algn="l" pos="1463760"/>
                <a:tab algn="l" pos="1913040"/>
                <a:tab algn="l" pos="2362320"/>
                <a:tab algn="l" pos="2811600"/>
                <a:tab algn="l" pos="3260880"/>
                <a:tab algn="l" pos="3710160"/>
                <a:tab algn="l" pos="4159080"/>
                <a:tab algn="l" pos="4608360"/>
                <a:tab algn="l" pos="5057640"/>
                <a:tab algn="l" pos="5506920"/>
                <a:tab algn="l" pos="5956200"/>
                <a:tab algn="l" pos="6405480"/>
                <a:tab algn="l" pos="6854760"/>
                <a:tab algn="l" pos="7304040"/>
                <a:tab algn="l" pos="7753320"/>
                <a:tab algn="l" pos="8202600"/>
                <a:tab algn="l" pos="8651880"/>
                <a:tab algn="l" pos="910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Tahoma"/>
              </a:rPr>
              <a:t>Ejemplo: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 La arquitectura de un 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sistema de administración de versiones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, puede ser abordado utilizando el modelo de máquina abstract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821160" indent="-372960">
              <a:lnSpc>
                <a:spcPct val="90000"/>
              </a:lnSpc>
              <a:spcBef>
                <a:spcPts val="1500"/>
              </a:spcBef>
              <a:spcAft>
                <a:spcPts val="1001"/>
              </a:spcAft>
              <a:buClr>
                <a:srgbClr val="ff0000"/>
              </a:buClr>
              <a:buSzPct val="120000"/>
              <a:buFont typeface="Tahoma"/>
              <a:buAutoNum type="arabicPeriod"/>
              <a:tabLst>
                <a:tab algn="l" pos="565200"/>
                <a:tab algn="l" pos="1014480"/>
                <a:tab algn="l" pos="1463760"/>
                <a:tab algn="l" pos="1913040"/>
                <a:tab algn="l" pos="2362320"/>
                <a:tab algn="l" pos="2811600"/>
                <a:tab algn="l" pos="3260880"/>
                <a:tab algn="l" pos="3710160"/>
                <a:tab algn="l" pos="4159080"/>
                <a:tab algn="l" pos="4608360"/>
                <a:tab algn="l" pos="5057640"/>
                <a:tab algn="l" pos="5506920"/>
                <a:tab algn="l" pos="5956200"/>
                <a:tab algn="l" pos="6405480"/>
                <a:tab algn="l" pos="6854760"/>
                <a:tab algn="l" pos="7304040"/>
                <a:tab algn="l" pos="7753320"/>
                <a:tab algn="l" pos="8202600"/>
                <a:tab algn="l" pos="8651880"/>
                <a:tab algn="l" pos="910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Suministra los recursos de 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administración de releases 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del sistem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21160" indent="-372960">
              <a:lnSpc>
                <a:spcPct val="90000"/>
              </a:lnSpc>
              <a:spcBef>
                <a:spcPts val="1500"/>
              </a:spcBef>
              <a:spcAft>
                <a:spcPts val="1001"/>
              </a:spcAft>
              <a:buClr>
                <a:srgbClr val="ff0000"/>
              </a:buClr>
              <a:buSzPct val="120000"/>
              <a:buFont typeface="Tahoma"/>
              <a:buAutoNum type="arabicPeriod"/>
              <a:tabLst>
                <a:tab algn="l" pos="565200"/>
                <a:tab algn="l" pos="1014480"/>
                <a:tab algn="l" pos="1463760"/>
                <a:tab algn="l" pos="1913040"/>
                <a:tab algn="l" pos="2362320"/>
                <a:tab algn="l" pos="2811600"/>
                <a:tab algn="l" pos="3260880"/>
                <a:tab algn="l" pos="3710160"/>
                <a:tab algn="l" pos="4159080"/>
                <a:tab algn="l" pos="4608360"/>
                <a:tab algn="l" pos="5057640"/>
                <a:tab algn="l" pos="5506920"/>
                <a:tab algn="l" pos="5956200"/>
                <a:tab algn="l" pos="6405480"/>
                <a:tab algn="l" pos="6854760"/>
                <a:tab algn="l" pos="7304040"/>
                <a:tab algn="l" pos="7753320"/>
                <a:tab algn="l" pos="8202600"/>
                <a:tab algn="l" pos="8651880"/>
                <a:tab algn="l" pos="910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Comprende la 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administración de versiones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de component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21160" indent="-372960">
              <a:lnSpc>
                <a:spcPct val="90000"/>
              </a:lnSpc>
              <a:spcBef>
                <a:spcPts val="1500"/>
              </a:spcBef>
              <a:spcAft>
                <a:spcPts val="1001"/>
              </a:spcAft>
              <a:buClr>
                <a:srgbClr val="ff0000"/>
              </a:buClr>
              <a:buSzPct val="120000"/>
              <a:buFont typeface="Tahoma"/>
              <a:buAutoNum type="arabicPeriod"/>
              <a:tabLst>
                <a:tab algn="l" pos="565200"/>
                <a:tab algn="l" pos="1014480"/>
                <a:tab algn="l" pos="1463760"/>
                <a:tab algn="l" pos="1913040"/>
                <a:tab algn="l" pos="2362320"/>
                <a:tab algn="l" pos="2811600"/>
                <a:tab algn="l" pos="3260880"/>
                <a:tab algn="l" pos="3710160"/>
                <a:tab algn="l" pos="4159080"/>
                <a:tab algn="l" pos="4608360"/>
                <a:tab algn="l" pos="5057640"/>
                <a:tab algn="l" pos="5506920"/>
                <a:tab algn="l" pos="5956200"/>
                <a:tab algn="l" pos="6405480"/>
                <a:tab algn="l" pos="6854760"/>
                <a:tab algn="l" pos="7304040"/>
                <a:tab algn="l" pos="7753320"/>
                <a:tab algn="l" pos="8202600"/>
                <a:tab algn="l" pos="8651880"/>
                <a:tab algn="l" pos="910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Para ello utiliza un 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sistema de administración de componentes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, que provee servicios de administración y almacenamiento de clas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21160" indent="-372960">
              <a:lnSpc>
                <a:spcPct val="90000"/>
              </a:lnSpc>
              <a:spcBef>
                <a:spcPts val="1500"/>
              </a:spcBef>
              <a:spcAft>
                <a:spcPts val="1001"/>
              </a:spcAft>
              <a:buClr>
                <a:srgbClr val="ff0000"/>
              </a:buClr>
              <a:buSzPct val="120000"/>
              <a:buFont typeface="Tahoma"/>
              <a:buAutoNum type="arabicPeriod"/>
              <a:tabLst>
                <a:tab algn="l" pos="565200"/>
                <a:tab algn="l" pos="1014480"/>
                <a:tab algn="l" pos="1463760"/>
                <a:tab algn="l" pos="1913040"/>
                <a:tab algn="l" pos="2362320"/>
                <a:tab algn="l" pos="2811600"/>
                <a:tab algn="l" pos="3260880"/>
                <a:tab algn="l" pos="3710160"/>
                <a:tab algn="l" pos="4159080"/>
                <a:tab algn="l" pos="4608360"/>
                <a:tab algn="l" pos="5057640"/>
                <a:tab algn="l" pos="5506920"/>
                <a:tab algn="l" pos="5956200"/>
                <a:tab algn="l" pos="6405480"/>
                <a:tab algn="l" pos="6854760"/>
                <a:tab algn="l" pos="7304040"/>
                <a:tab algn="l" pos="7753320"/>
                <a:tab algn="l" pos="8202600"/>
                <a:tab algn="l" pos="8651880"/>
                <a:tab algn="l" pos="9101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Utiliza un 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SABD 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para proveer almacenamiento básico de datos y servicios (adm. de transac., confirmación y recuperación, control de acceso, etc.)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b9f"/>
            </a:gs>
            <a:gs pos="100000">
              <a:srgbClr val="ffffc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1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AutoShape 2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7240" y="43920"/>
            <a:ext cx="7772400" cy="9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Tahoma"/>
              </a:rPr>
              <a:t>Modelo de Máquina Abstracta (3)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142920" y="1413000"/>
            <a:ext cx="4786200" cy="3801960"/>
          </a:xfrm>
          <a:prstGeom prst="roundRect">
            <a:avLst>
              <a:gd name="adj" fmla="val 32"/>
            </a:avLst>
          </a:prstGeom>
          <a:gradFill rotWithShape="0">
            <a:gsLst>
              <a:gs pos="0">
                <a:srgbClr val="fefefe"/>
              </a:gs>
              <a:gs pos="100000">
                <a:srgbClr val="969696"/>
              </a:gs>
            </a:gsLst>
            <a:lin ang="16200000"/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312840" y="1459080"/>
            <a:ext cx="42163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dministrador de Releases del Sistem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357120" y="1946160"/>
            <a:ext cx="4402080" cy="3054600"/>
          </a:xfrm>
          <a:prstGeom prst="roundRect">
            <a:avLst>
              <a:gd name="adj" fmla="val 42"/>
            </a:avLst>
          </a:prstGeom>
          <a:gradFill rotWithShape="0">
            <a:gsLst>
              <a:gs pos="0">
                <a:srgbClr val="e9e9e9"/>
              </a:gs>
              <a:gs pos="100000">
                <a:srgbClr val="969696"/>
              </a:gs>
            </a:gsLst>
            <a:lin ang="16200000"/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AutoShape 8"/>
          <p:cNvSpPr/>
          <p:nvPr/>
        </p:nvSpPr>
        <p:spPr>
          <a:xfrm>
            <a:off x="552600" y="2631960"/>
            <a:ext cx="3908160" cy="2143080"/>
          </a:xfrm>
          <a:prstGeom prst="roundRect">
            <a:avLst>
              <a:gd name="adj" fmla="val 65"/>
            </a:avLst>
          </a:prstGeom>
          <a:gradFill rotWithShape="0">
            <a:gsLst>
              <a:gs pos="0">
                <a:srgbClr val="fefefe"/>
              </a:gs>
              <a:gs pos="100000">
                <a:srgbClr val="ffcc66"/>
              </a:gs>
            </a:gsLst>
            <a:lin ang="16200000"/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AutoShape 10"/>
          <p:cNvSpPr/>
          <p:nvPr/>
        </p:nvSpPr>
        <p:spPr>
          <a:xfrm>
            <a:off x="1162080" y="3394080"/>
            <a:ext cx="2670120" cy="960480"/>
          </a:xfrm>
          <a:prstGeom prst="roundRect">
            <a:avLst>
              <a:gd name="adj" fmla="val 148"/>
            </a:avLst>
          </a:prstGeom>
          <a:gradFill rotWithShape="0">
            <a:gsLst>
              <a:gs pos="0">
                <a:srgbClr val="e4e4b6"/>
              </a:gs>
              <a:gs pos="100000">
                <a:srgbClr val="ffffcc"/>
              </a:gs>
            </a:gsLst>
            <a:lin ang="16200000"/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91" name="Group 12"/>
          <p:cNvGrpSpPr/>
          <p:nvPr/>
        </p:nvGrpSpPr>
        <p:grpSpPr>
          <a:xfrm>
            <a:off x="900000" y="5792760"/>
            <a:ext cx="7769160" cy="804960"/>
            <a:chOff x="900000" y="5792760"/>
            <a:chExt cx="7769160" cy="804960"/>
          </a:xfrm>
        </p:grpSpPr>
        <p:sp>
          <p:nvSpPr>
            <p:cNvPr id="192" name="AutoShape 13"/>
            <p:cNvSpPr/>
            <p:nvPr/>
          </p:nvSpPr>
          <p:spPr>
            <a:xfrm>
              <a:off x="900000" y="5792760"/>
              <a:ext cx="7769160" cy="804960"/>
            </a:xfrm>
            <a:prstGeom prst="roundRect">
              <a:avLst>
                <a:gd name="adj" fmla="val 1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Text Box 14"/>
            <p:cNvSpPr/>
            <p:nvPr/>
          </p:nvSpPr>
          <p:spPr>
            <a:xfrm>
              <a:off x="900000" y="6199920"/>
              <a:ext cx="7769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b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a50021"/>
                  </a:solidFill>
                  <a:latin typeface="Tahoma"/>
                </a:rPr>
                <a:t>Ejemplo: Sistema Administrador de Versione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94" name="Text Box 9"/>
          <p:cNvSpPr/>
          <p:nvPr/>
        </p:nvSpPr>
        <p:spPr>
          <a:xfrm>
            <a:off x="1189080" y="3606840"/>
            <a:ext cx="2606760" cy="6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Sistema de Base de Dato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1217520" y="2727360"/>
            <a:ext cx="2436840" cy="6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dministrador de Clas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142920" y="2000160"/>
            <a:ext cx="4643280" cy="6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dministrador de Versiones de Component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5208480" y="1400040"/>
            <a:ext cx="3643560" cy="944640"/>
          </a:xfrm>
          <a:prstGeom prst="roundRect">
            <a:avLst>
              <a:gd name="adj" fmla="val 32"/>
            </a:avLst>
          </a:prstGeom>
          <a:gradFill rotWithShape="0">
            <a:gsLst>
              <a:gs pos="0">
                <a:srgbClr val="fefefe"/>
              </a:gs>
              <a:gs pos="100000">
                <a:srgbClr val="969696"/>
              </a:gs>
            </a:gsLst>
            <a:lin ang="16200000"/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5280120" y="1593720"/>
            <a:ext cx="3457440" cy="6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dministrador de Releases del Sistem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AutoShape 6"/>
          <p:cNvSpPr/>
          <p:nvPr/>
        </p:nvSpPr>
        <p:spPr>
          <a:xfrm>
            <a:off x="5208480" y="2370240"/>
            <a:ext cx="3643560" cy="928440"/>
          </a:xfrm>
          <a:prstGeom prst="roundRect">
            <a:avLst>
              <a:gd name="adj" fmla="val 42"/>
            </a:avLst>
          </a:prstGeom>
          <a:gradFill rotWithShape="0">
            <a:gsLst>
              <a:gs pos="0">
                <a:srgbClr val="e9e9e9"/>
              </a:gs>
              <a:gs pos="100000">
                <a:srgbClr val="969696"/>
              </a:gs>
            </a:gsLst>
            <a:lin ang="16200000"/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AutoShape 8"/>
          <p:cNvSpPr/>
          <p:nvPr/>
        </p:nvSpPr>
        <p:spPr>
          <a:xfrm>
            <a:off x="5208480" y="3332160"/>
            <a:ext cx="3649680" cy="939960"/>
          </a:xfrm>
          <a:prstGeom prst="roundRect">
            <a:avLst>
              <a:gd name="adj" fmla="val 65"/>
            </a:avLst>
          </a:prstGeom>
          <a:gradFill rotWithShape="0">
            <a:gsLst>
              <a:gs pos="0">
                <a:srgbClr val="fefefe"/>
              </a:gs>
              <a:gs pos="100000">
                <a:srgbClr val="ffcc66"/>
              </a:gs>
            </a:gsLst>
            <a:lin ang="16200000"/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AutoShape 10"/>
          <p:cNvSpPr/>
          <p:nvPr/>
        </p:nvSpPr>
        <p:spPr>
          <a:xfrm>
            <a:off x="5208480" y="4286160"/>
            <a:ext cx="3643560" cy="960480"/>
          </a:xfrm>
          <a:prstGeom prst="roundRect">
            <a:avLst>
              <a:gd name="adj" fmla="val 148"/>
            </a:avLst>
          </a:prstGeom>
          <a:gradFill rotWithShape="0">
            <a:gsLst>
              <a:gs pos="0">
                <a:srgbClr val="e4e4b6"/>
              </a:gs>
              <a:gs pos="100000">
                <a:srgbClr val="ffffcc"/>
              </a:gs>
            </a:gsLst>
            <a:lin ang="16200000"/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5780160" y="4500720"/>
            <a:ext cx="2608200" cy="6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Sistema de Base de Dato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5614920" y="3452760"/>
            <a:ext cx="2436840" cy="6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dministrador de Clas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Text Box 17"/>
          <p:cNvSpPr/>
          <p:nvPr/>
        </p:nvSpPr>
        <p:spPr>
          <a:xfrm>
            <a:off x="5208480" y="2548080"/>
            <a:ext cx="3643560" cy="6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dministrador de Versiones de Component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b9f"/>
            </a:gs>
            <a:gs pos="100000">
              <a:srgbClr val="ffffc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1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AutoShape 2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77840"/>
            <a:ext cx="8077320" cy="11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Tahoma"/>
              </a:rPr>
              <a:t>Características del Modelo de Máquina Abstracta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1200" indent="-331200">
              <a:spcBef>
                <a:spcPts val="1712"/>
              </a:spcBef>
              <a:buClr>
                <a:srgbClr val="ff0000"/>
              </a:buClr>
              <a:buSzPct val="19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ahoma"/>
              </a:rPr>
              <a:t>Ventajas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23240" indent="-275400">
              <a:spcBef>
                <a:spcPts val="1162"/>
              </a:spcBef>
              <a:buClr>
                <a:srgbClr val="ff0000"/>
              </a:buClr>
              <a:buSzPct val="172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Permite el 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desarrollo incremental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3240" indent="-275400">
              <a:spcBef>
                <a:spcPts val="1162"/>
              </a:spcBef>
              <a:buClr>
                <a:srgbClr val="ff0000"/>
              </a:buClr>
              <a:buSzPct val="172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Es más 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mantenibl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3240" indent="-275400">
              <a:spcBef>
                <a:spcPts val="1162"/>
              </a:spcBef>
              <a:buClr>
                <a:srgbClr val="ff0000"/>
              </a:buClr>
              <a:buSzPct val="172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Flexible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 y 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fácil de evolucionar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1200" indent="-331200">
              <a:spcBef>
                <a:spcPts val="1712"/>
              </a:spcBef>
              <a:buClr>
                <a:srgbClr val="ff0000"/>
              </a:buClr>
              <a:buSzPct val="19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ahoma"/>
              </a:rPr>
              <a:t>Desventajas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23240" indent="-275400">
              <a:spcBef>
                <a:spcPts val="1162"/>
              </a:spcBef>
              <a:buClr>
                <a:srgbClr val="ff0000"/>
              </a:buClr>
              <a:buSzPct val="172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Estructurar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 un sistema en 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capas </a:t>
            </a:r>
            <a:r>
              <a:rPr b="0" lang="en-GB" sz="2400" spc="-1" strike="noStrike">
                <a:solidFill>
                  <a:srgbClr val="16165d"/>
                </a:solidFill>
                <a:latin typeface="Tahoma"/>
              </a:rPr>
              <a:t>en general 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es difícil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3240" indent="-275400">
              <a:spcBef>
                <a:spcPts val="1162"/>
              </a:spcBef>
              <a:buClr>
                <a:srgbClr val="ff0000"/>
              </a:buClr>
              <a:buSzPct val="172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Puede haber 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problemas de performance 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debido a los distintos niveles de interpretación de órden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3240" indent="-275400">
              <a:spcBef>
                <a:spcPts val="1162"/>
              </a:spcBef>
              <a:buClr>
                <a:srgbClr val="ff0000"/>
              </a:buClr>
              <a:buSzPct val="172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Puede suceder que 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una capa dependa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 de otra, que 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no es su predecesor 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inmediat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28400" y="601200"/>
            <a:ext cx="8358120" cy="6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Tahoma"/>
              </a:rPr>
              <a:t>Ejemplo de Arquitecturas de Máquina Abstracta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210" name="Picture 16" descr=""/>
          <p:cNvPicPr/>
          <p:nvPr/>
        </p:nvPicPr>
        <p:blipFill>
          <a:blip r:embed="rId1"/>
          <a:stretch/>
        </p:blipFill>
        <p:spPr>
          <a:xfrm>
            <a:off x="285840" y="1714680"/>
            <a:ext cx="3581280" cy="4595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"/>
          <p:cNvPicPr/>
          <p:nvPr/>
        </p:nvPicPr>
        <p:blipFill>
          <a:blip r:embed="rId2"/>
          <a:stretch/>
        </p:blipFill>
        <p:spPr>
          <a:xfrm>
            <a:off x="4091040" y="1714680"/>
            <a:ext cx="48387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44280"/>
            <a:ext cx="88930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a50021"/>
                </a:solidFill>
                <a:latin typeface="Tahoma"/>
              </a:rPr>
              <a:t>Arquitecturas de 2/3 Capas… para Web</a:t>
            </a:r>
            <a:endParaRPr b="0" lang="en-US" sz="3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7840" y="1580760"/>
            <a:ext cx="8267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3-Tiers Architectur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2-Tiers Architectur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214" name="Object 4"/>
          <p:cNvGraphicFramePr/>
          <p:nvPr/>
        </p:nvGraphicFramePr>
        <p:xfrm>
          <a:off x="4538520" y="2189160"/>
          <a:ext cx="3587760" cy="41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38520" y="2189160"/>
                    <a:ext cx="358776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Object 5"/>
          <p:cNvGraphicFramePr/>
          <p:nvPr/>
        </p:nvGraphicFramePr>
        <p:xfrm>
          <a:off x="698400" y="3267000"/>
          <a:ext cx="3444840" cy="302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8400" y="3267000"/>
                    <a:ext cx="3444840" cy="30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442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a50021"/>
                </a:solidFill>
                <a:latin typeface="Tahoma"/>
              </a:rPr>
              <a:t>Arquitecturas de 2/3 Capas… para Web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219" name="Picture 9" descr=""/>
          <p:cNvPicPr/>
          <p:nvPr/>
        </p:nvPicPr>
        <p:blipFill>
          <a:blip r:embed="rId1"/>
          <a:stretch/>
        </p:blipFill>
        <p:spPr>
          <a:xfrm>
            <a:off x="1357200" y="1522440"/>
            <a:ext cx="6239160" cy="47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Object 4"/>
          <p:cNvGraphicFramePr/>
          <p:nvPr/>
        </p:nvGraphicFramePr>
        <p:xfrm>
          <a:off x="428760" y="981000"/>
          <a:ext cx="4538520" cy="573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981000"/>
                    <a:ext cx="4538520" cy="57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Rectangle 5"/>
          <p:cNvSpPr/>
          <p:nvPr/>
        </p:nvSpPr>
        <p:spPr>
          <a:xfrm>
            <a:off x="887400" y="18576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a50021"/>
                </a:solidFill>
                <a:latin typeface="Arial"/>
              </a:rPr>
              <a:t>Arquitectura de 5 Capas… para Web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3"/>
          <a:stretch/>
        </p:blipFill>
        <p:spPr>
          <a:xfrm>
            <a:off x="5345280" y="2658960"/>
            <a:ext cx="3441600" cy="402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2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AutoShape 3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a50021"/>
                </a:solidFill>
                <a:latin typeface="Tahoma"/>
              </a:rPr>
              <a:t>EJEMPLO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a50021"/>
                </a:solidFill>
                <a:latin typeface="Arial"/>
                <a:ea typeface="Arial"/>
              </a:rPr>
              <a:t>Arquitectura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1428840" y="1536840"/>
            <a:ext cx="5500440" cy="3759120"/>
          </a:xfrm>
          <a:prstGeom prst="rect">
            <a:avLst/>
          </a:prstGeom>
          <a:ln w="0">
            <a:noFill/>
          </a:ln>
        </p:spPr>
      </p:pic>
      <p:sp>
        <p:nvSpPr>
          <p:cNvPr id="55" name="4 Rectángulo"/>
          <p:cNvSpPr/>
          <p:nvPr/>
        </p:nvSpPr>
        <p:spPr>
          <a:xfrm>
            <a:off x="1875960" y="5786280"/>
            <a:ext cx="45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rquitectura = Diseño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640" y="-1432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Ejemplo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353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3600" indent="-273600">
              <a:lnSpc>
                <a:spcPct val="90000"/>
              </a:lnSpc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iseñar la </a:t>
            </a:r>
            <a:r>
              <a:rPr b="1" i="1" lang="en-US" sz="2400" spc="-1" strike="noStrike">
                <a:solidFill>
                  <a:srgbClr val="000066"/>
                </a:solidFill>
                <a:latin typeface="Tahoma"/>
              </a:rPr>
              <a:t>estructura estática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de un Chat simpl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273600"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273600"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273600"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273600"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273600"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273600"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273600"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273600"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273600" indent="-273600" algn="ctr">
              <a:lnSpc>
                <a:spcPct val="90000"/>
              </a:lnSpc>
              <a:spcBef>
                <a:spcPts val="2401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¿Qué implicancias tendría en el diseño, el hacer un chat con persistencia o sin persistencia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2590920" y="1771560"/>
            <a:ext cx="448128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640" y="1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…</a:t>
            </a: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. Pregunta Nro. 1!!!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1280" y="1314360"/>
            <a:ext cx="8353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0600" indent="-300600">
              <a:lnSpc>
                <a:spcPct val="90000"/>
              </a:lnSpc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¿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Centralizado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o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Distribuido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00600"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00600"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00600"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00600"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00600"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00600"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00600" indent="0">
              <a:lnSpc>
                <a:spcPct val="90000"/>
              </a:lnSpc>
              <a:spcBef>
                <a:spcPts val="146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00600" indent="-300600" algn="ctr">
              <a:lnSpc>
                <a:spcPct val="90000"/>
              </a:lnSpc>
              <a:spcBef>
                <a:spcPts val="2401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¿Qué implicancias tendría en el diseño, el hacer un chat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con persistencia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o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sin persistencia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1093680" y="2260440"/>
            <a:ext cx="76932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62150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Solución Distribuida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5991120" y="0"/>
            <a:ext cx="3152880" cy="2428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"/>
          <p:cNvPicPr/>
          <p:nvPr/>
        </p:nvPicPr>
        <p:blipFill>
          <a:blip r:embed="rId2"/>
          <a:stretch/>
        </p:blipFill>
        <p:spPr>
          <a:xfrm>
            <a:off x="0" y="2411280"/>
            <a:ext cx="635796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84294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Solución Distribuida – Sin Persistencia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0" y="3909960"/>
            <a:ext cx="9144000" cy="29480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"/>
          <p:cNvPicPr/>
          <p:nvPr/>
        </p:nvPicPr>
        <p:blipFill>
          <a:blip r:embed="rId2"/>
          <a:stretch/>
        </p:blipFill>
        <p:spPr>
          <a:xfrm>
            <a:off x="3184560" y="1893960"/>
            <a:ext cx="5933880" cy="180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9" name="8 CuadroTexto"/>
          <p:cNvSpPr/>
          <p:nvPr/>
        </p:nvSpPr>
        <p:spPr>
          <a:xfrm>
            <a:off x="110880" y="1285920"/>
            <a:ext cx="64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a50021"/>
                </a:solidFill>
                <a:latin typeface="Tahoma"/>
              </a:rPr>
              <a:t>¿Qué modelos arquitectónicos está usando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3"/>
          <a:stretch/>
        </p:blipFill>
        <p:spPr>
          <a:xfrm>
            <a:off x="357120" y="1857240"/>
            <a:ext cx="226692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84294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Solución Distribuida – Con Persistencia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3171960" y="1971720"/>
            <a:ext cx="5933880" cy="188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3" name="5 CuadroTexto"/>
          <p:cNvSpPr/>
          <p:nvPr/>
        </p:nvSpPr>
        <p:spPr>
          <a:xfrm>
            <a:off x="110880" y="1285920"/>
            <a:ext cx="64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a50021"/>
                </a:solidFill>
                <a:latin typeface="Tahoma"/>
              </a:rPr>
              <a:t>¿Qué modelos arquitectónicos está usando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2"/>
          <a:stretch/>
        </p:blipFill>
        <p:spPr>
          <a:xfrm>
            <a:off x="0" y="4040280"/>
            <a:ext cx="9144000" cy="2817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"/>
          <p:cNvPicPr/>
          <p:nvPr/>
        </p:nvPicPr>
        <p:blipFill>
          <a:blip r:embed="rId3"/>
          <a:stretch/>
        </p:blipFill>
        <p:spPr>
          <a:xfrm>
            <a:off x="214200" y="1941480"/>
            <a:ext cx="23050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280" y="1080"/>
            <a:ext cx="63896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Solución Centralizada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685440" y="1980720"/>
            <a:ext cx="7767720" cy="41101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"/>
          <p:cNvPicPr/>
          <p:nvPr/>
        </p:nvPicPr>
        <p:blipFill>
          <a:blip r:embed="rId2"/>
          <a:stretch/>
        </p:blipFill>
        <p:spPr>
          <a:xfrm>
            <a:off x="6029280" y="0"/>
            <a:ext cx="3114720" cy="1638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"/>
          <p:cNvPicPr/>
          <p:nvPr/>
        </p:nvPicPr>
        <p:blipFill>
          <a:blip r:embed="rId3"/>
          <a:stretch/>
        </p:blipFill>
        <p:spPr>
          <a:xfrm>
            <a:off x="285840" y="1857240"/>
            <a:ext cx="8858160" cy="2106720"/>
          </a:xfrm>
          <a:prstGeom prst="rect">
            <a:avLst/>
          </a:prstGeom>
          <a:ln w="0">
            <a:noFill/>
          </a:ln>
        </p:spPr>
      </p:pic>
      <p:sp>
        <p:nvSpPr>
          <p:cNvPr id="250" name="6 CuadroTexto"/>
          <p:cNvSpPr/>
          <p:nvPr/>
        </p:nvSpPr>
        <p:spPr>
          <a:xfrm>
            <a:off x="-174960" y="1214280"/>
            <a:ext cx="64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a50021"/>
                </a:solidFill>
                <a:latin typeface="Tahoma"/>
              </a:rPr>
              <a:t>¿Qué modelos arquitectónicos está usando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311040" y="4214880"/>
            <a:ext cx="88329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9280" y="1080"/>
            <a:ext cx="63896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Solución Centralizada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6029280" y="0"/>
            <a:ext cx="3114720" cy="1638360"/>
          </a:xfrm>
          <a:prstGeom prst="rect">
            <a:avLst/>
          </a:prstGeom>
          <a:ln w="0">
            <a:noFill/>
          </a:ln>
        </p:spPr>
      </p:pic>
      <p:sp>
        <p:nvSpPr>
          <p:cNvPr id="254" name="6 CuadroTexto"/>
          <p:cNvSpPr/>
          <p:nvPr/>
        </p:nvSpPr>
        <p:spPr>
          <a:xfrm>
            <a:off x="-110880" y="1214280"/>
            <a:ext cx="40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a50021"/>
                </a:solidFill>
                <a:latin typeface="Tahoma"/>
              </a:rPr>
              <a:t>Comportamiento básico…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0" y="4029120"/>
            <a:ext cx="9144000" cy="28288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"/>
          <p:cNvPicPr/>
          <p:nvPr/>
        </p:nvPicPr>
        <p:blipFill>
          <a:blip r:embed="rId3"/>
          <a:stretch/>
        </p:blipFill>
        <p:spPr>
          <a:xfrm>
            <a:off x="857160" y="1714680"/>
            <a:ext cx="744876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b9f"/>
            </a:gs>
            <a:gs pos="100000">
              <a:srgbClr val="ffffc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Tahoma"/>
              </a:rPr>
              <a:t>Recomendaciones Generales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4360" indent="-324360"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66"/>
                </a:solidFill>
                <a:latin typeface="Tahoma"/>
              </a:rPr>
              <a:t>Desempeño (performance)</a:t>
            </a:r>
            <a:r>
              <a:rPr b="1" lang="en-GB" sz="2000" spc="-1" strike="noStrike">
                <a:solidFill>
                  <a:srgbClr val="000066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08480" indent="-269640"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Si el desempeño es un requisito crítico, la arquitectura debe estar diseñada para albergar las operaciones críticas, dentro de un </a:t>
            </a:r>
            <a:r>
              <a:rPr b="0" lang="en-GB" sz="1800" spc="-1" strike="noStrike">
                <a:solidFill>
                  <a:srgbClr val="cc3300"/>
                </a:solidFill>
                <a:latin typeface="Tahoma"/>
              </a:rPr>
              <a:t>número reducido de subsistemas</a:t>
            </a: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 y evitar (o reducir el número de) cambios de estado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08480" indent="-269640"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Esto significa utilizar </a:t>
            </a:r>
            <a:r>
              <a:rPr b="1" i="1" lang="en-GB" sz="1800" spc="-1" strike="noStrike">
                <a:solidFill>
                  <a:srgbClr val="cc3300"/>
                </a:solidFill>
                <a:latin typeface="Tahoma"/>
              </a:rPr>
              <a:t>componentes de grano grueso</a:t>
            </a:r>
            <a:r>
              <a:rPr b="0" lang="en-GB" sz="1800" spc="-1" strike="noStrike">
                <a:solidFill>
                  <a:srgbClr val="cc3300"/>
                </a:solidFill>
                <a:latin typeface="Tahoma"/>
              </a:rPr>
              <a:t>,</a:t>
            </a: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 de esa manera habrá menos componentes en el sistema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08480" indent="-269640"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Ojalá con </a:t>
            </a:r>
            <a:r>
              <a:rPr b="0" lang="en-GB" sz="1800" spc="-1" strike="noStrike">
                <a:solidFill>
                  <a:srgbClr val="cc3300"/>
                </a:solidFill>
                <a:latin typeface="Tahoma"/>
              </a:rPr>
              <a:t>poca comunicación</a:t>
            </a: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 entre estos subsistemas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08480" indent="-269640"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Poco </a:t>
            </a:r>
            <a:r>
              <a:rPr b="0" lang="en-GB" sz="1800" spc="-1" strike="noStrike">
                <a:solidFill>
                  <a:srgbClr val="cc3300"/>
                </a:solidFill>
                <a:latin typeface="Tahoma"/>
              </a:rPr>
              <a:t>uso de la red</a:t>
            </a: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24360" indent="-324360"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66"/>
                </a:solidFill>
                <a:latin typeface="Tahoma"/>
              </a:rPr>
              <a:t>Seguridad.</a:t>
            </a:r>
            <a:r>
              <a:rPr b="1" lang="en-GB" sz="20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08480" indent="-269640"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Si la seguridad es un requisito crítico, se debería utilizar una </a:t>
            </a:r>
            <a:r>
              <a:rPr b="1" i="1" lang="en-GB" sz="1800" spc="-1" strike="noStrike">
                <a:solidFill>
                  <a:srgbClr val="cc3300"/>
                </a:solidFill>
                <a:latin typeface="Tahoma"/>
              </a:rPr>
              <a:t>arquitectura estratificada</a:t>
            </a:r>
            <a:r>
              <a:rPr b="0" lang="en-GB" sz="18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(por capas)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08480" indent="-269640"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Los </a:t>
            </a:r>
            <a:r>
              <a:rPr b="0" lang="en-GB" sz="1800" spc="-1" strike="noStrike">
                <a:solidFill>
                  <a:srgbClr val="cc3300"/>
                </a:solidFill>
                <a:latin typeface="Tahoma"/>
              </a:rPr>
              <a:t>recursos más críticos</a:t>
            </a: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 deben alojarse en las </a:t>
            </a:r>
            <a:r>
              <a:rPr b="0" lang="en-GB" sz="1800" spc="-1" strike="noStrike">
                <a:solidFill>
                  <a:srgbClr val="cc3300"/>
                </a:solidFill>
                <a:latin typeface="Tahoma"/>
              </a:rPr>
              <a:t>capas más internas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08480" indent="-269640"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Tahoma"/>
              </a:rPr>
              <a:t>Cada capa debe proveer</a:t>
            </a: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 un mecanismo de </a:t>
            </a:r>
            <a:r>
              <a:rPr b="0" lang="en-GB" sz="1800" spc="-1" strike="noStrike">
                <a:solidFill>
                  <a:srgbClr val="cc3300"/>
                </a:solidFill>
                <a:latin typeface="Tahoma"/>
              </a:rPr>
              <a:t>validación</a:t>
            </a: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, de acuerdo a la información que ésta maneja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59" name="Picture 4" descr=""/>
          <p:cNvPicPr/>
          <p:nvPr/>
        </p:nvPicPr>
        <p:blipFill>
          <a:blip r:embed="rId1"/>
          <a:stretch/>
        </p:blipFill>
        <p:spPr>
          <a:xfrm>
            <a:off x="7951680" y="0"/>
            <a:ext cx="1195560" cy="13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b9f"/>
            </a:gs>
            <a:gs pos="100000">
              <a:srgbClr val="ffffc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Tahoma"/>
              </a:rPr>
              <a:t>Recomendaciones Generales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440" y="14158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27600" indent="-327600"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Tahoma"/>
              </a:rPr>
              <a:t>Protección 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(de transacciones)</a:t>
            </a:r>
            <a:r>
              <a:rPr b="1" lang="en-GB" sz="2400" spc="-1" strike="noStrike">
                <a:solidFill>
                  <a:srgbClr val="000066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16040" indent="-272520"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Si la protección de transacciones es un requisito crítico, la arquitectura debe estar diseñada de tal forma que 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las </a:t>
            </a:r>
            <a:r>
              <a:rPr b="1" i="1" lang="en-GB" sz="2000" spc="-1" strike="noStrike">
                <a:solidFill>
                  <a:srgbClr val="cc3300"/>
                </a:solidFill>
                <a:latin typeface="Tahoma"/>
              </a:rPr>
              <a:t>operaciones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 encargadas de la protección </a:t>
            </a:r>
            <a:r>
              <a:rPr b="1" i="1" lang="en-GB" sz="2000" spc="-1" strike="noStrike">
                <a:solidFill>
                  <a:srgbClr val="cc3300"/>
                </a:solidFill>
                <a:latin typeface="Tahoma"/>
              </a:rPr>
              <a:t>se localicen en único subsistema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o en un conjunto muy reducido de est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6040" indent="-272520">
              <a:spcBef>
                <a:spcPts val="1001"/>
              </a:spcBef>
              <a:spcAft>
                <a:spcPts val="1001"/>
              </a:spcAft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Esto 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reduce riesgos, </a:t>
            </a:r>
            <a:r>
              <a:rPr b="0" lang="en-GB" sz="2000" spc="-1" strike="noStrike">
                <a:solidFill>
                  <a:srgbClr val="191966"/>
                </a:solidFill>
                <a:latin typeface="Tahoma"/>
              </a:rPr>
              <a:t>y 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falicita la administración </a:t>
            </a:r>
            <a:r>
              <a:rPr b="0" lang="en-GB" sz="2000" spc="-1" strike="noStrike">
                <a:solidFill>
                  <a:srgbClr val="191966"/>
                </a:solidFill>
                <a:latin typeface="Tahoma"/>
              </a:rPr>
              <a:t>de dichas transacciones (inclusive en casos de roll-back)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7600" indent="-327600"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Tahoma"/>
              </a:rPr>
              <a:t>Disponibilidad.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16040" indent="-272520"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Si la disponibilidad es un requisito crítico, como parte de la arquitectura se deben incluir </a:t>
            </a:r>
            <a:r>
              <a:rPr b="1" i="1" lang="en-GB" sz="2000" spc="-1" strike="noStrike">
                <a:solidFill>
                  <a:srgbClr val="cc3300"/>
                </a:solidFill>
                <a:latin typeface="Tahoma"/>
              </a:rPr>
              <a:t>componentes redundantes, 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y/o la posibilidad de </a:t>
            </a:r>
            <a:r>
              <a:rPr b="1" i="1" lang="en-GB" sz="2000" spc="-1" strike="noStrike">
                <a:solidFill>
                  <a:srgbClr val="cc3300"/>
                </a:solidFill>
                <a:latin typeface="Tahoma"/>
              </a:rPr>
              <a:t>mover código en tiempo real 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(migrar servicios de una máquina a otra)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6040" indent="-272520"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Estos podrán reemplazar a los componentes con problemas, en caso de fall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7951680" y="0"/>
            <a:ext cx="1195560" cy="13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b9f"/>
            </a:gs>
            <a:gs pos="100000">
              <a:srgbClr val="ffffc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Tahoma"/>
              </a:rPr>
              <a:t>Recomendaciones Generales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Tahoma"/>
              </a:rPr>
              <a:t>Mantenibilidad.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8360" indent="-281160"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Si la mantenibilidad es un requisito crítico, la arquitectura debe estar diseñada utilizando </a:t>
            </a:r>
            <a:r>
              <a:rPr b="1" i="1" lang="en-GB" sz="2000" spc="-1" strike="noStrike">
                <a:solidFill>
                  <a:srgbClr val="cc3300"/>
                </a:solidFill>
                <a:latin typeface="Tahoma"/>
              </a:rPr>
              <a:t>componentes autocontenidos de grano fino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8360" indent="-281160"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Estos componentes pueden ser módulos o componentes de software bien definidos.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8360" indent="-281160"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Estos podrán cambiarse o 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reemplazarse con facilidad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, y con un mínimo efecto sobre el resto del sistem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8360" indent="-281160"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Los </a:t>
            </a:r>
            <a:r>
              <a:rPr b="1" i="1" lang="en-GB" sz="2000" spc="-1" strike="noStrike">
                <a:solidFill>
                  <a:srgbClr val="cc3300"/>
                </a:solidFill>
                <a:latin typeface="Tahoma"/>
              </a:rPr>
              <a:t>productores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de datos deben estar </a:t>
            </a:r>
            <a:r>
              <a:rPr b="1" i="1" lang="en-GB" sz="2000" spc="-1" strike="noStrike">
                <a:solidFill>
                  <a:srgbClr val="cc3300"/>
                </a:solidFill>
                <a:latin typeface="Tahoma"/>
              </a:rPr>
              <a:t>separados de los consumidores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8360" indent="-281160"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Las estructuras de datos compartidas </a:t>
            </a:r>
            <a:r>
              <a:rPr b="1" i="1" lang="en-GB" sz="2000" spc="-1" strike="noStrike">
                <a:solidFill>
                  <a:srgbClr val="cc3300"/>
                </a:solidFill>
                <a:latin typeface="Tahoma"/>
              </a:rPr>
              <a:t>deben evitarse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8360" indent="-281160"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La circulación de 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órdenes de control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entre módulos o subsistemas, también </a:t>
            </a:r>
            <a:r>
              <a:rPr b="1" i="1" lang="en-GB" sz="2000" spc="-1" strike="noStrike">
                <a:solidFill>
                  <a:srgbClr val="cc3300"/>
                </a:solidFill>
                <a:latin typeface="Tahoma"/>
              </a:rPr>
              <a:t>debe evitarse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7951680" y="0"/>
            <a:ext cx="1195560" cy="13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b9f"/>
            </a:gs>
            <a:gs pos="100000">
              <a:srgbClr val="ffffc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1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AutoShape 2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531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a50021"/>
                </a:solidFill>
                <a:latin typeface="Tahoma"/>
              </a:rPr>
              <a:t>Estructuración del Sistema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2627280" y="2421000"/>
            <a:ext cx="4465800" cy="27144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a50021"/>
                </a:solidFill>
                <a:latin typeface="Arial"/>
                <a:ea typeface="Arial"/>
              </a:rPr>
              <a:t>Proceso de Diseño Arquitectónico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1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AutoShape 2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Tahoma"/>
              </a:rPr>
              <a:t>Estructuración del Sistema (1)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57200"/>
            <a:ext cx="8207280" cy="499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1120" indent="-321120"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ahoma"/>
              </a:rPr>
              <a:t>… </a:t>
            </a:r>
            <a:r>
              <a:rPr b="0" lang="en-GB" sz="2200" spc="-1" strike="noStrike">
                <a:solidFill>
                  <a:srgbClr val="000066"/>
                </a:solidFill>
                <a:latin typeface="Tahoma"/>
              </a:rPr>
              <a:t>una vez que los requisitos (incluyendo los de calidad) están claramente especificados, </a:t>
            </a:r>
            <a:r>
              <a:rPr b="1" i="1" lang="en-GB" sz="2200" spc="-1" strike="noStrike">
                <a:solidFill>
                  <a:srgbClr val="000066"/>
                </a:solidFill>
                <a:latin typeface="Tahoma"/>
              </a:rPr>
              <a:t>comenzamos a hacer arquitectura</a:t>
            </a:r>
            <a:r>
              <a:rPr b="0" lang="en-GB" sz="2200" spc="-1" strike="noStrike">
                <a:solidFill>
                  <a:srgbClr val="000066"/>
                </a:solidFill>
                <a:latin typeface="Tahoma"/>
              </a:rPr>
              <a:t> del sistema…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1120" indent="-321120"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ahoma"/>
              </a:rPr>
              <a:t>Usualmente se parte por la </a:t>
            </a:r>
            <a:r>
              <a:rPr b="1" i="1" lang="en-GB" sz="2200" spc="-1" strike="noStrike">
                <a:solidFill>
                  <a:srgbClr val="000066"/>
                </a:solidFill>
                <a:latin typeface="Tahoma"/>
              </a:rPr>
              <a:t>estructuración de la solución</a:t>
            </a:r>
            <a:r>
              <a:rPr b="0" lang="en-GB" sz="2200" spc="-1" strike="noStrike">
                <a:solidFill>
                  <a:srgbClr val="000066"/>
                </a:solidFill>
                <a:latin typeface="Tahoma"/>
              </a:rPr>
              <a:t> (sistema)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1120" indent="-321120"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ahoma"/>
              </a:rPr>
              <a:t>Se refiere a la </a:t>
            </a:r>
            <a:r>
              <a:rPr b="1" i="1" lang="en-GB" sz="2200" spc="-1" strike="noStrike">
                <a:solidFill>
                  <a:srgbClr val="000066"/>
                </a:solidFill>
                <a:latin typeface="Tahoma"/>
              </a:rPr>
              <a:t>descomposición del sistema</a:t>
            </a:r>
            <a:r>
              <a:rPr b="0" lang="en-GB" sz="2200" spc="-1" strike="noStrike">
                <a:solidFill>
                  <a:srgbClr val="000066"/>
                </a:solidFill>
                <a:latin typeface="Tahoma"/>
              </a:rPr>
              <a:t> a través de un conjunto subsistemas relacionad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1120" indent="-321120"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ahoma"/>
              </a:rPr>
              <a:t>El diseño de la arquitectura es normalmente expresado como un </a:t>
            </a:r>
            <a:r>
              <a:rPr b="1" i="1" lang="en-GB" sz="2200" spc="-1" strike="noStrike">
                <a:solidFill>
                  <a:srgbClr val="000066"/>
                </a:solidFill>
                <a:latin typeface="Tahoma"/>
              </a:rPr>
              <a:t>diagrama de bloques</a:t>
            </a:r>
            <a:r>
              <a:rPr b="0" lang="en-GB" sz="2200" spc="-1" strike="noStrike">
                <a:solidFill>
                  <a:srgbClr val="000066"/>
                </a:solidFill>
                <a:latin typeface="Tahoma"/>
              </a:rPr>
              <a:t>, el cual, presenta una </a:t>
            </a:r>
            <a:r>
              <a:rPr b="0" lang="en-GB" sz="2200" spc="-1" strike="noStrike">
                <a:solidFill>
                  <a:srgbClr val="cc3300"/>
                </a:solidFill>
                <a:latin typeface="Tahoma"/>
              </a:rPr>
              <a:t>vista de la estructura</a:t>
            </a:r>
            <a:r>
              <a:rPr b="0" lang="en-GB" sz="2200" spc="-1" strike="noStrike">
                <a:solidFill>
                  <a:srgbClr val="000066"/>
                </a:solidFill>
                <a:latin typeface="Tahoma"/>
              </a:rPr>
              <a:t> del sistema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1120" indent="-321120"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ahoma"/>
              </a:rPr>
              <a:t>Muchos modelos específicos muestran </a:t>
            </a:r>
            <a:r>
              <a:rPr b="0" lang="en-GB" sz="2200" spc="-1" strike="noStrike">
                <a:solidFill>
                  <a:srgbClr val="cc3300"/>
                </a:solidFill>
                <a:latin typeface="Tahoma"/>
              </a:rPr>
              <a:t>cómo los subsistemas comparten los datos</a:t>
            </a:r>
            <a:r>
              <a:rPr b="0" lang="en-GB" sz="22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0" lang="en-GB" sz="2200" spc="-1" strike="noStrike">
                <a:solidFill>
                  <a:srgbClr val="cc3300"/>
                </a:solidFill>
                <a:latin typeface="Tahoma"/>
              </a:rPr>
              <a:t>cómo son distribuidos </a:t>
            </a:r>
            <a:r>
              <a:rPr b="0" lang="en-GB" sz="2200" spc="-1" strike="noStrike">
                <a:solidFill>
                  <a:srgbClr val="000066"/>
                </a:solidFill>
                <a:latin typeface="Tahoma"/>
              </a:rPr>
              <a:t>y </a:t>
            </a:r>
            <a:r>
              <a:rPr b="0" lang="en-GB" sz="2200" spc="-1" strike="noStrike">
                <a:solidFill>
                  <a:srgbClr val="cc3300"/>
                </a:solidFill>
                <a:latin typeface="Tahoma"/>
              </a:rPr>
              <a:t>cómo las interfaces </a:t>
            </a:r>
            <a:r>
              <a:rPr b="0" lang="en-GB" sz="2200" spc="-1" strike="noStrike">
                <a:solidFill>
                  <a:srgbClr val="000066"/>
                </a:solidFill>
                <a:latin typeface="Tahoma"/>
              </a:rPr>
              <a:t>con otros subsistemas </a:t>
            </a:r>
            <a:r>
              <a:rPr b="0" lang="en-GB" sz="2200" spc="-1" strike="noStrike">
                <a:solidFill>
                  <a:srgbClr val="cc3300"/>
                </a:solidFill>
                <a:latin typeface="Tahoma"/>
              </a:rPr>
              <a:t>pueden ser desarrolladas</a:t>
            </a:r>
            <a:r>
              <a:rPr b="0" lang="en-GB" sz="22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b9f"/>
            </a:gs>
            <a:gs pos="100000">
              <a:srgbClr val="ffffc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1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" name="AutoShape 2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27000"/>
            <a:ext cx="7772400" cy="122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600" spc="-1" strike="noStrike">
                <a:solidFill>
                  <a:srgbClr val="a50021"/>
                </a:solidFill>
                <a:latin typeface="Tahoma"/>
              </a:rPr>
              <a:t>Estructuración del Sistema (2)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486080"/>
            <a:ext cx="8134200" cy="50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27600" indent="-327600"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Hay varias </a:t>
            </a:r>
            <a:r>
              <a:rPr b="1" lang="es-CL" sz="2400" spc="-1" strike="noStrike">
                <a:solidFill>
                  <a:srgbClr val="000066"/>
                </a:solidFill>
                <a:latin typeface="Tahoma"/>
              </a:rPr>
              <a:t>recomendaciones generales</a:t>
            </a: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 (soluciones recurrentes) para estructurar un sistema, algunas de ellas son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16040" indent="-272520"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Modelo de depósito (o de repositorio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6040" indent="-272520"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Modelo Cliente/Servidor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6040" indent="-272520"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Modelo de máquina abstract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6040" indent="-272520">
              <a:spcBef>
                <a:spcPts val="964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Mezclas de esto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6040" indent="0">
              <a:spcBef>
                <a:spcPts val="96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7600" indent="-327600"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Cada uno es más apropiado para apoyar un cierto escenario o conjunto de escenari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7600" indent="-327600">
              <a:spcBef>
                <a:spcPts val="1463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Cada uno apunta a potenciar uno (o más) requisitos de calidad.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198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Depósito o Repositorio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2195640" y="765000"/>
            <a:ext cx="46083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db9f"/>
            </a:gs>
            <a:gs pos="100000">
              <a:srgbClr val="ffffc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1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AutoShape 2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115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Tahoma"/>
              </a:rPr>
              <a:t>El Modelo de Depósito o de Repositorio(1)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17520" indent="-317520">
              <a:spcBef>
                <a:spcPts val="1800"/>
              </a:spcBef>
              <a:spcAft>
                <a:spcPts val="1800"/>
              </a:spcAft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Muchos </a:t>
            </a:r>
            <a:r>
              <a:rPr b="1" i="1" lang="en-GB" sz="2400" spc="-1" strike="noStrike">
                <a:solidFill>
                  <a:srgbClr val="000066"/>
                </a:solidFill>
                <a:latin typeface="Tahoma"/>
              </a:rPr>
              <a:t>subsistemas intercambian datos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. Esto 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puede darse de dos manera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93720" indent="-264240">
              <a:spcBef>
                <a:spcPts val="1800"/>
              </a:spcBef>
              <a:spcAft>
                <a:spcPts val="1800"/>
              </a:spcAft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Los 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datos compartidos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se colocan 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en una base de datos 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central o repositorio (alternativa centralizada) y pueden ser accedidos por todos los subsistemas.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93720" indent="-264240">
              <a:spcBef>
                <a:spcPts val="1800"/>
              </a:spcBef>
              <a:spcAft>
                <a:spcPts val="1800"/>
              </a:spcAft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Cada subsistema mantiene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su propia </a:t>
            </a: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base de datos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y pasa datos explícitos a otros subsistemas (alternativa distribuida)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17520" indent="-317520">
              <a:spcBef>
                <a:spcPts val="1800"/>
              </a:spcBef>
              <a:spcAft>
                <a:spcPts val="1800"/>
              </a:spcAft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Cuando </a:t>
            </a:r>
            <a:r>
              <a:rPr b="0" lang="en-GB" sz="2400" spc="-1" strike="noStrike">
                <a:solidFill>
                  <a:srgbClr val="cc3300"/>
                </a:solidFill>
                <a:latin typeface="Tahoma"/>
              </a:rPr>
              <a:t>grandes cantidades de datos son compartidos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, el modelo de repositorio es el más comunmente utilizad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2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AutoShape 3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Tahoma"/>
              </a:rPr>
              <a:t>Repositorio: Modelo Estructural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3110040" y="1758960"/>
            <a:ext cx="1130040" cy="673200"/>
          </a:xfrm>
          <a:prstGeom prst="roundRect">
            <a:avLst>
              <a:gd name="adj" fmla="val 231"/>
            </a:avLst>
          </a:prstGeom>
          <a:gradFill rotWithShape="0">
            <a:gsLst>
              <a:gs pos="0">
                <a:srgbClr val="d4d4d4"/>
              </a:gs>
              <a:gs pos="100000">
                <a:srgbClr val="969696"/>
              </a:gs>
            </a:gsLst>
            <a:lin ang="162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238920" y="1843200"/>
            <a:ext cx="8996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Editor 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Diseños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AutoShape 7"/>
          <p:cNvSpPr/>
          <p:nvPr/>
        </p:nvSpPr>
        <p:spPr>
          <a:xfrm>
            <a:off x="5014800" y="1758960"/>
            <a:ext cx="1130400" cy="673200"/>
          </a:xfrm>
          <a:prstGeom prst="roundRect">
            <a:avLst>
              <a:gd name="adj" fmla="val 231"/>
            </a:avLst>
          </a:prstGeom>
          <a:gradFill rotWithShape="0">
            <a:gsLst>
              <a:gs pos="0">
                <a:srgbClr val="d4d4d4"/>
              </a:gs>
              <a:gs pos="100000">
                <a:srgbClr val="969696"/>
              </a:gs>
            </a:gsLst>
            <a:lin ang="162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4955040" y="1851120"/>
            <a:ext cx="12852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Generador 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Códig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AutoShape 9"/>
          <p:cNvSpPr/>
          <p:nvPr/>
        </p:nvSpPr>
        <p:spPr>
          <a:xfrm>
            <a:off x="1044720" y="3511440"/>
            <a:ext cx="1290600" cy="673200"/>
          </a:xfrm>
          <a:prstGeom prst="roundRect">
            <a:avLst>
              <a:gd name="adj" fmla="val 231"/>
            </a:avLst>
          </a:prstGeom>
          <a:gradFill rotWithShape="0">
            <a:gsLst>
              <a:gs pos="0">
                <a:srgbClr val="d4d4d4"/>
              </a:gs>
              <a:gs pos="100000">
                <a:srgbClr val="969696"/>
              </a:gs>
            </a:gsLst>
            <a:lin ang="162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996480" y="3711600"/>
            <a:ext cx="13539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Empaquetado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AutoShape 11"/>
          <p:cNvSpPr/>
          <p:nvPr/>
        </p:nvSpPr>
        <p:spPr>
          <a:xfrm>
            <a:off x="3186000" y="3435480"/>
            <a:ext cx="2959200" cy="672840"/>
          </a:xfrm>
          <a:prstGeom prst="roundRect">
            <a:avLst>
              <a:gd name="adj" fmla="val 231"/>
            </a:avLst>
          </a:prstGeom>
          <a:gradFill rotWithShape="0">
            <a:gsLst>
              <a:gs pos="0">
                <a:srgbClr val="d4d4d4"/>
              </a:gs>
              <a:gs pos="100000">
                <a:srgbClr val="969696"/>
              </a:gs>
            </a:gsLst>
            <a:lin ang="162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3437280" y="3645000"/>
            <a:ext cx="23428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</a:rPr>
              <a:t>Repositorio de Proyecto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AutoShape 13"/>
          <p:cNvSpPr/>
          <p:nvPr/>
        </p:nvSpPr>
        <p:spPr>
          <a:xfrm>
            <a:off x="6996240" y="3359160"/>
            <a:ext cx="1130040" cy="673200"/>
          </a:xfrm>
          <a:prstGeom prst="roundRect">
            <a:avLst>
              <a:gd name="adj" fmla="val 231"/>
            </a:avLst>
          </a:prstGeom>
          <a:gradFill rotWithShape="0">
            <a:gsLst>
              <a:gs pos="0">
                <a:srgbClr val="d4d4d4"/>
              </a:gs>
              <a:gs pos="100000">
                <a:srgbClr val="969696"/>
              </a:gs>
            </a:gsLst>
            <a:lin ang="162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7047360" y="3451320"/>
            <a:ext cx="10566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Editor 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Programa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AutoShape 15"/>
          <p:cNvSpPr/>
          <p:nvPr/>
        </p:nvSpPr>
        <p:spPr>
          <a:xfrm>
            <a:off x="3186000" y="5111640"/>
            <a:ext cx="1130400" cy="673200"/>
          </a:xfrm>
          <a:prstGeom prst="roundRect">
            <a:avLst>
              <a:gd name="adj" fmla="val 231"/>
            </a:avLst>
          </a:prstGeom>
          <a:gradFill rotWithShape="0">
            <a:gsLst>
              <a:gs pos="0">
                <a:srgbClr val="d4d4d4"/>
              </a:gs>
              <a:gs pos="100000">
                <a:srgbClr val="969696"/>
              </a:gs>
            </a:gsLst>
            <a:lin ang="162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AutoShape 16"/>
          <p:cNvSpPr/>
          <p:nvPr/>
        </p:nvSpPr>
        <p:spPr>
          <a:xfrm>
            <a:off x="5014800" y="5035680"/>
            <a:ext cx="1130400" cy="672840"/>
          </a:xfrm>
          <a:prstGeom prst="roundRect">
            <a:avLst>
              <a:gd name="adj" fmla="val 231"/>
            </a:avLst>
          </a:prstGeom>
          <a:gradFill rotWithShape="0">
            <a:gsLst>
              <a:gs pos="0">
                <a:srgbClr val="d4d4d4"/>
              </a:gs>
              <a:gs pos="100000">
                <a:srgbClr val="969696"/>
              </a:gs>
            </a:gsLst>
            <a:lin ang="16200000"/>
          </a:gra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Text Box 17"/>
          <p:cNvSpPr/>
          <p:nvPr/>
        </p:nvSpPr>
        <p:spPr>
          <a:xfrm>
            <a:off x="3267000" y="5203800"/>
            <a:ext cx="10782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Analizado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de Diseño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Text Box 18"/>
          <p:cNvSpPr/>
          <p:nvPr/>
        </p:nvSpPr>
        <p:spPr>
          <a:xfrm>
            <a:off x="5029920" y="5108400"/>
            <a:ext cx="1157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Generador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de Report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Line 19"/>
          <p:cNvSpPr/>
          <p:nvPr/>
        </p:nvSpPr>
        <p:spPr>
          <a:xfrm>
            <a:off x="3637080" y="2438280"/>
            <a:ext cx="1440" cy="990720"/>
          </a:xfrm>
          <a:prstGeom prst="line">
            <a:avLst/>
          </a:prstGeom>
          <a:ln w="50760">
            <a:solidFill>
              <a:srgbClr val="000066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Line 20"/>
          <p:cNvSpPr/>
          <p:nvPr/>
        </p:nvSpPr>
        <p:spPr>
          <a:xfrm>
            <a:off x="5618160" y="2438280"/>
            <a:ext cx="1440" cy="990720"/>
          </a:xfrm>
          <a:prstGeom prst="line">
            <a:avLst/>
          </a:prstGeom>
          <a:ln w="50760">
            <a:solidFill>
              <a:srgbClr val="000066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Line 21"/>
          <p:cNvSpPr/>
          <p:nvPr/>
        </p:nvSpPr>
        <p:spPr>
          <a:xfrm>
            <a:off x="2341440" y="3886200"/>
            <a:ext cx="838440" cy="1440"/>
          </a:xfrm>
          <a:prstGeom prst="line">
            <a:avLst/>
          </a:prstGeom>
          <a:ln w="50760">
            <a:solidFill>
              <a:srgbClr val="000066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Line 22"/>
          <p:cNvSpPr/>
          <p:nvPr/>
        </p:nvSpPr>
        <p:spPr>
          <a:xfrm>
            <a:off x="6151680" y="3809880"/>
            <a:ext cx="838080" cy="1800"/>
          </a:xfrm>
          <a:prstGeom prst="line">
            <a:avLst/>
          </a:prstGeom>
          <a:ln w="50760">
            <a:solidFill>
              <a:srgbClr val="000066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Line 23"/>
          <p:cNvSpPr/>
          <p:nvPr/>
        </p:nvSpPr>
        <p:spPr>
          <a:xfrm>
            <a:off x="3637080" y="4114800"/>
            <a:ext cx="1440" cy="990720"/>
          </a:xfrm>
          <a:prstGeom prst="line">
            <a:avLst/>
          </a:prstGeom>
          <a:ln w="50760">
            <a:solidFill>
              <a:srgbClr val="000066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Line 24"/>
          <p:cNvSpPr/>
          <p:nvPr/>
        </p:nvSpPr>
        <p:spPr>
          <a:xfrm>
            <a:off x="5618160" y="4114800"/>
            <a:ext cx="1440" cy="914400"/>
          </a:xfrm>
          <a:prstGeom prst="line">
            <a:avLst/>
          </a:prstGeom>
          <a:ln w="50760">
            <a:solidFill>
              <a:srgbClr val="000066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8" name="Group 25"/>
          <p:cNvGrpSpPr/>
          <p:nvPr/>
        </p:nvGrpSpPr>
        <p:grpSpPr>
          <a:xfrm>
            <a:off x="250920" y="5410080"/>
            <a:ext cx="8304120" cy="1144800"/>
            <a:chOff x="250920" y="5410080"/>
            <a:chExt cx="8304120" cy="1144800"/>
          </a:xfrm>
        </p:grpSpPr>
        <p:sp>
          <p:nvSpPr>
            <p:cNvPr id="99" name="AutoShape 26"/>
            <p:cNvSpPr/>
            <p:nvPr/>
          </p:nvSpPr>
          <p:spPr>
            <a:xfrm>
              <a:off x="250920" y="5410080"/>
              <a:ext cx="8304120" cy="1141560"/>
            </a:xfrm>
            <a:prstGeom prst="roundRect">
              <a:avLst>
                <a:gd name="adj" fmla="val 1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" name="Text Box 27"/>
            <p:cNvSpPr/>
            <p:nvPr/>
          </p:nvSpPr>
          <p:spPr>
            <a:xfrm>
              <a:off x="250920" y="6157440"/>
              <a:ext cx="8304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b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a50021"/>
                  </a:solidFill>
                  <a:latin typeface="Tahoma"/>
                </a:rPr>
                <a:t>Ejemplo: Arquitectura de una herramienta CASE tradicional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ergio</dc:creator>
  <dc:description/>
  <dc:language>en-US</dc:language>
  <cp:lastModifiedBy>Sergio</cp:lastModifiedBy>
  <dcterms:modified xsi:type="dcterms:W3CDTF">2010-10-05T13:46:27Z</dcterms:modified>
  <cp:revision>310</cp:revision>
  <dc:subject/>
  <dc:title>Arquitecturas de Software Genéricas</dc:title>
</cp:coreProperties>
</file>