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6913A9-0E94-4721-8AA1-500B4136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B8DA6D-FB96-4C98-9B51-88C742B234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1A40F7-0CCF-499A-BB76-42461ADE2D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238C6A-9ABF-487E-8DF7-434913C9393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1F166A-AF40-4E1F-BE1C-E34ED7F11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2D3A1E-1728-4FDF-BAF8-599AB0D89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48011A-4E13-4BB6-9CE0-40F3CA01CE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ACC3BC-0DCB-44F4-83D6-208A8E490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A4DB7E-C25D-498D-9A45-435CFD34ED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63FA42-562A-4D4E-99F6-4506C4D96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0B619D-7340-4748-BAC5-96A50CD0CC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7F5139-3AC7-4EDD-BD54-23342A238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8AC2D1-3500-4887-BC25-B34C9597867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E8E7AB-60A2-4011-BD7B-FBD8D32D2C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9270EA-B119-49DD-BC23-B00210F52A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AC0682-B6CB-4082-892E-9E0C637BB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D236E2-D717-4539-8459-DC3C48E9A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83CEC0-C172-4FC5-8ECD-E57723B8B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5893CA-D3E7-4E9D-B00F-4CD3FB7B9D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BFE470-5AA1-4816-9CB4-95954FDB36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1200D7-7018-4260-9261-4AF9C60C9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DE127F-381C-47D3-8BCB-E025444D6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FA5C0F-6097-447A-9187-3F2705F3C0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9BC8F5-BE9E-479F-9E93-DB9BA335BB1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C6632C-7071-4728-BA45-C0EFDF074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BBF4BA-8AA7-4D9F-9B74-C470879928A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1605E4-384B-44D2-AB98-89D4C34EF0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2854E3-9DEE-4DAE-BA8B-F0B33B16F6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6ECF5B-39D7-4028-8D61-96D7A8F266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063B6A-1831-45E2-9D68-9C6917B6D5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6AA58E-1978-43F7-BE9B-361B46895B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683F5B-DC86-4E2E-A397-9CD9117537D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9EF750-A97B-4882-A11A-7C21B4E193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307-C4EE-4B1D-B83B-19FFD295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91E-B2E0-4628-8ABC-F2351C3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2B7-7353-425B-847F-64B2FC6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384-FE01-48E6-B523-27BA391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C2E-5172-4E5A-91F1-F8C7480C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5A8-22C3-4B3C-A7E7-CE3A3BB3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A59-E44C-4954-8CEE-0ECE362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7E5-CACE-4778-BDF7-E1EBC806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9C0-B429-4843-8B14-F3ADCF7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8D2-A7DE-45C3-9682-F438484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080-2357-45CF-9EE0-2BE2699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4C5-2A40-41D5-A210-9D607D0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47D-F148-4888-AD3F-5107B38313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11912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480" y="5176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9720" y="1142640"/>
            <a:ext cx="7839000" cy="542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sta de 2 etapas: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dificar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iminar error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n el cód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uente de dificultades y deficie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uego de una secuencia de cambios, el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códig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era ta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enred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, que eliminar errores era una tarea pesada y muy difícil de reali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uando el desarrollo de sistemas dejó de ser una actividad personal y artesanal, el modelo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podía manejar la complejidad de los sistem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acepta la rotación de personal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un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s una práctica habitual en el desarrollo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60752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 No se planifica ni se diseña form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¿Qué significaría en nuestro proyecto aplicar code and fi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n término de previsibilidad del proceso y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 sincronización del esfuer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lidad de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43880" y="5348160"/>
            <a:ext cx="146520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BC14-FB4F-4174-9A4F-3068AB4200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: Casc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1341360"/>
          <a:ext cx="52578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52578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1400040" y="5229360"/>
            <a:ext cx="77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modelo de cascada aunque algo desprestigiad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continúa siendo usad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A926-F028-4AC2-95E4-258201D716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344600" y="1143000"/>
            <a:ext cx="77994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modelo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scada (con realimentación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usado hasta el día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endiendo de la versión, posee entr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 y 10 actividade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Útil para 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fundament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aparecen en cualquier proceso) y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ocumentos de entreg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deliver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problemas más importantes de este modelo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o maneja los riesg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b) Obtiene u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roducto demasiado tar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c) Exig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poco compromis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usuario/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1FC-FB16-4B00-98F7-53823104F2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-Incre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339920" y="1557360"/>
          <a:ext cx="769608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557360"/>
                    <a:ext cx="769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403280" y="49528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idea es combinar los elementos del tradicional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modelo de cascad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on la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filosofía de prototip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(usada principalmente en la etapa de definición de requisit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BF2-D4BA-4DCD-B554-B7BE4EBAE0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11826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junto de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ascad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das en form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calon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da cascada genera u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incremento del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Prim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dición y formateo bás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egund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párrafos y docu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erc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pelling y gramá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uart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layout avanzad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602320" y="1989000"/>
            <a:ext cx="3541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213C-8889-4625-86B1-03B8A17D14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3080" y="1071720"/>
            <a:ext cx="813600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incremento representa u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versión reducida del producto fi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y útil par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cubrir lo qu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ment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necesita el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uede ser valid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inmediato por el usu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ue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paración para la vida evolu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mite incorporar camb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una vez que el proyecto está en march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es triv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obtener una bue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gment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246-54FD-4E05-A3CB-8C1D0FD2B5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Spi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001"/>
          <p:cNvPicPr/>
          <p:nvPr/>
        </p:nvPicPr>
        <p:blipFill>
          <a:blip r:embed="rId1"/>
          <a:stretch/>
        </p:blipFill>
        <p:spPr>
          <a:xfrm>
            <a:off x="1768320" y="1676520"/>
            <a:ext cx="596592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39720" y="5348160"/>
            <a:ext cx="76042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3AA5-8513-4D1E-91C6-AB815205747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3600" y="16045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puede ser visto como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etamodelo”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ues cualquier modelo de proceso puede ser enmarcado e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fini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iesgo: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anejo del Riesg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C7C4-A5A3-48B8-8624-10CAE80FFC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432080"/>
            <a:ext cx="7632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se basa en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iminación de problemas de alto riesg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través de un proceso de diseño cuidad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íclic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no line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radio del espiral marc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acumul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 el proceso, mientras que la dimensión angular represent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greso dentro del cic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8680" y="1213920"/>
            <a:ext cx="7701120" cy="56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Objetivo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ostrar diferent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rmas de organizar el desarrollo de softw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egún el avance de la ingeniería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alizar los “ciclos de vida” más represent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ón de los principales Modelos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volución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clu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00320" y="1604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-  Carencias del personal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Staff calificado, equipo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trenamiento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2- Cronogramas y presupuestos    -  Estimación de cron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 realistas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y costos detallados, reuso 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experiencia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3- Desarrollo de fun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organizado, 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prototipació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4- Desarrollo de interfa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Prototipos, escenari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caracterización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5- “Gold plating”..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6- Continuos cambios 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Ocultamiento de información, requisit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desarrollo increm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71520" y="1565280"/>
            <a:ext cx="7721640" cy="506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271520" y="250020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157720" y="1604880"/>
            <a:ext cx="0" cy="518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0320" y="1682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7- Carencias en componentes       -  Análisis de compatibilidad, externos (soft, hard, etc).              benchmarks,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8- Carencias en tare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-  Control de referencia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adas en forma                 contratos cuidadosos,      extern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selección de subcontra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9- Carencias de performanc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Simulación, prototip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tiempo real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benchmar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0- Forzar la computación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técnico, prototipos y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honest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90600" y="1643040"/>
            <a:ext cx="7721640" cy="476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290600" y="264312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5176800" y="1682640"/>
            <a:ext cx="0" cy="474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915B-F58B-4A12-83CC-2F8626917F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IMAGE001"/>
          <p:cNvPicPr/>
          <p:nvPr/>
        </p:nvPicPr>
        <p:blipFill>
          <a:blip r:embed="rId1"/>
          <a:stretch/>
        </p:blipFill>
        <p:spPr>
          <a:xfrm>
            <a:off x="1630440" y="1600200"/>
            <a:ext cx="488628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002"/>
          <p:cNvPicPr/>
          <p:nvPr/>
        </p:nvPicPr>
        <p:blipFill>
          <a:blip r:embed="rId2"/>
          <a:stretch/>
        </p:blipFill>
        <p:spPr>
          <a:xfrm>
            <a:off x="1631880" y="4286160"/>
            <a:ext cx="6180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43C-353F-45D9-B731-80BB40C8FA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270080"/>
            <a:ext cx="7885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contempla la construcción de sistemas, a través d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samble de módulos predefinid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componen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son genéric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sirven para más de un sistema), configurables, y pueden ser desarrollados por cualqu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que esto sea factible, l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deben adherir a una espec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componentes de software como: JavaBeans, ActiveX, EJB, COM, DCO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tiene un sin númer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ntaj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n lo relacionado con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y costo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también en lo que respecta 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lidad del producto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291B-3A68-4BE1-AB98-FF791BED4D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RUP_Model"/>
          <p:cNvPicPr/>
          <p:nvPr/>
        </p:nvPicPr>
        <p:blipFill>
          <a:blip r:embed="rId1"/>
          <a:stretch/>
        </p:blipFill>
        <p:spPr>
          <a:xfrm>
            <a:off x="1928880" y="157176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DE2-CA94-42FA-B280-06430D4AF2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332000" y="1268280"/>
            <a:ext cx="7561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delo (en teoría) modern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incorpora las recomendaciones (buenas prácticas) de la ingeniería d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ne mucho respal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pero es un tant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le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se requiere entrenamiento para usarl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 mu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tado a UM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Unified Modeling Langu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sta el momento, sólo ha demostrado ser uno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diferencia del resto, RUP consider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mo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ieza clav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masiado pesad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poyar el desarrollo de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2D5D-D33A-4967-BF20-78555E7689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99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045B-EDEE-44EF-9A5E-C2E0A572FC7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87280" y="1270080"/>
            <a:ext cx="79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 modern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aplicable a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el prime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iseñado específicament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ar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rollar proyecto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We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nqu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hay otr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como RMM, y OOHDM que proponen alternativas a WebE, pero que vienen del lado de los sistemas hipermed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ebE aú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ha sido probado lo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y por ahora es sólo una buena pro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519-D842-421E-93CD-CCA27E6533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4280" y="1214280"/>
            <a:ext cx="41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áctica ági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no burocrát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ilosofía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o una metod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volucr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r descubriendo la solu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la medida que se va avanzando en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5724360" y="2700360"/>
            <a:ext cx="341964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214280" y="5810400"/>
            <a:ext cx="7929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 de metodología ágiles son: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xtremme Programming, SCRU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B03-E57A-4CDC-A91D-B0E99843AA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38894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uc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a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a interacción con el cliente/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cticas específicas, como por ejemplo: pair-programming, pair- desig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0840" y="1500120"/>
            <a:ext cx="7394400" cy="19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roducción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591160" y="3214800"/>
            <a:ext cx="3517920" cy="359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320840" y="3357720"/>
            <a:ext cx="4251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iclo de Vi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l ciclo de vida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describe los es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por los que pasa un producto de software, desde su concepción hasta su m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modelos estructur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 software muestran más claramente lo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iclos de vid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l softwa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FAC-2EB9-4885-9066-FD9B6E4AB8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gunta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476360" cy="10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UP_Model"/>
          <p:cNvPicPr/>
          <p:nvPr/>
        </p:nvPicPr>
        <p:blipFill>
          <a:blip r:embed="rId2"/>
          <a:stretch/>
        </p:blipFill>
        <p:spPr>
          <a:xfrm>
            <a:off x="4643280" y="1916280"/>
            <a:ext cx="17290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3"/>
          <a:stretch/>
        </p:blipFill>
        <p:spPr>
          <a:xfrm>
            <a:off x="1476360" y="134136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002"/>
          <p:cNvPicPr/>
          <p:nvPr/>
        </p:nvPicPr>
        <p:blipFill>
          <a:blip r:embed="rId4"/>
          <a:stretch/>
        </p:blipFill>
        <p:spPr>
          <a:xfrm>
            <a:off x="1332000" y="4797360"/>
            <a:ext cx="237636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19784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poco clar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muy claro y acotad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grande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chic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empresa ya tiene un modelo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sistema tiene muchas interfaces de usuari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gente tiene poca capacidad para adaptarse a nuevos métodos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285920"/>
            <a:ext cx="7181640" cy="47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de softwar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be ser guiado por un mode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mo forma de disciplinar, organizar y gerenciar la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finido para la organiza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adaptado a cada proyecto en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deben cumplirse en el proceso de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básicament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s que establece el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lo suficientemente flexible como para incorporar el principi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TICIPACION AL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incremen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n entregas parciales al usuario (modelo evolutivo, incremental o espiral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e ajusta a la mayoría de los proyect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ara los productos que así lo amerit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alizar análisis de riesg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(modelo espi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94172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 meta de u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estructurado de proces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 determinar el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rden de las etap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componen el desarrollo y la evolución de un software, estableciendo los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iterios de tran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para progresar de una etapa a la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Qué debemos hacer a continu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(B.Bohem 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117080"/>
            <a:ext cx="5586480" cy="55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Beneficios de los mode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veen de guí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Dan un marc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Anticipan y controlan el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para alcanzar las cualidades deseadas del softw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Sistematizan el proces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 el uso de estándares, metodologías y herramien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Permiten la producción de </a:t>
            </a: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ductos confiables, predecibles y eficie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60000"/>
            <a:ext cx="75963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o basta con seleccionar un modelo genérico de desarrollo de software y tratar de adaptarse a él.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requiere una definición más precisa de cómo llevar a cabo las distintas t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560" y="1214280"/>
            <a:ext cx="7715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miten un entendimiento de tipo gener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representan en forma precisa lo que realmente se h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arecen la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 mayo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involucradas en el pro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rindan una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precisa del ord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ablec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elaciones entr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as divers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tare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rtefa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ducidos en ellas,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so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las realizan y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herrami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utiliz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n formalismos gráficos (por ejemplo Redes de Petr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520" y="1356840"/>
            <a:ext cx="652932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o Estrategias de Desarrol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de &amp; Fix Model (~196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aterfall Model (~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ncremental Model (~19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ransformation Model (~19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piral Model (~198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mponent Model (~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RUP (~1997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ebE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Metodologías Ágiles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Situación en Chile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 [Gech, 200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61A-4257-409E-BF46-3B9DAAA68D0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1357200" y="1293840"/>
            <a:ext cx="77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30% de las empresas opina que es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Extreme Programming es proceso menos conocid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3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 las  empresas  ha  incorporado el lenguaje de modelado UML, 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4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las empresas lo ha utilizado en alguna vez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80%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 las empresas utiliza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trol  de version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como la mayor herramienta de apoyo a la ejecución de sus proyect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uego le sigue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bugge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depurado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10-06T13:43:08Z</dcterms:modified>
  <cp:revision>968</cp:revision>
  <dc:subject/>
  <dc:title>Programas de Extención </dc:title>
</cp:coreProperties>
</file>