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216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216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7BE645F-8A97-4223-930E-1D5E4768F7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1B2314B-5AC8-43D6-AA7B-6B2F7E57AED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02D736F-C5CE-47D7-80E4-6051C2901979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3330B0A-74CA-4DAE-8CDB-F973C1025D8E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D05A905-1142-4BAC-A9F5-8A2E61AB33F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2352BDE-04C3-40A1-BAB6-28DBB99C648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33480" y="4408200"/>
            <a:ext cx="51307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4FFCB37-01C8-4A48-BB14-EB8E34956B2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3C3BC39-6D53-4D86-AB74-64F7D2F0FC8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33480" y="4408200"/>
            <a:ext cx="51307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0ABB2FF-4BFB-45D4-A826-EA3A0AC62B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33480" y="4408200"/>
            <a:ext cx="51307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76F9A5F-F460-47F5-A901-517326ADB6E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B82B4EA-C4E4-47F2-90D4-794BE8D53BD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33480" y="4408200"/>
            <a:ext cx="51307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610DE95-3A3A-46A3-AC2F-030F5A9D199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3480" y="4408200"/>
            <a:ext cx="51307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FAD59A1-861A-4359-9EE0-456BBC6524EB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56960" y="4024440"/>
            <a:ext cx="652932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ldImg"/>
          </p:nvPr>
        </p:nvSpPr>
        <p:spPr>
          <a:xfrm>
            <a:off x="-3174840" y="1477800"/>
            <a:ext cx="9466200" cy="7101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EC2BABA-E816-419A-9FDD-40496DD7DBF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02FBD61-BC7A-43DB-8C07-277985BD6966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348A446-2C60-4FAF-9A81-40ABED1F4F7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B678B24-FEF6-4B16-B76E-90A1B9B9B21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3480" y="4408200"/>
            <a:ext cx="51307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964D75B-23CC-4F02-AE7D-50CA015D12D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33480" y="4408200"/>
            <a:ext cx="51307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4BCD78B-0A08-4C2F-AA12-5EB55866A6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3480" y="4408200"/>
            <a:ext cx="51307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920863E-D13B-4304-9595-2DE533D26C6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33480" y="4408200"/>
            <a:ext cx="51307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47CBA17-671C-4164-86CB-6897C53FE4D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3480" y="4408200"/>
            <a:ext cx="51307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C3A3B02-D48A-40C5-B06A-D750415AF82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33480" y="4408200"/>
            <a:ext cx="51307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5F744AD-D460-4A23-803C-A538EDD6E9E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3480" y="4408200"/>
            <a:ext cx="51307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E6C5033-7392-4737-8BF6-085D75EAAB6E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156960" y="4024440"/>
            <a:ext cx="652932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ldImg"/>
          </p:nvPr>
        </p:nvSpPr>
        <p:spPr>
          <a:xfrm>
            <a:off x="-3174840" y="1477800"/>
            <a:ext cx="9466200" cy="7101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E5E9D35-56A3-4C5B-914D-811FB9FF8EF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33480" y="4408200"/>
            <a:ext cx="51307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41C5CDD-1EAD-484C-8778-FAC374B8CCB6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8A8BA44-84F0-4598-BAB9-67C3BA2BA1D4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DC575B3-C2C8-4702-A309-84686DBDAA33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D465B2A-671E-4844-9784-C4CD287F9F28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56960" y="4024440"/>
            <a:ext cx="652932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ldImg"/>
          </p:nvPr>
        </p:nvSpPr>
        <p:spPr>
          <a:xfrm>
            <a:off x="-3174840" y="1477800"/>
            <a:ext cx="9466200" cy="7101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C692A41-7279-4970-A749-FA899EB49062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156960" y="4024440"/>
            <a:ext cx="652932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ldImg"/>
          </p:nvPr>
        </p:nvSpPr>
        <p:spPr>
          <a:xfrm>
            <a:off x="-3174840" y="1477800"/>
            <a:ext cx="9466200" cy="7101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7819B97-FB48-474D-B73A-D8D1845ECAB8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17E56C7-7921-4AD8-97E2-FAD50C9E121E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9D4AB0F-C086-49BB-BCC7-CFF629A3B6E1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56960" y="4024440"/>
            <a:ext cx="652932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ldImg"/>
          </p:nvPr>
        </p:nvSpPr>
        <p:spPr>
          <a:xfrm>
            <a:off x="-3174840" y="1477800"/>
            <a:ext cx="9466200" cy="7101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8CE2-51C5-4E5E-A299-B44409FE8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B555-34D9-41E1-A8A5-C65CA303C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600A-82CB-4CB4-BBE4-C94705A2C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16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52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16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52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77A6-BC3D-4822-B20D-13589EDCB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B180-045B-4D6A-B0F8-26063EA7B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CC2E-2A24-4B41-B222-67A2060A5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EF99-E6A0-435A-AC4B-CCAA52CF2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C559-14C4-49E9-981B-65BCE9626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4C3F-E776-449A-9C34-1D41838F2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527C-2DD5-4335-9C40-B5EEFD52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5F4A-1F79-42FB-A12A-F68375F1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6202-590E-4DD1-ADF9-B765FAEF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BBCBF-9E4B-42B4-9EDF-7F88096E0A9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image" Target="../media/image10.jpeg"/><Relationship Id="rId4" Type="http://schemas.openxmlformats.org/officeDocument/2006/relationships/image" Target="../media/image17.jpe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CC51A – Ingeniería de Softwa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600200" y="4119120"/>
            <a:ext cx="7035840" cy="91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Modelos de Desarrollo de Softw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609480" y="51768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Sergio Ochoa 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  <a:ea typeface="Arial"/>
              </a:rPr>
              <a:t>Code &amp; Fix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9720" y="1142640"/>
            <a:ext cx="7839000" cy="542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lvl="1" marL="735480" indent="-282960" algn="just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Usado  en los comienzos de la computación, cuando ésta era una actividad personal y artesan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Consta de 2 etapas: </a:t>
            </a:r>
            <a:r>
              <a:rPr b="0" i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codificar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 y </a:t>
            </a:r>
            <a:r>
              <a:rPr b="0" i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eliminar errores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 en el códig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Fuente de dificultades y deficienci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Luego de una secuencia de cambios, el </a:t>
            </a:r>
            <a:r>
              <a:rPr b="0" lang="es-ES_tradnl" sz="2000" spc="-1" strike="noStrike">
                <a:solidFill>
                  <a:srgbClr val="ffff00"/>
                </a:solidFill>
                <a:latin typeface="Arial"/>
                <a:ea typeface="Arial"/>
              </a:rPr>
              <a:t>código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era tan </a:t>
            </a:r>
            <a:r>
              <a:rPr b="0" lang="es-ES_tradnl" sz="2000" spc="-1" strike="noStrike">
                <a:solidFill>
                  <a:srgbClr val="ffff00"/>
                </a:solidFill>
                <a:latin typeface="Arial"/>
                <a:ea typeface="Arial"/>
              </a:rPr>
              <a:t>enredado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, que eliminar errores era una tarea pesada y muy difícil de realiza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Cuando el desarrollo de sistemas dejó de ser una actividad personal y artesanal, el modelo </a:t>
            </a:r>
            <a:r>
              <a:rPr b="0" lang="es-ES_tradnl" sz="2000" spc="-1" strike="noStrike">
                <a:solidFill>
                  <a:srgbClr val="ffff00"/>
                </a:solidFill>
                <a:latin typeface="Arial"/>
                <a:ea typeface="Arial"/>
              </a:rPr>
              <a:t>no podía manejar la complejidad de los sistema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  <a:ea typeface="Arial"/>
              </a:rPr>
              <a:t>No acepta la rotación de personal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en un proyec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Es una práctica habitual en el desarrollo We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  <a:ea typeface="Arial"/>
              </a:rPr>
              <a:t>Code &amp; Fix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57200" y="1285920"/>
            <a:ext cx="7607520" cy="51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Code &amp; Fix =  Desarrollo guiado por el código (o por el programador)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. No se planifica ni se diseña formalmen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¿Qué significaría en nuestro proyecto aplicar code and fix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En término de previsibilidad del proceso y del produc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Capacidad de sincronización del esfuerz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vida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Calidad de produc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7643880" y="5348160"/>
            <a:ext cx="1465200" cy="146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F894E-FC66-4F7A-A3CC-E97C6E81928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Waterfall Model: Cascad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3" name="Object 4"/>
          <p:cNvGraphicFramePr/>
          <p:nvPr/>
        </p:nvGraphicFramePr>
        <p:xfrm>
          <a:off x="2556000" y="1341360"/>
          <a:ext cx="5257800" cy="327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1341360"/>
                    <a:ext cx="5257800" cy="32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Text Box 5"/>
          <p:cNvSpPr/>
          <p:nvPr/>
        </p:nvSpPr>
        <p:spPr>
          <a:xfrm>
            <a:off x="1400040" y="5229360"/>
            <a:ext cx="7743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El modelo de cascada aunque algo desprestigiado </a:t>
            </a:r>
            <a:r>
              <a:rPr b="0" i="1" lang="es-ES" sz="2400" spc="-1" strike="noStrike">
                <a:solidFill>
                  <a:srgbClr val="ffff00"/>
                </a:solidFill>
                <a:latin typeface="Arial"/>
              </a:rPr>
              <a:t>continúa siendo usado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para visualizar las etapas de desarrollo (¿cómo debería avanzarse?) y funciona bien si no hay grandes sorpres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495F0-51F5-4EC9-B865-570344FB168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Waterfall Model (cont..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1344600" y="1143000"/>
            <a:ext cx="7799400" cy="56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 el modelo de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cascada (con realimentación)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es usado hasta el día de ho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9280" indent="-1792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pendiendo de la versión, posee entre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5 y 10 actividades fundament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9280" indent="-1792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Útil para identificar las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actividades fundamentale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(que aparecen en cualquier proceso) y definir los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documentos de entreg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(deliverable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9280" indent="-1792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179280" indent="-1792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os problemas más importantes de este modelo s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9280" indent="-1792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(a) </a:t>
            </a: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No maneja los riesgos,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9280" indent="-1792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(b) Obtiene un </a:t>
            </a: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producto demasiado tarde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9280" indent="-1792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(c) Exige</a:t>
            </a: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 poco compromiso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l</a:t>
            </a: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 usuario/cli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5BE13-D2C5-4B58-BF63-E143C3BFED6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Estrategia-Incremental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2" name="Object 3"/>
          <p:cNvGraphicFramePr/>
          <p:nvPr/>
        </p:nvGraphicFramePr>
        <p:xfrm>
          <a:off x="1339920" y="1557360"/>
          <a:ext cx="7696080" cy="256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9920" y="1557360"/>
                    <a:ext cx="7696080" cy="25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Text Box 4"/>
          <p:cNvSpPr/>
          <p:nvPr/>
        </p:nvSpPr>
        <p:spPr>
          <a:xfrm>
            <a:off x="1403280" y="4952880"/>
            <a:ext cx="77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La idea es combinar los elementos del tradicional </a:t>
            </a:r>
            <a:r>
              <a:rPr b="0" i="1" lang="es-ES" sz="2400" spc="-1" strike="noStrike">
                <a:solidFill>
                  <a:srgbClr val="ffff00"/>
                </a:solidFill>
                <a:latin typeface="Arial"/>
              </a:rPr>
              <a:t>modelo de cascada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con la </a:t>
            </a:r>
            <a:r>
              <a:rPr b="0" i="1" lang="es-ES" sz="2400" spc="-1" strike="noStrike">
                <a:solidFill>
                  <a:srgbClr val="ffff00"/>
                </a:solidFill>
                <a:latin typeface="Arial"/>
              </a:rPr>
              <a:t>filosofía de prototipos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(usada principalmente en la etapa de definición de requisito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B457F-BA57-4BDD-BDA5-0B7FA38A05F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Incremental Model (cont..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826920" y="1182600"/>
            <a:ext cx="4897440" cy="58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njunto de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</a:rPr>
              <a:t>cascadas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sarrolladas en forma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</a:rPr>
              <a:t>escalona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ada cascada genera un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</a:rPr>
              <a:t>incremento del softwa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jemplo: Word Process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ahoma"/>
              </a:rPr>
              <a:t>•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</a:rPr>
              <a:t>Primer increment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: edición y formateo básic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</a:rPr>
              <a:t>Segundo increment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: párrafos y documen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</a:rPr>
              <a:t>Tercer increment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: spelling y gramátic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</a:rPr>
              <a:t>Cuarto increment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: layout avanzado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5602320" y="1989000"/>
            <a:ext cx="354168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AE328-B80F-494A-B941-8FF02ECA4BD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923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Incremental Model (cont..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973080" y="1071720"/>
            <a:ext cx="8136000" cy="60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ada incremento representa una 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versión reducida del producto final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uy útil para 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descubrir lo que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ealmente 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necesita el cli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Que 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puede ser validado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de inmediato por el usuar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s una buena 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preparación para la vida evolutiv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del produc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Permite incorporar cambi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, una vez que el proyecto está en march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No es trivial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obtener una buena 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segmentación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del produc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1DE5B-B3D0-4EA8-8457-1875C9ADBA8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Estrategia - Spiral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4" descr="IMAGE001"/>
          <p:cNvPicPr/>
          <p:nvPr/>
        </p:nvPicPr>
        <p:blipFill>
          <a:blip r:embed="rId1"/>
          <a:stretch/>
        </p:blipFill>
        <p:spPr>
          <a:xfrm>
            <a:off x="1768320" y="1676520"/>
            <a:ext cx="5965920" cy="31795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1539720" y="5348160"/>
            <a:ext cx="760428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Objetivo: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ahoma"/>
              </a:rPr>
              <a:t>Proveer una estructura para el diseño de procesos de producción de software, guiado por los </a:t>
            </a:r>
            <a:r>
              <a:rPr b="0" i="1" lang="es-ES_tradnl" sz="2400" spc="-1" strike="noStrike">
                <a:solidFill>
                  <a:srgbClr val="ffff00"/>
                </a:solidFill>
                <a:latin typeface="Tahoma"/>
              </a:rPr>
              <a:t>niveles de riesgo </a:t>
            </a:r>
            <a:r>
              <a:rPr b="0" i="1" lang="es-ES_tradnl" sz="2400" spc="-1" strike="noStrike">
                <a:solidFill>
                  <a:srgbClr val="ffffff"/>
                </a:solidFill>
                <a:latin typeface="Tahoma"/>
              </a:rPr>
              <a:t>del proyecto a desarroll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4AEF2-7906-48A5-9445-C9BEC30F1D8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Spiral Model (cont..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63600" y="1604520"/>
            <a:ext cx="7772400" cy="506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modelo en espiral puede ser visto como un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s-ES_tradnl" sz="2400" spc="-1" strike="noStrike">
                <a:solidFill>
                  <a:srgbClr val="ffff00"/>
                </a:solidFill>
                <a:latin typeface="Arial"/>
              </a:rPr>
              <a:t>metamodelo”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pues cualquier modelo de proceso puede ser enmarcado en é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Definicion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 algn="just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Arial"/>
              </a:rPr>
              <a:t>Riesgo: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ircunstancias potencialmente adversas que pueden perjudicar el proceso de desarrollo o la calidad del produc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 algn="just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Arial"/>
              </a:rPr>
              <a:t>Manejo del Riesgo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“Disciplina cuyos objetivos son identificar, manejar y eliminar los elementos de riesgo del software, antes que se conviertan en problemas”  B.W. Boeh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0064C-DEFE-4E19-8CE4-1991FC0174F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Spiral Model (cont..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32000" y="1432080"/>
            <a:ext cx="7632720" cy="531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95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modelo en espiral se basa en la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identifica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eliminación de problemas de alto riesg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a través de un proceso de diseño cuidados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5000"/>
              </a:lnSpc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5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modelo en espiral tiene como característica principal que es </a:t>
            </a:r>
            <a:r>
              <a:rPr b="0" i="1" lang="es-ES_tradnl" sz="2400" spc="-1" strike="noStrike">
                <a:solidFill>
                  <a:srgbClr val="ffff00"/>
                </a:solidFill>
                <a:latin typeface="Arial"/>
              </a:rPr>
              <a:t>cíclico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y </a:t>
            </a:r>
            <a:r>
              <a:rPr b="0" i="1" lang="es-ES_tradnl" sz="2400" spc="-1" strike="noStrike">
                <a:solidFill>
                  <a:srgbClr val="ffff00"/>
                </a:solidFill>
                <a:latin typeface="Arial"/>
              </a:rPr>
              <a:t>no line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5000"/>
              </a:lnSpc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5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radio del espiral marca el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costo acumula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en el proceso, mientras que la dimensión angular representa el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progreso dentro del cicl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5000"/>
              </a:lnSpc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5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ando no existe riesgo, el modelo en espiral puede reducirse a un modelo en casca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00320" y="-36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  <a:ea typeface="Arial"/>
              </a:rPr>
              <a:t>Estructura de la Presenta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28680" y="1213920"/>
            <a:ext cx="7701120" cy="564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Objetivo de la Presentació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Mostrar diferentes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formas de organizar el desarrollo de softwar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 según el avance de la ingeniería de softwa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Analizar los “ciclos de vida” más representativ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Estructura de la Presentació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Definición de los principales Modelos de Desarroll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Evolución de estos model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Conclusio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  <a:ea typeface="Arial"/>
              </a:rPr>
              <a:t>Spiral Model (cont..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00320" y="1604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Elementos de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      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      Técnicas de mane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              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Riesgo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      Ries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1-  Carencias del personal.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- Staff calificado, equipos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entrenamiento, 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2- Cronogramas y presupuestos    -  Estimación de cronogram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no realistas.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y costos detallados, reuso de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   experiencia previ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3- Desarrollo de funcione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-  Análisis organizado, equivocadas.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   prototipación, 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4- Desarrollo de interface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-  Prototipos, escenarios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equivocadas.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caracterización de usuar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5- “Gold plating”...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-  Análisis costo-benefic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6- Continuos cambios de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-  Ocultamiento de información, requisitos.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   desarrollo increment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1271520" y="1565280"/>
            <a:ext cx="7721640" cy="5068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6"/>
          <p:cNvSpPr/>
          <p:nvPr/>
        </p:nvSpPr>
        <p:spPr>
          <a:xfrm>
            <a:off x="1271520" y="2500200"/>
            <a:ext cx="7756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7"/>
          <p:cNvSpPr/>
          <p:nvPr/>
        </p:nvSpPr>
        <p:spPr>
          <a:xfrm>
            <a:off x="5157720" y="1604880"/>
            <a:ext cx="0" cy="5181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  <a:ea typeface="Arial"/>
              </a:rPr>
              <a:t>Spiral Model (cont..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00320" y="168228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  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Elementos de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       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       Técnicas de mane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              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Riesgo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            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         Ries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7- Carencias en componentes       -  Análisis de compatibilidad, externos (soft, hard, etc).              benchmarks, inspeccion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8- Carencias en tarea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-  Control de referencias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261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desarrolladas en forma                 contratos cuidadosos,      externa.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   selección de subcontratad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9- Carencias de performance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-  Simulación, prototipos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261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en tiempo real.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benchmark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10- Forzar la computación.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-  Análisis técnico, prototipos y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    honestid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290600" y="1643040"/>
            <a:ext cx="7721640" cy="4764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5"/>
          <p:cNvSpPr/>
          <p:nvPr/>
        </p:nvSpPr>
        <p:spPr>
          <a:xfrm>
            <a:off x="1290600" y="2643120"/>
            <a:ext cx="7756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Line 6"/>
          <p:cNvSpPr/>
          <p:nvPr/>
        </p:nvSpPr>
        <p:spPr>
          <a:xfrm>
            <a:off x="5176800" y="1682640"/>
            <a:ext cx="0" cy="474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16C29-0811-4C67-B5A0-8722833A202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Estrategia - Component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4" descr="IMAGE001"/>
          <p:cNvPicPr/>
          <p:nvPr/>
        </p:nvPicPr>
        <p:blipFill>
          <a:blip r:embed="rId1"/>
          <a:stretch/>
        </p:blipFill>
        <p:spPr>
          <a:xfrm>
            <a:off x="1630440" y="1600200"/>
            <a:ext cx="4886280" cy="2536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IMAGE002"/>
          <p:cNvPicPr/>
          <p:nvPr/>
        </p:nvPicPr>
        <p:blipFill>
          <a:blip r:embed="rId2"/>
          <a:stretch/>
        </p:blipFill>
        <p:spPr>
          <a:xfrm>
            <a:off x="1631880" y="4286160"/>
            <a:ext cx="6180120" cy="242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00189-CBEE-4E3E-9C96-7E15108EECB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Component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1258920" y="1270080"/>
            <a:ext cx="788508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95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desarrollo basado en componentes contempla la construcción de sistemas, a través del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ensamble de módulos predefinid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(componente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tos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módulos son genéric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(sirven para más de un sistema), configurables, y pueden ser desarrollados por cualqui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ra que esto sea factible, los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módulos deben adherir a una especifica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de componentes de software como: JavaBeans, ActiveX, EJB, COM, DCOM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desarrollo basado en componentes tiene un sin número de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ventaj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, en lo relacionado con el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tiempo y costo de desarroll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, y también en lo que respecta a la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calidad del producto fin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197B-A5C2-4C77-9B7A-B675706155C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923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RUP (Rational Unified Process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4" descr="RUP_Model"/>
          <p:cNvPicPr/>
          <p:nvPr/>
        </p:nvPicPr>
        <p:blipFill>
          <a:blip r:embed="rId1"/>
          <a:stretch/>
        </p:blipFill>
        <p:spPr>
          <a:xfrm>
            <a:off x="1928880" y="1571760"/>
            <a:ext cx="6476760" cy="488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42DD1-2E1A-4248-B727-B55AB5DD431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RUP (Rational Unified Process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1332000" y="1268280"/>
            <a:ext cx="7561080" cy="55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95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 un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modelo (en teoría) modern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, que incorpora las recomendaciones (buenas prácticas) de la ingeniería de softwa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601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Tiene mucho respal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, pero es un tanto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complejo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(se requiere entrenamiento para usarlo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tá muy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atado a UM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(Unified Modeling Languag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Hasta el momento, sólo ha demostrado ser uno má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 diferencia del resto, RUP considera la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arquitectur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como una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pieza clav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del desarrol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o es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demasiado pesado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ra apoyar el desarrollo de proyectos Web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D0B1-4AFB-4E3F-B2EF-E5721E7E4C9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WebE (Web Engineering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2000160" y="150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6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7199280" cy="525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896F7-B3A1-4810-9DE4-72F34C5314F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WebE (Web Engineering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1187280" y="1270080"/>
            <a:ext cx="795672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800"/>
              </a:spcBef>
              <a:spcAft>
                <a:spcPts val="2100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s un 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modelo moderno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, aplicable a proyectos Web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spcAft>
                <a:spcPts val="2100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efinido por R. Pressman en 1998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spcAft>
                <a:spcPts val="2100"/>
              </a:spcAft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s el primer 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modelo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diseñado específicamente 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ara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esarrollar proyectos 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Web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spcAft>
                <a:spcPts val="2100"/>
              </a:spcAft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unque 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hay otros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como RMM, y OOHDM que proponen alternativas a WebE, pero que vienen del lado de los sistemas hipermedi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spcAft>
                <a:spcPts val="2100"/>
              </a:spcAft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WebE aún 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no ha sido probado lo suficiente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, y por ahora es sólo una buena propues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6E6B0-9810-4569-A146-3DF15D33B15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366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Metodologías Ági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1214280" y="1214280"/>
            <a:ext cx="410400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95000"/>
              </a:lnSpc>
              <a:spcBef>
                <a:spcPts val="2401"/>
              </a:spcBef>
              <a:spcAft>
                <a:spcPts val="2401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s una 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ráctica ágil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(no burocrátic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2401"/>
              </a:spcBef>
              <a:spcAft>
                <a:spcPts val="2401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s una 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filosofía de desarrollo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, no una metodolog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2401"/>
              </a:spcBef>
              <a:spcAft>
                <a:spcPts val="2401"/>
              </a:spcAft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Involucra 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ir descubriendo la solución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, en la medida que se va avanzando en el desarrol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4"/>
          <a:stretch/>
        </p:blipFill>
        <p:spPr>
          <a:xfrm>
            <a:off x="5724360" y="2700360"/>
            <a:ext cx="3419640" cy="23130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4"/>
          <p:cNvSpPr/>
          <p:nvPr/>
        </p:nvSpPr>
        <p:spPr>
          <a:xfrm>
            <a:off x="1214280" y="5810400"/>
            <a:ext cx="792972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95000"/>
              </a:lnSpc>
              <a:spcBef>
                <a:spcPts val="2401"/>
              </a:spcBef>
              <a:spcAft>
                <a:spcPts val="2401"/>
              </a:spcAft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jemplos de metodología ágiles son: 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xtremme Programming, SCRUM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y 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Crys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B239E-A619-450D-A9C5-B7AFD940F1E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etodologías Ági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58920" y="1904760"/>
            <a:ext cx="388944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volucr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ca document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cha interacción con el cliente/usuar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ácticas específicas, como por ejemplo: pair-programming, pair- designing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5219640" y="1773360"/>
            <a:ext cx="36115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  <a:ea typeface="Arial"/>
              </a:rPr>
              <a:t>Definición y Objetiv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20840" y="1500120"/>
            <a:ext cx="7394400" cy="190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Proceso de producción de softwar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00"/>
                </a:solidFill>
                <a:latin typeface="Arial"/>
                <a:ea typeface="Arial"/>
              </a:rPr>
              <a:t>Actividade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que se realizan para la construcción, liberación y evolución de un producto de software, comenzando con el estudio de una idea y finalizando con el retiro final del sistem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5591160" y="3214800"/>
            <a:ext cx="3517920" cy="35924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1320840" y="3357720"/>
            <a:ext cx="425124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Ciclo de Vid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El ciclo de vida </a:t>
            </a:r>
            <a:r>
              <a:rPr b="0" i="1" lang="es-ES_tradnl" sz="2000" spc="-1" strike="noStrike">
                <a:solidFill>
                  <a:srgbClr val="ffff00"/>
                </a:solidFill>
                <a:latin typeface="Arial"/>
                <a:ea typeface="Arial"/>
              </a:rPr>
              <a:t>describe los estado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por los que pasa un producto de software, desde su concepción hasta su muer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Los </a:t>
            </a:r>
            <a:r>
              <a:rPr b="0" i="1" lang="es-ES_tradnl" sz="2000" spc="-1" strike="noStrike">
                <a:solidFill>
                  <a:srgbClr val="ffff00"/>
                </a:solidFill>
                <a:latin typeface="Arial"/>
                <a:ea typeface="Arial"/>
              </a:rPr>
              <a:t>modelos estructurado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de software muestran más claramente los </a:t>
            </a:r>
            <a:r>
              <a:rPr b="0" i="1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ciclos de vida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del software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7C074-5B7A-4AF1-B078-769AB8890FF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regunta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58560" y="3573000"/>
            <a:ext cx="788508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¿Cuál es el mejor modelo de desarroll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7667640" y="1125360"/>
            <a:ext cx="1476360" cy="10782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RUP_Model"/>
          <p:cNvPicPr/>
          <p:nvPr/>
        </p:nvPicPr>
        <p:blipFill>
          <a:blip r:embed="rId2"/>
          <a:stretch/>
        </p:blipFill>
        <p:spPr>
          <a:xfrm>
            <a:off x="4643280" y="1916280"/>
            <a:ext cx="1729080" cy="13032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IMAGE001"/>
          <p:cNvPicPr/>
          <p:nvPr/>
        </p:nvPicPr>
        <p:blipFill>
          <a:blip r:embed="rId3"/>
          <a:stretch/>
        </p:blipFill>
        <p:spPr>
          <a:xfrm>
            <a:off x="1476360" y="1341360"/>
            <a:ext cx="2005200" cy="10414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IMAGE002"/>
          <p:cNvPicPr/>
          <p:nvPr/>
        </p:nvPicPr>
        <p:blipFill>
          <a:blip r:embed="rId4"/>
          <a:stretch/>
        </p:blipFill>
        <p:spPr>
          <a:xfrm>
            <a:off x="1332000" y="4797360"/>
            <a:ext cx="2376360" cy="9939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0" descr=""/>
          <p:cNvPicPr/>
          <p:nvPr/>
        </p:nvPicPr>
        <p:blipFill>
          <a:blip r:embed="rId5"/>
          <a:stretch/>
        </p:blipFill>
        <p:spPr>
          <a:xfrm>
            <a:off x="4067280" y="5805360"/>
            <a:ext cx="2663640" cy="8859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2" descr=""/>
          <p:cNvPicPr/>
          <p:nvPr/>
        </p:nvPicPr>
        <p:blipFill>
          <a:blip r:embed="rId6"/>
          <a:stretch/>
        </p:blipFill>
        <p:spPr>
          <a:xfrm>
            <a:off x="7197840" y="4797360"/>
            <a:ext cx="1946160" cy="12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  <a:ea typeface="Arial"/>
              </a:rPr>
              <a:t>Preguntas…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85560" y="1213920"/>
            <a:ext cx="7715160" cy="557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13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Si el problema está poco claro, qué us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13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Si el problema está muy claro y acotado, qué us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13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Si el problema es grande, qué us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13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Si el problema es chico, qué us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13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Si mi empresa ya tiene un modelo de desarrollo, qué us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13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Si el sistema tiene muchas interfaces de usuario, qué us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13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Si mi gente tiene poca capacidad para adaptarse a nuevos métodos de desarrollo, qué us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  <a:ea typeface="Arial"/>
              </a:rPr>
              <a:t>Conclusio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28480" y="1285920"/>
            <a:ext cx="7181640" cy="473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 algn="just">
              <a:lnSpc>
                <a:spcPct val="100000"/>
              </a:lnSpc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El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desarroll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 de software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debe ser guiado por un model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, como forma de disciplinar, organizar y gerenciar las actividad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 algn="just">
              <a:lnSpc>
                <a:spcPct val="100000"/>
              </a:lnSpc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El modelo debe ser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definido para la organización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y adaptado a cada proyecto en particul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 algn="just">
              <a:lnSpc>
                <a:spcPct val="100000"/>
              </a:lnSpc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Las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actividade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 que deben cumplirse en el proceso de desarrollo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so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 básicamente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las que establece el modelo en casca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 algn="just">
              <a:lnSpc>
                <a:spcPct val="100000"/>
              </a:lnSpc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El modelo debe ser lo suficientemente flexible como para incorporar el principio de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ANTICIPACION AL CAMB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 algn="just">
              <a:lnSpc>
                <a:spcPct val="10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  <a:ea typeface="Arial"/>
              </a:rPr>
              <a:t>Conclusiones (cont..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85560" y="1213920"/>
            <a:ext cx="7643880" cy="528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Un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modelo increment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, con entregas parciales al usuario (modelo evolutivo, incremental o espiral)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se ajusta a la mayoría de los proyect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Para los productos que así lo ameriten,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realizar análisis de riesgo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(modelo espiral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003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  <a:ea typeface="Arial"/>
              </a:rPr>
              <a:t>Definición y Objetivos (cont..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85560" y="1071360"/>
            <a:ext cx="4941720" cy="578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La meta de un </a:t>
            </a:r>
            <a:r>
              <a:rPr b="0" i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modelo estructurado de proces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 es determinar el </a:t>
            </a:r>
            <a:r>
              <a:rPr b="0" i="1" lang="es-ES_tradnl" sz="24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orden de las etap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 que componen el desarrollo y la evolución de un software, estableciendo los </a:t>
            </a:r>
            <a:r>
              <a:rPr b="0" i="1" lang="es-ES_tradnl" sz="24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criterios de transi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 para progresar de una etapa a la siguient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24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Los modelos están hechos para contestar las siguientes preguntas en un proyecto de softwar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2404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2" marL="1231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00"/>
                </a:solidFill>
                <a:latin typeface="Arial"/>
                <a:ea typeface="Arial"/>
              </a:rPr>
              <a:t>-¿Qué debemos hacer a continuación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319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00"/>
                </a:solidFill>
                <a:latin typeface="Arial"/>
                <a:ea typeface="Arial"/>
              </a:rPr>
              <a:t>-¿Cuánto tiempo debemos continuar haciéndolo?</a:t>
            </a:r>
            <a:r>
              <a:rPr b="0" lang="es-ES_tradnl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Arial"/>
              </a:rPr>
              <a:t>(B.Bohem 1988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6310440" y="1341360"/>
            <a:ext cx="283356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003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  <a:ea typeface="Arial"/>
              </a:rPr>
              <a:t>Definición y Objetivos (cont..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28800" y="1117080"/>
            <a:ext cx="5586480" cy="552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  <a:ea typeface="Arial"/>
              </a:rPr>
              <a:t>Beneficios de los modelo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00"/>
                </a:solidFill>
                <a:latin typeface="Arial"/>
                <a:ea typeface="Arial"/>
              </a:rPr>
              <a:t>Proveen de guías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a los ingenieros de software, a cerca del orden en el cual deben ser llevadas a cabo las variadas actividades técnica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00"/>
                </a:solidFill>
                <a:latin typeface="Arial"/>
                <a:ea typeface="Arial"/>
              </a:rPr>
              <a:t>Dan un marco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o estructura para gerenciar, desarrollar y mantener un desarrollo, lo cual nos permite: estimar recursos, definir hitos intermedios y monitorear los progres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00"/>
                </a:solidFill>
                <a:latin typeface="Arial"/>
                <a:ea typeface="Arial"/>
              </a:rPr>
              <a:t>Anticipan y controlan el proceso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 para alcanzar las cualidades deseadas del softwar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00"/>
                </a:solidFill>
                <a:latin typeface="Arial"/>
                <a:ea typeface="Arial"/>
              </a:rPr>
              <a:t>Sistematizan el proceso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con el uso de estándares, metodologías y herramienta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Permiten la producción de </a:t>
            </a:r>
            <a:r>
              <a:rPr b="0" i="1" lang="es-ES_tradnl" sz="1800" spc="-1" strike="noStrike">
                <a:solidFill>
                  <a:srgbClr val="ffff00"/>
                </a:solidFill>
                <a:latin typeface="Arial"/>
                <a:ea typeface="Arial"/>
              </a:rPr>
              <a:t>productos confiables, predecibles y eficientes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6588000" y="2060640"/>
            <a:ext cx="2556000" cy="1955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"/>
          <p:cNvPicPr/>
          <p:nvPr/>
        </p:nvPicPr>
        <p:blipFill>
          <a:blip r:embed="rId2"/>
          <a:stretch/>
        </p:blipFill>
        <p:spPr>
          <a:xfrm>
            <a:off x="6948360" y="5373720"/>
            <a:ext cx="1871640" cy="135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99640" y="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  <a:ea typeface="Arial"/>
              </a:rPr>
              <a:t>Modelos de Desarrollo de Soft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3080" y="1260000"/>
            <a:ext cx="7596360" cy="559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No basta con seleccionar un modelo genérico de desarrollo de software y tratar de adaptarse a él.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Se requiere una definición más precisa de cómo llevar a cabo las distintas tare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Modelos de Desarrollo Genér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Aquí caen todos los modelos de desarrollo de software tradicionales: cascada, espiral, prototipo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Presentan una estrategia muy general para efectuar el proceso de desarroll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n la realidad casi nunca es posible efectuar el desarrollo adhiriendo completamente a uno de estos model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814392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  <a:ea typeface="Arial"/>
              </a:rPr>
              <a:t>Modelos de Desarrollo de Soft.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85560" y="1214280"/>
            <a:ext cx="771516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Modelos de Desarrollo Genér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Permiten un entendimiento de tipo general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del proceso pero no es fácil llevarlos a un nivel de detalle más fino, lo cual es necesario para guiar el trabajo de los profesional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No representan en forma precisa lo que realmente se hac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Modelos de Desarrollo Específ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Aparecen las </a:t>
            </a:r>
            <a:r>
              <a:rPr b="0" i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actividades mayor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involucradas en el proces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Brindan una </a:t>
            </a:r>
            <a:r>
              <a:rPr b="0" i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especificación precisa del orden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entre ell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stablecen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relaciones entre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las diversas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tare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, los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artefact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producidos en ellas, las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person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que las realizan y las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herramient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utilizad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Usan formalismos gráficos (por ejemplo Redes de Petri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  <a:ea typeface="Arial"/>
              </a:rPr>
              <a:t>Evolución de Model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28520" y="1356840"/>
            <a:ext cx="6529320" cy="528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Modelos o Estrategias de Desarroll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Code &amp; Fix Model (~196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Waterfall Model (~197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Incremental Model (~1985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Transformation Model (~1975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Spiral Model (~1988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Component Model (~199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RUP (~1997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WebE (~1998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Metodologías Ágiles (~1998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Arial"/>
                <a:ea typeface="Arial"/>
              </a:rPr>
              <a:t>Situación en Chile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  <a:ea typeface="Arial"/>
              </a:rPr>
              <a:t> [Gech, 2008]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D13AA-95B3-4140-89EB-14AE97C35D2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4 Rectángulo"/>
          <p:cNvSpPr/>
          <p:nvPr/>
        </p:nvSpPr>
        <p:spPr>
          <a:xfrm>
            <a:off x="1357200" y="1293840"/>
            <a:ext cx="7786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El 30% de las empresas opina que es el </a:t>
            </a:r>
            <a:r>
              <a:rPr b="0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Extreme Programming es proceso menos conocido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Casi  el  </a:t>
            </a:r>
            <a:r>
              <a:rPr b="0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30%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 de  las  empresas  ha  incorporado el lenguaje de modelado UML, y el </a:t>
            </a:r>
            <a:r>
              <a:rPr b="0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40%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 de las empresas lo ha utilizado en alguna vez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Casi  el  </a:t>
            </a:r>
            <a:r>
              <a:rPr b="0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80%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de  las empresas utiliza el  </a:t>
            </a:r>
            <a:r>
              <a:rPr b="0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control  de versiones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 como la mayor herramienta de apoyo a la ejecución de sus proyectos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Luego le sigue el </a:t>
            </a:r>
            <a:r>
              <a:rPr b="0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administrador de requisitos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y el </a:t>
            </a:r>
            <a:r>
              <a:rPr b="0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Debugger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(depurador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4T23:27:42Z</dcterms:created>
  <dc:creator>DCC</dc:creator>
  <dc:description/>
  <dc:language>en-US</dc:language>
  <cp:lastModifiedBy>Sergio</cp:lastModifiedBy>
  <dcterms:modified xsi:type="dcterms:W3CDTF">2009-10-06T13:43:08Z</dcterms:modified>
  <cp:revision>968</cp:revision>
  <dc:subject/>
  <dc:title>Programas de Extención </dc:title>
</cp:coreProperties>
</file>