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3.wmf" ContentType="image/x-wmf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6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8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b9f"/>
            </a:gs>
            <a:gs pos="100000">
              <a:srgbClr val="ffffc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488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1240" indent="-284040">
              <a:spcBef>
                <a:spcPts val="1488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1488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1488"/>
              </a:spcBef>
              <a:buClr>
                <a:srgbClr val="000066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1488"/>
              </a:spcBef>
              <a:buClr>
                <a:srgbClr val="000066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1488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1488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b9f"/>
            </a:gs>
            <a:gs pos="100000">
              <a:srgbClr val="ffffc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6320" y="1370160"/>
            <a:ext cx="777240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Tahoma"/>
              </a:rPr>
              <a:t>EJEMPLO: Portal de Venta de una Multitienda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1676520" y="2666880"/>
            <a:ext cx="6400800" cy="1752840"/>
          </a:xfrm>
          <a:prstGeom prst="roundRect">
            <a:avLst>
              <a:gd name="adj" fmla="val 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3784680"/>
            <a:ext cx="6400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Otoño del 2009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algn="ctr"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algn="ctr">
              <a:spcBef>
                <a:spcPts val="13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000066"/>
              </a:solidFill>
              <a:latin typeface="Tahoma"/>
            </a:endParaRPr>
          </a:p>
          <a:p>
            <a:pPr algn="ctr">
              <a:spcBef>
                <a:spcPts val="13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100" spc="-1" strike="noStrike">
                <a:solidFill>
                  <a:srgbClr val="000066"/>
                </a:solidFill>
                <a:latin typeface="Tahoma"/>
              </a:rPr>
              <a:t>Prof. Sergio Ochoa</a:t>
            </a:r>
            <a:endParaRPr b="0" lang="en-US" sz="31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7770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iseño de la Estructura Estática de la Solución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7907400" y="0"/>
            <a:ext cx="1236600" cy="2205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7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2"/>
          <a:stretch/>
        </p:blipFill>
        <p:spPr>
          <a:xfrm>
            <a:off x="34920" y="2997360"/>
            <a:ext cx="90597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"/>
          <p:cNvPicPr/>
          <p:nvPr/>
        </p:nvPicPr>
        <p:blipFill>
          <a:blip r:embed="rId1"/>
          <a:stretch/>
        </p:blipFill>
        <p:spPr>
          <a:xfrm>
            <a:off x="324000" y="1595520"/>
            <a:ext cx="8280360" cy="50734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7770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iseño de la Estructura Estática de la Solución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7907400" y="0"/>
            <a:ext cx="12366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5689440" cy="1898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7770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iseño de la Dinámica de la Solución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3889080"/>
            <a:ext cx="8964720" cy="27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5000"/>
              </a:lnSpc>
              <a:spcBef>
                <a:spcPts val="1199"/>
              </a:spcBef>
              <a:spcAft>
                <a:spcPts val="1650"/>
              </a:spcAft>
              <a:buClr>
                <a:srgbClr val="000066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Los sistemas están acoplados por dat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609480" indent="-609480">
              <a:lnSpc>
                <a:spcPct val="95000"/>
              </a:lnSpc>
              <a:spcBef>
                <a:spcPts val="1199"/>
              </a:spcBef>
              <a:spcAft>
                <a:spcPts val="1650"/>
              </a:spcAft>
              <a:buClr>
                <a:srgbClr val="000066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Acoplamiento por datos implica </a:t>
            </a:r>
            <a:r>
              <a:rPr b="1" i="1" lang="es-ES" sz="2400" spc="-1" strike="noStrike">
                <a:solidFill>
                  <a:srgbClr val="000066"/>
                </a:solidFill>
                <a:latin typeface="Arial"/>
              </a:rPr>
              <a:t>Independencia entre sistemas…. </a:t>
            </a: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Por lo tanto </a:t>
            </a:r>
            <a:r>
              <a:rPr b="1" i="1" lang="es-ES" sz="2400" spc="-1" strike="noStrike">
                <a:solidFill>
                  <a:srgbClr val="000066"/>
                </a:solidFill>
                <a:latin typeface="Arial"/>
              </a:rPr>
              <a:t>no tiene sentido</a:t>
            </a: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 plantear </a:t>
            </a:r>
            <a:r>
              <a:rPr b="1" i="1" lang="es-ES" sz="2400" spc="-1" strike="noStrike">
                <a:solidFill>
                  <a:srgbClr val="000066"/>
                </a:solidFill>
                <a:latin typeface="Arial"/>
              </a:rPr>
              <a:t>un modelo de control general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609480" indent="-609480">
              <a:lnSpc>
                <a:spcPct val="95000"/>
              </a:lnSpc>
              <a:spcBef>
                <a:spcPts val="1199"/>
              </a:spcBef>
              <a:spcAft>
                <a:spcPts val="1650"/>
              </a:spcAft>
              <a:buClr>
                <a:srgbClr val="000066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Por lo tanto, los </a:t>
            </a:r>
            <a:r>
              <a:rPr b="1" i="1" lang="es-ES" sz="2400" spc="-1" strike="noStrike">
                <a:solidFill>
                  <a:srgbClr val="000066"/>
                </a:solidFill>
                <a:latin typeface="Arial"/>
              </a:rPr>
              <a:t>modelos de control</a:t>
            </a: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 son </a:t>
            </a:r>
            <a:r>
              <a:rPr b="1" i="1" lang="es-ES" sz="2400" spc="-1" strike="noStrike">
                <a:solidFill>
                  <a:srgbClr val="000066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2"/>
          <a:stretch/>
        </p:blipFill>
        <p:spPr>
          <a:xfrm>
            <a:off x="7867800" y="0"/>
            <a:ext cx="12762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7640" y="44280"/>
            <a:ext cx="7770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iseño Detallado: Sistema de Ventas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3" name="Picture 11" descr=""/>
          <p:cNvPicPr/>
          <p:nvPr/>
        </p:nvPicPr>
        <p:blipFill>
          <a:blip r:embed="rId1"/>
          <a:stretch/>
        </p:blipFill>
        <p:spPr>
          <a:xfrm>
            <a:off x="7907400" y="0"/>
            <a:ext cx="1236600" cy="220500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13"/>
          <p:cNvGrpSpPr/>
          <p:nvPr/>
        </p:nvGrpSpPr>
        <p:grpSpPr>
          <a:xfrm>
            <a:off x="395280" y="1066680"/>
            <a:ext cx="7488360" cy="5818320"/>
            <a:chOff x="395280" y="1066680"/>
            <a:chExt cx="7488360" cy="5818320"/>
          </a:xfrm>
        </p:grpSpPr>
        <p:graphicFrame>
          <p:nvGraphicFramePr>
            <p:cNvPr id="95" name="Object 9"/>
            <p:cNvGraphicFramePr/>
            <p:nvPr/>
          </p:nvGraphicFramePr>
          <p:xfrm>
            <a:off x="574920" y="1066680"/>
            <a:ext cx="7308720" cy="5818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6" name="Object 9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4920" y="1066680"/>
                      <a:ext cx="7308720" cy="581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" name="Line 12"/>
            <p:cNvSpPr/>
            <p:nvPr/>
          </p:nvSpPr>
          <p:spPr>
            <a:xfrm>
              <a:off x="395280" y="4581360"/>
              <a:ext cx="5472360" cy="216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640" y="44280"/>
            <a:ext cx="7770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iseño Dinámica: Sistema de Ventas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0" y="11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03" name="Object 10"/>
          <p:cNvGraphicFramePr/>
          <p:nvPr/>
        </p:nvGraphicFramePr>
        <p:xfrm>
          <a:off x="4067280" y="3040200"/>
          <a:ext cx="5076720" cy="38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3040200"/>
                    <a:ext cx="5076720" cy="38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Picture 12" descr=""/>
          <p:cNvPicPr/>
          <p:nvPr/>
        </p:nvPicPr>
        <p:blipFill>
          <a:blip r:embed="rId3"/>
          <a:stretch/>
        </p:blipFill>
        <p:spPr>
          <a:xfrm>
            <a:off x="7826400" y="0"/>
            <a:ext cx="1317600" cy="23493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4"/>
          <p:cNvSpPr/>
          <p:nvPr/>
        </p:nvSpPr>
        <p:spPr>
          <a:xfrm>
            <a:off x="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07" name="Object 13"/>
          <p:cNvGraphicFramePr/>
          <p:nvPr/>
        </p:nvGraphicFramePr>
        <p:xfrm>
          <a:off x="0" y="1079640"/>
          <a:ext cx="5832360" cy="227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1079640"/>
                    <a:ext cx="583236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02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iseño Detallado: SubSist. de Pedidos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7907400" y="0"/>
            <a:ext cx="1236600" cy="220500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7"/>
          <p:cNvGrpSpPr/>
          <p:nvPr/>
        </p:nvGrpSpPr>
        <p:grpSpPr>
          <a:xfrm>
            <a:off x="7020000" y="5229360"/>
            <a:ext cx="2124000" cy="1628640"/>
            <a:chOff x="7020000" y="5229360"/>
            <a:chExt cx="2124000" cy="1628640"/>
          </a:xfrm>
        </p:grpSpPr>
        <p:graphicFrame>
          <p:nvGraphicFramePr>
            <p:cNvPr id="115" name="Object 8"/>
            <p:cNvGraphicFramePr/>
            <p:nvPr/>
          </p:nvGraphicFramePr>
          <p:xfrm>
            <a:off x="7070760" y="5229360"/>
            <a:ext cx="2073240" cy="1628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6" name="Object 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070760" y="5229360"/>
                      <a:ext cx="2073240" cy="162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7" name="Line 9"/>
            <p:cNvSpPr/>
            <p:nvPr/>
          </p:nvSpPr>
          <p:spPr>
            <a:xfrm>
              <a:off x="7020000" y="6213240"/>
              <a:ext cx="1552320" cy="604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18" name="Rectangle 11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19" name="Object 16"/>
          <p:cNvGraphicFramePr/>
          <p:nvPr/>
        </p:nvGraphicFramePr>
        <p:xfrm>
          <a:off x="539640" y="907920"/>
          <a:ext cx="5832720" cy="595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0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640" y="907920"/>
                    <a:ext cx="583272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31920"/>
            <a:ext cx="7885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iseño Detallado: SubSist. de Pedidos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7907400" y="0"/>
            <a:ext cx="1236600" cy="2205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0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27" name="Object 14"/>
          <p:cNvGraphicFramePr/>
          <p:nvPr/>
        </p:nvGraphicFramePr>
        <p:xfrm>
          <a:off x="0" y="1484280"/>
          <a:ext cx="9144000" cy="499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84280"/>
                    <a:ext cx="914400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120" y="44280"/>
            <a:ext cx="7770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iseño de Interfaces de Usuario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34" name="Picture 10" descr=""/>
          <p:cNvPicPr/>
          <p:nvPr/>
        </p:nvPicPr>
        <p:blipFill>
          <a:blip r:embed="rId1"/>
          <a:stretch/>
        </p:blipFill>
        <p:spPr>
          <a:xfrm>
            <a:off x="7947000" y="0"/>
            <a:ext cx="1197000" cy="2133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"/>
          <p:cNvPicPr/>
          <p:nvPr/>
        </p:nvPicPr>
        <p:blipFill>
          <a:blip r:embed="rId2"/>
          <a:stretch/>
        </p:blipFill>
        <p:spPr>
          <a:xfrm>
            <a:off x="34920" y="836640"/>
            <a:ext cx="2984400" cy="1855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6" descr=""/>
          <p:cNvPicPr/>
          <p:nvPr/>
        </p:nvPicPr>
        <p:blipFill>
          <a:blip r:embed="rId3"/>
          <a:stretch/>
        </p:blipFill>
        <p:spPr>
          <a:xfrm>
            <a:off x="720720" y="2962440"/>
            <a:ext cx="75963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120" y="44280"/>
            <a:ext cx="7770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iseño de Interfaces de Usuario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7947000" y="0"/>
            <a:ext cx="1197000" cy="2133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"/>
          <p:cNvPicPr/>
          <p:nvPr/>
        </p:nvPicPr>
        <p:blipFill>
          <a:blip r:embed="rId2"/>
          <a:stretch/>
        </p:blipFill>
        <p:spPr>
          <a:xfrm>
            <a:off x="0" y="1074600"/>
            <a:ext cx="7236000" cy="5783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"/>
          <p:cNvPicPr/>
          <p:nvPr/>
        </p:nvPicPr>
        <p:blipFill>
          <a:blip r:embed="rId3"/>
          <a:stretch/>
        </p:blipFill>
        <p:spPr>
          <a:xfrm>
            <a:off x="6516720" y="5241960"/>
            <a:ext cx="262728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120" y="44280"/>
            <a:ext cx="7770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iseño de Interfaces de Usuario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7947000" y="0"/>
            <a:ext cx="1197000" cy="2133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"/>
          <p:cNvPicPr/>
          <p:nvPr/>
        </p:nvPicPr>
        <p:blipFill>
          <a:blip r:embed="rId2"/>
          <a:stretch/>
        </p:blipFill>
        <p:spPr>
          <a:xfrm>
            <a:off x="216000" y="1125360"/>
            <a:ext cx="7020000" cy="4735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"/>
          <p:cNvPicPr/>
          <p:nvPr/>
        </p:nvPicPr>
        <p:blipFill>
          <a:blip r:embed="rId3"/>
          <a:stretch/>
        </p:blipFill>
        <p:spPr>
          <a:xfrm>
            <a:off x="6732720" y="5329080"/>
            <a:ext cx="2411280" cy="14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Ejercicio 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353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488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señe la Arquitectura de un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Portal para una Multitienda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(lea cuidadosamente el enunciado)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2173320" y="1968480"/>
            <a:ext cx="4991040" cy="4749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0" y="22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120" y="44280"/>
            <a:ext cx="7770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iseño de Interfaces de Usuario: Patrón de Navegación del Portal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7947000" y="0"/>
            <a:ext cx="1197000" cy="2133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"/>
          <p:cNvPicPr/>
          <p:nvPr/>
        </p:nvPicPr>
        <p:blipFill>
          <a:blip r:embed="rId2"/>
          <a:stretch/>
        </p:blipFill>
        <p:spPr>
          <a:xfrm>
            <a:off x="685800" y="2900520"/>
            <a:ext cx="777096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5440"/>
            <a:ext cx="777096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Ejercicio 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353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488"/>
              </a:spcBef>
              <a:buClr>
                <a:srgbClr val="ff0000"/>
              </a:buClr>
              <a:buSzPct val="140000"/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ahoma"/>
              </a:rPr>
              <a:t>En el ejemplo del Portal de Ventas de las Multitiendas, se le solicita hacer la descomposición modular del subsistema de pagos, para ver dónde vive cada módulo dentro de la arquitectur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spcBef>
                <a:spcPts val="1488"/>
              </a:spcBef>
              <a:buClr>
                <a:srgbClr val="ff0000"/>
              </a:buClr>
              <a:buSzPct val="140000"/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ahoma"/>
              </a:rPr>
              <a:t>Además se le solicita bosquejar las páginas Web que estarían involucradas.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4427640" y="3165480"/>
            <a:ext cx="460836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Ejercicio 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590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488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señe la Arquitectura de un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Portal para una Multitienda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(lea cuidadosamente el enunciado)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6622920" y="0"/>
            <a:ext cx="2521080" cy="2398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0" y="22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51" name="Object 6"/>
          <p:cNvGraphicFramePr/>
          <p:nvPr/>
        </p:nvGraphicFramePr>
        <p:xfrm>
          <a:off x="108000" y="2801880"/>
          <a:ext cx="9144000" cy="372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2801880"/>
                    <a:ext cx="9144000" cy="37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Proceso de Diseño, en el marco de un Desarrollo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graphicFrame>
        <p:nvGraphicFramePr>
          <p:cNvPr id="54" name="Object 5"/>
          <p:cNvGraphicFramePr/>
          <p:nvPr/>
        </p:nvGraphicFramePr>
        <p:xfrm>
          <a:off x="1979640" y="836640"/>
          <a:ext cx="532620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36640"/>
                    <a:ext cx="532620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280" y="44280"/>
            <a:ext cx="896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efinición de Req. Funcionales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909720"/>
            <a:ext cx="7770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0">
              <a:spcBef>
                <a:spcPts val="1488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ahoma"/>
              </a:rPr>
              <a:t>Requisitos Funcional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38840" indent="-438840">
              <a:spcBef>
                <a:spcPts val="1500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El sistema debe permitir la venta de productos a través del portal Web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38840" indent="-438840">
              <a:spcBef>
                <a:spcPts val="1500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Sólo clientes registrados en una multitienda pueden comprar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38840" indent="-438840">
              <a:spcBef>
                <a:spcPts val="1500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El portal debe poder accederse a través de un nombre de usuario y clave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38840" indent="-438840">
              <a:spcBef>
                <a:spcPts val="1500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La multitienda anfitriona es responsable de validar al usuario (cliente) y de realizar la venta/despacho/etc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38840" indent="-438840">
              <a:spcBef>
                <a:spcPts val="1500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El portal debe mostrar el catálogo de productos disponibles, así como también el detalle de cada uno de est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38840" indent="-438840">
              <a:spcBef>
                <a:spcPts val="1500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El stock de artículos del catálogo debe actualizarse en líne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38840" indent="-438840">
              <a:spcBef>
                <a:spcPts val="1500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El portal debe permitir que el cliente pueda modificar su pedido (carro de compras) mientras éste no haya sido pagad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8055000" y="692280"/>
            <a:ext cx="1089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280" y="44280"/>
            <a:ext cx="896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efinición de Req. Funcionales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7770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spcBef>
                <a:spcPts val="1488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ahoma"/>
              </a:rPr>
              <a:t>Requisitos Funcional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2520" indent="-452520">
              <a:spcBef>
                <a:spcPts val="1500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ahoma"/>
              <a:buAutoNum type="arabicPeriod" startAt="8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El cliente debe poder pagar con una tarjeta de Crédito/débit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2520" indent="-452520">
              <a:spcBef>
                <a:spcPts val="1500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ahoma"/>
              <a:buAutoNum type="arabicPeriod" startAt="8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La multitienda anfitriona recibe el dinero, factura y realiza los enví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2520" indent="-452520">
              <a:spcBef>
                <a:spcPts val="1500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ahoma"/>
              <a:buAutoNum type="arabicPeriod" startAt="8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El portal debe cobrar el 5% de comisión por vent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2520" indent="-452520">
              <a:spcBef>
                <a:spcPts val="1500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ahoma"/>
              <a:buAutoNum type="arabicPeriod" startAt="11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El proceso de venta tiene que ser transparente para las multitiend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2520" indent="-452520">
              <a:spcBef>
                <a:spcPts val="1500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ahoma"/>
              <a:buAutoNum type="arabicPeriod" startAt="11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Las ventas tienen que registrarse en la multitienda anfitriona y en el portal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2520" indent="-452520">
              <a:spcBef>
                <a:spcPts val="1500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ahoma"/>
              <a:buAutoNum type="arabicPeriod" startAt="11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Debe poder realizarse un análisis del comportamiento del consumidor, utilizando una herramienta extern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2520" indent="-452520">
              <a:spcBef>
                <a:spcPts val="1500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ahoma"/>
              <a:buAutoNum type="arabicPeriod" startAt="11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Los empleados del portal deben poder administrar los datos del portal utilizando una herramienta extern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8055000" y="692280"/>
            <a:ext cx="1089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09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efinición de Req. de Calidad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71992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Requisitos de Calidad: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spcAft>
                <a:spcPts val="349"/>
              </a:spcAft>
              <a:buClr>
                <a:srgbClr val="ff3300"/>
              </a:buClr>
              <a:buSzPct val="140000"/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El proceso de venta tiene que ser transparente para las multitiendas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8055000" y="-1440"/>
            <a:ext cx="1089000" cy="194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324000" y="3573360"/>
          <a:ext cx="8820000" cy="3036960"/>
        </p:xfrm>
        <a:graphic>
          <a:graphicData uri="http://schemas.openxmlformats.org/drawingml/2006/table">
            <a:tbl>
              <a:tblPr/>
              <a:tblGrid>
                <a:gridCol w="3095640"/>
                <a:gridCol w="2784240"/>
                <a:gridCol w="2940120"/>
              </a:tblGrid>
              <a:tr h="184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Usabilida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Arial"/>
                        <a:buChar char="-"/>
                        <a:tabLst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ntendibilida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Arial"/>
                        <a:buChar char="-"/>
                        <a:tabLst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Operabilida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Arial"/>
                        <a:buChar char="-"/>
                        <a:tabLst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Aceptación de us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uncionalida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Arial"/>
                        <a:buChar char="-"/>
                        <a:tabLst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Segurida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Arial"/>
                        <a:buChar char="-"/>
                        <a:tabLst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ertinencia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Arial"/>
                        <a:buChar char="-"/>
                        <a:tabLst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recisió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Arial"/>
                        <a:buChar char="-"/>
                        <a:tabLst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Interoperabilida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onfiabilida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Arial"/>
                        <a:buChar char="-"/>
                        <a:tabLst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olerancia a falla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Arial"/>
                        <a:buChar char="-"/>
                        <a:tabLst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ecuperabilida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ficiencia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Arial"/>
                        <a:buChar char="-"/>
                        <a:tabLst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endimiento (aceptable con una carga de transacc. alta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Mantenibilida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Arial"/>
                        <a:buChar char="-"/>
                        <a:tabLst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nalizabilida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Arial"/>
                        <a:buChar char="-"/>
                        <a:tabLst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stabilida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Arial"/>
                        <a:buChar char="-"/>
                        <a:tabLst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Extensibilida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488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09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efinición del Contexto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224000"/>
            <a:ext cx="806472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599"/>
              </a:spcBef>
              <a:spcAft>
                <a:spcPts val="1800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Contexto de la Solución: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33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Las Multitiendas no quieren que el hecho de implementar el portal les genere muchos cambios a su actual infraestructur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33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Las multitiendas quieren mantener la independencia de datos, respecto del portal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33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Las multitiendas quieren que las ventas a través del portal sean transparentes para sus sistem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33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Las multitiendas quieren mantener su privacidad (dentro de lo posible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68" name="Picture 17" descr=""/>
          <p:cNvPicPr/>
          <p:nvPr/>
        </p:nvPicPr>
        <p:blipFill>
          <a:blip r:embed="rId1"/>
          <a:stretch/>
        </p:blipFill>
        <p:spPr>
          <a:xfrm>
            <a:off x="7907400" y="0"/>
            <a:ext cx="12366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7770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efinición del Ambiente Operacional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7948440" y="0"/>
            <a:ext cx="1195560" cy="21337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8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2" name="Object 7"/>
          <p:cNvGraphicFramePr/>
          <p:nvPr/>
        </p:nvGraphicFramePr>
        <p:xfrm>
          <a:off x="0" y="1413000"/>
          <a:ext cx="7956720" cy="533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13000"/>
                    <a:ext cx="795672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rgio</cp:lastModifiedBy>
  <dcterms:modified xsi:type="dcterms:W3CDTF">2009-04-21T10:30:04Z</dcterms:modified>
  <cp:revision>277</cp:revision>
  <dc:subject/>
  <dc:title>Introducción a los Patrones  (Diseño y Arquitectura)</dc:title>
</cp:coreProperties>
</file>