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E95B-1F05-4A15-94FC-88ADA1C89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1E1-6B08-469F-8900-BB855127DDD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D05-8968-4685-8759-AAC9059E8AB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3849-8694-48A7-B632-DAA6A04BBF3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F33B-2BC9-41CD-B475-AEECDCCAE64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FB5-582B-47E4-85E4-7DE0DB27965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21F7-48A3-4037-9C79-5489E71923A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9FA-6BAA-46D9-9D4D-77DF6A2F064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40FF-D47B-4921-B77E-C5261F8072B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018-B2BA-484C-8DED-322DE679BCE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6BD-9BF7-4FF8-8151-53E05D30BCC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865-0F73-4211-A8C0-BAB9F205137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5354-BF24-45A2-9AE5-94BE15A5C96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D032-56A1-4437-9175-AAB884FA3F9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192D-FD74-462D-B9A7-A680E892A05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BE8-4FC7-4F93-8258-80D221A667B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E07-F427-4BAF-953C-BFF05E44E8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564-D4D9-43EF-B3A2-A370D315C65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75FB-2BFB-46C5-8696-B029CEB60DD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F77D-67C5-4CA9-A716-EEA157C528C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9C6-4068-4F8D-827D-12F968C7B29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F435-292F-44F3-B9BE-D6F2A62B36D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938-B3D8-4E22-A86A-DFAC001DCEB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BC45-ACB3-49D8-9B6A-FFBDBDC6763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30BD-93F7-4023-9A6B-8C228686B12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B3EB-B288-442A-816C-6A6173BBB8A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D751-38E6-40F0-B3F3-F0CD38C2DE3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317-9347-4C41-B0A5-60F4A3A136D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0B9-C9A7-48C9-807C-4A9D06864B0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0880-CC41-4C5E-ABC8-2A4DD0DA1DF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C1AB-4B9C-4DB5-BDE4-E3B12799724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71E-ABC0-406D-90A7-ADF0759FAB7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6EA7-62C9-4454-A988-26DDD678900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EB88-C9B7-4A0B-8015-64FA42DB37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2550-F6F8-4DD9-B6A7-D06147F7C50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C570-03F8-4F52-9013-0293AE558CE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A375-48F2-4BAA-9388-4044F19D13D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DAF-6148-41DB-BD16-DA521998C98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58B5-35BE-4D5D-A285-F51269034F2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296-4E9D-4F04-B67E-8770F27230B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E981-0572-42CC-8CA6-AE07F6B3C1B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E790-D298-4E77-9879-E309BA52E8D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243-1DE3-41FC-946E-169C733D40E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AC60-535D-4E23-B195-C00F48B879D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8C4C-75C7-45D9-88E5-133ECD0D935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ABE-93B7-4530-8B68-40D0234268A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F188-6446-4FA5-B663-C05D3ACDA79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6EA-B88B-4244-8888-F6D1369DB4F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128-C2ED-4977-9EDB-DD17D63B109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4C97-F140-43FF-B9DB-D885A551F6F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7DE3-3721-4186-8886-6B5F0CCEE0C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E2E-78F0-429E-8452-13C296CC7F0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7A19-2B2E-41D5-BE97-B24970FFECC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6924-7855-4C1F-B04D-D097C215E9F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8905-4BE9-4B30-98B3-AA6772F4471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EB7-9942-4974-8129-6C31F1AF15E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6943-3F64-4314-B92A-310DC3F33B9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0394-76FA-4143-B599-A67BE815BC1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DB6-BEDA-49C6-A47B-B707418887B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CF8-2254-4CF6-BE9C-EE339FDFA53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E88C-B826-418B-A086-B6C8ED9F581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105-E2F8-4484-AB8E-F4E33401CB3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393B-4911-4FAB-923A-368B4D87EA5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58C-D9D2-44C0-B3B6-DC1EFB0314A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DDD-6778-4969-B013-E9B374874ED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0BBB-85E3-4E8A-A7B5-E78968167F6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9464-DD67-48FB-9875-0714B3DA817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5F3B-B58A-4805-8F9B-77478743040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8BE-3D64-4473-9306-D588A7A08B4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289-BB70-4E72-833A-A8B057D58BB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CCA-03BB-4CAB-8593-EE7AF35B396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04B-2FBF-413A-BCFF-BFE856CF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3BE-07F4-470A-B7F0-A8405980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4EE-932B-44DB-A7C3-A37DEE54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B02-1A9F-4AE6-A923-283FAF42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FBF-26A0-493C-8BBB-6BEF0CF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720-100F-4EA5-9BAE-390C8896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4A1-934E-41D6-A724-15F752AB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ACF-2BD6-42CA-8C27-2C5CDB0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E6B-73C4-48AA-BA58-BE1BA93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D27-48B9-4DBB-B4B3-8F465D7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3D1-C6D9-4588-BA76-D8FC7C1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378-0116-4256-9DE1-C1FF1A1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D374-88E4-4E84-8942-3C9E922FC8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40C-8D26-4C61-9560-ADD4F00684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B38-A32F-49D4-8A38-705191AA18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3E6-B333-43A6-AA2B-B54B5F3396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138-FE55-426E-AA3C-B6A7CACFB9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003-D0FE-427F-9254-B5408E64A9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C5E1-087E-4DFD-A8F4-9E19963913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D5B7-F2B6-4672-8FC4-60F314CCBE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12/200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0A9B-0865-4539-B7CC-39E3D9DBC4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12/200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88C9-B2C3-4A97-8A1A-63EC7042A9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C43-2F25-460C-AEFC-7852A6848D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AB00-DD36-4891-96E9-7301B252C2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FAF-0E2D-4833-A645-34AD3A4B3F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1CE3-4CD4-4FB5-B35D-E07CCA7B6D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C570-CF20-4957-8A41-005C8A34EC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AEA-CF7D-480F-87AA-B9996CA8FA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9BFF-1836-4712-89AB-904D7BEF56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572-72F6-442E-8EAD-F0044155E8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4147-8B4E-4ACD-872F-C9670D9A5F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7C8-A68D-47FC-870E-3449A59E30D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9C1F-8C30-424D-A47C-6D081F48AE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7B1-922E-488F-A411-9EC63D8ACE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4E03-B8EA-4C69-BDBD-9ED59AF1DB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6A2-0A18-4128-AF16-9F768209F0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CDDD-8064-4679-A951-8C50408B91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FE5-B33B-4BC2-9D5B-DEDC1008B1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2D9-C699-4361-8305-5BFD8D36E6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B705-1A4D-44FD-B087-7511F68FA0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C7DB-3EAC-422D-A35C-AC9B602E66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0BD-37C5-4D42-8780-DA37811F3A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870B-F863-4874-A6D3-9AF564ECB0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51E-98D0-4759-9462-C7215C0D7F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74A-E43C-4564-8348-58CD59F26F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567D-8CA8-47C8-A6C4-6A4BC973CC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51B-8E55-4264-8A56-F24F168314F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0AD4-45B7-4C3D-ACCA-25C06EF3C8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AA6D-D408-41A5-BCF7-DCB470ADB6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8484-413C-4225-941F-332FC809ED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C4F-2459-421D-B133-B931AD9CCF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078-B6E1-4F14-9A7A-649A619C1E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7141-FA99-4212-B6B5-0C6888F76C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2724-D9E4-466D-BA4C-1501E75635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9AE5-34CE-422D-8D3B-3AA4AB6E78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588-0059-40F7-B02A-233A6D0043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DE12-E676-4959-9A0F-45F75286A3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3F48-B84F-4AF6-96CE-7018A64934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276D-040B-4CE5-952F-C3A8ADCAB5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6A5-0775-4B9B-9907-0C65C673A47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0CA6-7870-46CB-B010-92E3018AA2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C7D3-E496-4B53-BE65-1C420764AF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BB27-4285-48F0-953D-C61DD9D994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249-7C7A-4E75-A412-095253A054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1FA-5CEF-4F0B-BE75-4FD3FF7382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2D74-3128-441D-86BF-4785947B33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A5C-76F1-483F-BC95-3CE8EBD0DD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F19-B09D-4CAD-B7EB-3DE44313B7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FD1-D2C5-46A6-BADA-56CF89170B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2288-111C-4D33-B13E-C5E8D1D51AA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993B-EC0D-45CC-9D69-A9C311CD86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E9D3-0ACA-48D7-ABCA-4B156038F4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4F5-D193-4F61-921C-94A78643801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9783-532A-49FD-A0C1-B205D0325A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B16-0E63-4A62-9D3E-DA96C8F5B2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9666-5FD4-4FDF-8E42-F199A5D82A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6C0B-A1F9-4581-B0A3-A9A4F6A6A9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11F-0EB8-4076-91EF-E2EC55916F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1E89-71FD-455E-9856-A5FBE4A3DC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9423-B959-400E-8C0A-5516523489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A3D-7195-4B1C-A243-C126CE2068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3920" y="135684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 los profesore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85520" y="142848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 los Profe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48hs después de cada revisión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, el tester debe entregar un informe de las cosas que necesitan trat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BC2F-8DB3-425A-A10B-ECE47A1ACE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D92-63D6-479B-9963-D5BC9FF2E8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los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4-06T12:01:24Z</dcterms:modified>
  <cp:revision>229</cp:revision>
  <dc:subject/>
  <dc:title>Ingeniería de Software</dc:title>
</cp:coreProperties>
</file>