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EC6C-73D8-48A2-B3B2-EBED0FB3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9DC1-2A62-4656-AD21-40D7DFFA2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F9A-D389-4A19-91DF-F0067D6A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3CB-B38C-409F-AAA1-3CE02C33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CA7C-EC1D-4465-8699-D501B98C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169-C1DE-471B-9492-B4BB32BF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E6B-D608-4725-BAFC-900687FB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E99A-5ED4-49AB-82C7-EADEB7E2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EFB-C4D3-45A9-A05C-CAC92B15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E3F-7EEB-41C6-9155-86158202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1C3E-E676-4AC5-9337-3635E113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CC7-2D06-4288-A4ED-BFACC368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3F3-EECD-4AA0-BD10-2E263834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B810-5ECB-48EE-B008-AB37998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C647-7D96-4DE2-BBEA-936A1826E22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4 - Versión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bar cada entrev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a 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.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3920" y="1104840"/>
            <a:ext cx="621540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EL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RE DEL PROYEC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las exten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  <a:ea typeface="Arial"/>
              </a:rPr>
              <a:t>El cliente siempre pretende validar al fina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que encontraron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…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pero todas las necesari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553080" y="492912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857920" y="2357280"/>
            <a:ext cx="180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 rot="534600">
            <a:off x="4022280" y="3405240"/>
            <a:ext cx="115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  <p:cxnSp>
        <p:nvCxnSpPr>
          <p:cNvPr id="138" name="AutoShape 21"/>
          <p:cNvCxnSpPr/>
          <p:nvPr/>
        </p:nvCxnSpPr>
        <p:spPr>
          <a:xfrm>
            <a:off x="785520" y="4500720"/>
            <a:ext cx="516492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9" name="AutoShape 21"/>
          <p:cNvCxnSpPr/>
          <p:nvPr/>
        </p:nvCxnSpPr>
        <p:spPr>
          <a:xfrm flipH="1">
            <a:off x="802440" y="2214720"/>
            <a:ext cx="2520" cy="2288160"/>
          </a:xfrm>
          <a:prstGeom prst="straightConnector1">
            <a:avLst/>
          </a:prstGeom>
          <a:ln w="41400">
            <a:solidFill>
              <a:srgbClr val="6d6d6d"/>
            </a:solidFill>
            <a:miter/>
          </a:ln>
        </p:spPr>
      </p:cxnSp>
      <p:cxnSp>
        <p:nvCxnSpPr>
          <p:cNvPr id="140" name="AutoShape 21"/>
          <p:cNvCxnSpPr/>
          <p:nvPr/>
        </p:nvCxnSpPr>
        <p:spPr>
          <a:xfrm>
            <a:off x="928800" y="4500720"/>
            <a:ext cx="502164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41" name="Rectangle 2"/>
          <p:cNvSpPr/>
          <p:nvPr/>
        </p:nvSpPr>
        <p:spPr>
          <a:xfrm>
            <a:off x="2714760" y="4500720"/>
            <a:ext cx="2214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Probl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0-08-19T14:03:49Z</dcterms:modified>
  <cp:revision>198</cp:revision>
  <dc:subject/>
  <dc:title>Ingeniería de Software   </dc:title>
</cp:coreProperties>
</file>