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EF57-443A-4E95-95BC-CAB9FA3F2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3E96-029A-42ED-863F-2EA693FA3D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9E5-ED13-496C-8292-6A9C55CF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CCB8-54BF-47B1-9B50-DE20C2B0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008-61B4-41E4-A08C-336E12C0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87F-F9F9-4F5C-AD76-8C65A4C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7F5-6E76-44F0-90B3-364424E3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BDF-7FA1-47D9-9DDF-BE9F66D9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35E-29C3-4738-8C8E-4DDD4C1F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F79-A761-403D-940C-09AC5D86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3D0E-8C23-4B2F-95B7-32D5A2F4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5DC0-597F-498B-A71E-458B71DF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46D-E68C-4EE4-9F8A-4A9B8E7F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591-3035-48B6-8F45-E241C469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4C31-F25F-4B3A-B590-8A11B4F1B74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0028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y Levantamiento de Requisit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319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lase 4 - Versión 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86680" y="400068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538812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 y 1 h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Vestirse igual (o similar)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Dos entrevistadores (máxim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ólo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uno pregun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el otro toma no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Llevar una pau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on las pregu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la entrevista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ía, hora, tema a tratar, entrevistados, carg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Grabar cada entrev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ista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(audio), pero sea suti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el usuario/cliente sepa que las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cosas confidencial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no saldrán a la luz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14280">
              <a:lnSpc>
                <a:spcPct val="85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Obten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pia de todos los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 formulari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nvolucrados en el sistema (si existen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6823080" y="1484280"/>
            <a:ext cx="2286000" cy="32385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2"/>
          <a:stretch/>
        </p:blipFill>
        <p:spPr>
          <a:xfrm>
            <a:off x="6443640" y="5059440"/>
            <a:ext cx="266544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3357720" cy="259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Tráigase el modelo de datos actu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detallado), en caso de existir sistemas leg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1080" indent="-36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leve lápiz y papel, aunque no lo use (podría necesitarl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572000" y="1557360"/>
            <a:ext cx="4538520" cy="27576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285920" y="4508640"/>
            <a:ext cx="7750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use jerg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omputacional, ni regionalis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L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puntualidad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es fundamental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Trate al cliente con respeto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SIEMPR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374760">
              <a:lnSpc>
                <a:spcPct val="105000"/>
              </a:lnSpc>
              <a:spcBef>
                <a:spcPts val="751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No trate de demostrar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MS Gothic"/>
              </a:rPr>
              <a:t> </a:t>
            </a:r>
            <a:r>
              <a:rPr b="0" lang="en-GB" sz="2000" spc="-1" strike="noStrike">
                <a:solidFill>
                  <a:srgbClr val="e6e6e6"/>
                </a:solidFill>
                <a:latin typeface="Arial"/>
                <a:ea typeface="MS Gothic"/>
              </a:rPr>
              <a:t>cuánto sabe usted de ésto: La estrella es el Cliente !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talles sobre Entrevist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4280" y="1249200"/>
            <a:ext cx="7678800" cy="30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scuch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s opiniones del cliente/usuario, aunque parezcan descabell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repit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preguntas, siempre primero revise la cinta de sesiones anteri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uéstre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l client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que ha comprendid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u probl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critiqu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las falencias de los actuales sistemas, ni las del personal que lo construyó o que lo ope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5214960" y="4518000"/>
            <a:ext cx="3929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7"/>
          <p:cNvSpPr/>
          <p:nvPr/>
        </p:nvSpPr>
        <p:spPr>
          <a:xfrm>
            <a:off x="1214280" y="4078440"/>
            <a:ext cx="392940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i va a pedi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algo adicional que requiere un esfuerzo importante del cliente/usuario,</a:t>
            </a:r>
            <a:r>
              <a:rPr b="0" lang="en-GB" sz="2000" spc="-1" strike="noStrike">
                <a:solidFill>
                  <a:srgbClr val="40458c"/>
                </a:solidFill>
                <a:latin typeface="Arial"/>
                <a:ea typeface="MS Gothic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égueles algo a camb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61800" indent="-27612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Ganarse a la secretaria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MS Gothic"/>
              </a:rPr>
              <a:t>del cliente, es casi tan importante como ganarse a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85760" y="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14280" y="1031760"/>
            <a:ext cx="4942080" cy="511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enga en cuenta todo lo anteri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abierta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guiada por el client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el cliente diga todo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r “Positivo”,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. </a:t>
            </a:r>
            <a:r>
              <a:rPr b="1" lang="en-GB" sz="1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NTÉNGASE !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La primera entrevista se usa par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obtener una idea aproximad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l problema a resolv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Normalmente se obtiene mucha basura, por lo que hay qu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separar la paja, del trigo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3360" indent="-344520">
              <a:lnSpc>
                <a:spcPct val="8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stablezca claramente quién será la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contrapart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 en el proyecto, y quiénes serán los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interlocutores válido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6300720" y="3141720"/>
            <a:ext cx="28069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920" y="71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16120" y="1142640"/>
            <a:ext cx="5256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rate de </a:t>
            </a:r>
            <a:r>
              <a:rPr b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traerse toda la documentación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pueda, para poder analizar mejor el problema a resolver, determinar su alcance e implicancias sobre otros 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27936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Formularios actuales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se usan en el sistema (o solicitar un screenshot de las pantall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proyectos previ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(tanto exitosos como fracasad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Modelo de dato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actu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ipo y cantidad de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usuarios del siste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hard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ispon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11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1800" spc="-1" strike="noStrike">
                <a:solidFill>
                  <a:srgbClr val="ffff00"/>
                </a:solidFill>
                <a:latin typeface="Arial"/>
                <a:ea typeface="Arial"/>
              </a:rPr>
              <a:t>Recursos de softwar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7267680" y="1484280"/>
            <a:ext cx="1876320" cy="1876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867280" y="3643200"/>
            <a:ext cx="32767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200240"/>
            <a:ext cx="54849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46400" indent="-36324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ntre la información que debe traerse de la 1º entrevista (dentro de lo posible) está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cursos de comunicaciones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forman parte del ambiente oper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stricciones del desarrol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plazos, lenguajes de desarrollo o BD a utilizar, browsers usados para Front-End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ff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na dea general de l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macro-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del sistema (2 – 4 comp.), y sus prioridades de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entr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stos </a:t>
            </a: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onent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1199"/>
              </a:spcBef>
              <a:spcAft>
                <a:spcPts val="924"/>
              </a:spcAft>
              <a:buClr>
                <a:srgbClr val="ffff00"/>
              </a:buClr>
              <a:buFont typeface="Arial"/>
              <a:buChar char="–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i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ivel de innovació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involucra el proyecto, para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987640" cy="197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6300720" y="4384800"/>
            <a:ext cx="284328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Arial"/>
                <a:ea typeface="Arial"/>
              </a:rPr>
              <a:t>Después de la Primera Entrevis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43040" y="114300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Traten entre todos de </a:t>
            </a:r>
            <a:r>
              <a:rPr b="1" lang="es-MX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ntender</a:t>
            </a:r>
            <a:r>
              <a:rPr b="0" lang="es-MX" sz="3200" spc="-1" strike="noStrike">
                <a:solidFill>
                  <a:srgbClr val="ff8840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l escenario, el problema y la posible solución (de grano grueso)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O sea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armar el puzzl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7531200" y="2714760"/>
            <a:ext cx="1523880" cy="1314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tretch/>
        </p:blipFill>
        <p:spPr>
          <a:xfrm>
            <a:off x="5715000" y="4280040"/>
            <a:ext cx="3343320" cy="2506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3"/>
          <a:stretch/>
        </p:blipFill>
        <p:spPr>
          <a:xfrm>
            <a:off x="1643040" y="4260960"/>
            <a:ext cx="3948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740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85560" y="1143000"/>
            <a:ext cx="53578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tre 30’  y 1 hor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emi-abierta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guiada por el cliente y el entrevistador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a idea e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ocer má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en detalle lo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sub-problemas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a resolver, el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 (en caso de dudas) y las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aracterísticas de los usuari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Revisen los puntos críticos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identificados en la primera entrevist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Que guíe el entrevistador, pero que le </a:t>
            </a: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permita al cliente expresar todo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lo que tenga que decir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37680" indent="-3376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1900" spc="-1" strike="noStrike">
                <a:solidFill>
                  <a:srgbClr val="ffff00"/>
                </a:solidFill>
                <a:latin typeface="Arial"/>
                <a:ea typeface="Arial"/>
              </a:rPr>
              <a:t>Continúen siendo “positivos”, </a:t>
            </a:r>
            <a:r>
              <a:rPr b="0" lang="en-GB" sz="1900" spc="-1" strike="noStrike">
                <a:solidFill>
                  <a:srgbClr val="ffffff"/>
                </a:solidFill>
                <a:latin typeface="Arial"/>
                <a:ea typeface="Arial"/>
              </a:rPr>
              <a:t>hasta conocer más el problema. Sin embargo si hay alarmas tempranas, pónganle el aviso al client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6786720" y="4913280"/>
            <a:ext cx="236376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 (para Clarificar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85560" y="1357200"/>
            <a:ext cx="514332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No prometan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nada hasta analizar el problema en detalle……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NTÉNGANSE !!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Usen esta entrevista para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ompletar la información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 relevada y clarificar aspectos oscur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Lleven la lista de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preguntas preparadas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Traten de mantener al cliente en la línea de lo que es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relevante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aractericen a los clientes/usuarios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l sistema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Determinen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  <a:ea typeface="Arial"/>
              </a:rPr>
              <a:t>clara y formalmente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1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mpromiso de tiempo de su contraparte!!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1199"/>
              </a:spcBef>
              <a:spcAft>
                <a:spcPts val="950"/>
              </a:spcAft>
              <a:buNone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6477120" y="4857840"/>
            <a:ext cx="263844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De la Tercera en Adelante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3920" y="1104840"/>
            <a:ext cx="6215400" cy="56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Entre 20’ y 35’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trevista focalizada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guiada por el entrevistado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Se utiliza par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ompletar/profundiz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la información relevada y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arifica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aspectos oscu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Usted debe hacer que el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cli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se mantenga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en la línea de lo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que es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leva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Obtener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uario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comple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 EL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ORE DEL PROYECT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+ las extens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Sea realista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, cueste lo que cues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4960" indent="-534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SzPct val="126000"/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No prometer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nada que no tengamos la certeza, de que va a poder (o no) realiza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6780240" y="1000080"/>
            <a:ext cx="236376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AutoShape 5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976640" y="37148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928880" y="1643040"/>
            <a:ext cx="221436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3920" y="1314000"/>
            <a:ext cx="5110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los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requisitos conflictivos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(al menos una vez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tod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usted considere necesari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... pero con cuidado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ar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avance del proy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a través de prototipos (buenos prototipos !!!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Valide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 sólo </a:t>
            </a: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lo que está escrito 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en los requisitos.... Cualquier otra cosa está fuera de lo que usted debe realizar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n-GB" sz="2300" spc="-1" strike="noStrike">
                <a:solidFill>
                  <a:srgbClr val="ffff00"/>
                </a:solidFill>
                <a:latin typeface="Arial"/>
                <a:ea typeface="Arial"/>
              </a:rPr>
              <a:t>Sea directo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  <a:ea typeface="Arial"/>
              </a:rPr>
              <a:t>, el tiempo del cliente también vale ...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6470640" y="4857840"/>
            <a:ext cx="2673360" cy="2000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2"/>
          <p:cNvSpPr/>
          <p:nvPr/>
        </p:nvSpPr>
        <p:spPr>
          <a:xfrm>
            <a:off x="6429240" y="1285920"/>
            <a:ext cx="27147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CL" sz="2300" spc="-1" strike="noStrike">
                <a:solidFill>
                  <a:srgbClr val="ffffff"/>
                </a:solidFill>
                <a:latin typeface="Arial"/>
                <a:ea typeface="Arial"/>
              </a:rPr>
              <a:t>Esfuércese por </a:t>
            </a:r>
            <a:r>
              <a:rPr b="1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validar en forma temprana</a:t>
            </a:r>
            <a:r>
              <a:rPr b="0" lang="es-CL" sz="23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MX" sz="2300" spc="-1" strike="noStrike">
                <a:solidFill>
                  <a:srgbClr val="ffff00"/>
                </a:solidFill>
                <a:latin typeface="Arial"/>
                <a:ea typeface="Arial"/>
              </a:rPr>
              <a:t>El cliente siempre pretende validar al final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2868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 de Valid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0640" y="1142640"/>
            <a:ext cx="5249880" cy="578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óngale presión al Cli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… Es por tu propi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stálele el software (prototipo) al cliente, y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segúrese de que los prototipos sean valid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suario/cliente SIEMPRE está ocup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por lo tanto no va a validar nada a menos que usted lo fuer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 prototipos involucra una etapa d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enamiento que usted debe ofrec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e incluir en el presupu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6572160" y="4768920"/>
            <a:ext cx="25718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8680" y="7092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90240" y="1187280"/>
            <a:ext cx="792468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ebe hacer el sistema?,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servic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iénes y cuántos son los usuarios?, ¿Qué debería hacer cada uno con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usuari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calidad se espera que tenga el software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los req. de calidad del softwa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son los formularios que actualmente contienen la información a procesar por 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datos y servicios básicos a manejar por 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7200" y="999720"/>
            <a:ext cx="77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 es el escenario en el que funcionará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Qué datos están involucrados en el sistema?.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ámbito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a cerca del funcionamiento del software o del proceso de desarrollo del sistem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46400" indent="-44640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¿Existen restricciones de tecnología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 Restriccion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13920" y="70920"/>
            <a:ext cx="792972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¿Qué Cosas Preguntar (por ej.)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57200" y="1285920"/>
            <a:ext cx="77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Se han hecho sistemas de este tipo antes en la empresa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ómo les ha ido a los desarrolladores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¿Cuáles fueron los principales problemas que encontraron? 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contexto de tr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60440" indent="-460440" algn="ct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85920" y="1214280"/>
            <a:ext cx="7858080" cy="556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struir confianza/ acuerdo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ntre el proveedor y los clientes/usuarios.... aprovéchenlas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epárense MUY BIEN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para cada entrevista... Su imagen y la de su empresa depende en gran medida de ell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que usted es serio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y que sabe hacer su trabaj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muestre compromiso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 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-39564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lare y limite el problema (junto con el cliente)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... y luego póngalo por escrito (docum. de requisitos), y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que el cliente lo firme!!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564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8680" y="9000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85920" y="1071720"/>
            <a:ext cx="785808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uidadoso al consultar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, ... pero no se quede con ninguna dud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a efectivo en su trabajo…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No pierda tiempo, ni improvis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Documente todos los acuer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, y ojalá que éstos sean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públic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 (para clientes/usuarios y desarrolladores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Genere y mantenga una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visión compartida del proyec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justificacion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No a las crític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7400" y="712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85560" y="1213920"/>
            <a:ext cx="7643880" cy="551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Se puede entregar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pia de las minutas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 las entrevistas, a todos los particip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Otra opción es pasar la documentación en limpio,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cerla firma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por el cliente /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El entrevistador debe ser alguien con buena capacidad de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comunicación </a:t>
            </a: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Arial"/>
              </a:rPr>
              <a:t>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habilidades social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99960" indent="-399960">
              <a:lnSpc>
                <a:spcPct val="105000"/>
              </a:lnSpc>
              <a:spcBef>
                <a:spcPts val="1199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Debe ser cuidadoso, formal y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Arial"/>
              </a:rPr>
              <a:t>no impuls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¿Puedes Leer la Ment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19040" y="1142640"/>
            <a:ext cx="782496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i la respuesta es </a:t>
            </a:r>
            <a:r>
              <a:rPr b="1" lang="es-CL" sz="32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N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, entonces vas a tener que trabajar duro para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identificar y delimitar el problema a resolver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Todo aport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una parte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mportante de es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... También hay </a:t>
            </a: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otros recursos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complementarios: formularios, sistemas legados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1000080"/>
            <a:ext cx="1368360" cy="17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396200" cy="49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etalles sobre Entrev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Prim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Segunda/Tercera Entrev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Entrevistas de Valid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199"/>
              </a:spcBef>
              <a:spcAft>
                <a:spcPts val="2401"/>
              </a:spcAft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71280"/>
            <a:ext cx="7340760" cy="76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4160" y="1143000"/>
            <a:ext cx="76294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entrevistas sirven par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ocer, clarificar, o limitar el problema a resolv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dentificar a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actores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involucr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onstruir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confianz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cliente-desarrollad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stablecer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quisitos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istema sin ambigüedad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Validar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el trabajo ya hech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Dar visibilidad 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al trabajo realizad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SzPct val="117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0" lang="es-CL" sz="3000" spc="-1" strike="noStrike">
                <a:solidFill>
                  <a:srgbClr val="ffff00"/>
                </a:solidFill>
                <a:latin typeface="Arial"/>
                <a:ea typeface="Arial"/>
              </a:rPr>
              <a:t>entrevistas son el primer paso,</a:t>
            </a:r>
            <a:r>
              <a:rPr b="0" lang="es-CL" sz="3000" spc="-1" strike="noStrike">
                <a:solidFill>
                  <a:srgbClr val="ffffff"/>
                </a:solidFill>
                <a:latin typeface="Arial"/>
                <a:ea typeface="Arial"/>
              </a:rPr>
              <a:t> en el desarrollo de un proyecto de softwa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428480" y="1357200"/>
            <a:ext cx="7483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En un proyecto chico o en un equipo de trabajo chico (3-7 personas),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todos deberíamos conocer </a:t>
            </a:r>
            <a:r>
              <a:rPr b="0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y</a:t>
            </a:r>
            <a:r>
              <a:rPr b="1" lang="es-ES" sz="2500" spc="-1" strike="noStrike">
                <a:solidFill>
                  <a:srgbClr val="f2f2f2"/>
                </a:solidFill>
                <a:latin typeface="Arial"/>
                <a:ea typeface="Arial"/>
              </a:rPr>
              <a:t>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comprender el problema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 resolver, y sus implicancias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Aunque tengamos responsabilidades distintas (roles distintos), debemos conocer el problema, de primera man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Esto no es sólo responsabilidad de los analistas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o del adm. del proyecto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527400" indent="-443160">
              <a:lnSpc>
                <a:spcPct val="80000"/>
              </a:lnSpc>
              <a:spcBef>
                <a:spcPts val="1199"/>
              </a:spcBef>
              <a:spcAft>
                <a:spcPts val="1800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Hay muchas cosas que requieren intuición y buen criterio</a:t>
            </a:r>
            <a:r>
              <a:rPr b="0" lang="es-ES" sz="2500" spc="-1" strike="noStrike">
                <a:solidFill>
                  <a:srgbClr val="ffff00"/>
                </a:solidFill>
                <a:latin typeface="Arial"/>
                <a:ea typeface="Arial"/>
              </a:rPr>
              <a:t>. 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  <a:ea typeface="Arial"/>
              </a:rPr>
              <a:t>Y eso se puede lograr sólo si comprendo el problema y el desafío que este represent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428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5243400"/>
            <a:ext cx="1214280" cy="15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3920" y="1071720"/>
            <a:ext cx="7929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primera entrevista abierta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cer un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segunda entrevista focalizada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diseñada para sacarle el resto de la información al client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Se pueden hacer más entrevistas si es necesari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Haga la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MENOR CANTIDAD POSIBLE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 entrevist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"/>
                <a:ea typeface="Arial"/>
              </a:rPr>
              <a:t>… </a:t>
            </a:r>
            <a:r>
              <a:rPr b="1" lang="es-MX" sz="2600" spc="-1" strike="noStrike">
                <a:solidFill>
                  <a:srgbClr val="ffff00"/>
                </a:solidFill>
                <a:latin typeface="Arial"/>
                <a:ea typeface="Arial"/>
              </a:rPr>
              <a:t>pero todas las necesaria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Graben las entrevista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553080" y="4929120"/>
            <a:ext cx="25909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3920" y="1143000"/>
            <a:ext cx="7929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visar los ítems más importante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(respecto a los requisitos) con el cliente (se debe obtener un OK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Validen con los usuarios, los requisitos entregados por el cliente….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estar aline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Arial"/>
                <a:ea typeface="Arial"/>
              </a:rPr>
              <a:t>Usuarios y Clientes deben sentirse parte del proces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bajen rápido y focalizad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13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Traigan y analicen todos los 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recursos</a:t>
            </a:r>
            <a:r>
              <a:rPr b="1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que puedan: formularios, sistemas legados, manuales de procesos, et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28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299280" y="5929200"/>
            <a:ext cx="2844720" cy="9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5600" y="2286000"/>
            <a:ext cx="11523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1º y 2º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0580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  <a:ea typeface="Arial"/>
              </a:rPr>
              <a:t>Entrevistas: Introduc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14" name="Group 9"/>
          <p:cNvGrpSpPr/>
          <p:nvPr/>
        </p:nvGrpSpPr>
        <p:grpSpPr>
          <a:xfrm>
            <a:off x="3687840" y="1562040"/>
            <a:ext cx="1414440" cy="863640"/>
            <a:chOff x="3687840" y="1562040"/>
            <a:chExt cx="1414440" cy="863640"/>
          </a:xfrm>
        </p:grpSpPr>
        <p:sp>
          <p:nvSpPr>
            <p:cNvPr id="115" name="Rectangle 4"/>
            <p:cNvSpPr/>
            <p:nvPr/>
          </p:nvSpPr>
          <p:spPr>
            <a:xfrm>
              <a:off x="3687840" y="1562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Text Box 7"/>
            <p:cNvSpPr/>
            <p:nvPr/>
          </p:nvSpPr>
          <p:spPr>
            <a:xfrm>
              <a:off x="3787920" y="1666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. de Usuari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Group 10"/>
          <p:cNvGrpSpPr/>
          <p:nvPr/>
        </p:nvGrpSpPr>
        <p:grpSpPr>
          <a:xfrm>
            <a:off x="5967360" y="3794040"/>
            <a:ext cx="1414440" cy="863640"/>
            <a:chOff x="5967360" y="3794040"/>
            <a:chExt cx="1414440" cy="863640"/>
          </a:xfrm>
        </p:grpSpPr>
        <p:sp>
          <p:nvSpPr>
            <p:cNvPr id="118" name="Rectangle 11"/>
            <p:cNvSpPr/>
            <p:nvPr/>
          </p:nvSpPr>
          <p:spPr>
            <a:xfrm>
              <a:off x="5967360" y="37940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Text Box 12"/>
            <p:cNvSpPr/>
            <p:nvPr/>
          </p:nvSpPr>
          <p:spPr>
            <a:xfrm>
              <a:off x="6067440" y="38988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ción de Softw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Group 13"/>
          <p:cNvGrpSpPr/>
          <p:nvPr/>
        </p:nvGrpSpPr>
        <p:grpSpPr>
          <a:xfrm>
            <a:off x="1960560" y="3290760"/>
            <a:ext cx="1414440" cy="863640"/>
            <a:chOff x="1960560" y="3290760"/>
            <a:chExt cx="1414440" cy="863640"/>
          </a:xfrm>
        </p:grpSpPr>
        <p:sp>
          <p:nvSpPr>
            <p:cNvPr id="121" name="Rectangle 14"/>
            <p:cNvSpPr/>
            <p:nvPr/>
          </p:nvSpPr>
          <p:spPr>
            <a:xfrm>
              <a:off x="1960560" y="32907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2060640" y="33955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x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Rectangle 16"/>
          <p:cNvSpPr/>
          <p:nvPr/>
        </p:nvSpPr>
        <p:spPr>
          <a:xfrm>
            <a:off x="5857920" y="2357280"/>
            <a:ext cx="1801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2º/3º Entrevis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MS Gothic"/>
              </a:rPr>
              <a:t>en adelante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9"/>
          <p:cNvSpPr/>
          <p:nvPr/>
        </p:nvSpPr>
        <p:spPr>
          <a:xfrm flipV="1">
            <a:off x="2583000" y="2066760"/>
            <a:ext cx="1079280" cy="122400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5" name="AutoShape 20"/>
          <p:cNvCxnSpPr/>
          <p:nvPr/>
        </p:nvCxnSpPr>
        <p:spPr>
          <a:xfrm>
            <a:off x="5102280" y="1994040"/>
            <a:ext cx="1573920" cy="18007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21"/>
          <p:cNvCxnSpPr/>
          <p:nvPr/>
        </p:nvCxnSpPr>
        <p:spPr>
          <a:xfrm>
            <a:off x="3374640" y="3722760"/>
            <a:ext cx="2592720" cy="5040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27" name="Rectangle 2"/>
          <p:cNvSpPr/>
          <p:nvPr/>
        </p:nvSpPr>
        <p:spPr>
          <a:xfrm rot="534600">
            <a:off x="4022280" y="3405240"/>
            <a:ext cx="115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Contex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18" descr=""/>
          <p:cNvPicPr/>
          <p:nvPr/>
        </p:nvPicPr>
        <p:blipFill>
          <a:blip r:embed="rId1"/>
          <a:stretch/>
        </p:blipFill>
        <p:spPr>
          <a:xfrm>
            <a:off x="6772320" y="4916520"/>
            <a:ext cx="2371680" cy="194148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9"/>
          <p:cNvGrpSpPr/>
          <p:nvPr/>
        </p:nvGrpSpPr>
        <p:grpSpPr>
          <a:xfrm>
            <a:off x="571680" y="1347840"/>
            <a:ext cx="1713960" cy="863640"/>
            <a:chOff x="571680" y="1347840"/>
            <a:chExt cx="1713960" cy="863640"/>
          </a:xfrm>
        </p:grpSpPr>
        <p:sp>
          <p:nvSpPr>
            <p:cNvPr id="130" name="Rectangle 4"/>
            <p:cNvSpPr/>
            <p:nvPr/>
          </p:nvSpPr>
          <p:spPr>
            <a:xfrm>
              <a:off x="571680" y="1347840"/>
              <a:ext cx="171396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692640" y="1452600"/>
              <a:ext cx="146988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lema a resol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Rectangle 4"/>
          <p:cNvSpPr/>
          <p:nvPr/>
        </p:nvSpPr>
        <p:spPr>
          <a:xfrm>
            <a:off x="7286760" y="1347840"/>
            <a:ext cx="17143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AutoShape 21"/>
          <p:cNvCxnSpPr/>
          <p:nvPr/>
        </p:nvCxnSpPr>
        <p:spPr>
          <a:xfrm>
            <a:off x="2286000" y="1704600"/>
            <a:ext cx="1357920" cy="143640"/>
          </a:xfrm>
          <a:prstGeom prst="straightConnector1">
            <a:avLst/>
          </a:prstGeom>
          <a:ln w="41400">
            <a:solidFill>
              <a:srgbClr val="6d6d6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AutoShape 20"/>
          <p:cNvCxnSpPr>
            <a:stCxn id="132" idx="1"/>
          </p:cNvCxnSpPr>
          <p:nvPr/>
        </p:nvCxnSpPr>
        <p:spPr>
          <a:xfrm flipH="1">
            <a:off x="5071680" y="1779480"/>
            <a:ext cx="2215440" cy="6912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5" name="Text Box 7"/>
          <p:cNvSpPr/>
          <p:nvPr/>
        </p:nvSpPr>
        <p:spPr>
          <a:xfrm>
            <a:off x="7340760" y="1461960"/>
            <a:ext cx="16430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 que quiere el c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19"/>
          <p:cNvSpPr/>
          <p:nvPr/>
        </p:nvSpPr>
        <p:spPr>
          <a:xfrm flipH="1" flipV="1">
            <a:off x="1357200" y="2204640"/>
            <a:ext cx="642960" cy="1071720"/>
          </a:xfrm>
          <a:prstGeom prst="line">
            <a:avLst/>
          </a:prstGeom>
          <a:ln w="38160">
            <a:solidFill>
              <a:srgbClr val="6d6d6d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7" name="AutoShape 20"/>
          <p:cNvCxnSpPr/>
          <p:nvPr/>
        </p:nvCxnSpPr>
        <p:spPr>
          <a:xfrm flipH="1">
            <a:off x="7214400" y="2214360"/>
            <a:ext cx="429480" cy="1572120"/>
          </a:xfrm>
          <a:prstGeom prst="straightConnector1">
            <a:avLst/>
          </a:prstGeom>
          <a:ln w="41400">
            <a:solidFill>
              <a:srgbClr val="ff6600"/>
            </a:solidFill>
            <a:prstDash val="sysDash"/>
            <a:miter/>
            <a:tailEnd len="med" type="triangle" w="med"/>
          </a:ln>
        </p:spPr>
      </p:cxnSp>
      <p:cxnSp>
        <p:nvCxnSpPr>
          <p:cNvPr id="138" name="AutoShape 21"/>
          <p:cNvCxnSpPr/>
          <p:nvPr/>
        </p:nvCxnSpPr>
        <p:spPr>
          <a:xfrm>
            <a:off x="785520" y="4500720"/>
            <a:ext cx="516492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cxnSp>
        <p:nvCxnSpPr>
          <p:cNvPr id="139" name="AutoShape 21"/>
          <p:cNvCxnSpPr/>
          <p:nvPr/>
        </p:nvCxnSpPr>
        <p:spPr>
          <a:xfrm flipH="1">
            <a:off x="802440" y="2214720"/>
            <a:ext cx="2520" cy="2288160"/>
          </a:xfrm>
          <a:prstGeom prst="straightConnector1">
            <a:avLst/>
          </a:prstGeom>
          <a:ln w="41400">
            <a:solidFill>
              <a:srgbClr val="6d6d6d"/>
            </a:solidFill>
            <a:miter/>
          </a:ln>
        </p:spPr>
      </p:cxnSp>
      <p:cxnSp>
        <p:nvCxnSpPr>
          <p:cNvPr id="140" name="AutoShape 21"/>
          <p:cNvCxnSpPr/>
          <p:nvPr/>
        </p:nvCxnSpPr>
        <p:spPr>
          <a:xfrm>
            <a:off x="928800" y="4500720"/>
            <a:ext cx="5021640" cy="3600"/>
          </a:xfrm>
          <a:prstGeom prst="straightConnector1">
            <a:avLst/>
          </a:prstGeom>
          <a:ln w="41400">
            <a:solidFill>
              <a:srgbClr val="6d6d6d"/>
            </a:solidFill>
            <a:miter/>
            <a:tailEnd len="med" type="triangle" w="med"/>
          </a:ln>
        </p:spPr>
      </p:cxnSp>
      <p:sp>
        <p:nvSpPr>
          <p:cNvPr id="141" name="Rectangle 2"/>
          <p:cNvSpPr/>
          <p:nvPr/>
        </p:nvSpPr>
        <p:spPr>
          <a:xfrm>
            <a:off x="2714760" y="4500720"/>
            <a:ext cx="22143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en-GB" sz="1400" spc="-1" strike="noStrike">
                <a:solidFill>
                  <a:srgbClr val="ffff00"/>
                </a:solidFill>
                <a:latin typeface="Arial"/>
                <a:ea typeface="Arial"/>
              </a:rPr>
              <a:t>Considerar el Proble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10-08-19T14:03:49Z</dcterms:modified>
  <cp:revision>198</cp:revision>
  <dc:subject/>
  <dc:title>Ingeniería de Software   </dc:title>
</cp:coreProperties>
</file>