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4316-4CC6-42AC-82CE-1B7AD6870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9642-416C-48BF-BA31-0F5E9879832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A42-2DAE-4A76-9EF0-9802DE11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265-A21E-4D28-8C00-95F45680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B16-9603-4C96-9859-F6F22431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339-502B-442E-AF4A-E7D39D66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DE1-4A6B-43F0-A204-CFFD2F38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ED9-3A6A-49FA-8EA8-34D7A217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095-5E4F-4B77-8E96-97600014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9C3-4338-49EE-8D29-919BBACF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54B-B68B-4735-9F16-E38E6A95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4D4-CB4C-41AA-986E-7B43408F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260-0FCC-4CA4-A973-F5D19181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908-120E-4ABD-9FA7-287CD13B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A343-FB57-41D3-B04E-3BD4E209A5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jeremy.barbay@dcc.uchile.c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amonares@dcc.uchile.c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390680" y="3071880"/>
            <a:ext cx="7035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Inicio de Proyec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000240" y="435780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Primavera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143160" y="614376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Clase 3 - Versión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14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Calendario del Cur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116000" y="1017720"/>
            <a:ext cx="802800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Grupo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47640" y="1214280"/>
            <a:ext cx="74534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Proyecto: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Administrador de Tareas para ReqAdm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Integrantes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Jefe de Proyecto – Carlos Gaja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nalista – Lissette Cabr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iseñador – Philippe Delte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Implementador – Diego 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Implementador –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ndrés Abuja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ester – Erika Silva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Client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Alcides Quispe (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aquispe@dcc.uchile.c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- Fono: 978-4633. Ofic.  4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Grupo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47640" y="1214280"/>
            <a:ext cx="74534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Proyecto: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Administrador de Métricas de Software para SqueakSoc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Integrantes: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aniel Mor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Pablo Carr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Clien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Alexandre Bergel (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abergel@dcc.uchile.c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) – Ofic. 409, Telef.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978-495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comendac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1640" y="1213920"/>
            <a:ext cx="758340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29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imero hay que conocerse, coordinarse y conocer 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9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.luego asignar responsabilidades,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UMI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9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éxito sólo se puede obtener si cada uno de nosotros pone su parte y coopera con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9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l Adm. de Proyecto puede cambiar los roles iniciales de su gente… Tiene esta semana para 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9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vez que estén organizados, coordinen una </a:t>
            </a:r>
            <a:r>
              <a:rPr b="0" lang="es-E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revista con el Client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(ojalá esta seman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comendac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142640"/>
            <a:ext cx="7362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29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iencen a abordar cada una de las etapas del desarroll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N PARALEL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9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odos deberían tener trabajo en todo momen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9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... Cuidado con las tareas correlativas 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9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lanifiquen las actividades que van a realizar para alcanzar el primer hi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9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sulten periódicamente la planificación del curso, y la del proyecto que ustedes hag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comendac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8480" y="1428840"/>
            <a:ext cx="7715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a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ROACTIV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REATIV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usquen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SIMPLIC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FICA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iensen la solución.. Nosotros somos ingenieros, no program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aliden sus ideas, dentro del grupo y con el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e DEBE planificar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eunión semanal del grup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e DEBE planificar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eunión semanal con el Clie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comendac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1400" y="1717200"/>
            <a:ext cx="734364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24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.. Sean conscientes de qu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la obra gruesa se hace rápi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el problema es la terminación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4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pierdan de vista a los usu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4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adm. de proyectos deberán hacer una planificación detallada para alcanzar los hitos definidos por el profes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4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poder plantear una solución hay que </a:t>
            </a:r>
            <a:r>
              <a:rPr b="0" lang="es-E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 CUÁL ES EL PROBLEMA A RESOL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676160" y="2354040"/>
            <a:ext cx="711036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Revisen las responsabilidades de cada Rol... (Clase 1)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Usted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ya n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so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alumnos, son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Ingenier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…. Asuman su rol con el nivel de profesionalismo que esto exi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0-08-17T13:57:14Z</dcterms:modified>
  <cp:revision>185</cp:revision>
  <dc:subject/>
  <dc:title>Ingeniería de Software</dc:title>
</cp:coreProperties>
</file>