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88D4-6561-4306-956A-1E5E5003C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11E1-0FEB-4BE6-BC43-1A222AC333D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A5B5-F10E-4627-9205-FFDA488A16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14280" y="709560"/>
            <a:ext cx="4835520" cy="3627360"/>
          </a:xfrm>
          <a:prstGeom prst="rect">
            <a:avLst/>
          </a:prstGeom>
          <a:ln w="0">
            <a:noFill/>
          </a:ln>
        </p:spPr>
      </p:sp>
      <p:sp>
        <p:nvSpPr>
          <p:cNvPr id="187"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
          <p:cNvGrpSpPr/>
          <p:nvPr/>
        </p:nvGrpSpPr>
        <p:grpSpPr>
          <a:xfrm>
            <a:off x="4160880" y="9151920"/>
            <a:ext cx="3109680" cy="447480"/>
            <a:chOff x="4160880" y="9151920"/>
            <a:chExt cx="3109680" cy="447480"/>
          </a:xfrm>
        </p:grpSpPr>
        <p:sp>
          <p:nvSpPr>
            <p:cNvPr id="190"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92"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1"/>
          <p:cNvSpPr>
            <a:spLocks noGrp="1"/>
          </p:cNvSpPr>
          <p:nvPr>
            <p:ph type="sldImg"/>
          </p:nvPr>
        </p:nvSpPr>
        <p:spPr>
          <a:xfrm>
            <a:off x="1266840" y="727200"/>
            <a:ext cx="4781520" cy="35859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C85F-044F-4622-A99F-3C72D4E1B3F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2889-5918-4782-959E-13DEDC25F56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A378-C8B4-42F4-8C8B-A3F9097830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595-BF1E-49EF-816E-718F8E7F38B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FC1C-B756-4CB5-B722-074FC03CEEF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3952-34C0-4263-A83C-E70AF4B5846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FED6-0438-42F3-9AA1-4B080600F68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8CDD-FA88-483D-814B-3DEE179E713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5170-B779-4352-941E-4BA50319379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4ADD-2DD0-474F-AD01-A7298E6E2BB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8D76-90A5-419C-9D74-DAE9E0A02C0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E1F1-5B70-41FF-A4D0-9DED7455AE9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6661-D345-427F-89E8-D776992EEF6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0F1F-E904-4447-A820-9C35B6896B2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F6EA-EEBD-4EB0-B078-48C106AAE1E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D0CF-5B86-4E67-B0E1-0DB13C3190B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5BB7-9BCE-4EEE-8424-A4F1CE3C039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3B10-AD98-4D92-A711-E31F050BC4D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5447-653F-4638-BBEE-DE87634D811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900080" y="800280"/>
            <a:ext cx="3519720" cy="2639880"/>
          </a:xfrm>
          <a:prstGeom prst="rect">
            <a:avLst/>
          </a:prstGeom>
          <a:ln w="0">
            <a:noFill/>
          </a:ln>
        </p:spPr>
      </p:sp>
      <p:sp>
        <p:nvSpPr>
          <p:cNvPr id="166"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CCA2-A920-4C85-88BA-D3EB6559487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F477-64AE-4FFD-B760-7825D948506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E955-D4ED-487D-B8C4-1C190C35CCC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5C3F-776D-4882-A2C8-D54BF46C61F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E63A-52DC-488F-981F-08E0AFD9E7A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D84A-D380-4C83-8346-2B9B54B1773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078F-8B86-470F-A436-393D0990342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A9D2-38A9-4BD1-94C9-A4ED011248C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3E32-CE08-4F69-879F-5089EE0BBAC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900080" y="800280"/>
            <a:ext cx="3519720" cy="2639880"/>
          </a:xfrm>
          <a:prstGeom prst="rect">
            <a:avLst/>
          </a:prstGeom>
          <a:ln w="0">
            <a:noFill/>
          </a:ln>
        </p:spPr>
      </p:sp>
      <p:sp>
        <p:nvSpPr>
          <p:cNvPr id="169"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0160-D0A9-44F5-9DA2-3BEB6C7F531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230D-5538-4FF9-BA6F-858F93A13C8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242E-A881-48FF-9615-FD366D7C045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7009-FC50-4F82-B83A-381082E515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8697-EB2C-48BE-BE6B-BBDD074D1A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14280" y="709560"/>
            <a:ext cx="4835520" cy="3627360"/>
          </a:xfrm>
          <a:prstGeom prst="rect">
            <a:avLst/>
          </a:prstGeom>
          <a:ln w="0">
            <a:noFill/>
          </a:ln>
        </p:spPr>
      </p:sp>
      <p:sp>
        <p:nvSpPr>
          <p:cNvPr id="184" name="PlaceHolder 2"/>
          <p:cNvSpPr>
            <a:spLocks noGrp="1"/>
          </p:cNvSpPr>
          <p:nvPr>
            <p:ph type="body"/>
          </p:nvPr>
        </p:nvSpPr>
        <p:spPr>
          <a:xfrm>
            <a:off x="957240" y="4572000"/>
            <a:ext cx="5346720" cy="433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06187-1EB6-4D50-A7F0-024921F7F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ECCE-5383-4D8B-8C62-286E5F26D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F61E8-2EB7-4E28-AB19-FAB1FA452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C08D2-76A1-40A0-BF97-CC89ECE63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74F7A-2174-45CB-B132-26F9F71A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4CA4-EABA-49B9-985F-414D35F9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B8DEB-591F-4A1F-9E4E-78AAD30A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2B8D-5E8B-47BE-A02F-1D2FF9CD4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2DBD1-2DCC-4954-80D7-FF7C80D5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1CD1-225B-4832-9D46-D4FE264A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D4F4-471E-4F7A-8F03-E6C96E430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777A-7856-412D-B65C-87781CC1E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4874-EFF3-4D9F-BFFA-1D47DCE3091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724B-8E00-45A1-86E0-428EF770051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0" name="Picture 3" descr=""/>
          <p:cNvPicPr/>
          <p:nvPr/>
        </p:nvPicPr>
        <p:blipFill>
          <a:blip r:embed="rId1"/>
          <a:stretch/>
        </p:blipFill>
        <p:spPr>
          <a:xfrm>
            <a:off x="2071800" y="0"/>
            <a:ext cx="6200640" cy="686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9964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1: Competencia de Diseño</a:t>
            </a:r>
            <a:endParaRPr b="0" lang="en-US" sz="4400" spc="-1" strike="noStrike">
              <a:solidFill>
                <a:srgbClr val="ffff00"/>
              </a:solidFill>
              <a:latin typeface="Times New Roman"/>
            </a:endParaRPr>
          </a:p>
        </p:txBody>
      </p:sp>
      <p:sp>
        <p:nvSpPr>
          <p:cNvPr id="93"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5"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8" name="Picture 2" descr=""/>
          <p:cNvPicPr/>
          <p:nvPr/>
        </p:nvPicPr>
        <p:blipFill>
          <a:blip r:embed="rId1"/>
          <a:stretch/>
        </p:blipFill>
        <p:spPr>
          <a:xfrm>
            <a:off x="7086600" y="5143680"/>
            <a:ext cx="2057400" cy="1714320"/>
          </a:xfrm>
          <a:prstGeom prst="rect">
            <a:avLst/>
          </a:prstGeom>
          <a:ln w="0">
            <a:noFill/>
          </a:ln>
        </p:spPr>
      </p:pic>
      <p:pic>
        <p:nvPicPr>
          <p:cNvPr id="99" name="Picture 3" descr=""/>
          <p:cNvPicPr/>
          <p:nvPr/>
        </p:nvPicPr>
        <p:blipFill>
          <a:blip r:embed="rId2"/>
          <a:stretch/>
        </p:blipFill>
        <p:spPr>
          <a:xfrm>
            <a:off x="0" y="5429160"/>
            <a:ext cx="1744560" cy="1428840"/>
          </a:xfrm>
          <a:prstGeom prst="rect">
            <a:avLst/>
          </a:prstGeom>
          <a:ln w="0">
            <a:noFill/>
          </a:ln>
        </p:spPr>
      </p:pic>
      <p:pic>
        <p:nvPicPr>
          <p:cNvPr id="100"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2"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contradictorios</a:t>
            </a:r>
            <a:r>
              <a:rPr b="0" lang="es-E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104"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6"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8"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0"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Kernell de Linux tiene más de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3-4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12"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14"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6"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Desarrollar Software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8"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20"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3 Marcador de contenido" descr=""/>
          <p:cNvPicPr/>
          <p:nvPr/>
        </p:nvPicPr>
        <p:blipFill>
          <a:blip r:embed="rId1"/>
          <a:stretch/>
        </p:blipFill>
        <p:spPr>
          <a:xfrm>
            <a:off x="2000160" y="2571840"/>
            <a:ext cx="3876840" cy="1628640"/>
          </a:xfrm>
          <a:prstGeom prst="rect">
            <a:avLst/>
          </a:prstGeom>
          <a:ln w="0">
            <a:noFill/>
          </a:ln>
        </p:spPr>
      </p:pic>
      <p:sp>
        <p:nvSpPr>
          <p:cNvPr id="122"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113B-E41D-44AE-93E6-5E58AA57003B}"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24"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5" name="6 Tabla" descr=""/>
          <p:cNvPicPr/>
          <p:nvPr/>
        </p:nvPicPr>
        <p:blipFill>
          <a:blip r:embed="rId2"/>
          <a:stretch/>
        </p:blipFill>
        <p:spPr>
          <a:xfrm>
            <a:off x="2000160" y="4211640"/>
            <a:ext cx="3876840" cy="542880"/>
          </a:xfrm>
          <a:prstGeom prst="rect">
            <a:avLst/>
          </a:prstGeom>
          <a:ln w="0">
            <a:noFill/>
          </a:ln>
        </p:spPr>
      </p:pic>
      <p:sp>
        <p:nvSpPr>
          <p:cNvPr id="126"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8"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0"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32"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6"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026" descr=""/>
          <p:cNvPicPr/>
          <p:nvPr/>
        </p:nvPicPr>
        <p:blipFill>
          <a:blip r:embed="rId1"/>
          <a:stretch/>
        </p:blipFill>
        <p:spPr>
          <a:xfrm>
            <a:off x="1857240" y="2400480"/>
            <a:ext cx="5762880" cy="2342880"/>
          </a:xfrm>
          <a:prstGeom prst="rect">
            <a:avLst/>
          </a:prstGeom>
          <a:ln w="0">
            <a:noFill/>
          </a:ln>
        </p:spPr>
      </p:pic>
      <p:sp>
        <p:nvSpPr>
          <p:cNvPr id="138"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9"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41"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43"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5"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7"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9"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51"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53"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5"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7"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s-ES_tradnl" sz="2400" spc="-1" strike="noStrike">
                <a:solidFill>
                  <a:srgbClr val="ffff00"/>
                </a:solidFill>
                <a:latin typeface="Arial"/>
                <a:ea typeface="Arial"/>
              </a:rPr>
              <a:t>se construyen con equipos de ingenieros</a:t>
            </a:r>
            <a:r>
              <a:rPr b="0" i="1" lang="es-ES_tradnl"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a:t>
            </a:r>
            <a:r>
              <a:rPr b="0" i="1" lang="es-ES_tradnl" sz="2400" spc="-1" strike="noStrike">
                <a:solidFill>
                  <a:srgbClr val="ffff00"/>
                </a:solidFill>
                <a:latin typeface="Arial"/>
                <a:ea typeface="Arial"/>
              </a:rPr>
              <a:t>multi-persona</a:t>
            </a:r>
            <a:r>
              <a:rPr b="0" i="1" lang="es-ES_tradnl" sz="2400" spc="-1" strike="noStrike">
                <a:solidFill>
                  <a:srgbClr val="ffffff"/>
                </a:solidFill>
                <a:latin typeface="Arial"/>
                <a:ea typeface="Arial"/>
              </a:rPr>
              <a:t> de software </a:t>
            </a:r>
            <a:r>
              <a:rPr b="0" i="1" lang="es-ES_tradnl" sz="2400" spc="-1" strike="noStrike">
                <a:solidFill>
                  <a:srgbClr val="ffff00"/>
                </a:solidFill>
                <a:latin typeface="Arial"/>
                <a:ea typeface="Arial"/>
              </a:rPr>
              <a:t>multi-versiones</a:t>
            </a:r>
            <a:r>
              <a:rPr b="0" i="1" lang="es-ES_tradnl" sz="2400" spc="-1" strike="noStrike">
                <a:solidFill>
                  <a:srgbClr val="ffffff"/>
                </a:solidFill>
                <a:latin typeface="Arial"/>
                <a:ea typeface="Arial"/>
              </a:rPr>
              <a:t>”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85920" y="1261800"/>
            <a:ext cx="785808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Objetivos</a:t>
            </a:r>
            <a:r>
              <a:rPr b="0" lang="es-ES" sz="2400" spc="-1" strike="noStrike">
                <a:solidFill>
                  <a:srgbClr val="ffffff"/>
                </a:solidFill>
                <a:latin typeface="Arial"/>
                <a:ea typeface="Arial"/>
              </a:rPr>
              <a:t> clar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lanes</a:t>
            </a:r>
            <a:r>
              <a:rPr b="0" lang="es-E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Procedimientos</a:t>
            </a:r>
            <a:r>
              <a:rPr b="0" lang="es-E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Un ambiente </a:t>
            </a:r>
            <a:r>
              <a:rPr b="0" lang="es-E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D390-18BC-44F3-9634-EBB399431A7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9991-72F9-4BA8-96A0-F5BCD5EF6D9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85440" y="61920"/>
            <a:ext cx="8458200" cy="99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uestro principal enemigo…</a:t>
            </a:r>
            <a:endParaRPr b="0" lang="en-US" sz="4000" spc="-1" strike="noStrike">
              <a:solidFill>
                <a:srgbClr val="ffff00"/>
              </a:solidFill>
              <a:latin typeface="Times New Roman"/>
            </a:endParaRPr>
          </a:p>
        </p:txBody>
      </p:sp>
      <p:pic>
        <p:nvPicPr>
          <p:cNvPr id="88" name="Picture 3" descr=""/>
          <p:cNvPicPr/>
          <p:nvPr/>
        </p:nvPicPr>
        <p:blipFill>
          <a:blip r:embed="rId1"/>
          <a:stretch/>
        </p:blipFill>
        <p:spPr>
          <a:xfrm>
            <a:off x="1185840" y="1057320"/>
            <a:ext cx="7672320" cy="579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10-03-25T13:10:21Z</dcterms:modified>
  <cp:revision>209</cp:revision>
  <dc:subject/>
  <dc:title>Ingeniería de Software   </dc:title>
</cp:coreProperties>
</file>