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C786-67B4-4619-B024-098880A28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4AAB-733A-4610-86C5-981A38A823B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85FB-9479-4797-B8E4-D3FF603046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14280" y="709560"/>
            <a:ext cx="4835520" cy="3627360"/>
          </a:xfrm>
          <a:prstGeom prst="rect">
            <a:avLst/>
          </a:prstGeom>
          <a:ln w="0">
            <a:noFill/>
          </a:ln>
        </p:spPr>
      </p:sp>
      <p:sp>
        <p:nvSpPr>
          <p:cNvPr id="187"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
          <p:cNvGrpSpPr/>
          <p:nvPr/>
        </p:nvGrpSpPr>
        <p:grpSpPr>
          <a:xfrm>
            <a:off x="4160880" y="9151920"/>
            <a:ext cx="3109680" cy="447480"/>
            <a:chOff x="4160880" y="9151920"/>
            <a:chExt cx="3109680" cy="447480"/>
          </a:xfrm>
        </p:grpSpPr>
        <p:sp>
          <p:nvSpPr>
            <p:cNvPr id="190"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92"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PlaceHolder 1"/>
          <p:cNvSpPr>
            <a:spLocks noGrp="1"/>
          </p:cNvSpPr>
          <p:nvPr>
            <p:ph type="sldImg"/>
          </p:nvPr>
        </p:nvSpPr>
        <p:spPr>
          <a:xfrm>
            <a:off x="1266840" y="727200"/>
            <a:ext cx="4781520" cy="35859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83F8-C09E-45E0-BA89-033AFF477C1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BD70-D1E9-428C-A2B8-DC9420EB8F7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247B-5144-439C-B591-BEBFFB7F89E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44EF-A2AE-458D-8199-89255EFD560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17DC-3144-4970-8404-200AFF406A5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D301-9DEE-4A14-AB9C-873754EEC0F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A537-9D67-4851-AA0C-EF1B0423A34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C4BA-C5E0-4B22-9D8B-CF57F108825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BF1D-1039-43B7-9261-920735401D9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962B-324C-4EBE-9580-FDB69F40CF8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1B72-3960-4334-8104-57C35715115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6F02-E456-464F-8102-7C77ED0736A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5657-079A-4E86-9F25-4CDE06EA509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6D3D-45ED-48F2-AAE2-3F301D7A9B8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F6E0-E1AF-48C9-91D4-E1687E5E97B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2872-A261-46CD-BBDA-75088C9DA7A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23FB-9B5D-42ED-AD55-F7A683B0A5F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A6B4-AC30-4FF7-9CC3-81A366D8448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83E1-8372-4B2E-8319-7CCDD05604B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900080" y="800280"/>
            <a:ext cx="3519720" cy="2639880"/>
          </a:xfrm>
          <a:prstGeom prst="rect">
            <a:avLst/>
          </a:prstGeom>
          <a:ln w="0">
            <a:noFill/>
          </a:ln>
        </p:spPr>
      </p:sp>
      <p:sp>
        <p:nvSpPr>
          <p:cNvPr id="166"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17B7-2E55-43C7-8C3C-D57ACD51867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879C-37AE-47C8-8474-67A039C3751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E76D-19C8-4762-8090-0593E81EC5C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7EFD-E0A5-47F3-8FC3-B2D32622AA2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6488-78A2-40A9-BB8A-AC990BD293D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A0ED-0EDC-4845-9F19-8F7D22B109C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94A6-AA6F-4989-BE7F-0BE0DDB6BA8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0D2B-6934-46C2-ABF5-45E3A7D1545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E385-4D1B-4E77-AC1E-97A1F6156F2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900080" y="800280"/>
            <a:ext cx="3519720" cy="2639880"/>
          </a:xfrm>
          <a:prstGeom prst="rect">
            <a:avLst/>
          </a:prstGeom>
          <a:ln w="0">
            <a:noFill/>
          </a:ln>
        </p:spPr>
      </p:sp>
      <p:sp>
        <p:nvSpPr>
          <p:cNvPr id="169"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1370-DD71-42D1-B286-6BF9DE3613F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7E93-E99B-491B-89D7-18CD95D03AC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616A-FB5B-42E0-A835-DCBF389FB0A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63FD-48E9-4D25-8167-1A462C4BA7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5F8F-5183-4E2C-B48B-17477286D9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14280" y="709560"/>
            <a:ext cx="4835520" cy="3627360"/>
          </a:xfrm>
          <a:prstGeom prst="rect">
            <a:avLst/>
          </a:prstGeom>
          <a:ln w="0">
            <a:noFill/>
          </a:ln>
        </p:spPr>
      </p:sp>
      <p:sp>
        <p:nvSpPr>
          <p:cNvPr id="184"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0E9A8-D63A-49A0-A0AB-DF4D75A8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209CF-C049-4A7F-97D1-FB61E877E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AC459-533B-4015-BF18-D41B08ED5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42A7E-1ACD-44F7-8533-8C27851E9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E36E-06B7-430E-93C4-36ADD7C3F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E362E-6A3B-4560-8D02-139F4B7AF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EBAB1-3B2E-4E6E-ADF4-0EA42E493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AB99B-B4A3-4F98-8E10-27CAE05AF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7553B-183A-40C1-AE79-62A9E0564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C63B-CCA4-47EB-A487-89E5CD1CA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A3FCE-3EAC-4093-A450-D0CB726A2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7394-4C99-4042-BBE8-BE1330990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0BAA-B275-43D6-844B-989A9491884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6D36-29B7-4315-B77C-35F46F49A33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0" name="Picture 3" descr=""/>
          <p:cNvPicPr/>
          <p:nvPr/>
        </p:nvPicPr>
        <p:blipFill>
          <a:blip r:embed="rId1"/>
          <a:stretch/>
        </p:blipFill>
        <p:spPr>
          <a:xfrm>
            <a:off x="2071800" y="0"/>
            <a:ext cx="6200640" cy="686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89964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1: Competencia de Diseño</a:t>
            </a:r>
            <a:endParaRPr b="0" lang="en-US" sz="4400" spc="-1" strike="noStrike">
              <a:solidFill>
                <a:srgbClr val="ffff00"/>
              </a:solidFill>
              <a:latin typeface="Times New Roman"/>
            </a:endParaRPr>
          </a:p>
        </p:txBody>
      </p:sp>
      <p:sp>
        <p:nvSpPr>
          <p:cNvPr id="93"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5"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8" name="Picture 2" descr=""/>
          <p:cNvPicPr/>
          <p:nvPr/>
        </p:nvPicPr>
        <p:blipFill>
          <a:blip r:embed="rId1"/>
          <a:stretch/>
        </p:blipFill>
        <p:spPr>
          <a:xfrm>
            <a:off x="7086600" y="5143680"/>
            <a:ext cx="2057400" cy="1714320"/>
          </a:xfrm>
          <a:prstGeom prst="rect">
            <a:avLst/>
          </a:prstGeom>
          <a:ln w="0">
            <a:noFill/>
          </a:ln>
        </p:spPr>
      </p:pic>
      <p:pic>
        <p:nvPicPr>
          <p:cNvPr id="99" name="Picture 3" descr=""/>
          <p:cNvPicPr/>
          <p:nvPr/>
        </p:nvPicPr>
        <p:blipFill>
          <a:blip r:embed="rId2"/>
          <a:stretch/>
        </p:blipFill>
        <p:spPr>
          <a:xfrm>
            <a:off x="0" y="5429160"/>
            <a:ext cx="1744560" cy="1428840"/>
          </a:xfrm>
          <a:prstGeom prst="rect">
            <a:avLst/>
          </a:prstGeom>
          <a:ln w="0">
            <a:noFill/>
          </a:ln>
        </p:spPr>
      </p:pic>
      <p:pic>
        <p:nvPicPr>
          <p:cNvPr id="100"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2"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contradictorios</a:t>
            </a:r>
            <a:r>
              <a:rPr b="0" lang="es-E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4"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6"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8"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0"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Kernell de Linux tiene más de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3-4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2"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14"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6"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Desarrollar Software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8"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20"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3 Marcador de contenido" descr=""/>
          <p:cNvPicPr/>
          <p:nvPr/>
        </p:nvPicPr>
        <p:blipFill>
          <a:blip r:embed="rId1"/>
          <a:stretch/>
        </p:blipFill>
        <p:spPr>
          <a:xfrm>
            <a:off x="2000160" y="2571840"/>
            <a:ext cx="3876840" cy="1628640"/>
          </a:xfrm>
          <a:prstGeom prst="rect">
            <a:avLst/>
          </a:prstGeom>
          <a:ln w="0">
            <a:noFill/>
          </a:ln>
        </p:spPr>
      </p:pic>
      <p:sp>
        <p:nvSpPr>
          <p:cNvPr id="122"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7A2F-DF5F-4E2D-A7C4-DE8E37A29978}"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24"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5" name="6 Tabla" descr=""/>
          <p:cNvPicPr/>
          <p:nvPr/>
        </p:nvPicPr>
        <p:blipFill>
          <a:blip r:embed="rId2"/>
          <a:stretch/>
        </p:blipFill>
        <p:spPr>
          <a:xfrm>
            <a:off x="2000160" y="4211640"/>
            <a:ext cx="3876840" cy="542880"/>
          </a:xfrm>
          <a:prstGeom prst="rect">
            <a:avLst/>
          </a:prstGeom>
          <a:ln w="0">
            <a:noFill/>
          </a:ln>
        </p:spPr>
      </p:pic>
      <p:sp>
        <p:nvSpPr>
          <p:cNvPr id="126"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8"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0"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32"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6"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026" descr=""/>
          <p:cNvPicPr/>
          <p:nvPr/>
        </p:nvPicPr>
        <p:blipFill>
          <a:blip r:embed="rId1"/>
          <a:stretch/>
        </p:blipFill>
        <p:spPr>
          <a:xfrm>
            <a:off x="1857240" y="2400480"/>
            <a:ext cx="5762880" cy="2342880"/>
          </a:xfrm>
          <a:prstGeom prst="rect">
            <a:avLst/>
          </a:prstGeom>
          <a:ln w="0">
            <a:noFill/>
          </a:ln>
        </p:spPr>
      </p:pic>
      <p:sp>
        <p:nvSpPr>
          <p:cNvPr id="138"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9"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41"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43"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5"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7"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9"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51"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53"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5"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7"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s-ES_tradnl" sz="2400" spc="-1" strike="noStrike">
                <a:solidFill>
                  <a:srgbClr val="ffff00"/>
                </a:solidFill>
                <a:latin typeface="Arial"/>
                <a:ea typeface="Arial"/>
              </a:rPr>
              <a:t>se construyen con equipos de ingenieros</a:t>
            </a:r>
            <a:r>
              <a:rPr b="0" i="1" lang="es-ES_tradnl"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a:t>
            </a:r>
            <a:r>
              <a:rPr b="0" i="1" lang="es-ES_tradnl" sz="2400" spc="-1" strike="noStrike">
                <a:solidFill>
                  <a:srgbClr val="ffff00"/>
                </a:solidFill>
                <a:latin typeface="Arial"/>
                <a:ea typeface="Arial"/>
              </a:rPr>
              <a:t>multi-persona</a:t>
            </a:r>
            <a:r>
              <a:rPr b="0" i="1" lang="es-ES_tradnl" sz="2400" spc="-1" strike="noStrike">
                <a:solidFill>
                  <a:srgbClr val="ffffff"/>
                </a:solidFill>
                <a:latin typeface="Arial"/>
                <a:ea typeface="Arial"/>
              </a:rPr>
              <a:t> de software </a:t>
            </a:r>
            <a:r>
              <a:rPr b="0" i="1" lang="es-ES_tradnl" sz="2400" spc="-1" strike="noStrike">
                <a:solidFill>
                  <a:srgbClr val="ffff00"/>
                </a:solidFill>
                <a:latin typeface="Arial"/>
                <a:ea typeface="Arial"/>
              </a:rPr>
              <a:t>multi-versiones</a:t>
            </a:r>
            <a:r>
              <a:rPr b="0" i="1" lang="es-ES_tradnl" sz="2400" spc="-1" strike="noStrike">
                <a:solidFill>
                  <a:srgbClr val="ffffff"/>
                </a:solidFill>
                <a:latin typeface="Arial"/>
                <a:ea typeface="Arial"/>
              </a:rPr>
              <a:t>”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85920" y="1261800"/>
            <a:ext cx="785808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Objetivos</a:t>
            </a:r>
            <a:r>
              <a:rPr b="0" lang="es-ES" sz="2400" spc="-1" strike="noStrike">
                <a:solidFill>
                  <a:srgbClr val="ffffff"/>
                </a:solidFill>
                <a:latin typeface="Arial"/>
                <a:ea typeface="Arial"/>
              </a:rPr>
              <a:t> clar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lanes</a:t>
            </a:r>
            <a:r>
              <a:rPr b="0" lang="es-E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Un ambiente </a:t>
            </a:r>
            <a:r>
              <a:rPr b="0" lang="es-E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052D-7AAA-43F0-B0EF-0DC8A4B5B8A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5F80-E179-404C-8EFD-BC34F90673F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7" name="PlaceHolder 1"/>
          <p:cNvSpPr>
            <a:spLocks noGrp="1"/>
          </p:cNvSpPr>
          <p:nvPr>
            <p:ph type="title"/>
          </p:nvPr>
        </p:nvSpPr>
        <p:spPr>
          <a:xfrm>
            <a:off x="685440" y="61920"/>
            <a:ext cx="84582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Nuestro principal enemigo…</a:t>
            </a:r>
            <a:endParaRPr b="0" lang="en-US" sz="4000" spc="-1" strike="noStrike">
              <a:solidFill>
                <a:srgbClr val="ffff00"/>
              </a:solidFill>
              <a:latin typeface="Times New Roman"/>
            </a:endParaRPr>
          </a:p>
        </p:txBody>
      </p:sp>
      <p:pic>
        <p:nvPicPr>
          <p:cNvPr id="88" name="Picture 3" descr=""/>
          <p:cNvPicPr/>
          <p:nvPr/>
        </p:nvPicPr>
        <p:blipFill>
          <a:blip r:embed="rId1"/>
          <a:stretch/>
        </p:blipFill>
        <p:spPr>
          <a:xfrm>
            <a:off x="1185840" y="1057320"/>
            <a:ext cx="7672320" cy="579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10-03-25T13:10:21Z</dcterms:modified>
  <cp:revision>209</cp:revision>
  <dc:subject/>
  <dc:title>Ingeniería de Software   </dc:title>
</cp:coreProperties>
</file>