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630-B8C4-4F43-BF81-27BFF617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07D-E9D0-4297-A421-D97F8631E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43F-2E37-447C-A767-133BD1556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E639-00FE-47F6-9B03-C21D4C1247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FB5-F00F-4B04-B710-A7E6A65F8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700-C3B0-48CC-8A63-0F29E9D30E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F63A-0182-4544-AE77-5B7A43035A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7E3-AC46-494B-9C63-DBE067538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151-3DD7-4265-82CC-9DC4F5CE0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649-D858-482E-B0BA-B8AF131C5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723D-89EF-4109-ADB7-CD621AFC5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0A97-7831-4200-963F-B5C75665A2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F6C-1B4C-4A89-8F6D-E291871A2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D1D4-F009-4956-BA1C-DC7522B31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376-8020-48CA-86DF-DDC4A67B7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1C5-BC5A-4A2A-B516-70FB07ED63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0F7-ECC6-4028-A803-9FAD55B34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81BA-A87D-4B88-AA5A-41CFE931F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1FA-2F5B-4D1D-A1A3-87D9AD547A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C6CE-AC19-4CCF-A5F3-A503D63428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D023-2F0C-42E4-BFD2-E70157699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91EB-36EF-4566-9010-D36DF8002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0D60-6CF0-42B3-BB50-FAE3503D5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278D-8537-4BF0-A393-91E78D3146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8EF-E3AD-4C85-BEB0-B23B7FBB9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C3A-F056-45F3-B543-D1A2C540F4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CC1-EB67-4861-BA45-15A33090E3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BC7-B5CB-449D-ABF6-2257EEBA5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9A6-C22E-4117-96CE-C250E4C66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0AE5-C715-452A-B159-EAC7F6314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8215-B5D1-40FC-B541-6DB70BD686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0B0-A386-4A8D-A52C-E8FB88AD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B6B-D897-4216-BD8A-0ECB216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3DA-B0C7-4C77-AB31-D004969F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0C4-0BA1-44B3-B659-A4C2B883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FE3-EC2E-4995-BC87-0AC2568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AE0-2743-4FA6-B7C5-71C317E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B37-8485-4264-A1C7-4148DB7F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897-378A-439F-A787-684E61E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6D5-C089-4AD8-BD53-297F6B9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BD4-439E-4A89-B0BA-937C0EE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723-1071-4F19-918E-2B34701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D5C-D6AA-4EE0-9785-E64F5767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D8AF-E95C-4C8F-A748-C5E8874EA7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hyperlink" Target="mailto:sochoa@dcc.uchile.cl" TargetMode="External"/><Relationship Id="rId3" Type="http://schemas.openxmlformats.org/officeDocument/2006/relationships/hyperlink" Target="mailto:aneyem@dcc.uchile.cl" TargetMode="External"/><Relationship Id="rId4" Type="http://schemas.openxmlformats.org/officeDocument/2006/relationships/hyperlink" Target="mailto:mmarques@dcc.uchile.c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ss.co.at/ECOSIM/ESA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CC51A -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2896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exandre Bergel - 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se 1 - Versión 9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1): Adm.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07136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principal responsable proyecto (Decision-maker). Entre sus responsabilidades está: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Delimitar el Alcance del Sistema (con los analistas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Planificar/replanificar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 y Administrar el Proyecto. Incluyendo el plan de pruebas e implantación junto con el implementado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Coordinar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 el trabajo de los distintos miembros del equip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Interactuar con e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Velar por el cumplimiento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de los objetivos, plazos y costos comprometid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ste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es uno de los roles más crític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dentro de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ualquier proyecto de desarrollo de softwar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0" y="2286000"/>
            <a:ext cx="1751040" cy="3219480"/>
          </a:xfrm>
          <a:prstGeom prst="rect">
            <a:avLst/>
          </a:prstGeom>
          <a:ln w="0">
            <a:noFill/>
          </a:ln>
        </p:spPr>
      </p:pic>
      <p:sp>
        <p:nvSpPr>
          <p:cNvPr id="68" name="5 Rectángulo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organizado, proactivo y tener buenas capacidades de comunicación y coord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2): Anal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relevar y especificar los requisitos del sistema a desarrollar. Entre sus tareas está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r y entrevistar a clientes y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imitar el alcance del sistema (con el AdP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mbiguar los requis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el documento de requisitos que incluye los requisitos de  software y de usuario, dentro de los plazos comprometi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oyar al Téster en la especificación de las pruebas de sistema y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diseño cumpla con los requisitos (junto con el tést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producto final cumpla con los requisitos (junto con el tést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0828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72" name="5 Rectángulo"/>
          <p:cNvSpPr/>
          <p:nvPr/>
        </p:nvSpPr>
        <p:spPr>
          <a:xfrm>
            <a:off x="0" y="5688000"/>
            <a:ext cx="2714760" cy="11610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trabajar rápido y a conci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detallis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3): Diseñad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604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generar el diseño del front-end y back-end del sistema. Entre sus funciones est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el diseño arquitectónico y diseño  detallado del sistema (DD-Documento de Diseño), basándose en los requisitos. El diseñ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b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er implemen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prototipos rápidos del sistema (con analistas e implementadores) para chequear los requisitos entregados por el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idar los prototipos con clientes y usuarios pertin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producto final se ajuste al diseño realizado (funciones de tést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324000" y="2820960"/>
            <a:ext cx="1890720" cy="2336760"/>
          </a:xfrm>
          <a:prstGeom prst="rect">
            <a:avLst/>
          </a:prstGeom>
          <a:ln w="0">
            <a:noFill/>
          </a:ln>
        </p:spPr>
      </p:pic>
      <p:sp>
        <p:nvSpPr>
          <p:cNvPr id="76" name="5 Rectángulo"/>
          <p:cNvSpPr/>
          <p:nvPr/>
        </p:nvSpPr>
        <p:spPr>
          <a:xfrm>
            <a:off x="0" y="6149880"/>
            <a:ext cx="2428920" cy="7038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creativo, pero realis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4): Implementad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125360"/>
            <a:ext cx="8572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implementar el sistema. Entre sus funciones está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r los prototipos rápidos para      chequear los requisit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r los diseños del sistema, especificados por los diseñadores (en el D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alizar la primera batería de pruebas y ajustar el sistema en base a los result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ar (junto al AdP) y llevar a cabo el plan de impla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0" y="2214720"/>
            <a:ext cx="2071800" cy="3097080"/>
          </a:xfrm>
          <a:prstGeom prst="rect">
            <a:avLst/>
          </a:prstGeom>
          <a:ln w="0">
            <a:noFill/>
          </a:ln>
        </p:spPr>
      </p:pic>
      <p:sp>
        <p:nvSpPr>
          <p:cNvPr id="80" name="5 Rectángulo"/>
          <p:cNvSpPr/>
          <p:nvPr/>
        </p:nvSpPr>
        <p:spPr>
          <a:xfrm>
            <a:off x="0" y="6149880"/>
            <a:ext cx="9144000" cy="7038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proactivo, inteligente (no trabajar de más), y…. no debe dejar las cosas para último mo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5): Té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5840" y="1052640"/>
            <a:ext cx="8858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asegurar la calidad de cada uno de los productos (documentos, prototipos, etc). Entre sus tareas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ordinar las revisiones de los productos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los informes post-revi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alizar un seguimiento de las falencias identific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ar al AdP acepta de riesgos identific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adhesión al estándar adop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completitud, y exactitud (no        ambigüedades) de los docu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calidad del producto final (cumplimiento de los requisi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ficar las pruebas a realizar (con analist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752560"/>
            <a:ext cx="1971720" cy="267660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0" y="6149880"/>
            <a:ext cx="9144000" cy="85608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muy detallista y constructivo …. Ojalá nunca tenga nada que dec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o de los roles que más contribuye al éxito del proyecto (junto al AdP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l Desafío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3600" y="595152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rabajar en equip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solver el problema asig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333520" y="1700280"/>
            <a:ext cx="59166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l Desafío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595152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que el cliente quede felí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2556000" y="1539720"/>
            <a:ext cx="423072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1720" y="3000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Proceso de Calificación – Requisitos de Aprobac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quisitos de Aprob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0200" y="1009440"/>
            <a:ext cx="78501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romedio de notas de los controles, el ejercicio distribuido y la nota del examen debe ser mayor o igual a 4.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32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romedio de notas del proyecto debe ser mayor o igual a 4.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176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NF = 0.6 * PNP + 0.4 * PN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Nota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N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Promedio de Notas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N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Promedio de Notas de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odrán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eximirse del examen aquellos que tengan 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5.5 o más en cada control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En ese caso, la nota del examen será el promedio de los control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l examen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reemplaz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a la peor nota de control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"/>
              </a:rPr>
              <a:t>60 % - Proyecto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1746360"/>
          <a:ext cx="7704000" cy="4370400"/>
        </p:xfrm>
        <a:graphic>
          <a:graphicData uri="http://schemas.openxmlformats.org/drawingml/2006/table">
            <a:tbl>
              <a:tblPr/>
              <a:tblGrid>
                <a:gridCol w="1846080"/>
                <a:gridCol w="1022400"/>
                <a:gridCol w="1087560"/>
                <a:gridCol w="1295280"/>
                <a:gridCol w="1362240"/>
                <a:gridCol w="109044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les / Pha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a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señ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le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é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ración I – 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ración I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teración II – 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teración II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3 CuadroTexto"/>
          <p:cNvSpPr/>
          <p:nvPr/>
        </p:nvSpPr>
        <p:spPr>
          <a:xfrm>
            <a:off x="1226880" y="644832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C: Equipo de Cáted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5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ponsable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7960" y="1238040"/>
            <a:ext cx="65930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Profesores a Cargo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lexandre Bergel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abergel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95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0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Sergio F. Ochoa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sochoa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87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06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Auxiliar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lcides Quispe  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aquispe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63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2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Ayudante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Maíra Márques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mmarques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"/>
              </a:rPr>
              <a:t>60 % - Proyecto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n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quipo de Cátedra (EC) es individual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úa al producto y al miembro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cliente es grup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E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basa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alidad del trabajo realizado en relación con el rol asignado a cada alumn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resultado de la co-evalu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client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side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romiso mostrado con 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ac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ncionamiento como equipo (comunicac./coor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lidad / funcionalidad del producto obtenid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40 % -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rresponde a la nota del Exam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Control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Control 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Ejercicio de Diseño Distribuido de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nota del examen puede reemplazar a la peor nota de control (siempre que ésta sea superi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gla de Evaluación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287000"/>
            <a:ext cx="7561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0" algn="just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00"/>
                </a:solidFill>
                <a:latin typeface="Arial"/>
                <a:ea typeface="Times New Roman"/>
              </a:rPr>
              <a:t>NOTA:</a:t>
            </a:r>
            <a:r>
              <a:rPr b="0" lang="es-ES" sz="2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1-  Si más del 50 % de los miembros del equipo de trabajo está de acuerdo con expulsar a uno de sus integrantes, puede hacerlo. Para ello deberá contar con el consentimiento de los profeso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2- Si el alumno es expulsado, la responsabilidad del acto será asumida por los profesor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3- El expulsado tendrá un 1 como nota final del proyecto, y reprobará el cur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gla de Evaluación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359000"/>
            <a:ext cx="78850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OTA: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-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l administrador de cada proyecto puede recomendar a los profesores, la expulsión justificada de un miembro del equipo de trabajo, sin necesidad de que la mayoría de los miembros del equipo estén de acuer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2- Si el alumno es expulsado, la responsabilidad del acto será asumida por los profeso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3- El expulsado tendrá un 1 como nota final del proyecto, y reprobará el cur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Hint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24080" y="1428480"/>
            <a:ext cx="7534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oles so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in apunt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… Se puede us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un torpedo de 1 ho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miembro del equipo evalúa el trabajo de sus partn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incremento se impla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be usar un CVS por gru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be usar ReqAdmin para administrar los requisitos 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(No negociable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inspecciones se llevarán a cabo en base a la información que esté en ReqAd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67000" y="1357200"/>
            <a:ext cx="7534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grupo tiene que tener un cliente y un supervisor perteneciente al equipo de cáted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horarios de las inspecciones son estrictos... Dar cumplimiento a los horarios asignados será responsabilidad de cada gru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213920"/>
            <a:ext cx="78120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  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iensa, y luego actúa 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Preguntar es un síntoma de interés e intelig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Pregunta a tiemp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... no dejes las cosas para el final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Trata a los demás como deseas que te trate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Discute los problemas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 tus compañeros..... pero debes ser hones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  Si el AdP no da soluciones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puedes recurrir al profes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Ven a clases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 los controles se preguntan cosas que dicen en clases y que no necesariamente están en las transparenci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4920" y="1214280"/>
            <a:ext cx="745488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  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ntiende que cada uno de nosotros piensa y actúa en forma diferente…. Pero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todos debemos respetar aquello que acordem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-    Bienvenida la diversidad !!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tiende que el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éxit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 tu proyecto sólo puede ser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construido en equip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.. Por lo tanto, sé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generos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con tus conocimientos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sponsable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con tu trabajo, y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constructivo) con el trabajo de los demá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epta la ayuda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 las sugerencias de tus compañeros, ellos están tratando de mejorar el producto final (y la nota de todo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12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comunicación y coordin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tre los miembros del equipo de trabajo, y entre estos y el cliente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es la piedra angu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para el éxito de cualquier proyect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Júntense en forma periódica (1 vez a la semana, 10-15 minutos), con el client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verificar el avance del proyecto y obtener feedback de lo que han hecho..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antes de una entrega, revisen lo que van a entregar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hacer dos revisiones: una interna al grupo, y otra con el cl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as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sorpres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 un proyecto de software, el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90% de las veces son desagradable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… por lo tanto evítenl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van a ten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oblemas de comunicación y coordin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por lo tanto adelánte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van a ten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oblemas de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por ejemplo gente enferma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n el cliente), por lo tanto adelánten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os plazos nunca son suficient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por lo tanto adelánten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a obra gruesa se realiza muy rápida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Ajustar los detalles lleva más de la mitad del proyec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 recomendable usar la ley del mínim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fuerzo, por lo tanto no tiren horas-hombre a la basura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428480"/>
            <a:ext cx="781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finición de Obje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enidos del Cur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todología de Desarrollo del Cur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oles de los Alum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s de Aprob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al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uía de Superviv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ulación de Proyec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8200" y="1242720"/>
            <a:ext cx="7491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alumnos pueden postular proyecto para los próximos semest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proyectos tienen que beneficiar al DCC, a la Facultad/Univ., a los alumnos o a alguna entidad sin fines de luc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quire un cliente con al menos 1 hora semanal de disponi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clientes pueden ser cualquiera, menos los alumnos de la carrera que no hayan pasado por cc51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entregar a los profesores una breve descripción del proyecto (1/2 o 1 págin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Tarea para el Viernes 13/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7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están inscritos en el curso y no lo van a tomar, por favor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avísenn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no están inscritos y quieren tomar el curso, por favor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avísenn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van a tomar el curso deben dejar e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oficina de Sandra Gáez un currículum impre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3 hojas máx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atos Personales (incluir: teléfonos, emails y fo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desarrollo de softwa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diseño gráf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administración de proyectos de softwa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 Roles que le interesaría desarrollar (1 rol preferido, y 1 rol secundari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 viernes hay auxiliar, y es importante que vayan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488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aterial Docente en U-Cur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ESA Software Engineering Standards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 PSS-05-0 Issue 2. ESA Board for Software Standardization and Control (BSSC) - European Space Agency. (1991).  URL: </a:t>
            </a:r>
            <a:r>
              <a:rPr b="0" lang="es-E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ess.co.at/ECOSIM/ESA.txt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  - Ian Somerville. 8º Ed. (2007) o 9° Ed. (2010)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earson Educatio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  - Roger S. Pressman. 7º Ed. (2007). McGraw Hi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Objetivos de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8580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alizar trabajo de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genier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olver un problem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 a través de un producto de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arrollar un produ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rabajando en equip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empeñar un ro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ntro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idi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 el cliente y con los miembros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mplant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a solución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u 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 del Curso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1196640"/>
            <a:ext cx="77058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troducción a la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ficación de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Sistema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rega e Implantación del Produ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uenas Prácticas en la Escritura de Códi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740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áted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es Teóricas (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B205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- Mar-Jue. 10:15-11:45h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es Auxiliares (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B***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Viernes14:30 a 16:00h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lum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lección y Ejecución de un 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cución de un Proyecto en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781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1º- A cada alumno se le asigna un rol, de acuerdo a su Currículum y a sus preferencias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Los roles posibles son: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Administrador de Proyect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Analist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Diseñado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ado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Téste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2º- Los alumnos son divididos en equipos de trabajo de 5 o 6 person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3º- A cada equipo se le asignará un proyecto, que deberá desarrollar durante el semestr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357200"/>
            <a:ext cx="7812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4º- Cada equipo ejecutará el proyecto según las pautas dadas por la cátedra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5º- Habrá dos tipos de proyectos: 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implantación y extensión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, y 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desarrollo e implantación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6º- La asignación de proyectos a equipos de trabajo la hacen los profesores y el auxilia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7º- 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Al finalizar cada etapa del proyecto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(incremento), cada equipo de trabajo, deberá entregar una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versión implantad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del sistema, ajustándose a los requisitos especificados por el clien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720" y="30002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Role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09T22:56:02Z</dcterms:modified>
  <cp:revision>182</cp:revision>
  <dc:subject/>
  <dc:title>Ingeniería de Software   </dc:title>
</cp:coreProperties>
</file>