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2B07-C7EA-46B7-A2A4-39BF888FC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657B-D6E5-4467-BC68-99D1F532FA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28A9-B835-4D1B-B2A6-7F974115C6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38F0-5B35-48D7-A7A9-93297477FD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F6E0-9EC5-46F1-A01A-DAD7895804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B721-2D67-41F4-B9A9-DBE5392675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DB14-83DF-446E-9DCD-ED2442B2E0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F477-15E8-4D66-BCA3-E950AFC7EF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2FFD-0004-408B-86C0-1890D52B73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A69E-DCCD-4469-9FCF-E974FC1E2A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9EAF-24C8-45D5-99FA-D79CE645E7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21EC-AA19-4D90-BE59-0BEBC9ABA7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2B4D-38A4-4731-9E73-B8DE28036F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0B97-8B02-4ABE-82BE-772F54B051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B3AF-77CF-4A95-BFB9-75B050C097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0333-CFF5-4252-8FA2-956E5A6DEE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B40C-3AB3-40BF-8C86-FA581C7460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D9D4-647E-40D5-96E0-82B9F2C329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1DFC-E0D5-4CC3-8ECC-0DFDDD1643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35B6-F906-480C-9B70-CDB4ACB1B2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F8CB-B557-425C-B9C4-2E35C6BD72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4317-0082-41E8-86C3-B28DBB460D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7BEF-3810-42BE-8184-72C6A9B276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F449-21B1-4F33-BC98-663C730EC4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D778-B5DB-4370-8E48-B02543386C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17B8-FFC4-46FD-B2E0-07B499F9F6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4B1C-E0DF-49AB-A436-151F36FB57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3BF7-D1E8-4846-8C38-F558FD681A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A623-A513-4AF5-8C6A-60445A4381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63D5-18C8-4916-B387-576695EB01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C629-FBBA-4B76-AF67-841D157FC1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078F-0AA6-4831-A204-918D6B899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B7F9-320F-4E97-BB47-AC64DFAD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F9D5-79A9-4A6C-81A3-935C64CC8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9F41-1A30-4E7A-8495-C768E94FB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1E38-31FB-4190-B9D0-BE54AC49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6F91-B4B3-45E7-B808-F34DBE22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61C6-27DD-47ED-91F3-8D27528C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CCB1-94CB-48A8-A9FD-2A490ADB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4C1F-EA6C-4244-814D-0814A78E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75A0-F8CE-4779-A934-24DD2C9D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3365-A87D-42EC-9E7B-0489D5A3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505B-D4E5-4DA4-B961-38A4F1D2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E9B6-87C1-4B94-940F-88A61A37A6D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sochoa@dcc.uchile.cl" TargetMode="External"/><Relationship Id="rId2" Type="http://schemas.openxmlformats.org/officeDocument/2006/relationships/hyperlink" Target="mailto:sochoa@dcc.uchile.cl" TargetMode="External"/><Relationship Id="rId3" Type="http://schemas.openxmlformats.org/officeDocument/2006/relationships/hyperlink" Target="mailto:aneyem@dcc.uchile.cl" TargetMode="External"/><Relationship Id="rId4" Type="http://schemas.openxmlformats.org/officeDocument/2006/relationships/hyperlink" Target="mailto:mmarques@dcc.uchile.cl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ess.co.at/ECOSIM/ESA.tx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Arial"/>
              </a:rPr>
              <a:t>CC51A - Ingeniería de Softwa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028960" y="450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lexandre Bergel - Sergio Ocho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lase 1 - Versión 9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Roles (1): Adm. del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071360"/>
            <a:ext cx="84978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24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Es el principal responsable proyecto (Decision-maker). Entre sus responsabilidades está: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2779560" indent="-630000" algn="just">
              <a:lnSpc>
                <a:spcPct val="80000"/>
              </a:lnSpc>
              <a:spcBef>
                <a:spcPts val="476"/>
              </a:spcBef>
              <a:spcAft>
                <a:spcPts val="950"/>
              </a:spcAft>
              <a:buClr>
                <a:srgbClr val="ff0000"/>
              </a:buClr>
              <a:buFont typeface="Arial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Arial"/>
                <a:ea typeface="Times New Roman"/>
              </a:rPr>
              <a:t>Delimitar el Alcance del Sistema (con los analistas)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2779560" indent="-630000" algn="just">
              <a:lnSpc>
                <a:spcPct val="80000"/>
              </a:lnSpc>
              <a:spcBef>
                <a:spcPts val="476"/>
              </a:spcBef>
              <a:spcAft>
                <a:spcPts val="950"/>
              </a:spcAft>
              <a:buClr>
                <a:srgbClr val="ff0000"/>
              </a:buClr>
              <a:buFont typeface="Arial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00"/>
                </a:solidFill>
                <a:latin typeface="Arial"/>
                <a:ea typeface="Times New Roman"/>
              </a:rPr>
              <a:t>Planificar/replanificar</a:t>
            </a:r>
            <a:r>
              <a:rPr b="0" lang="es-ES" sz="1900" spc="-1" strike="noStrike">
                <a:solidFill>
                  <a:srgbClr val="ffffff"/>
                </a:solidFill>
                <a:latin typeface="Arial"/>
                <a:ea typeface="Times New Roman"/>
              </a:rPr>
              <a:t> y Administrar el Proyecto. Incluyendo el plan de pruebas e implantación junto con el implementador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2779560" indent="-630000" algn="just">
              <a:lnSpc>
                <a:spcPct val="80000"/>
              </a:lnSpc>
              <a:spcBef>
                <a:spcPts val="476"/>
              </a:spcBef>
              <a:spcAft>
                <a:spcPts val="950"/>
              </a:spcAft>
              <a:buClr>
                <a:srgbClr val="ff0000"/>
              </a:buClr>
              <a:buFont typeface="Arial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00"/>
                </a:solidFill>
                <a:latin typeface="Arial"/>
                <a:ea typeface="Times New Roman"/>
              </a:rPr>
              <a:t>Coordinar</a:t>
            </a:r>
            <a:r>
              <a:rPr b="0" lang="es-ES" sz="1900" spc="-1" strike="noStrike">
                <a:solidFill>
                  <a:srgbClr val="ffffff"/>
                </a:solidFill>
                <a:latin typeface="Arial"/>
                <a:ea typeface="Times New Roman"/>
              </a:rPr>
              <a:t> el trabajo de los distintos miembros del equipo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2779560" indent="-630000" algn="just">
              <a:lnSpc>
                <a:spcPct val="80000"/>
              </a:lnSpc>
              <a:spcBef>
                <a:spcPts val="476"/>
              </a:spcBef>
              <a:spcAft>
                <a:spcPts val="950"/>
              </a:spcAft>
              <a:buClr>
                <a:srgbClr val="ff0000"/>
              </a:buClr>
              <a:buFont typeface="Arial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Arial"/>
                <a:ea typeface="Times New Roman"/>
              </a:rPr>
              <a:t>Interactuar con el Cliente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2779560" indent="-630000" algn="just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ff0000"/>
              </a:buClr>
              <a:buFont typeface="Arial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00"/>
                </a:solidFill>
                <a:latin typeface="Arial"/>
                <a:ea typeface="Times New Roman"/>
              </a:rPr>
              <a:t>Velar por el cumplimiento </a:t>
            </a:r>
            <a:r>
              <a:rPr b="0" lang="es-ES" sz="1900" spc="-1" strike="noStrike">
                <a:solidFill>
                  <a:srgbClr val="ffffff"/>
                </a:solidFill>
                <a:latin typeface="Arial"/>
                <a:ea typeface="Times New Roman"/>
              </a:rPr>
              <a:t>de los objetivos, plazos y costos comprometidos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524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Este </a:t>
            </a:r>
            <a:r>
              <a:rPr b="0" lang="es-ES" sz="2100" spc="-1" strike="noStrike">
                <a:solidFill>
                  <a:srgbClr val="ffff00"/>
                </a:solidFill>
                <a:latin typeface="Arial"/>
                <a:ea typeface="Times New Roman"/>
              </a:rPr>
              <a:t>es uno de los roles más críticos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dentro de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cualquier proyecto de desarrollo de software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0" y="2286000"/>
            <a:ext cx="1751040" cy="3219480"/>
          </a:xfrm>
          <a:prstGeom prst="rect">
            <a:avLst/>
          </a:prstGeom>
          <a:ln w="0">
            <a:noFill/>
          </a:ln>
        </p:spPr>
      </p:pic>
      <p:sp>
        <p:nvSpPr>
          <p:cNvPr id="68" name="5 Rectángulo"/>
          <p:cNvSpPr/>
          <p:nvPr/>
        </p:nvSpPr>
        <p:spPr>
          <a:xfrm>
            <a:off x="0" y="6273720"/>
            <a:ext cx="9144000" cy="581400"/>
          </a:xfrm>
          <a:prstGeom prst="rect">
            <a:avLst/>
          </a:prstGeom>
          <a:solidFill>
            <a:srgbClr val="ffe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be ser organizado, proactivo y tener buenas capacidades de comunicación y coordin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Roles (2): Analis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532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100"/>
              </a:spcBef>
              <a:spcAft>
                <a:spcPts val="9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Es el encargado de relevar y especificar los requisitos del sistema a desarrollar. Entre sus tareas está: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698920" indent="-457200" algn="just">
              <a:lnSpc>
                <a:spcPct val="90000"/>
              </a:lnSpc>
              <a:spcBef>
                <a:spcPts val="1001"/>
              </a:spcBef>
              <a:spcAft>
                <a:spcPts val="876"/>
              </a:spcAft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dentificar y entrevistar a clientes y usuari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698920" indent="-457200" algn="just">
              <a:lnSpc>
                <a:spcPct val="90000"/>
              </a:lnSpc>
              <a:spcBef>
                <a:spcPts val="1001"/>
              </a:spcBef>
              <a:spcAft>
                <a:spcPts val="876"/>
              </a:spcAft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limitar el alcance del sistema (con el AdP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698920" indent="-457200" algn="just">
              <a:lnSpc>
                <a:spcPct val="90000"/>
              </a:lnSpc>
              <a:spcBef>
                <a:spcPts val="1001"/>
              </a:spcBef>
              <a:spcAft>
                <a:spcPts val="876"/>
              </a:spcAft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sambiguar los requisi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698920" indent="-457200" algn="just">
              <a:lnSpc>
                <a:spcPct val="90000"/>
              </a:lnSpc>
              <a:spcBef>
                <a:spcPts val="1001"/>
              </a:spcBef>
              <a:spcAft>
                <a:spcPts val="876"/>
              </a:spcAft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Generar el documento de requisitos que incluye los requisitos de  software y de usuario, dentro de los plazos comprometido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698920" indent="-457200" algn="just">
              <a:lnSpc>
                <a:spcPct val="90000"/>
              </a:lnSpc>
              <a:spcBef>
                <a:spcPts val="1001"/>
              </a:spcBef>
              <a:spcAft>
                <a:spcPts val="876"/>
              </a:spcAft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poyar al Téster en la especificación de las pruebas de sistema y de usuar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698920" indent="-457200" algn="just">
              <a:lnSpc>
                <a:spcPct val="90000"/>
              </a:lnSpc>
              <a:spcBef>
                <a:spcPts val="1001"/>
              </a:spcBef>
              <a:spcAft>
                <a:spcPts val="876"/>
              </a:spcAft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Velar porque el diseño cumpla con los requisitos (junto con el téster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698920" indent="-457200" algn="just">
              <a:lnSpc>
                <a:spcPct val="90000"/>
              </a:lnSpc>
              <a:spcBef>
                <a:spcPts val="1001"/>
              </a:spcBef>
              <a:spcAft>
                <a:spcPts val="876"/>
              </a:spcAft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Velar porque el producto final cumpla con los requisitos (junto con el téster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0" y="2708280"/>
            <a:ext cx="2500200" cy="1857240"/>
          </a:xfrm>
          <a:prstGeom prst="rect">
            <a:avLst/>
          </a:prstGeom>
          <a:ln w="0">
            <a:noFill/>
          </a:ln>
        </p:spPr>
      </p:pic>
      <p:sp>
        <p:nvSpPr>
          <p:cNvPr id="72" name="5 Rectángulo"/>
          <p:cNvSpPr/>
          <p:nvPr/>
        </p:nvSpPr>
        <p:spPr>
          <a:xfrm>
            <a:off x="0" y="5688000"/>
            <a:ext cx="2714760" cy="1161000"/>
          </a:xfrm>
          <a:prstGeom prst="rect">
            <a:avLst/>
          </a:prstGeom>
          <a:solidFill>
            <a:srgbClr val="ffe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be trabajar rápido y a concienc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be ser detallis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Roles (3): Diseñado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280" y="1052640"/>
            <a:ext cx="86043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10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s el encargado de generar el diseño del front-end y back-end del sistema. Entre sus funciones está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508120" indent="-533160" algn="just">
              <a:lnSpc>
                <a:spcPct val="80000"/>
              </a:lnSpc>
              <a:spcBef>
                <a:spcPts val="901"/>
              </a:spcBef>
              <a:spcAft>
                <a:spcPts val="1500"/>
              </a:spcAft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enerar el diseño arquitectónico y diseño  detallado del sistema (DD-Documento de Diseño), basándose en los requisitos. El diseño </a:t>
            </a:r>
            <a:r>
              <a:rPr b="0" i="1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deb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ser implemen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508120" indent="-533160" algn="just">
              <a:lnSpc>
                <a:spcPct val="80000"/>
              </a:lnSpc>
              <a:spcBef>
                <a:spcPts val="901"/>
              </a:spcBef>
              <a:spcAft>
                <a:spcPts val="1500"/>
              </a:spcAft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enerar prototipos rápidos del sistema (con analistas e implementadores) para chequear los requisitos entregados por el cli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508120" indent="-533160" algn="just">
              <a:lnSpc>
                <a:spcPct val="80000"/>
              </a:lnSpc>
              <a:spcBef>
                <a:spcPts val="901"/>
              </a:spcBef>
              <a:spcAft>
                <a:spcPts val="1500"/>
              </a:spcAft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alidar los prototipos con clientes y usuarios pertinen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508120" indent="-533160" algn="just">
              <a:lnSpc>
                <a:spcPct val="80000"/>
              </a:lnSpc>
              <a:spcBef>
                <a:spcPts val="901"/>
              </a:spcBef>
              <a:spcAft>
                <a:spcPts val="1500"/>
              </a:spcAft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elar porque el producto final se ajuste al diseño realizado (funciones de téste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1"/>
          <a:stretch/>
        </p:blipFill>
        <p:spPr>
          <a:xfrm>
            <a:off x="324000" y="2820960"/>
            <a:ext cx="1890720" cy="2336760"/>
          </a:xfrm>
          <a:prstGeom prst="rect">
            <a:avLst/>
          </a:prstGeom>
          <a:ln w="0">
            <a:noFill/>
          </a:ln>
        </p:spPr>
      </p:pic>
      <p:sp>
        <p:nvSpPr>
          <p:cNvPr id="76" name="5 Rectángulo"/>
          <p:cNvSpPr/>
          <p:nvPr/>
        </p:nvSpPr>
        <p:spPr>
          <a:xfrm>
            <a:off x="0" y="6149880"/>
            <a:ext cx="2428920" cy="703800"/>
          </a:xfrm>
          <a:prstGeom prst="rect">
            <a:avLst/>
          </a:prstGeom>
          <a:solidFill>
            <a:srgbClr val="ffe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be ser creativo, pero realis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Roles (4): Implementado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71680" y="1125360"/>
            <a:ext cx="85723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876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s el encargado de implementar el sistema. Entre sus funciones está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24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2149560" indent="-358920" algn="just">
              <a:lnSpc>
                <a:spcPct val="90000"/>
              </a:lnSpc>
              <a:spcBef>
                <a:spcPts val="751"/>
              </a:spcBef>
              <a:spcAft>
                <a:spcPts val="1199"/>
              </a:spcAft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mplementar los prototipos rápidos para      chequear los requisit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149560" indent="-358920" algn="just">
              <a:lnSpc>
                <a:spcPct val="90000"/>
              </a:lnSpc>
              <a:spcBef>
                <a:spcPts val="751"/>
              </a:spcBef>
              <a:spcAft>
                <a:spcPts val="1199"/>
              </a:spcAft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mplementar los diseños del sistema, especificados por los diseñadores (en el DD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149560" indent="-358920" algn="just">
              <a:lnSpc>
                <a:spcPct val="90000"/>
              </a:lnSpc>
              <a:spcBef>
                <a:spcPts val="751"/>
              </a:spcBef>
              <a:spcAft>
                <a:spcPts val="1199"/>
              </a:spcAft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alizar la primera batería de pruebas y ajustar el sistema en base a los resulta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149560" indent="-358920" algn="just">
              <a:lnSpc>
                <a:spcPct val="90000"/>
              </a:lnSpc>
              <a:spcBef>
                <a:spcPts val="751"/>
              </a:spcBef>
              <a:spcAft>
                <a:spcPts val="1199"/>
              </a:spcAft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iseñar (junto al AdP) y llevar a cabo el plan de implant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0" y="2214720"/>
            <a:ext cx="2071800" cy="3097080"/>
          </a:xfrm>
          <a:prstGeom prst="rect">
            <a:avLst/>
          </a:prstGeom>
          <a:ln w="0">
            <a:noFill/>
          </a:ln>
        </p:spPr>
      </p:pic>
      <p:sp>
        <p:nvSpPr>
          <p:cNvPr id="80" name="5 Rectángulo"/>
          <p:cNvSpPr/>
          <p:nvPr/>
        </p:nvSpPr>
        <p:spPr>
          <a:xfrm>
            <a:off x="0" y="6149880"/>
            <a:ext cx="9144000" cy="703800"/>
          </a:xfrm>
          <a:prstGeom prst="rect">
            <a:avLst/>
          </a:prstGeom>
          <a:solidFill>
            <a:srgbClr val="ffe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be ser proactivo, inteligente (no trabajar de más), y…. no debe dejar las cosas para último momen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Roles (5): Tés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85840" y="1052640"/>
            <a:ext cx="88581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el encargado de asegurar la calidad de cada uno de los productos (documentos, prototipos, etc). Entre sus tareas está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224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2236680" indent="-444240" algn="just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ordinar las revisiones de los productos del proyec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236680" indent="-444240" algn="just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Generar los informes post-revis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236680" indent="-444240" algn="just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alizar un seguimiento de las falencias identificad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236680" indent="-444240" algn="just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formar al AdP acepta de riesgos identifica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236680" indent="-444240" algn="just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Velar por la adhesión al estándar adop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236680" indent="-444240" algn="just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Velar por la completitud, y exactitud (no        ambigüedades) de los documen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236680" indent="-444240" algn="just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Velar por la calidad del producto final (cumplimiento de los requisito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236680" indent="-444240" algn="just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pecificar las pruebas a realizar (con analista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0" y="2752560"/>
            <a:ext cx="1971720" cy="2676600"/>
          </a:xfrm>
          <a:prstGeom prst="rect">
            <a:avLst/>
          </a:prstGeom>
          <a:ln w="0">
            <a:noFill/>
          </a:ln>
        </p:spPr>
      </p:pic>
      <p:sp>
        <p:nvSpPr>
          <p:cNvPr id="84" name="5 Rectángulo"/>
          <p:cNvSpPr/>
          <p:nvPr/>
        </p:nvSpPr>
        <p:spPr>
          <a:xfrm>
            <a:off x="0" y="6149880"/>
            <a:ext cx="9144000" cy="856080"/>
          </a:xfrm>
          <a:prstGeom prst="rect">
            <a:avLst/>
          </a:prstGeom>
          <a:solidFill>
            <a:srgbClr val="ffe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be ser muy detallista y constructivo …. Ojalá nunca tenga nada que deci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 uno de los roles que más contribuye al éxito del proyecto (junto al AdP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… </a:t>
            </a: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El Desafío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63600" y="595152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Trabajar en equipo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resolver el problema asign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2333520" y="1700280"/>
            <a:ext cx="5916600" cy="39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… </a:t>
            </a: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El Desafío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595152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…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y que el cliente quede felíz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2556000" y="1539720"/>
            <a:ext cx="4230720" cy="42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71720" y="3000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Proceso de Calificación – Requisitos de Aprobación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Requisitos de Aprob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30200" y="1009440"/>
            <a:ext cx="7850160" cy="57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6960" indent="-336960">
              <a:lnSpc>
                <a:spcPct val="80000"/>
              </a:lnSpc>
              <a:spcBef>
                <a:spcPts val="624"/>
              </a:spcBef>
              <a:spcAft>
                <a:spcPts val="462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Promedio de notas de los controles, el ejercicio distribuido y la nota del examen debe ser mayor o igual a 4.0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36960" indent="0">
              <a:lnSpc>
                <a:spcPct val="80000"/>
              </a:lnSpc>
              <a:spcBef>
                <a:spcPts val="326"/>
              </a:spcBef>
              <a:spcAft>
                <a:spcPts val="2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36960" indent="-336960">
              <a:lnSpc>
                <a:spcPct val="80000"/>
              </a:lnSpc>
              <a:spcBef>
                <a:spcPts val="624"/>
              </a:spcBef>
              <a:spcAft>
                <a:spcPts val="462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Promedio de notas del proyecto debe ser mayor o igual a 4.0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36960" indent="0">
              <a:lnSpc>
                <a:spcPct val="80000"/>
              </a:lnSpc>
              <a:spcBef>
                <a:spcPts val="176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36960" indent="0">
              <a:lnSpc>
                <a:spcPct val="80000"/>
              </a:lnSpc>
              <a:spcBef>
                <a:spcPts val="624"/>
              </a:spcBef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</a:t>
            </a:r>
            <a:r>
              <a:rPr b="1" lang="es-ES" sz="2500" spc="-1" strike="noStrike">
                <a:solidFill>
                  <a:srgbClr val="ffff00"/>
                </a:solidFill>
                <a:latin typeface="Arial"/>
                <a:ea typeface="Times New Roman"/>
              </a:rPr>
              <a:t>NF = 0.6 * PNP + 0.4 * PNC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36960" indent="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960" indent="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NF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= Nota Fi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960" indent="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NP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= Promedio de Notas del Proyec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960" indent="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NC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= Promedio de Notas de Contro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960" indent="0">
              <a:lnSpc>
                <a:spcPct val="80000"/>
              </a:lnSpc>
              <a:spcBef>
                <a:spcPts val="624"/>
              </a:spcBef>
              <a:spcAft>
                <a:spcPts val="46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36960" indent="-336960">
              <a:lnSpc>
                <a:spcPct val="80000"/>
              </a:lnSpc>
              <a:spcBef>
                <a:spcPts val="624"/>
              </a:spcBef>
              <a:spcAft>
                <a:spcPts val="462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Podrán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eximirse del examen aquellos que tengan </a:t>
            </a:r>
            <a:r>
              <a:rPr b="0" lang="es-ES" sz="2500" spc="-1" strike="noStrike">
                <a:solidFill>
                  <a:srgbClr val="ffff00"/>
                </a:solidFill>
                <a:latin typeface="Arial"/>
                <a:ea typeface="Times New Roman"/>
              </a:rPr>
              <a:t>5.5 o más en cada control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. En ese caso, la nota del examen será el promedio de los controles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36960" indent="-336960">
              <a:lnSpc>
                <a:spcPct val="80000"/>
              </a:lnSpc>
              <a:spcBef>
                <a:spcPts val="624"/>
              </a:spcBef>
              <a:spcAft>
                <a:spcPts val="462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El examen </a:t>
            </a:r>
            <a:r>
              <a:rPr b="0" i="1" lang="es-ES" sz="2500" spc="-1" strike="noStrike">
                <a:solidFill>
                  <a:srgbClr val="ffff00"/>
                </a:solidFill>
                <a:latin typeface="Arial"/>
                <a:ea typeface="Times New Roman"/>
              </a:rPr>
              <a:t>reemplaza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a la peor nota de control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Arial"/>
              </a:rPr>
              <a:t>60 % - Proyecto: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332000" y="1746360"/>
          <a:ext cx="7704000" cy="4370400"/>
        </p:xfrm>
        <a:graphic>
          <a:graphicData uri="http://schemas.openxmlformats.org/drawingml/2006/table">
            <a:tbl>
              <a:tblPr/>
              <a:tblGrid>
                <a:gridCol w="1846080"/>
                <a:gridCol w="1022400"/>
                <a:gridCol w="1087560"/>
                <a:gridCol w="1295280"/>
                <a:gridCol w="1362240"/>
                <a:gridCol w="1090440"/>
              </a:tblGrid>
              <a:tr h="65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oles / Phas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d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nali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señ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mplem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és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eración I – E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eración I –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teración II – E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teración II –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li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lant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3 CuadroTexto"/>
          <p:cNvSpPr/>
          <p:nvPr/>
        </p:nvSpPr>
        <p:spPr>
          <a:xfrm>
            <a:off x="1226880" y="6448320"/>
            <a:ext cx="22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  <a:ea typeface="Arial"/>
              </a:rPr>
              <a:t>EC: Equipo de Cáted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5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Responsables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07960" y="1238040"/>
            <a:ext cx="659304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00"/>
                </a:solidFill>
                <a:latin typeface="Arial"/>
              </a:rPr>
              <a:t>Profesores a Cargo: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Alexandre Bergel </a:t>
            </a:r>
            <a:r>
              <a:rPr b="0" lang="es-ES" sz="21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abergel@dcc.uchile.c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Tel: 978-4956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Oficina 409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Sergio F. Ochoa </a:t>
            </a:r>
            <a:r>
              <a:rPr b="0" lang="es-ES" sz="21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sochoa@dcc.uchile.c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Tel: 978-4879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Oficina 406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00"/>
                </a:solidFill>
                <a:latin typeface="Arial"/>
              </a:rPr>
              <a:t>Auxiliar: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Alcides Quispe   </a:t>
            </a:r>
            <a:r>
              <a:rPr b="0" lang="es-ES" sz="21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aquispe@dcc.uchile.c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Tel: 978-4633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Oficina 423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00"/>
                </a:solidFill>
                <a:latin typeface="Arial"/>
              </a:rPr>
              <a:t>Ayudante: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Maíra Márques </a:t>
            </a:r>
            <a:r>
              <a:rPr b="0" lang="es-ES" sz="21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mmarques@dcc.uchile.c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Arial"/>
              </a:rPr>
              <a:t>60 % - Proyecto: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32000" y="1197000"/>
            <a:ext cx="7812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just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not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que pone el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quipo de Cátedra (EC) es individual…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úa al producto y al miembro del equip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1440" indent="-271440" algn="just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nota del cliente es grupal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1440" indent="-271440" algn="just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nota del EC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se basa e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240" indent="-285840" algn="just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calidad del trabajo realizado en relación con el rol asignado a cada alumno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240" indent="-285840" algn="just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resultado de la co-evaluación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1440" indent="-271440" algn="just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nota del client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consider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240" indent="-285840" algn="just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promiso mostrado con el proyec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240" indent="-285840" algn="just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activid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240" indent="-285840" algn="just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uncionamiento como equipo (comunicac./coord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240" indent="-285840" algn="just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lidad / funcionalidad del producto obtenido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40 % - Contro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02920" y="1341360"/>
            <a:ext cx="7489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100000"/>
              </a:lnSpc>
              <a:spcBef>
                <a:spcPts val="14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-10 %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corresponde a la nota del Exame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14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-10 %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rresponde a la nota del Control 1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14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-10 %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rresponde a la nota del Control 2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14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-10 %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rresponde a la nota del Ejercicio de Diseño Distribuido de Softwa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14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14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 nota del examen puede reemplazar a la peor nota de control (siempre que ésta sea superio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14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Regla de Evaluación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31640" y="1287000"/>
            <a:ext cx="756108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0" algn="just">
              <a:lnSpc>
                <a:spcPct val="90000"/>
              </a:lnSpc>
              <a:spcBef>
                <a:spcPts val="18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00"/>
                </a:solidFill>
                <a:latin typeface="Arial"/>
                <a:ea typeface="Times New Roman"/>
              </a:rPr>
              <a:t>NOTA:</a:t>
            </a:r>
            <a:r>
              <a:rPr b="0" lang="es-ES" sz="29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517680" indent="0" algn="just">
              <a:lnSpc>
                <a:spcPct val="90000"/>
              </a:lnSpc>
              <a:spcBef>
                <a:spcPts val="1624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1-  Si más del 50 % de los miembros del equipo de trabajo está de acuerdo con expulsar a uno de sus integrantes, puede hacerlo. Para ello deberá contar con el consentimiento de los profesores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17680" indent="0" algn="just">
              <a:lnSpc>
                <a:spcPct val="90000"/>
              </a:lnSpc>
              <a:spcBef>
                <a:spcPts val="1624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2- Si el alumno es expulsado, la responsabilidad del acto será asumida por los profesor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17680" indent="0" algn="just">
              <a:lnSpc>
                <a:spcPct val="90000"/>
              </a:lnSpc>
              <a:spcBef>
                <a:spcPts val="1624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3- El expulsado tendrá un 1 como nota final del proyecto, y reprobará el curs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Regla de Evaluación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58560" y="1359000"/>
            <a:ext cx="788508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7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NOTA: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1624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-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El administrador de cada proyecto puede recomendar a los profesores, la expulsión justificada de un miembro del equipo de trabajo, sin necesidad de que la mayoría de los miembros del equipo estén de acuerd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1624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2- Si el alumno es expulsado, la responsabilidad del acto será asumida por los profesores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1624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3- El expulsado tendrá un 1 como nota final del proyecto, y reprobará el curs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Hints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24080" y="1428480"/>
            <a:ext cx="7534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2880" indent="-3650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troles son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in apunt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… Se puede usar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un torpedo de 1 hoj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3650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da miembro del equipo evalúa el trabajo de sus partn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3650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da incremento se implan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3650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e debe usar un CVS por grup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3650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e debe usar ReqAdmin para administrar los requisitos </a:t>
            </a:r>
            <a:r>
              <a:rPr b="0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(No negociable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2880" indent="-3650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s inspecciones se llevarán a cabo en base a la información que esté en ReqAdm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Hi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67000" y="1357200"/>
            <a:ext cx="753408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da grupo tiene que tener un cliente y un supervisor perteneciente al equipo de cáted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horarios de las inspecciones son estrictos... Dar cumplimiento a los horarios asignados será responsabilidad de cada grup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Guía de Supervivencia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32000" y="1213920"/>
            <a:ext cx="781200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176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  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Piensa, y luego actúa ....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-   Preguntar es un síntoma de interés e inteligenci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-   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Pregunta a tiempo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.... no dejes las cosas para el final..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-   Trata a los demás como deseas que te traten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-   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Discute los problemas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con tus compañeros..... pero debes ser honest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-   Si el AdP no da soluciones,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siempre puedes recurrir al profesor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Ven a clases.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En los controles se preguntan cosas que dicen en clases y que no necesariamente están en las transparencias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Guía de Supervivencia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74920" y="1214280"/>
            <a:ext cx="745488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1760" indent="0">
              <a:lnSpc>
                <a:spcPct val="90000"/>
              </a:lnSpc>
              <a:spcBef>
                <a:spcPts val="119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  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Entiende que cada uno de nosotros piensa y actúa en forma diferente…. Pero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todos debemos respetar aquello que acordem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0">
              <a:lnSpc>
                <a:spcPct val="90000"/>
              </a:lnSpc>
              <a:spcBef>
                <a:spcPts val="119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-    Bienvenida la diversidad !!!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90000"/>
              </a:lnSpc>
              <a:spcBef>
                <a:spcPts val="119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ntiende que el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éxito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de tu proyecto sólo puede ser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construido en equipo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90000"/>
              </a:lnSpc>
              <a:spcBef>
                <a:spcPts val="119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... Por lo tanto, sé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generoso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con tus conocimientos,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responsable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con tu trabajo, y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crítico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(constructivo) con el trabajo de los demá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90000"/>
              </a:lnSpc>
              <a:spcBef>
                <a:spcPts val="119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Acepta la ayuda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o las sugerencias de tus compañeros, ellos están tratando de mejorar el producto final (y la nota de todos)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0">
              <a:lnSpc>
                <a:spcPct val="90000"/>
              </a:lnSpc>
              <a:spcBef>
                <a:spcPts val="1199"/>
              </a:spcBef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Guía de Supervivencia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85920" y="1214280"/>
            <a:ext cx="78120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La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 comunicación y coordinación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entre los miembros del equipo de trabajo, y entre estos y el cliente,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es la piedra angular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para el éxito de cualquier proyecto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Júntense en forma periódica (1 vez a la semana, 30 minutos), los miembros del equipo de trabajo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... Hay un abismo de diferencia entre la comunicación/coordinación cara a cara versus vía email o inclusive teléfon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Júntense en forma periódica (1 vez a la semana, 10-15 minutos), con el cliente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para verificar el avance del proyecto y obtener feedback de lo que han hecho..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SIEMPRE antes de una entrega, revisen lo que van a entregar.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hacer dos revisiones: una interna al grupo, y otra con el client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Las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 sorpresas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en un proyecto de software, el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90% de las veces son desagradables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… por lo tanto evítenla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Guía de Supervivencia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85920" y="1214280"/>
            <a:ext cx="7858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suman que van a tener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problemas de comunicación y coordinació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por lo tanto adelántese a esos riesgos y generen planes de contingenc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suman que van a tener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problemas de intern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por ejemplo gente enferma)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y extern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con el cliente), por lo tanto adelántense a esos riesgos y generen planes de contingenc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suman que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los plazos nunca son suficient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por lo tanto adelántense a esos riesgos y generen planes de contingenc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La obra gruesa se realiza muy rápidament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 Ajustar los detalles lleva más de la mitad del proyect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Es recomendable usar la ley del mínimo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fuerzo, por lo tanto no tiren horas-hombre a la basura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32000" y="1428480"/>
            <a:ext cx="7812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43164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finición de Objetiv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43164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ntenidos del Curs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43164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etodología de Desarrollo del Curs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43164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oles de los Alumn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43164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quisitos de Aprob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43164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valu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43164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Guía de Supervivenc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923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ostulación de Proyect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8200" y="1242720"/>
            <a:ext cx="7491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 alumnos pueden postular proyecto para los próximos semest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 proyectos tienen que beneficiar al DCC, a la Facultad/Univ., a los alumnos o a alguna entidad sin fines de luc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quire un cliente con al menos 1 hora semanal de disponibil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 clientes pueden ser cualquiera, menos los alumnos de la carrera que no hayan pasado por cc51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be entregar a los profesores una breve descripción del proyecto (1/2 o 1 págin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Tarea para el Viernes 13/8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57200" y="1071360"/>
            <a:ext cx="77868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que están inscritos en el curso y no lo van a tomar, por favor 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avísenn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que no están inscritos y quieren tomar el curso, por favor 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avísenn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que van a tomar el curso deben dejar en la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oficina de Sandra Gáez un currículum impres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3 hojas máx.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360" indent="-1764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atos Personales (incluir: teléfonos, emails y foto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360" indent="-1764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xperiencia en desarrollo de softwar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360" indent="-1764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xperiencia en diseño gráfic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360" indent="-1764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xperiencia en administración de proyectos de softwar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360" indent="-1764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2 Roles que le interesaría desarrollar (1 rol preferido, y 1 rol secundario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El viernes hay auxiliar, y es importante que vayan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Bibliografí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32000" y="1628640"/>
            <a:ext cx="7488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Material Docente en U-Curs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i="1" lang="es-ES" sz="2200" spc="-1" strike="noStrike">
                <a:solidFill>
                  <a:srgbClr val="ffffff"/>
                </a:solidFill>
                <a:latin typeface="Arial"/>
                <a:ea typeface="Arial"/>
              </a:rPr>
              <a:t>ESA Software Engineering Standards”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Arial"/>
              </a:rPr>
              <a:t>. PSS-05-0 Issue 2. ESA Board for Software Standardization and Control (BSSC) - European Space Agency. (1991).  URL: </a:t>
            </a:r>
            <a:r>
              <a:rPr b="0" lang="es-ES" sz="22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"/>
              </a:rPr>
              <a:t>www.ess.co.at/ECOSIM/ESA.txt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i="1" lang="es-ES" sz="22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”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Arial"/>
              </a:rPr>
              <a:t>  - Ian Somerville. 8º Ed. (2007) o 9° Ed. (2010).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Pearson Education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i="1" lang="es-ES" sz="22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- A  Practitioner’s Approach”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Arial"/>
              </a:rPr>
              <a:t>  - Roger S. Pressman. 7º Ed. (2007). McGraw Hill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Objetivos de Curs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267920"/>
            <a:ext cx="785808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alizar trabajo de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ingeniero: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Resolver un problema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al a través de un producto de softwa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sarrollar un producto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trabajando en equip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Desempeñar un rol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ntro del equip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idiar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con el cliente y con los miembros del equip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Implantar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la solución y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valuar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su impac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ontenidos del Curso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58560" y="1196640"/>
            <a:ext cx="7705800" cy="56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92080" indent="-6094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ntroducción a la 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92080" indent="-6094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pecificación de Requisit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92080" indent="-6094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iseño de Sistemas de Softwa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92080" indent="-6094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ntrega e Implantación del Produc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92080" indent="-6094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est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92080" indent="-6094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Buenas Prácticas en la Escritura de Códig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Metodología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03280" y="1557360"/>
            <a:ext cx="7740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átedr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lases Teóricas (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B205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- Mar-Jue. 10:15-11:45h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lases Auxiliares (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B***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- Viernes14:30 a 16:00h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Alumn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lección y Ejecución de un R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jecución de un Proyecto en Equip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Metodología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32000" y="1125360"/>
            <a:ext cx="7812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1º- A cada alumno se le asigna un rol, de acuerdo a su Currículum y a sus preferencias.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Los roles posibles son: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00"/>
                </a:solidFill>
                <a:latin typeface="Arial"/>
                <a:ea typeface="Times New Roman"/>
              </a:rPr>
              <a:t>Administrador de Proyectos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00"/>
                </a:solidFill>
                <a:latin typeface="Arial"/>
                <a:ea typeface="Times New Roman"/>
              </a:rPr>
              <a:t>Analista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00"/>
                </a:solidFill>
                <a:latin typeface="Arial"/>
                <a:ea typeface="Times New Roman"/>
              </a:rPr>
              <a:t>Diseñador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00"/>
                </a:solidFill>
                <a:latin typeface="Arial"/>
                <a:ea typeface="Times New Roman"/>
              </a:rPr>
              <a:t>Implementador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00"/>
                </a:solidFill>
                <a:latin typeface="Arial"/>
                <a:ea typeface="Times New Roman"/>
              </a:rPr>
              <a:t>Téster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2º- Los alumnos son divididos en equipos de trabajo de 5 o 6 personas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3º- A cada equipo se le asignará un proyecto, que deberá desarrollar durante el semestre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Metodología (3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357200"/>
            <a:ext cx="7812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4º- Cada equipo ejecutará el proyecto según las pautas dadas por la cátedra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5º- Habrá dos tipos de proyectos: </a:t>
            </a:r>
            <a:r>
              <a:rPr b="0" i="1" lang="es-E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de </a:t>
            </a:r>
            <a:r>
              <a:rPr b="0" i="1" lang="es-ES" sz="2500" spc="-1" strike="noStrike">
                <a:solidFill>
                  <a:srgbClr val="ffff00"/>
                </a:solidFill>
                <a:latin typeface="Arial"/>
                <a:ea typeface="Times New Roman"/>
              </a:rPr>
              <a:t>implantación y extensión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, y </a:t>
            </a:r>
            <a:r>
              <a:rPr b="0" i="1" lang="es-E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de </a:t>
            </a:r>
            <a:r>
              <a:rPr b="0" i="1" lang="es-ES" sz="2500" spc="-1" strike="noStrike">
                <a:solidFill>
                  <a:srgbClr val="ffff00"/>
                </a:solidFill>
                <a:latin typeface="Arial"/>
                <a:ea typeface="Times New Roman"/>
              </a:rPr>
              <a:t>desarrollo e implantación</a:t>
            </a:r>
            <a:r>
              <a:rPr b="0" i="1" lang="es-E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6º- La asignación de proyectos a equipos de trabajo la hacen los profesores y el auxiliar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7º- </a:t>
            </a:r>
            <a:r>
              <a:rPr b="0" lang="es-ES" sz="2500" spc="-1" strike="noStrike">
                <a:solidFill>
                  <a:srgbClr val="ffff00"/>
                </a:solidFill>
                <a:latin typeface="Arial"/>
                <a:ea typeface="Times New Roman"/>
              </a:rPr>
              <a:t>Al finalizar cada etapa del proyecto 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(incremento), cada equipo de trabajo, deberá entregar una </a:t>
            </a:r>
            <a:r>
              <a:rPr b="0" i="1" lang="es-ES" sz="2500" spc="-1" strike="noStrike">
                <a:solidFill>
                  <a:srgbClr val="ffff00"/>
                </a:solidFill>
                <a:latin typeface="Arial"/>
                <a:ea typeface="Times New Roman"/>
              </a:rPr>
              <a:t>versión implantada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del sistema, ajustándose a los requisitos especificados por el cliente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1720" y="30002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Roles…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13:26:24Z</dcterms:created>
  <dc:creator>Sergio Ochoa</dc:creator>
  <dc:description/>
  <dc:language>en-US</dc:language>
  <cp:lastModifiedBy>Sergio</cp:lastModifiedBy>
  <dcterms:modified xsi:type="dcterms:W3CDTF">2010-08-09T22:56:02Z</dcterms:modified>
  <cp:revision>182</cp:revision>
  <dc:subject/>
  <dc:title>Ingeniería de Software   </dc:title>
</cp:coreProperties>
</file>