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2B1B6-934D-4EBB-9017-6B4B7E077805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79E0F-B49F-4581-A089-F78DD544084B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6A7E8-FDD2-471D-9807-0600A07191E6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136EC-98BE-436D-B548-2B80A84BC68C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BAC83-99F9-4792-BAFB-E9AD7C696C8B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0B740-39B5-47D4-8BB4-E5EA466C2084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F64F1-4616-4E85-8EC0-BDA4340212FC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8C26A-2B6E-4590-9A83-2E10EE7AC113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2E7E8-AAEF-48F9-B4AA-68968C0C9B50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77210-D9F9-4422-87CF-8C288005CAB7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6FE3D-AE3F-426B-98E3-CD3F8B984B2B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99E1B-1982-45D0-9C01-34A2193873BE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32A4C-7AC9-4EC4-B21F-48FC828E4D6F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EB2CF-E413-4F64-A16B-2E33068E0DBE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B4730-DCFA-495B-9DDE-C877529177FF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297E7-7C19-41E1-8E42-67091FA5C37C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D834B-A779-411A-B2C8-449F57006E25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427DE-9482-4FB8-9FBE-EBE092D13C86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BD18B-FFD4-48CA-8A57-9EB7B45A3185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99EC9-2C82-4300-B75E-880F684E7307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2C2-D100-431D-85E6-D862F72F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BD07-7905-4D86-9C31-73F71C11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10F-7751-4FCC-A00E-CB415434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1CB-AEC6-4238-BB5C-86EAC093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A633-DEA0-4261-B430-230F1971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6804-C51C-4B86-BA41-813D7E27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DDD4-EC0D-4550-8772-BA166893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E3C0-BC8F-4932-8CD6-FAA29CF1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F0AE-B93D-4734-8EBF-708FAF9D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8F72-EBE5-4EA2-A7D8-3ACF9068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801D-323D-4D0D-9265-C9A386D9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099-97A2-4EC4-826D-6AC09257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F0E5-8DE0-4F8C-9CF8-606D8B15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9696-F83E-4084-9694-35C57A90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F0DC-C2F1-401B-ABB9-A0583EE5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F5AC-9F84-4EF4-AF7B-E6B03251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7A94-B17B-4AC0-BE17-222940F5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362ED-4AC7-4626-ADDB-B72AB279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3915D-62E7-4C01-8BC3-34D59C4F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9A82F-0453-47BC-9FFA-57ACE42A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37ABC-1B3B-48C4-A7E4-4B7A9491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73AF1-6A8F-4297-A727-7DE20A13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EF8-BFA9-4705-BB24-94E483AA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35496-907A-4C68-96B8-9979BC00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C174C-3079-4563-AC8F-59E8CA90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2AFFC-9A7A-44EB-A577-E2AD905D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8B3EE-2F83-4A0F-B21D-7747CEDB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723B7-14CA-4AE1-B822-81BECCED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A8437-FBBC-4543-9261-2E030B59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75ECC-F181-4960-BF26-B1AF0310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2C90D-E1B8-4536-92A8-213D47CF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22B24-847E-4CB0-90C1-F1BE816B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2C668-3715-43CE-B67B-829AEB11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88F1-771D-4033-8934-2C836F20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97C3D-E451-46F6-B99E-5457DA94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635B1-27F6-43CF-A339-96FD769B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58751-BB9F-436B-87F1-9EA36928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14592-57E4-475F-8772-9E33E756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64FA1-7D1A-4350-BD65-55FAD3F7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AF6B8-4DB6-40A7-8C4E-CEDB9A90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92080-F7F1-4F39-8FFB-C90C1BB8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6A429-C0B4-44D2-A01C-98081E0D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3A967-2A47-4E91-BEEE-78C45524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64807-3324-476D-AA8D-C1A8823A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289-E2F3-486E-B1F0-BC6B9FBC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F21E5-80B8-4133-B54C-DB72ABAF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54B38-26D2-4EC3-8D1F-165504B3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B15CF-EC7A-45D7-A6A8-9D63928E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32C4B-93B6-4534-98DA-C2F611DA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381E6-8D9A-4C16-B99C-DF232794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9BC42-EB9F-477D-BB25-CC3497D1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22F0B-8159-466D-8EEC-6D68AA4E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B4C99-AB65-45AC-BE5C-F5F55A26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11C59-331D-4412-B3BE-5DA659D4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11F97-9EC1-4522-BDE0-B007FD42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A65-8292-4B3B-A9A4-4C6925EA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85143-298D-4804-9856-8786F692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27BE9-472D-4829-B1FC-0036307C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116BB-9691-4382-AB6B-04355723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DB68A-F63F-430A-955A-A14B4EDA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EECEC-4723-4142-B774-6A635250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A1E21-CE0C-4618-962B-29FEBE4A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2453D-598E-473D-BB82-B4AEA4D7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BDA22-4EB6-4A38-AA8F-26ABEF28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E64ED-FBFF-48FE-AA5C-D5B8E8C5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DBA4D-F837-4ABD-B41C-11496B5A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5437-FE41-4DBD-843E-E65EB404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41343-7AE3-4A22-9530-B1316715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72BD9-D56F-4277-9AD0-0CAB45A7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90D33-C63A-4343-A05B-DCDEE813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F6B05-BC87-4AD4-BD82-F4070121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315DB-CE81-490C-A8F8-4C486897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C52B6-C8DE-4008-959E-B6082688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9ADA6-7256-47CA-BBBA-65B7DABF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D5B82-CEC2-49D8-8E1A-8AD0F942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F7A8F-D036-4210-8D6C-AAF23F62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10A05-52B7-44FB-895A-645E8C75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162-12B2-461E-98C5-506E18D6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6A7FC-3881-492C-A199-070A9732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D2A2E-2D19-41BC-A46B-610A7010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90D5B-C341-4117-88BB-CA35FA2E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9C8C3-5B33-4964-9A81-F701EB2E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4E892-6E86-4622-AD67-F713718B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CF6-9E4F-4CEC-BD24-77E50355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0CF6-8759-45C5-A8A9-581AEDAB9A37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C2E7-5DA2-4834-8A67-6260D949FF2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6788-9B06-47B4-AB93-5327DA893D3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C2ED-BE59-4F0A-8F9C-F9829243E3EE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BCDD-3F28-48E9-8491-8F9F3ED84062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3FF6-33FB-4EA1-8F08-9B3D2F23DBDC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9B4A-B2BA-47A2-B9FC-EF74EA1B3F9B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433440" y="2109960"/>
            <a:ext cx="8034120" cy="1468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56760" y="1714680"/>
            <a:ext cx="8572680" cy="4991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Conjunto de actividades que llevan a la definición y especificación de requisito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studio de factibilidad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nálisis de requisito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obtener los requisitos observando el sistema actual, discutiendo con usuarios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desarrollo de modelos y prototipos del sistema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definición de requisito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traducción del producto del análisis a un documento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documento orientado a múltiples lectores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descripción detallada del sistema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base del contrato entre cliente y desarrolladores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en paralelo con el diseño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B49E-0660-4780-87BD-FE84D039B83B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Line 20"/>
          <p:cNvSpPr/>
          <p:nvPr/>
        </p:nvSpPr>
        <p:spPr>
          <a:xfrm>
            <a:off x="571500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8"/>
          <p:cNvSpPr/>
          <p:nvPr/>
        </p:nvSpPr>
        <p:spPr>
          <a:xfrm>
            <a:off x="3505320" y="2666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sp>
        <p:nvSpPr>
          <p:cNvPr id="360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C036-1386-438C-BB4D-5E68DED743B0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AutoShape 3"/>
          <p:cNvGrpSpPr/>
          <p:nvPr/>
        </p:nvGrpSpPr>
        <p:grpSpPr>
          <a:xfrm>
            <a:off x="712800" y="1920960"/>
            <a:ext cx="2085840" cy="1176120"/>
            <a:chOff x="712800" y="1920960"/>
            <a:chExt cx="2085840" cy="1176120"/>
          </a:xfrm>
        </p:grpSpPr>
        <p:pic>
          <p:nvPicPr>
            <p:cNvPr id="362" name="AutoShape 3" descr=""/>
            <p:cNvPicPr/>
            <p:nvPr/>
          </p:nvPicPr>
          <p:blipFill>
            <a:blip r:embed="rId2"/>
            <a:stretch/>
          </p:blipFill>
          <p:spPr>
            <a:xfrm>
              <a:off x="712800" y="1920960"/>
              <a:ext cx="20858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98480" y="2008080"/>
              <a:ext cx="160020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Estudi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Factibi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AutoShape 4"/>
          <p:cNvGrpSpPr/>
          <p:nvPr/>
        </p:nvGrpSpPr>
        <p:grpSpPr>
          <a:xfrm>
            <a:off x="2773440" y="1920960"/>
            <a:ext cx="2090520" cy="1176120"/>
            <a:chOff x="2773440" y="1920960"/>
            <a:chExt cx="2090520" cy="1176120"/>
          </a:xfrm>
        </p:grpSpPr>
        <p:pic>
          <p:nvPicPr>
            <p:cNvPr id="365" name="AutoShape 4" descr=""/>
            <p:cNvPicPr/>
            <p:nvPr/>
          </p:nvPicPr>
          <p:blipFill>
            <a:blip r:embed="rId3"/>
            <a:stretch/>
          </p:blipFill>
          <p:spPr>
            <a:xfrm>
              <a:off x="2773440" y="1920960"/>
              <a:ext cx="20905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2855880" y="2008080"/>
              <a:ext cx="1603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Análisi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AutoShape 5"/>
          <p:cNvGrpSpPr/>
          <p:nvPr/>
        </p:nvGrpSpPr>
        <p:grpSpPr>
          <a:xfrm>
            <a:off x="4937040" y="2914560"/>
            <a:ext cx="2183040" cy="1176480"/>
            <a:chOff x="4937040" y="2914560"/>
            <a:chExt cx="2183040" cy="1176480"/>
          </a:xfrm>
        </p:grpSpPr>
        <p:pic>
          <p:nvPicPr>
            <p:cNvPr id="368" name="AutoShape 5" descr=""/>
            <p:cNvPicPr/>
            <p:nvPr/>
          </p:nvPicPr>
          <p:blipFill>
            <a:blip r:embed="rId4"/>
            <a:stretch/>
          </p:blipFill>
          <p:spPr>
            <a:xfrm>
              <a:off x="4937040" y="2914560"/>
              <a:ext cx="218304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5065560" y="2998800"/>
              <a:ext cx="1603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fini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AutoShape 6"/>
          <p:cNvGrpSpPr/>
          <p:nvPr/>
        </p:nvGrpSpPr>
        <p:grpSpPr>
          <a:xfrm>
            <a:off x="6907320" y="3902040"/>
            <a:ext cx="2352600" cy="1176480"/>
            <a:chOff x="6907320" y="3902040"/>
            <a:chExt cx="2352600" cy="1176480"/>
          </a:xfrm>
        </p:grpSpPr>
        <p:pic>
          <p:nvPicPr>
            <p:cNvPr id="371" name="AutoShape 6" descr=""/>
            <p:cNvPicPr/>
            <p:nvPr/>
          </p:nvPicPr>
          <p:blipFill>
            <a:blip r:embed="rId5"/>
            <a:stretch/>
          </p:blipFill>
          <p:spPr>
            <a:xfrm>
              <a:off x="6907320" y="3902040"/>
              <a:ext cx="23526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7122960" y="3989520"/>
              <a:ext cx="160344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Especific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3" name="AutoShape 7"/>
          <p:cNvCxnSpPr>
            <a:stCxn id="362" idx="3"/>
            <a:endCxn id="365" idx="1"/>
          </p:cNvCxnSpPr>
          <p:nvPr/>
        </p:nvCxnSpPr>
        <p:spPr>
          <a:xfrm>
            <a:off x="2435040" y="2352240"/>
            <a:ext cx="384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8"/>
          <p:cNvCxnSpPr>
            <a:stCxn id="365" idx="2"/>
            <a:endCxn id="368" idx="1"/>
          </p:cNvCxnSpPr>
          <p:nvPr/>
        </p:nvCxnSpPr>
        <p:spPr>
          <a:xfrm flipH="1" rot="16200000">
            <a:off x="4038480" y="2352240"/>
            <a:ext cx="610200" cy="13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AutoShape 9"/>
          <p:cNvCxnSpPr>
            <a:stCxn id="368" idx="0"/>
            <a:endCxn id="365" idx="3"/>
          </p:cNvCxnSpPr>
          <p:nvPr/>
        </p:nvCxnSpPr>
        <p:spPr>
          <a:xfrm flipV="1" rot="16200000">
            <a:off x="4876200" y="1971000"/>
            <a:ext cx="610560" cy="13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AutoShape 10"/>
          <p:cNvCxnSpPr>
            <a:stCxn id="368" idx="2"/>
            <a:endCxn id="371" idx="1"/>
          </p:cNvCxnSpPr>
          <p:nvPr/>
        </p:nvCxnSpPr>
        <p:spPr>
          <a:xfrm flipH="1" rot="16200000">
            <a:off x="6171120" y="3419280"/>
            <a:ext cx="610560" cy="1220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AutoShape 11"/>
          <p:cNvCxnSpPr>
            <a:stCxn id="371" idx="0"/>
            <a:endCxn id="368" idx="3"/>
          </p:cNvCxnSpPr>
          <p:nvPr/>
        </p:nvCxnSpPr>
        <p:spPr>
          <a:xfrm flipV="1" rot="16200000">
            <a:off x="7009920" y="3037680"/>
            <a:ext cx="61020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78" name="Rectangle 12"/>
          <p:cNvGrpSpPr/>
          <p:nvPr/>
        </p:nvGrpSpPr>
        <p:grpSpPr>
          <a:xfrm>
            <a:off x="712800" y="3749760"/>
            <a:ext cx="2090880" cy="1176120"/>
            <a:chOff x="712800" y="3749760"/>
            <a:chExt cx="2090880" cy="1176120"/>
          </a:xfrm>
        </p:grpSpPr>
        <p:pic>
          <p:nvPicPr>
            <p:cNvPr id="379" name="Rectangle 12" descr=""/>
            <p:cNvPicPr/>
            <p:nvPr/>
          </p:nvPicPr>
          <p:blipFill>
            <a:blip r:embed="rId6"/>
            <a:stretch/>
          </p:blipFill>
          <p:spPr>
            <a:xfrm>
              <a:off x="712800" y="3749760"/>
              <a:ext cx="20908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762120" y="3800520"/>
              <a:ext cx="16761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porte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Factibi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Rectangle 13"/>
          <p:cNvGrpSpPr/>
          <p:nvPr/>
        </p:nvGrpSpPr>
        <p:grpSpPr>
          <a:xfrm>
            <a:off x="2773440" y="4206960"/>
            <a:ext cx="2090520" cy="1176120"/>
            <a:chOff x="2773440" y="4206960"/>
            <a:chExt cx="2090520" cy="1176120"/>
          </a:xfrm>
        </p:grpSpPr>
        <p:pic>
          <p:nvPicPr>
            <p:cNvPr id="382" name="Rectangle 13" descr=""/>
            <p:cNvPicPr/>
            <p:nvPr/>
          </p:nvPicPr>
          <p:blipFill>
            <a:blip r:embed="rId7"/>
            <a:stretch/>
          </p:blipFill>
          <p:spPr>
            <a:xfrm>
              <a:off x="2773440" y="4206960"/>
              <a:ext cx="20905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819520" y="4257720"/>
              <a:ext cx="16761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odel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l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Rectangle 14"/>
          <p:cNvGrpSpPr/>
          <p:nvPr/>
        </p:nvGrpSpPr>
        <p:grpSpPr>
          <a:xfrm>
            <a:off x="2773440" y="5273640"/>
            <a:ext cx="2090520" cy="1176480"/>
            <a:chOff x="2773440" y="5273640"/>
            <a:chExt cx="2090520" cy="1176480"/>
          </a:xfrm>
        </p:grpSpPr>
        <p:pic>
          <p:nvPicPr>
            <p:cNvPr id="385" name="Rectangle 14" descr=""/>
            <p:cNvPicPr/>
            <p:nvPr/>
          </p:nvPicPr>
          <p:blipFill>
            <a:blip r:embed="rId8"/>
            <a:stretch/>
          </p:blipFill>
          <p:spPr>
            <a:xfrm>
              <a:off x="2773440" y="5273640"/>
              <a:ext cx="209052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819520" y="5324400"/>
              <a:ext cx="16761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Rectangle 15"/>
          <p:cNvGrpSpPr/>
          <p:nvPr/>
        </p:nvGrpSpPr>
        <p:grpSpPr>
          <a:xfrm>
            <a:off x="4932360" y="4664160"/>
            <a:ext cx="2181240" cy="1176120"/>
            <a:chOff x="4932360" y="4664160"/>
            <a:chExt cx="2181240" cy="1176120"/>
          </a:xfrm>
        </p:grpSpPr>
        <p:pic>
          <p:nvPicPr>
            <p:cNvPr id="388" name="Rectangle 15" descr=""/>
            <p:cNvPicPr/>
            <p:nvPr/>
          </p:nvPicPr>
          <p:blipFill>
            <a:blip r:embed="rId9"/>
            <a:stretch/>
          </p:blipFill>
          <p:spPr>
            <a:xfrm>
              <a:off x="4932360" y="4664160"/>
              <a:ext cx="21812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5029200" y="4714920"/>
              <a:ext cx="1676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fini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Rectangle 16"/>
          <p:cNvGrpSpPr/>
          <p:nvPr/>
        </p:nvGrpSpPr>
        <p:grpSpPr>
          <a:xfrm>
            <a:off x="6907320" y="5211720"/>
            <a:ext cx="2352600" cy="1170000"/>
            <a:chOff x="6907320" y="5211720"/>
            <a:chExt cx="2352600" cy="1170000"/>
          </a:xfrm>
        </p:grpSpPr>
        <p:pic>
          <p:nvPicPr>
            <p:cNvPr id="391" name="Rectangle 16" descr=""/>
            <p:cNvPicPr/>
            <p:nvPr/>
          </p:nvPicPr>
          <p:blipFill>
            <a:blip r:embed="rId10"/>
            <a:stretch/>
          </p:blipFill>
          <p:spPr>
            <a:xfrm>
              <a:off x="6907320" y="5211720"/>
              <a:ext cx="23526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7086600" y="5257800"/>
              <a:ext cx="1676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Especific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3" name="AutoShape 17"/>
          <p:cNvCxnSpPr>
            <a:stCxn id="362" idx="2"/>
            <a:endCxn id="379" idx="0"/>
          </p:cNvCxnSpPr>
          <p:nvPr/>
        </p:nvCxnSpPr>
        <p:spPr>
          <a:xfrm>
            <a:off x="1598760" y="2733480"/>
            <a:ext cx="216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AutoShape 19"/>
          <p:cNvCxnSpPr>
            <a:stCxn id="382" idx="2"/>
            <a:endCxn id="385" idx="0"/>
          </p:cNvCxnSpPr>
          <p:nvPr/>
        </p:nvCxnSpPr>
        <p:spPr>
          <a:xfrm flipH="1">
            <a:off x="3657240" y="5018040"/>
            <a:ext cx="2160" cy="3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AutoShape 21"/>
          <p:cNvCxnSpPr>
            <a:stCxn id="388" idx="2"/>
            <a:endCxn id="385" idx="3"/>
          </p:cNvCxnSpPr>
          <p:nvPr/>
        </p:nvCxnSpPr>
        <p:spPr>
          <a:xfrm rot="5400000">
            <a:off x="5065920" y="4902840"/>
            <a:ext cx="230760" cy="13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6" name="Line 22"/>
          <p:cNvSpPr/>
          <p:nvPr/>
        </p:nvSpPr>
        <p:spPr>
          <a:xfrm flipH="1">
            <a:off x="4495320" y="57913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AutoShape 23"/>
          <p:cNvCxnSpPr>
            <a:stCxn id="371" idx="2"/>
            <a:endCxn id="391" idx="0"/>
          </p:cNvCxnSpPr>
          <p:nvPr/>
        </p:nvCxnSpPr>
        <p:spPr>
          <a:xfrm flipH="1">
            <a:off x="7922520" y="4716360"/>
            <a:ext cx="396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9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SRS: Software Requirements Specific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eclaración oficial de lo que hará el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Qué es los que el sistema debe hacer sin indicar cóm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Debe ser suficientemente específico como para poder relacionar los requisitos con la funcionalidad del sistema final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1D97-5F69-41C7-947C-B48C879A3719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608400" y="2144880"/>
            <a:ext cx="18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Documen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3445560" y="2179800"/>
            <a:ext cx="16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Definició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6111000" y="2179800"/>
            <a:ext cx="216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Especificació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2820960" y="2249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640120" y="2249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80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l documento debe ser completo y consistente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todas las funciones deben ser incluidas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no debe haber conflicto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ebe ser fácilmente modificable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errores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evolución de los requisito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343040" y="19051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Características necesaria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solamente comportamiento externo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restricciones a la implementación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fácilmente modificable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útil como referencia para los encargados del mantenimiento del sistema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registro de reflexiones acerca de futura evolución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respuestas aceptable a eventos inesperado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6572-6502-45B9-9D80-7D9BBBA7046F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escripción general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funcionalidad e interacción con otros sistemas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inserción en la empresa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losari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efinición de términ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Modelos del Sistem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iagramas de relación del sistema con el ambient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Definición de Requisitos Funciona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servicios del sistem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iagramas y explicació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Definición de Requisitos No Funciona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volución del Sistem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cambios que se anticipa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specificación de Requisito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etalle de la funcionalidad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rbel"/>
              </a:rPr>
              <a:t>funciones, datos, dinámica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BB46-D753-4BEF-9F9F-3366A72B28A9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99680" y="1785960"/>
            <a:ext cx="8077320" cy="4805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El documento de requisitos debe expresar lo que el cliente realmente necesita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Si existe errores, estos se propagan al diseño y a la implementación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La corrección es más cara cuanto más tarde se detecte el erro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100 veces más caro corregir un error de requisitos después de entregado el sistema que corregir el documento de requisi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La validación debe hacerse con el cliente/usuario a medida que se construye el documento de requisito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visiones y “caminatas”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D610-2B5B-44F3-8138-1219DD456C1C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6094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Validez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la funcionalidad especificada es aceptada por todos los usuari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nsistencia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no existen conflictos entre los requisit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mpleto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todas las funciones y restricciones están incluida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Factibilidad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requisitos realizables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mejoras esperables realista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Verifica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los requisitos pueden ser verificad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mprensi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claridad de expresió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Rastrea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origen de los requisitos (evolución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dapta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los cambios no afectan el sistema completo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7671-6070-4FD5-9229-A42A4636A987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comprensión del sistema avanza a medida que se analizan los requisit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l tiempo de desarrollo de grandes sistemas puede ser varios añ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l ambiente cambia y afecta los requisit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lases de requisito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uraderos: relativos a actividades esenciale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volátiles: requisitos propensos a cambi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54BA-4B6A-49BC-A4ED-FD2568C18A0F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Mutable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ambios en el ambiente organizacional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Emergente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la comprensión profunda del sistema trae a la luz estos requisi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Consecuencia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la implantación del sistema trae nuevos requisi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Compatibilidad: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ambios en otros sistemas con los que se interactúa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B1CE-A4F8-475D-B53E-1013D1DAC500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8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2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C2A0-DF34-40F1-B4CA-2BAAFB5B181D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26 Grupo"/>
          <p:cNvGrpSpPr/>
          <p:nvPr/>
        </p:nvGrpSpPr>
        <p:grpSpPr>
          <a:xfrm>
            <a:off x="990720" y="1981080"/>
            <a:ext cx="1923840" cy="1757520"/>
            <a:chOff x="990720" y="1981080"/>
            <a:chExt cx="1923840" cy="1757520"/>
          </a:xfrm>
        </p:grpSpPr>
        <p:grpSp>
          <p:nvGrpSpPr>
            <p:cNvPr id="430" name="Rectangle 3"/>
            <p:cNvGrpSpPr/>
            <p:nvPr/>
          </p:nvGrpSpPr>
          <p:grpSpPr>
            <a:xfrm>
              <a:off x="990720" y="1981080"/>
              <a:ext cx="1923840" cy="785880"/>
              <a:chOff x="990720" y="1981080"/>
              <a:chExt cx="1923840" cy="785880"/>
            </a:xfrm>
          </p:grpSpPr>
          <p:pic>
            <p:nvPicPr>
              <p:cNvPr id="431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1981080"/>
                <a:ext cx="19238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2" name=""/>
              <p:cNvSpPr/>
              <p:nvPr/>
            </p:nvSpPr>
            <p:spPr>
              <a:xfrm>
                <a:off x="1028160" y="2039400"/>
                <a:ext cx="1585440" cy="4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ocumento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Requisitos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Rectangle 4"/>
            <p:cNvGrpSpPr/>
            <p:nvPr/>
          </p:nvGrpSpPr>
          <p:grpSpPr>
            <a:xfrm>
              <a:off x="990720" y="2952720"/>
              <a:ext cx="1923840" cy="785880"/>
              <a:chOff x="990720" y="2952720"/>
              <a:chExt cx="1923840" cy="785880"/>
            </a:xfrm>
          </p:grpSpPr>
          <p:pic>
            <p:nvPicPr>
              <p:cNvPr id="434" name="Rectangl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990720" y="2952720"/>
                <a:ext cx="19238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>
                <a:off x="1028160" y="3013560"/>
                <a:ext cx="1585440" cy="4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6" name="AutoShape 6" descr=""/>
            <p:cNvPicPr/>
            <p:nvPr/>
          </p:nvPicPr>
          <p:blipFill>
            <a:blip r:embed="rId4"/>
            <a:stretch/>
          </p:blipFill>
          <p:spPr>
            <a:xfrm>
              <a:off x="1749240" y="2435040"/>
              <a:ext cx="40176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7" name="29 Grupo"/>
          <p:cNvGrpSpPr/>
          <p:nvPr/>
        </p:nvGrpSpPr>
        <p:grpSpPr>
          <a:xfrm>
            <a:off x="2914560" y="3197160"/>
            <a:ext cx="2494080" cy="541440"/>
            <a:chOff x="2914560" y="3197160"/>
            <a:chExt cx="2494080" cy="541440"/>
          </a:xfrm>
        </p:grpSpPr>
        <p:grpSp>
          <p:nvGrpSpPr>
            <p:cNvPr id="438" name="Rectangle 5"/>
            <p:cNvGrpSpPr/>
            <p:nvPr/>
          </p:nvGrpSpPr>
          <p:grpSpPr>
            <a:xfrm>
              <a:off x="3405960" y="3197160"/>
              <a:ext cx="2002680" cy="541440"/>
              <a:chOff x="3405960" y="3197160"/>
              <a:chExt cx="2002680" cy="541440"/>
            </a:xfrm>
          </p:grpSpPr>
          <p:pic>
            <p:nvPicPr>
              <p:cNvPr id="439" name="Rectangl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405960" y="3197160"/>
                <a:ext cx="200268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3445560" y="3238920"/>
                <a:ext cx="1650600" cy="29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1" name="AutoShape 7" descr=""/>
            <p:cNvPicPr/>
            <p:nvPr/>
          </p:nvPicPr>
          <p:blipFill>
            <a:blip r:embed="rId6"/>
            <a:stretch/>
          </p:blipFill>
          <p:spPr>
            <a:xfrm>
              <a:off x="2914560" y="3341520"/>
              <a:ext cx="878400" cy="26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Group 22"/>
          <p:cNvGrpSpPr/>
          <p:nvPr/>
        </p:nvGrpSpPr>
        <p:grpSpPr>
          <a:xfrm>
            <a:off x="2857680" y="2286000"/>
            <a:ext cx="2359080" cy="835200"/>
            <a:chOff x="2857680" y="2286000"/>
            <a:chExt cx="2359080" cy="835200"/>
          </a:xfrm>
        </p:grpSpPr>
        <p:sp>
          <p:nvSpPr>
            <p:cNvPr id="443" name="Text Box 8"/>
            <p:cNvSpPr/>
            <p:nvPr/>
          </p:nvSpPr>
          <p:spPr>
            <a:xfrm>
              <a:off x="3737520" y="2286000"/>
              <a:ext cx="1479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mbio en l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9"/>
            <p:cNvSpPr/>
            <p:nvPr/>
          </p:nvSpPr>
          <p:spPr>
            <a:xfrm flipH="1">
              <a:off x="2857680" y="2714760"/>
              <a:ext cx="78408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30 Grupo"/>
          <p:cNvGrpSpPr/>
          <p:nvPr/>
        </p:nvGrpSpPr>
        <p:grpSpPr>
          <a:xfrm>
            <a:off x="5276880" y="5935680"/>
            <a:ext cx="2494080" cy="541440"/>
            <a:chOff x="5276880" y="5935680"/>
            <a:chExt cx="2494080" cy="541440"/>
          </a:xfrm>
        </p:grpSpPr>
        <p:grpSp>
          <p:nvGrpSpPr>
            <p:cNvPr id="446" name="Rectangle 12"/>
            <p:cNvGrpSpPr/>
            <p:nvPr/>
          </p:nvGrpSpPr>
          <p:grpSpPr>
            <a:xfrm>
              <a:off x="5730480" y="5935680"/>
              <a:ext cx="2040480" cy="541440"/>
              <a:chOff x="5730480" y="5935680"/>
              <a:chExt cx="2040480" cy="541440"/>
            </a:xfrm>
          </p:grpSpPr>
          <p:pic>
            <p:nvPicPr>
              <p:cNvPr id="447" name="Rectangl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5730480" y="5935680"/>
                <a:ext cx="204048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5773320" y="5977800"/>
                <a:ext cx="167724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49" name="AutoShape 14"/>
            <p:cNvCxnSpPr>
              <a:stCxn id="450" idx="3"/>
              <a:endCxn id="447" idx="1"/>
            </p:cNvCxnSpPr>
            <p:nvPr/>
          </p:nvCxnSpPr>
          <p:spPr>
            <a:xfrm>
              <a:off x="5276880" y="6126480"/>
              <a:ext cx="497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51" name="28 Grupo"/>
          <p:cNvGrpSpPr/>
          <p:nvPr/>
        </p:nvGrpSpPr>
        <p:grpSpPr>
          <a:xfrm>
            <a:off x="5276880" y="4719600"/>
            <a:ext cx="2494080" cy="541440"/>
            <a:chOff x="5276880" y="4719600"/>
            <a:chExt cx="2494080" cy="541440"/>
          </a:xfrm>
        </p:grpSpPr>
        <p:grpSp>
          <p:nvGrpSpPr>
            <p:cNvPr id="452" name="Rectangle 15"/>
            <p:cNvGrpSpPr/>
            <p:nvPr/>
          </p:nvGrpSpPr>
          <p:grpSpPr>
            <a:xfrm>
              <a:off x="5730480" y="4719600"/>
              <a:ext cx="2040480" cy="541440"/>
              <a:chOff x="5730480" y="4719600"/>
              <a:chExt cx="2040480" cy="541440"/>
            </a:xfrm>
          </p:grpSpPr>
          <p:pic>
            <p:nvPicPr>
              <p:cNvPr id="453" name="Rectangl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5730480" y="4719600"/>
                <a:ext cx="204048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"/>
              <p:cNvSpPr/>
              <p:nvPr/>
            </p:nvSpPr>
            <p:spPr>
              <a:xfrm>
                <a:off x="5773320" y="4760640"/>
                <a:ext cx="1677240" cy="29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ocumento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Requisitos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55" name="AutoShape 16"/>
            <p:cNvCxnSpPr>
              <a:stCxn id="456" idx="3"/>
              <a:endCxn id="453" idx="1"/>
            </p:cNvCxnSpPr>
            <p:nvPr/>
          </p:nvCxnSpPr>
          <p:spPr>
            <a:xfrm>
              <a:off x="5276880" y="4910040"/>
              <a:ext cx="497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57" name="AutoShape 17"/>
          <p:cNvCxnSpPr>
            <a:stCxn id="453" idx="2"/>
            <a:endCxn id="447" idx="0"/>
          </p:cNvCxnSpPr>
          <p:nvPr/>
        </p:nvCxnSpPr>
        <p:spPr>
          <a:xfrm>
            <a:off x="6808320" y="5261040"/>
            <a:ext cx="1080" cy="67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27 Grupo"/>
          <p:cNvGrpSpPr/>
          <p:nvPr/>
        </p:nvGrpSpPr>
        <p:grpSpPr>
          <a:xfrm>
            <a:off x="3352680" y="4719600"/>
            <a:ext cx="1924200" cy="1757520"/>
            <a:chOff x="3352680" y="4719600"/>
            <a:chExt cx="1924200" cy="1757520"/>
          </a:xfrm>
        </p:grpSpPr>
        <p:grpSp>
          <p:nvGrpSpPr>
            <p:cNvPr id="459" name="Rectangle 10"/>
            <p:cNvGrpSpPr/>
            <p:nvPr/>
          </p:nvGrpSpPr>
          <p:grpSpPr>
            <a:xfrm>
              <a:off x="3352680" y="4719600"/>
              <a:ext cx="1924200" cy="783720"/>
              <a:chOff x="3352680" y="4719600"/>
              <a:chExt cx="1924200" cy="783720"/>
            </a:xfrm>
          </p:grpSpPr>
          <p:pic>
            <p:nvPicPr>
              <p:cNvPr id="460" name="Rectangle 10" descr=""/>
              <p:cNvPicPr/>
              <p:nvPr/>
            </p:nvPicPr>
            <p:blipFill>
              <a:blip r:embed="rId9"/>
              <a:stretch/>
            </p:blipFill>
            <p:spPr>
              <a:xfrm>
                <a:off x="3352680" y="4719600"/>
                <a:ext cx="1924200" cy="78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3392640" y="4779000"/>
                <a:ext cx="1581840" cy="4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ocumento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Requisitos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Rectangle 11"/>
            <p:cNvGrpSpPr/>
            <p:nvPr/>
          </p:nvGrpSpPr>
          <p:grpSpPr>
            <a:xfrm>
              <a:off x="3352680" y="5688360"/>
              <a:ext cx="1924200" cy="788760"/>
              <a:chOff x="3352680" y="5688360"/>
              <a:chExt cx="1924200" cy="788760"/>
            </a:xfrm>
          </p:grpSpPr>
          <p:pic>
            <p:nvPicPr>
              <p:cNvPr id="463" name="Rectangle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352680" y="5688360"/>
                <a:ext cx="1924200" cy="78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3392640" y="5749920"/>
                <a:ext cx="1581840" cy="4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AutoShape 13" descr=""/>
            <p:cNvPicPr/>
            <p:nvPr/>
          </p:nvPicPr>
          <p:blipFill>
            <a:blip r:embed="rId11"/>
            <a:stretch/>
          </p:blipFill>
          <p:spPr>
            <a:xfrm>
              <a:off x="4114440" y="5172120"/>
              <a:ext cx="400680" cy="90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6" name="Group 27"/>
          <p:cNvGrpSpPr/>
          <p:nvPr/>
        </p:nvGrpSpPr>
        <p:grpSpPr>
          <a:xfrm>
            <a:off x="5276880" y="3816360"/>
            <a:ext cx="2359080" cy="834480"/>
            <a:chOff x="5276880" y="3816360"/>
            <a:chExt cx="2359080" cy="834480"/>
          </a:xfrm>
        </p:grpSpPr>
        <p:sp>
          <p:nvSpPr>
            <p:cNvPr id="467" name="Text Box 18"/>
            <p:cNvSpPr/>
            <p:nvPr/>
          </p:nvSpPr>
          <p:spPr>
            <a:xfrm>
              <a:off x="6156720" y="3816360"/>
              <a:ext cx="1479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mbio en l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9"/>
            <p:cNvSpPr/>
            <p:nvPr/>
          </p:nvSpPr>
          <p:spPr>
            <a:xfrm flipH="1">
              <a:off x="5276880" y="4246200"/>
              <a:ext cx="78408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oceso mediante el cual se establecen los servicios que el sistema debe brindar y las restricciones que debe cumplir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Es un proceso sistemático para derivar la definición del sistema a ser construid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067D-F8E5-460A-BC7A-7115541AB346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AutoShape 4"/>
          <p:cNvGrpSpPr/>
          <p:nvPr/>
        </p:nvGrpSpPr>
        <p:grpSpPr>
          <a:xfrm>
            <a:off x="334800" y="4456080"/>
            <a:ext cx="3310200" cy="2305080"/>
            <a:chOff x="334800" y="4456080"/>
            <a:chExt cx="3310200" cy="2305080"/>
          </a:xfrm>
        </p:grpSpPr>
        <p:pic>
          <p:nvPicPr>
            <p:cNvPr id="316" name="AutoShape 4" descr=""/>
            <p:cNvPicPr/>
            <p:nvPr/>
          </p:nvPicPr>
          <p:blipFill>
            <a:blip r:embed="rId2"/>
            <a:stretch/>
          </p:blipFill>
          <p:spPr>
            <a:xfrm>
              <a:off x="334800" y="4456080"/>
              <a:ext cx="3310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79400" y="4772160"/>
              <a:ext cx="1892520" cy="11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Necesida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l Cl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Rectangle 5"/>
          <p:cNvGrpSpPr/>
          <p:nvPr/>
        </p:nvGrpSpPr>
        <p:grpSpPr>
          <a:xfrm>
            <a:off x="6199200" y="4675320"/>
            <a:ext cx="2627280" cy="2017440"/>
            <a:chOff x="6199200" y="4675320"/>
            <a:chExt cx="2627280" cy="2017440"/>
          </a:xfrm>
        </p:grpSpPr>
        <p:pic>
          <p:nvPicPr>
            <p:cNvPr id="319" name="Rectangle 5" descr=""/>
            <p:cNvPicPr/>
            <p:nvPr/>
          </p:nvPicPr>
          <p:blipFill>
            <a:blip r:embed="rId3"/>
            <a:stretch/>
          </p:blipFill>
          <p:spPr>
            <a:xfrm>
              <a:off x="6199200" y="4675320"/>
              <a:ext cx="262728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248520" y="4724280"/>
              <a:ext cx="22096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Group 9" descr=""/>
          <p:cNvPicPr/>
          <p:nvPr/>
        </p:nvPicPr>
        <p:blipFill>
          <a:blip r:embed="rId4"/>
          <a:stretch/>
        </p:blipFill>
        <p:spPr>
          <a:xfrm>
            <a:off x="3303720" y="4572000"/>
            <a:ext cx="31575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Requisitos Funciona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rvicios o funciones ofrecid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Requisitos No Funciona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otras cualidades del sistem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Restricciones al Proceso de Desarroll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6A3A-FF30-44E5-BE74-24D1FC467589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2361960" y="213372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abstracta de lo que el sistema debe hac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matemática y formal de las funciones del sistem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E542-9B04-4DA7-BA97-A75A5075E32D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AutoShape 4"/>
          <p:cNvGrpSpPr/>
          <p:nvPr/>
        </p:nvGrpSpPr>
        <p:grpSpPr>
          <a:xfrm>
            <a:off x="1627200" y="1706400"/>
            <a:ext cx="1103400" cy="4224600"/>
            <a:chOff x="1627200" y="1706400"/>
            <a:chExt cx="1103400" cy="4224600"/>
          </a:xfrm>
        </p:grpSpPr>
        <p:pic>
          <p:nvPicPr>
            <p:cNvPr id="329" name="AutoShape 4" descr=""/>
            <p:cNvPicPr/>
            <p:nvPr/>
          </p:nvPicPr>
          <p:blipFill>
            <a:blip r:embed="rId2"/>
            <a:stretch/>
          </p:blipFill>
          <p:spPr>
            <a:xfrm>
              <a:off x="1627200" y="1706400"/>
              <a:ext cx="1103400" cy="422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847880" y="2228760"/>
              <a:ext cx="342720" cy="33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5"/>
          <p:cNvSpPr/>
          <p:nvPr/>
        </p:nvSpPr>
        <p:spPr>
          <a:xfrm rot="16200000">
            <a:off x="304560" y="358776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bstr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orbel"/>
              </a:rPr>
              <a:t>En un llamado a licitación de un gran proyecto de software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Se debe definir las necesidades en forma suficientemente abstracta para que la solución no esté predefinida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os requisitos deben escribirse de modo que varios contratistas puedan competir por el contrato, ofreciendo quizás diferentes formas de lograr los objetivos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Una vez que la licitación es otorgada, el contratista debe escribir la definición del sistema para el cliente en más detalle para que el cliente entienda y pueda validar lo que el software finalmente hará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Ambos documentos pueden llamarse documento de requisitos del sistem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D7FB-157D-43AD-AF65-5B6BCE0DCB70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8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Contenido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rvicios que se espera del sistema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restricciones de oper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enguaje natural y diagrama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Usuario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gerencia del client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usuarios finale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s del client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gerencia de desarrollo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rquitectos del sistema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FA33-0EE8-4CED-90D8-775400908950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4 Llamada rectangular redondeada"/>
          <p:cNvGrpSpPr/>
          <p:nvPr/>
        </p:nvGrpSpPr>
        <p:grpSpPr>
          <a:xfrm>
            <a:off x="2865600" y="1663560"/>
            <a:ext cx="6357600" cy="1914840"/>
            <a:chOff x="2865600" y="1663560"/>
            <a:chExt cx="6357600" cy="1914840"/>
          </a:xfrm>
        </p:grpSpPr>
        <p:pic>
          <p:nvPicPr>
            <p:cNvPr id="339" name="4 Llamada rectangular redondeada" descr=""/>
            <p:cNvPicPr/>
            <p:nvPr/>
          </p:nvPicPr>
          <p:blipFill>
            <a:blip r:embed="rId2"/>
            <a:stretch/>
          </p:blipFill>
          <p:spPr>
            <a:xfrm>
              <a:off x="2865600" y="1663560"/>
              <a:ext cx="6357600" cy="19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6716880" y="1787400"/>
              <a:ext cx="206820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rbel"/>
                </a:rPr>
                <a:t>La información la brinda el cl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5 Llamada rectangular redondeada"/>
          <p:cNvGrpSpPr/>
          <p:nvPr/>
        </p:nvGrpSpPr>
        <p:grpSpPr>
          <a:xfrm>
            <a:off x="2639880" y="3597120"/>
            <a:ext cx="4724640" cy="1913040"/>
            <a:chOff x="2639880" y="3597120"/>
            <a:chExt cx="4724640" cy="1913040"/>
          </a:xfrm>
        </p:grpSpPr>
        <p:pic>
          <p:nvPicPr>
            <p:cNvPr id="342" name="5 Llamada rectangular redondeada" descr=""/>
            <p:cNvPicPr/>
            <p:nvPr/>
          </p:nvPicPr>
          <p:blipFill>
            <a:blip r:embed="rId3"/>
            <a:stretch/>
          </p:blipFill>
          <p:spPr>
            <a:xfrm>
              <a:off x="2639880" y="3597120"/>
              <a:ext cx="472464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4859280" y="3716280"/>
              <a:ext cx="206856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rbel"/>
                </a:rPr>
                <a:t>Cada uno tiene un rol difer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enido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talle de los servicios del siste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enguaje más formal y precis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base del contrato entre desarrolladores y cli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Usuario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suarios finale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ingenieros del client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rquitectos del siste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sarrollador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C4F2-DB09-46F0-B4D2-61F8FF6F9CB6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enido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scripción abstracta del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base para el diseño y  la implement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grega detalles técnic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Usuario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ingenieros del clien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rquitectos del sistem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sarrollador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7E03-7491-4B99-8D61-07BA22099B17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285840" y="1774440"/>
            <a:ext cx="8572320" cy="4226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En sistemas grandes y complejos los requisitos nunca están completos al iniciar el desarrollo del proyecto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espera que mejoren la situación actual (sistema manual o anticuado); no se sabe bien en qué dirección mejorar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usuarios múltiples y diversos con distintas necesidades y prioridades; el sistema final será un compromiso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quien paga por el sistema no es habitualmente quien lo va a usar; las restricciones de presupuesto se contraponen a las necesidades de los usuari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9D48-35CA-498E-AD4C-7649980B3F19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Group 8" descr=""/>
          <p:cNvPicPr/>
          <p:nvPr/>
        </p:nvPicPr>
        <p:blipFill>
          <a:blip r:embed="rId2"/>
          <a:stretch/>
        </p:blipFill>
        <p:spPr>
          <a:xfrm>
            <a:off x="3017880" y="5803920"/>
            <a:ext cx="6235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4-06T13:47:04Z</cp:lastPrinted>
  <dcterms:modified xsi:type="dcterms:W3CDTF">2010-08-31T14:59:10Z</dcterms:modified>
  <cp:revision>143</cp:revision>
  <dc:subject/>
  <dc:title>CC31B: Desarrollo de Software de Aplicaciones</dc:title>
</cp:coreProperties>
</file>