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5DE23-9757-41F6-8EF6-899F3A4DFB6A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11C79-06F0-404E-B0F9-4656B39C95F0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A6BE5-B6FF-43DE-82E3-10791ADCBF89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E27FD-D601-4A89-8560-45E3F719C1F8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9A4E9-4180-4505-BCDB-FC2C015F303F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07B6C-A1D0-48B2-AAF9-486ABEA58505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CB01A-F883-4300-8894-261DE457D46C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9E90A-CFC4-4971-BEC5-D41B1904F892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05D29-3824-4873-82DC-E214E0844E73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44D4D-D755-4BAF-885B-44E119E03C6C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EF236-E7FC-42EF-BDEA-5E69206DDC87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DC807-01BE-4FEE-A1CB-AA126AA82B3B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7D762-6B60-4A24-A968-8FD3F5AC50FF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B28F5-A1B8-4796-8567-A55A0F38CD8D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855CC-2912-4664-A861-F20B84518D79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43AF8-2DA5-48F6-8DBF-1268D89E3517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8281B-CD00-48B1-922F-049F47CDCF3B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8A66A-652F-4C2C-8444-6F57B121A6D4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4E714-04F4-41FF-9D7E-47812288BD44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2B228-2656-4DA6-854D-E2EC2C51217E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C6C-294E-4CFC-90FF-F4B73300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400-A969-402C-93F7-12815A04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BFD-E48F-4E4E-B44F-0F148448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7FA5-9A04-499A-85C0-732CB92F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DEE0-E112-40FC-94DA-AF0741DD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AE21-DB62-4D2E-AB52-241E1228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D8F6-4620-4313-ADEC-1622C710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12B7-2012-48A0-B0CB-85CB28C7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3110-B94A-40FC-A2FB-FC1DEC32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97E0-9E41-4E62-9263-C164A5F1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C400-BCE2-4E14-AC13-033E7D82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FE2-7490-4D55-9F97-D22DD242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220F-B4AE-421C-9DAE-3AE52E47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3192-A8AE-4583-8ECB-C1DAD623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8429-7395-4EA4-87BF-340A312F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530E-3938-41B8-8452-383D6E95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33A8-9641-4215-ACBD-F88D3B87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EA8AD-3E7C-402C-BFE7-9F728C0B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70E9A-73A7-4658-AE80-9A6806A9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39365-E46E-4DB4-A7CD-2370A540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26E00-0700-40E7-BD95-01371C0E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012BC-8542-4FE3-B859-CE20BC6F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CD2-FF9D-4DDB-A6A0-07F6B371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B2024-A0D9-4249-8739-4BF27C5E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DA870-9340-4846-B057-75AEE370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25BFE-50B9-4CB0-B260-51FAAA33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CB88D-805E-4DD9-B0CA-CAF3624F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6F969-B6DA-4073-A86A-B1518500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9AA7E-B8A7-4CF7-97F5-E8D00408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851FF-A164-465A-ABDC-4A6A4892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C1484-2AF8-4B3C-8862-D2B1373F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51111-1B75-4A34-A295-0DD0E01E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96FD0-8488-461D-8769-84D309CE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A80-AB85-47E8-A5F6-8DD92557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041D-9CDD-4809-9580-B6B8E46E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D8125-4A93-4C8B-AA08-F5E7994C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CEBD4-F5BA-4FB1-A959-390AC02F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4F380-7B19-4302-BE71-6CC01E01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0805D-31DF-4CCC-B39B-82DDED55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78AF4-E539-4156-8206-867B9428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8749E-B4CC-43F8-9E3C-AB5FD0A7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B959C-959D-492E-9550-35E0AE46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6BF0D-908D-485B-B4C9-D2DA05BA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05190-54CE-4FF0-BE00-D803E28A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6DA-9F83-4B1E-84C3-9AA12E3F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66BA6-F183-489F-B360-54627B4F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6C0B0-1A7F-4622-9466-BC798591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4A04B-2099-42E6-8539-3E19E7B0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D82DA-E802-4252-9A49-B95D138F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AE829-5843-43E9-80B1-0AE0988C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97C8C-5EB5-4FDD-BE0D-9AD2D7F4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B91B1-769F-4A1B-81F6-0A9AFBF4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54E84-5161-4F67-A032-961A4F68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6B787-0CCE-4E3D-AA68-F440A78C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2D08B-98CF-409D-9B80-8A8D3FEB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D83-8050-4B29-9B8F-A0FBE501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10FDE-E9AC-4FE3-BF9B-A9C870FE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92593-37D1-4259-BC1C-1A40FDB7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E3022-B736-4F6C-B570-90B15BEF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5C407-885E-4679-A3D4-15E0CA0A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9D9C2-437F-41FF-BC6B-2432BA54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5A17E-2080-4302-99CF-EA43ACA3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D0EB2-D27D-4310-9137-A5ED779C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E8046-CF51-49E9-A441-B0980A22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2085C-98EA-4639-87A9-DFE4A7D1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0B9C7-027F-4ECA-9116-662DEA99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987-5850-404E-9BBD-0D960535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6CD6A-5AB5-41D1-8ADD-326429E0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82736-2549-4C5D-8309-1F0C366F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640E3-A069-4952-B128-46D36B8F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2D5EB-83DE-4C30-B261-2431B58E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DE923-772C-4271-94B6-CB78BE40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C2FE3-FA0B-46B8-B092-10810559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BC247-343B-4DCB-91C8-A5F10D1C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9560F-0919-478E-A000-939D8807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C9369-0CF2-4940-AABE-C26AB0C4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02542-B9E6-42A6-873A-68530607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DA8-5DB9-4FB0-9DC8-EDF66824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F1324-4E47-4448-AB2C-CC70045F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0695A-76C5-462B-A546-9D95D32F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F16C6-1817-4A10-B1CE-6AFB6B8C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5B047-E8E6-4EDF-9C17-4C45AC6E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BC1DF-F8A1-437A-8F07-6F397A28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356-1966-4084-BC62-09415CF1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825C-B5D5-49A0-8D66-F599AE893250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ED86-6F45-4EBA-A7CE-6587C02699F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2A2A-C9F1-4D78-B319-AAA0B615ED4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63E8-C853-4391-A2FA-5E84778DE9DA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E605-1D37-4B7B-A69C-08042172E2A8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C02D-0EB3-4387-9E27-4E61EB646C40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E631-09F9-4402-925C-E307C696DE47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433440" y="2109960"/>
            <a:ext cx="8034120" cy="1468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56760" y="1714680"/>
            <a:ext cx="8572680" cy="4991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Conjunto de actividades que llevan a la definición y especificación de requisito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studio de factibilidad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nálisis de requisito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obtener los requisitos observando el sistema actual, discutiendo con usuarios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desarrollo de modelos y prototipos del sistema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definición de requisito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traducción del producto del análisis a un documento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documento orientado a múltiples lectores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specificación de requisito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descripción detallada del sistema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base del contrato entre cliente y desarrolladores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en paralelo con el diseño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5A26-6ACF-41C3-8AD7-271EEE7E09D1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Line 20"/>
          <p:cNvSpPr/>
          <p:nvPr/>
        </p:nvSpPr>
        <p:spPr>
          <a:xfrm>
            <a:off x="571500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8"/>
          <p:cNvSpPr/>
          <p:nvPr/>
        </p:nvSpPr>
        <p:spPr>
          <a:xfrm>
            <a:off x="3505320" y="2666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sp>
        <p:nvSpPr>
          <p:cNvPr id="360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C963-759F-4EC4-A7CE-887ECF925BA3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AutoShape 3"/>
          <p:cNvGrpSpPr/>
          <p:nvPr/>
        </p:nvGrpSpPr>
        <p:grpSpPr>
          <a:xfrm>
            <a:off x="712800" y="1920960"/>
            <a:ext cx="2085840" cy="1176120"/>
            <a:chOff x="712800" y="1920960"/>
            <a:chExt cx="2085840" cy="1176120"/>
          </a:xfrm>
        </p:grpSpPr>
        <p:pic>
          <p:nvPicPr>
            <p:cNvPr id="362" name="AutoShape 3" descr=""/>
            <p:cNvPicPr/>
            <p:nvPr/>
          </p:nvPicPr>
          <p:blipFill>
            <a:blip r:embed="rId2"/>
            <a:stretch/>
          </p:blipFill>
          <p:spPr>
            <a:xfrm>
              <a:off x="712800" y="1920960"/>
              <a:ext cx="20858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98480" y="2008080"/>
              <a:ext cx="160020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Estudi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Factibi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AutoShape 4"/>
          <p:cNvGrpSpPr/>
          <p:nvPr/>
        </p:nvGrpSpPr>
        <p:grpSpPr>
          <a:xfrm>
            <a:off x="2773440" y="1920960"/>
            <a:ext cx="2090520" cy="1176120"/>
            <a:chOff x="2773440" y="1920960"/>
            <a:chExt cx="2090520" cy="1176120"/>
          </a:xfrm>
        </p:grpSpPr>
        <p:pic>
          <p:nvPicPr>
            <p:cNvPr id="365" name="AutoShape 4" descr=""/>
            <p:cNvPicPr/>
            <p:nvPr/>
          </p:nvPicPr>
          <p:blipFill>
            <a:blip r:embed="rId3"/>
            <a:stretch/>
          </p:blipFill>
          <p:spPr>
            <a:xfrm>
              <a:off x="2773440" y="1920960"/>
              <a:ext cx="20905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2855880" y="2008080"/>
              <a:ext cx="1603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Análisi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AutoShape 5"/>
          <p:cNvGrpSpPr/>
          <p:nvPr/>
        </p:nvGrpSpPr>
        <p:grpSpPr>
          <a:xfrm>
            <a:off x="4937040" y="2914560"/>
            <a:ext cx="2183040" cy="1176480"/>
            <a:chOff x="4937040" y="2914560"/>
            <a:chExt cx="2183040" cy="1176480"/>
          </a:xfrm>
        </p:grpSpPr>
        <p:pic>
          <p:nvPicPr>
            <p:cNvPr id="368" name="AutoShape 5" descr=""/>
            <p:cNvPicPr/>
            <p:nvPr/>
          </p:nvPicPr>
          <p:blipFill>
            <a:blip r:embed="rId4"/>
            <a:stretch/>
          </p:blipFill>
          <p:spPr>
            <a:xfrm>
              <a:off x="4937040" y="2914560"/>
              <a:ext cx="218304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5065560" y="2998800"/>
              <a:ext cx="1603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fini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AutoShape 6"/>
          <p:cNvGrpSpPr/>
          <p:nvPr/>
        </p:nvGrpSpPr>
        <p:grpSpPr>
          <a:xfrm>
            <a:off x="6907320" y="3902040"/>
            <a:ext cx="2352600" cy="1176480"/>
            <a:chOff x="6907320" y="3902040"/>
            <a:chExt cx="2352600" cy="1176480"/>
          </a:xfrm>
        </p:grpSpPr>
        <p:pic>
          <p:nvPicPr>
            <p:cNvPr id="371" name="AutoShape 6" descr=""/>
            <p:cNvPicPr/>
            <p:nvPr/>
          </p:nvPicPr>
          <p:blipFill>
            <a:blip r:embed="rId5"/>
            <a:stretch/>
          </p:blipFill>
          <p:spPr>
            <a:xfrm>
              <a:off x="6907320" y="3902040"/>
              <a:ext cx="23526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7122960" y="3989520"/>
              <a:ext cx="160344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Especific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3" name="AutoShape 7"/>
          <p:cNvCxnSpPr>
            <a:stCxn id="362" idx="3"/>
            <a:endCxn id="365" idx="1"/>
          </p:cNvCxnSpPr>
          <p:nvPr/>
        </p:nvCxnSpPr>
        <p:spPr>
          <a:xfrm>
            <a:off x="2435040" y="2352240"/>
            <a:ext cx="384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8"/>
          <p:cNvCxnSpPr>
            <a:stCxn id="365" idx="2"/>
            <a:endCxn id="368" idx="1"/>
          </p:cNvCxnSpPr>
          <p:nvPr/>
        </p:nvCxnSpPr>
        <p:spPr>
          <a:xfrm flipH="1" rot="16200000">
            <a:off x="4038480" y="2352240"/>
            <a:ext cx="610200" cy="13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AutoShape 9"/>
          <p:cNvCxnSpPr>
            <a:stCxn id="368" idx="0"/>
            <a:endCxn id="365" idx="3"/>
          </p:cNvCxnSpPr>
          <p:nvPr/>
        </p:nvCxnSpPr>
        <p:spPr>
          <a:xfrm flipV="1" rot="16200000">
            <a:off x="4876200" y="1971000"/>
            <a:ext cx="610560" cy="13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AutoShape 10"/>
          <p:cNvCxnSpPr>
            <a:stCxn id="368" idx="2"/>
            <a:endCxn id="371" idx="1"/>
          </p:cNvCxnSpPr>
          <p:nvPr/>
        </p:nvCxnSpPr>
        <p:spPr>
          <a:xfrm flipH="1" rot="16200000">
            <a:off x="6171120" y="3419280"/>
            <a:ext cx="610560" cy="1220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AutoShape 11"/>
          <p:cNvCxnSpPr>
            <a:stCxn id="371" idx="0"/>
            <a:endCxn id="368" idx="3"/>
          </p:cNvCxnSpPr>
          <p:nvPr/>
        </p:nvCxnSpPr>
        <p:spPr>
          <a:xfrm flipV="1" rot="16200000">
            <a:off x="7009920" y="3037680"/>
            <a:ext cx="61020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78" name="Rectangle 12"/>
          <p:cNvGrpSpPr/>
          <p:nvPr/>
        </p:nvGrpSpPr>
        <p:grpSpPr>
          <a:xfrm>
            <a:off x="712800" y="3749760"/>
            <a:ext cx="2090880" cy="1176120"/>
            <a:chOff x="712800" y="3749760"/>
            <a:chExt cx="2090880" cy="1176120"/>
          </a:xfrm>
        </p:grpSpPr>
        <p:pic>
          <p:nvPicPr>
            <p:cNvPr id="379" name="Rectangle 12" descr=""/>
            <p:cNvPicPr/>
            <p:nvPr/>
          </p:nvPicPr>
          <p:blipFill>
            <a:blip r:embed="rId6"/>
            <a:stretch/>
          </p:blipFill>
          <p:spPr>
            <a:xfrm>
              <a:off x="712800" y="3749760"/>
              <a:ext cx="20908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762120" y="3800520"/>
              <a:ext cx="16761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porte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Factibi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Rectangle 13"/>
          <p:cNvGrpSpPr/>
          <p:nvPr/>
        </p:nvGrpSpPr>
        <p:grpSpPr>
          <a:xfrm>
            <a:off x="2773440" y="4206960"/>
            <a:ext cx="2090520" cy="1176120"/>
            <a:chOff x="2773440" y="4206960"/>
            <a:chExt cx="2090520" cy="1176120"/>
          </a:xfrm>
        </p:grpSpPr>
        <p:pic>
          <p:nvPicPr>
            <p:cNvPr id="382" name="Rectangle 13" descr=""/>
            <p:cNvPicPr/>
            <p:nvPr/>
          </p:nvPicPr>
          <p:blipFill>
            <a:blip r:embed="rId7"/>
            <a:stretch/>
          </p:blipFill>
          <p:spPr>
            <a:xfrm>
              <a:off x="2773440" y="4206960"/>
              <a:ext cx="20905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819520" y="4257720"/>
              <a:ext cx="16761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odel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l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Rectangle 14"/>
          <p:cNvGrpSpPr/>
          <p:nvPr/>
        </p:nvGrpSpPr>
        <p:grpSpPr>
          <a:xfrm>
            <a:off x="2773440" y="5273640"/>
            <a:ext cx="2090520" cy="1176480"/>
            <a:chOff x="2773440" y="5273640"/>
            <a:chExt cx="2090520" cy="1176480"/>
          </a:xfrm>
        </p:grpSpPr>
        <p:pic>
          <p:nvPicPr>
            <p:cNvPr id="385" name="Rectangle 14" descr=""/>
            <p:cNvPicPr/>
            <p:nvPr/>
          </p:nvPicPr>
          <p:blipFill>
            <a:blip r:embed="rId8"/>
            <a:stretch/>
          </p:blipFill>
          <p:spPr>
            <a:xfrm>
              <a:off x="2773440" y="5273640"/>
              <a:ext cx="209052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819520" y="5324400"/>
              <a:ext cx="16761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Rectangle 15"/>
          <p:cNvGrpSpPr/>
          <p:nvPr/>
        </p:nvGrpSpPr>
        <p:grpSpPr>
          <a:xfrm>
            <a:off x="4932360" y="4664160"/>
            <a:ext cx="2181240" cy="1176120"/>
            <a:chOff x="4932360" y="4664160"/>
            <a:chExt cx="2181240" cy="1176120"/>
          </a:xfrm>
        </p:grpSpPr>
        <p:pic>
          <p:nvPicPr>
            <p:cNvPr id="388" name="Rectangle 15" descr=""/>
            <p:cNvPicPr/>
            <p:nvPr/>
          </p:nvPicPr>
          <p:blipFill>
            <a:blip r:embed="rId9"/>
            <a:stretch/>
          </p:blipFill>
          <p:spPr>
            <a:xfrm>
              <a:off x="4932360" y="4664160"/>
              <a:ext cx="21812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5029200" y="4714920"/>
              <a:ext cx="1676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fini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Rectangle 16"/>
          <p:cNvGrpSpPr/>
          <p:nvPr/>
        </p:nvGrpSpPr>
        <p:grpSpPr>
          <a:xfrm>
            <a:off x="6907320" y="5211720"/>
            <a:ext cx="2352600" cy="1170000"/>
            <a:chOff x="6907320" y="5211720"/>
            <a:chExt cx="2352600" cy="1170000"/>
          </a:xfrm>
        </p:grpSpPr>
        <p:pic>
          <p:nvPicPr>
            <p:cNvPr id="391" name="Rectangle 16" descr=""/>
            <p:cNvPicPr/>
            <p:nvPr/>
          </p:nvPicPr>
          <p:blipFill>
            <a:blip r:embed="rId10"/>
            <a:stretch/>
          </p:blipFill>
          <p:spPr>
            <a:xfrm>
              <a:off x="6907320" y="5211720"/>
              <a:ext cx="23526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7086600" y="5257800"/>
              <a:ext cx="1676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Especific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3" name="AutoShape 17"/>
          <p:cNvCxnSpPr>
            <a:stCxn id="362" idx="2"/>
            <a:endCxn id="379" idx="0"/>
          </p:cNvCxnSpPr>
          <p:nvPr/>
        </p:nvCxnSpPr>
        <p:spPr>
          <a:xfrm>
            <a:off x="1598760" y="2733480"/>
            <a:ext cx="216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AutoShape 19"/>
          <p:cNvCxnSpPr>
            <a:stCxn id="382" idx="2"/>
            <a:endCxn id="385" idx="0"/>
          </p:cNvCxnSpPr>
          <p:nvPr/>
        </p:nvCxnSpPr>
        <p:spPr>
          <a:xfrm flipH="1">
            <a:off x="3657240" y="5018040"/>
            <a:ext cx="2160" cy="30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AutoShape 21"/>
          <p:cNvCxnSpPr>
            <a:stCxn id="388" idx="2"/>
            <a:endCxn id="385" idx="3"/>
          </p:cNvCxnSpPr>
          <p:nvPr/>
        </p:nvCxnSpPr>
        <p:spPr>
          <a:xfrm rot="5400000">
            <a:off x="5065920" y="4902840"/>
            <a:ext cx="230760" cy="13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6" name="Line 22"/>
          <p:cNvSpPr/>
          <p:nvPr/>
        </p:nvSpPr>
        <p:spPr>
          <a:xfrm flipH="1">
            <a:off x="4495320" y="57913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AutoShape 23"/>
          <p:cNvCxnSpPr>
            <a:stCxn id="371" idx="2"/>
            <a:endCxn id="391" idx="0"/>
          </p:cNvCxnSpPr>
          <p:nvPr/>
        </p:nvCxnSpPr>
        <p:spPr>
          <a:xfrm flipH="1">
            <a:off x="7922520" y="4716360"/>
            <a:ext cx="396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9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SRS: Software Requirements Specific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declaración oficial de lo que hará el soft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Qué es los que el sistema debe hacer sin indicar cóm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Debe ser suficientemente específico como para poder relacionar los requisitos con la funcionalidad del sistema final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0422-CEF3-4D20-A3F6-FEAA83DF474E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608400" y="2144880"/>
            <a:ext cx="18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Documen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3445560" y="2179800"/>
            <a:ext cx="16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Definició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6111000" y="2179800"/>
            <a:ext cx="216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Especificació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2820960" y="2249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640120" y="2249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80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El documento debe ser completo y consistente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todas las funciones deben ser incluidas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no debe haber conflictos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Debe ser fácilmente modificable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errores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evolución de los requisitos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343040" y="19051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Características necesaria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solamente comportamiento externo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restricciones a la implementación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fácilmente modificable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útil como referencia para los encargados del mantenimiento del sistema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registro de reflexiones acerca de futura evolución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respuestas aceptable a eventos inesperados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1386-FE2B-4F20-AAD3-98C2CB902A49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escripción general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funcionalidad e interacción con otros sistemas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inserción en la empresa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Glosari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efinición de términ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Modelos del Sistem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iagramas de relación del sistema con el ambient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Definición de Requisitos Funciona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servicios del sistem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iagramas y explicació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Definición de Requisitos No Funciona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volución del Sistem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cambios que se anticipa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specificación de Requisito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etalle de la funcionalidad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rbel"/>
              </a:rPr>
              <a:t>funciones, datos, dinámica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43E3-4853-421C-8866-E762800C96EC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99680" y="1785960"/>
            <a:ext cx="8077320" cy="4805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El documento de requisitos debe expresar lo que el cliente realmente necesita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Si existe errores, estos se propagan al diseño y a la implementación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La corrección es más cara cuanto más tarde se detecte el erro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100 veces más caro corregir un error de requisitos después de entregado el sistema que corregir el documento de requisi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La validación debe hacerse con el cliente/usuario a medida que se construye el documento de requisito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visiones y “caminatas”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8DAC-BECB-46C5-90FC-551E368B6B59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6094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Validez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la funcionalidad especificada es aceptada por todos los usuari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nsistencia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no existen conflictos entre los requisit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mpleto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todas las funciones y restricciones están incluida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Factibilidad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requisitos realizables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mejoras esperables realista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Verifica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los requisitos pueden ser verificad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mprensi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claridad de expresió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Rastrea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origen de los requisitos (evolución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dapta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los cambios no afectan el sistema completo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C6AB-0275-4EA2-AAE5-2A07586CA33D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comprensión del sistema avanza a medida que se analizan los requisit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l tiempo de desarrollo de grandes sistemas puede ser varios añ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l ambiente cambia y afecta los requisit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lases de requisito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uraderos: relativos a actividades esenciale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volátiles: requisitos propensos a cambi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9F54-BEE3-4812-97FC-1B29F85A538C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Mutable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ambios en el ambiente organizacional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Emergente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la comprensión profunda del sistema trae a la luz estos requisi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Consecuencia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la implantación del sistema trae nuevos requisi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Compatibilidad: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ambios en otros sistemas con los que se interactúa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AB94-FAB9-4273-B4A7-BE939A4E6B8F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8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2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D729-1C68-47EC-889E-0124419B6793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26 Grupo"/>
          <p:cNvGrpSpPr/>
          <p:nvPr/>
        </p:nvGrpSpPr>
        <p:grpSpPr>
          <a:xfrm>
            <a:off x="990720" y="1981080"/>
            <a:ext cx="1923840" cy="1757520"/>
            <a:chOff x="990720" y="1981080"/>
            <a:chExt cx="1923840" cy="1757520"/>
          </a:xfrm>
        </p:grpSpPr>
        <p:grpSp>
          <p:nvGrpSpPr>
            <p:cNvPr id="430" name="Rectangle 3"/>
            <p:cNvGrpSpPr/>
            <p:nvPr/>
          </p:nvGrpSpPr>
          <p:grpSpPr>
            <a:xfrm>
              <a:off x="990720" y="1981080"/>
              <a:ext cx="1923840" cy="785880"/>
              <a:chOff x="990720" y="1981080"/>
              <a:chExt cx="1923840" cy="785880"/>
            </a:xfrm>
          </p:grpSpPr>
          <p:pic>
            <p:nvPicPr>
              <p:cNvPr id="431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1981080"/>
                <a:ext cx="19238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2" name=""/>
              <p:cNvSpPr/>
              <p:nvPr/>
            </p:nvSpPr>
            <p:spPr>
              <a:xfrm>
                <a:off x="1028160" y="2039400"/>
                <a:ext cx="1585440" cy="4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ocumento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Requisitos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Rectangle 4"/>
            <p:cNvGrpSpPr/>
            <p:nvPr/>
          </p:nvGrpSpPr>
          <p:grpSpPr>
            <a:xfrm>
              <a:off x="990720" y="2952720"/>
              <a:ext cx="1923840" cy="785880"/>
              <a:chOff x="990720" y="2952720"/>
              <a:chExt cx="1923840" cy="785880"/>
            </a:xfrm>
          </p:grpSpPr>
          <p:pic>
            <p:nvPicPr>
              <p:cNvPr id="434" name="Rectangl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990720" y="2952720"/>
                <a:ext cx="19238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"/>
              <p:cNvSpPr/>
              <p:nvPr/>
            </p:nvSpPr>
            <p:spPr>
              <a:xfrm>
                <a:off x="1028160" y="3013560"/>
                <a:ext cx="1585440" cy="4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6" name="AutoShape 6" descr=""/>
            <p:cNvPicPr/>
            <p:nvPr/>
          </p:nvPicPr>
          <p:blipFill>
            <a:blip r:embed="rId4"/>
            <a:stretch/>
          </p:blipFill>
          <p:spPr>
            <a:xfrm>
              <a:off x="1749240" y="2435040"/>
              <a:ext cx="40176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7" name="29 Grupo"/>
          <p:cNvGrpSpPr/>
          <p:nvPr/>
        </p:nvGrpSpPr>
        <p:grpSpPr>
          <a:xfrm>
            <a:off x="2914560" y="3197160"/>
            <a:ext cx="2494080" cy="541440"/>
            <a:chOff x="2914560" y="3197160"/>
            <a:chExt cx="2494080" cy="541440"/>
          </a:xfrm>
        </p:grpSpPr>
        <p:grpSp>
          <p:nvGrpSpPr>
            <p:cNvPr id="438" name="Rectangle 5"/>
            <p:cNvGrpSpPr/>
            <p:nvPr/>
          </p:nvGrpSpPr>
          <p:grpSpPr>
            <a:xfrm>
              <a:off x="3405960" y="3197160"/>
              <a:ext cx="2002680" cy="541440"/>
              <a:chOff x="3405960" y="3197160"/>
              <a:chExt cx="2002680" cy="541440"/>
            </a:xfrm>
          </p:grpSpPr>
          <p:pic>
            <p:nvPicPr>
              <p:cNvPr id="439" name="Rectangl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405960" y="3197160"/>
                <a:ext cx="200268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3445560" y="3238920"/>
                <a:ext cx="1650600" cy="29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1" name="AutoShape 7" descr=""/>
            <p:cNvPicPr/>
            <p:nvPr/>
          </p:nvPicPr>
          <p:blipFill>
            <a:blip r:embed="rId6"/>
            <a:stretch/>
          </p:blipFill>
          <p:spPr>
            <a:xfrm>
              <a:off x="2914560" y="3341520"/>
              <a:ext cx="878400" cy="26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Group 22"/>
          <p:cNvGrpSpPr/>
          <p:nvPr/>
        </p:nvGrpSpPr>
        <p:grpSpPr>
          <a:xfrm>
            <a:off x="2857680" y="2286000"/>
            <a:ext cx="2359080" cy="835200"/>
            <a:chOff x="2857680" y="2286000"/>
            <a:chExt cx="2359080" cy="835200"/>
          </a:xfrm>
        </p:grpSpPr>
        <p:sp>
          <p:nvSpPr>
            <p:cNvPr id="443" name="Text Box 8"/>
            <p:cNvSpPr/>
            <p:nvPr/>
          </p:nvSpPr>
          <p:spPr>
            <a:xfrm>
              <a:off x="3737520" y="2286000"/>
              <a:ext cx="1479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mbio en l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9"/>
            <p:cNvSpPr/>
            <p:nvPr/>
          </p:nvSpPr>
          <p:spPr>
            <a:xfrm flipH="1">
              <a:off x="2857680" y="2714760"/>
              <a:ext cx="78408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30 Grupo"/>
          <p:cNvGrpSpPr/>
          <p:nvPr/>
        </p:nvGrpSpPr>
        <p:grpSpPr>
          <a:xfrm>
            <a:off x="5276880" y="5935680"/>
            <a:ext cx="2494080" cy="541440"/>
            <a:chOff x="5276880" y="5935680"/>
            <a:chExt cx="2494080" cy="541440"/>
          </a:xfrm>
        </p:grpSpPr>
        <p:grpSp>
          <p:nvGrpSpPr>
            <p:cNvPr id="446" name="Rectangle 12"/>
            <p:cNvGrpSpPr/>
            <p:nvPr/>
          </p:nvGrpSpPr>
          <p:grpSpPr>
            <a:xfrm>
              <a:off x="5730480" y="5935680"/>
              <a:ext cx="2040480" cy="541440"/>
              <a:chOff x="5730480" y="5935680"/>
              <a:chExt cx="2040480" cy="541440"/>
            </a:xfrm>
          </p:grpSpPr>
          <p:pic>
            <p:nvPicPr>
              <p:cNvPr id="447" name="Rectangl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5730480" y="5935680"/>
                <a:ext cx="204048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5773320" y="5977800"/>
                <a:ext cx="167724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49" name="AutoShape 14"/>
            <p:cNvCxnSpPr>
              <a:stCxn id="450" idx="3"/>
              <a:endCxn id="447" idx="1"/>
            </p:cNvCxnSpPr>
            <p:nvPr/>
          </p:nvCxnSpPr>
          <p:spPr>
            <a:xfrm>
              <a:off x="5276880" y="6126480"/>
              <a:ext cx="497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51" name="28 Grupo"/>
          <p:cNvGrpSpPr/>
          <p:nvPr/>
        </p:nvGrpSpPr>
        <p:grpSpPr>
          <a:xfrm>
            <a:off x="5276880" y="4719600"/>
            <a:ext cx="2494080" cy="541440"/>
            <a:chOff x="5276880" y="4719600"/>
            <a:chExt cx="2494080" cy="541440"/>
          </a:xfrm>
        </p:grpSpPr>
        <p:grpSp>
          <p:nvGrpSpPr>
            <p:cNvPr id="452" name="Rectangle 15"/>
            <p:cNvGrpSpPr/>
            <p:nvPr/>
          </p:nvGrpSpPr>
          <p:grpSpPr>
            <a:xfrm>
              <a:off x="5730480" y="4719600"/>
              <a:ext cx="2040480" cy="541440"/>
              <a:chOff x="5730480" y="4719600"/>
              <a:chExt cx="2040480" cy="541440"/>
            </a:xfrm>
          </p:grpSpPr>
          <p:pic>
            <p:nvPicPr>
              <p:cNvPr id="453" name="Rectangle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5730480" y="4719600"/>
                <a:ext cx="204048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"/>
              <p:cNvSpPr/>
              <p:nvPr/>
            </p:nvSpPr>
            <p:spPr>
              <a:xfrm>
                <a:off x="5773320" y="4760640"/>
                <a:ext cx="1677240" cy="29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ocumento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Requisitos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55" name="AutoShape 16"/>
            <p:cNvCxnSpPr>
              <a:stCxn id="456" idx="3"/>
              <a:endCxn id="453" idx="1"/>
            </p:cNvCxnSpPr>
            <p:nvPr/>
          </p:nvCxnSpPr>
          <p:spPr>
            <a:xfrm>
              <a:off x="5276880" y="4910040"/>
              <a:ext cx="497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57" name="AutoShape 17"/>
          <p:cNvCxnSpPr>
            <a:stCxn id="453" idx="2"/>
            <a:endCxn id="447" idx="0"/>
          </p:cNvCxnSpPr>
          <p:nvPr/>
        </p:nvCxnSpPr>
        <p:spPr>
          <a:xfrm>
            <a:off x="6808320" y="5261040"/>
            <a:ext cx="1080" cy="67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27 Grupo"/>
          <p:cNvGrpSpPr/>
          <p:nvPr/>
        </p:nvGrpSpPr>
        <p:grpSpPr>
          <a:xfrm>
            <a:off x="3352680" y="4719600"/>
            <a:ext cx="1924200" cy="1757520"/>
            <a:chOff x="3352680" y="4719600"/>
            <a:chExt cx="1924200" cy="1757520"/>
          </a:xfrm>
        </p:grpSpPr>
        <p:grpSp>
          <p:nvGrpSpPr>
            <p:cNvPr id="459" name="Rectangle 10"/>
            <p:cNvGrpSpPr/>
            <p:nvPr/>
          </p:nvGrpSpPr>
          <p:grpSpPr>
            <a:xfrm>
              <a:off x="3352680" y="4719600"/>
              <a:ext cx="1924200" cy="783720"/>
              <a:chOff x="3352680" y="4719600"/>
              <a:chExt cx="1924200" cy="783720"/>
            </a:xfrm>
          </p:grpSpPr>
          <p:pic>
            <p:nvPicPr>
              <p:cNvPr id="460" name="Rectangle 10" descr=""/>
              <p:cNvPicPr/>
              <p:nvPr/>
            </p:nvPicPr>
            <p:blipFill>
              <a:blip r:embed="rId9"/>
              <a:stretch/>
            </p:blipFill>
            <p:spPr>
              <a:xfrm>
                <a:off x="3352680" y="4719600"/>
                <a:ext cx="1924200" cy="78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3392640" y="4779000"/>
                <a:ext cx="1581840" cy="4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ocumento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Requisitos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Rectangle 11"/>
            <p:cNvGrpSpPr/>
            <p:nvPr/>
          </p:nvGrpSpPr>
          <p:grpSpPr>
            <a:xfrm>
              <a:off x="3352680" y="5688360"/>
              <a:ext cx="1924200" cy="788760"/>
              <a:chOff x="3352680" y="5688360"/>
              <a:chExt cx="1924200" cy="788760"/>
            </a:xfrm>
          </p:grpSpPr>
          <p:pic>
            <p:nvPicPr>
              <p:cNvPr id="463" name="Rectangle 1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352680" y="5688360"/>
                <a:ext cx="1924200" cy="78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3392640" y="5749920"/>
                <a:ext cx="1581840" cy="4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AutoShape 13" descr=""/>
            <p:cNvPicPr/>
            <p:nvPr/>
          </p:nvPicPr>
          <p:blipFill>
            <a:blip r:embed="rId11"/>
            <a:stretch/>
          </p:blipFill>
          <p:spPr>
            <a:xfrm>
              <a:off x="4114440" y="5172120"/>
              <a:ext cx="400680" cy="90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6" name="Group 27"/>
          <p:cNvGrpSpPr/>
          <p:nvPr/>
        </p:nvGrpSpPr>
        <p:grpSpPr>
          <a:xfrm>
            <a:off x="5276880" y="3816360"/>
            <a:ext cx="2359080" cy="834480"/>
            <a:chOff x="5276880" y="3816360"/>
            <a:chExt cx="2359080" cy="834480"/>
          </a:xfrm>
        </p:grpSpPr>
        <p:sp>
          <p:nvSpPr>
            <p:cNvPr id="467" name="Text Box 18"/>
            <p:cNvSpPr/>
            <p:nvPr/>
          </p:nvSpPr>
          <p:spPr>
            <a:xfrm>
              <a:off x="6156720" y="3816360"/>
              <a:ext cx="1479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mbio en l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9"/>
            <p:cNvSpPr/>
            <p:nvPr/>
          </p:nvSpPr>
          <p:spPr>
            <a:xfrm flipH="1">
              <a:off x="5276880" y="4246200"/>
              <a:ext cx="78408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Proceso mediante el cual se establecen los servicios que el sistema debe brindar y las restricciones que debe cumplir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Es un proceso sistemático para derivar la definición del sistema a ser construid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3714-B1BF-4C91-BA10-2DB0BAB52809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AutoShape 4"/>
          <p:cNvGrpSpPr/>
          <p:nvPr/>
        </p:nvGrpSpPr>
        <p:grpSpPr>
          <a:xfrm>
            <a:off x="334800" y="4456080"/>
            <a:ext cx="3310200" cy="2305080"/>
            <a:chOff x="334800" y="4456080"/>
            <a:chExt cx="3310200" cy="2305080"/>
          </a:xfrm>
        </p:grpSpPr>
        <p:pic>
          <p:nvPicPr>
            <p:cNvPr id="316" name="AutoShape 4" descr=""/>
            <p:cNvPicPr/>
            <p:nvPr/>
          </p:nvPicPr>
          <p:blipFill>
            <a:blip r:embed="rId2"/>
            <a:stretch/>
          </p:blipFill>
          <p:spPr>
            <a:xfrm>
              <a:off x="334800" y="4456080"/>
              <a:ext cx="3310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79400" y="4772160"/>
              <a:ext cx="1892520" cy="11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Necesida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l Cl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Rectangle 5"/>
          <p:cNvGrpSpPr/>
          <p:nvPr/>
        </p:nvGrpSpPr>
        <p:grpSpPr>
          <a:xfrm>
            <a:off x="6199200" y="4675320"/>
            <a:ext cx="2627280" cy="2017440"/>
            <a:chOff x="6199200" y="4675320"/>
            <a:chExt cx="2627280" cy="2017440"/>
          </a:xfrm>
        </p:grpSpPr>
        <p:pic>
          <p:nvPicPr>
            <p:cNvPr id="319" name="Rectangle 5" descr=""/>
            <p:cNvPicPr/>
            <p:nvPr/>
          </p:nvPicPr>
          <p:blipFill>
            <a:blip r:embed="rId3"/>
            <a:stretch/>
          </p:blipFill>
          <p:spPr>
            <a:xfrm>
              <a:off x="6199200" y="4675320"/>
              <a:ext cx="262728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248520" y="4724280"/>
              <a:ext cx="22096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Group 9" descr=""/>
          <p:cNvPicPr/>
          <p:nvPr/>
        </p:nvPicPr>
        <p:blipFill>
          <a:blip r:embed="rId4"/>
          <a:stretch/>
        </p:blipFill>
        <p:spPr>
          <a:xfrm>
            <a:off x="3303720" y="4572000"/>
            <a:ext cx="31575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Requisitos Funciona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servicios o funciones ofrecid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Requisitos No Funciona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otras cualidades del sistem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Restricciones al Proceso de Desarroll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AEF4-8E18-4616-9D48-5D9C50A75FBA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2361960" y="213372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abstracta de lo que el sistema debe hac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matemática y formal de las funciones del sistem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796A-F689-4475-BBFB-E5152364CC21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AutoShape 4"/>
          <p:cNvGrpSpPr/>
          <p:nvPr/>
        </p:nvGrpSpPr>
        <p:grpSpPr>
          <a:xfrm>
            <a:off x="1627200" y="1706400"/>
            <a:ext cx="1103400" cy="4224600"/>
            <a:chOff x="1627200" y="1706400"/>
            <a:chExt cx="1103400" cy="4224600"/>
          </a:xfrm>
        </p:grpSpPr>
        <p:pic>
          <p:nvPicPr>
            <p:cNvPr id="329" name="AutoShape 4" descr=""/>
            <p:cNvPicPr/>
            <p:nvPr/>
          </p:nvPicPr>
          <p:blipFill>
            <a:blip r:embed="rId2"/>
            <a:stretch/>
          </p:blipFill>
          <p:spPr>
            <a:xfrm>
              <a:off x="1627200" y="1706400"/>
              <a:ext cx="1103400" cy="422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847880" y="2228760"/>
              <a:ext cx="342720" cy="33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 Box 5"/>
          <p:cNvSpPr/>
          <p:nvPr/>
        </p:nvSpPr>
        <p:spPr>
          <a:xfrm rot="16200000">
            <a:off x="304560" y="358776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bstr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orbel"/>
              </a:rPr>
              <a:t>En un llamado a licitación de un gran proyecto de software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Se debe definir las necesidades en forma suficientemente abstracta para que la solución no esté predefinida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Los requisitos deben escribirse de modo que varios contratistas puedan competir por el contrato, ofreciendo quizás diferentes formas de lograr los objetivos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Una vez que la licitación es otorgada, el contratista debe escribir la definición del sistema para el cliente en más detalle para que el cliente entienda y pueda validar lo que el software finalmente hará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Ambos documentos pueden llamarse documento de requisitos del sistem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AE05-767E-4F3D-8217-13EFC739E55B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8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Contenido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rvicios que se espera del sistema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restricciones de operación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enguaje natural y diagrama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Usuario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gerencia del client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usuarios finale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ingenieros del client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gerencia de desarrollo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rquitectos del sistema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23F7-2896-4E02-A8D6-35C60A05939B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4 Llamada rectangular redondeada"/>
          <p:cNvGrpSpPr/>
          <p:nvPr/>
        </p:nvGrpSpPr>
        <p:grpSpPr>
          <a:xfrm>
            <a:off x="2865600" y="1663560"/>
            <a:ext cx="6357600" cy="1914840"/>
            <a:chOff x="2865600" y="1663560"/>
            <a:chExt cx="6357600" cy="1914840"/>
          </a:xfrm>
        </p:grpSpPr>
        <p:pic>
          <p:nvPicPr>
            <p:cNvPr id="339" name="4 Llamada rectangular redondeada" descr=""/>
            <p:cNvPicPr/>
            <p:nvPr/>
          </p:nvPicPr>
          <p:blipFill>
            <a:blip r:embed="rId2"/>
            <a:stretch/>
          </p:blipFill>
          <p:spPr>
            <a:xfrm>
              <a:off x="2865600" y="1663560"/>
              <a:ext cx="6357600" cy="19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6716880" y="1787400"/>
              <a:ext cx="206820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rbel"/>
                </a:rPr>
                <a:t>La información la brinda el cl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5 Llamada rectangular redondeada"/>
          <p:cNvGrpSpPr/>
          <p:nvPr/>
        </p:nvGrpSpPr>
        <p:grpSpPr>
          <a:xfrm>
            <a:off x="2639880" y="3597120"/>
            <a:ext cx="4724640" cy="1913040"/>
            <a:chOff x="2639880" y="3597120"/>
            <a:chExt cx="4724640" cy="1913040"/>
          </a:xfrm>
        </p:grpSpPr>
        <p:pic>
          <p:nvPicPr>
            <p:cNvPr id="342" name="5 Llamada rectangular redondeada" descr=""/>
            <p:cNvPicPr/>
            <p:nvPr/>
          </p:nvPicPr>
          <p:blipFill>
            <a:blip r:embed="rId3"/>
            <a:stretch/>
          </p:blipFill>
          <p:spPr>
            <a:xfrm>
              <a:off x="2639880" y="3597120"/>
              <a:ext cx="472464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4859280" y="3716280"/>
              <a:ext cx="206856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rbel"/>
                </a:rPr>
                <a:t>Cada uno tiene un rol difer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enido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talle de los servicios del siste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lenguaje más formal y precis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base del contrato entre desarrolladores y cli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Usuario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usuarios finale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ingenieros del client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rquitectos del siste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sarrollador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6F48-E9C3-4B9D-B5E2-80B8D38EAD85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enido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scripción abstracta del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base para el diseño y  la implement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grega detalles técnic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Usuario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ingenieros del client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rquitectos del sistem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sarrollador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6DD6-9BDB-42E5-8D83-9151E36F7D28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285840" y="1774440"/>
            <a:ext cx="8572320" cy="4226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En sistemas grandes y complejos los requisitos nunca están completos al iniciar el desarrollo del proyecto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espera que mejoren la situación actual (sistema manual o anticuado); no se sabe bien en qué dirección mejorar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usuarios múltiples y diversos con distintas necesidades y prioridades; el sistema final será un compromiso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quien paga por el sistema no es habitualmente quien lo va a usar; las restricciones de presupuesto se contraponen a las necesidades de los usuari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E6FB-C075-47F3-9F01-B9FACB79356F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Group 8" descr=""/>
          <p:cNvPicPr/>
          <p:nvPr/>
        </p:nvPicPr>
        <p:blipFill>
          <a:blip r:embed="rId2"/>
          <a:stretch/>
        </p:blipFill>
        <p:spPr>
          <a:xfrm>
            <a:off x="3017880" y="5803920"/>
            <a:ext cx="6235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4-06T13:47:04Z</cp:lastPrinted>
  <dcterms:modified xsi:type="dcterms:W3CDTF">2010-08-31T14:59:10Z</dcterms:modified>
  <cp:revision>143</cp:revision>
  <dc:subject/>
  <dc:title>CC31B: Desarrollo de Software de Aplicaciones</dc:title>
</cp:coreProperties>
</file>