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76055-21A9-423B-98E7-554FE053556C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D11B5-434D-43D4-9AD7-2D67A4114AB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DC97C-4FF7-43A8-AEDE-19015E51524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12C65-2F14-4081-A1C4-C058C377E35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ED2BA-D519-45CF-9AB5-F5C2C482140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E1144-3662-40D8-B7ED-BF12F3862FA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C3774-E560-4F13-8E74-0C51C6AB31E3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5F6CC-DBAC-4A47-B646-3F838437B061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4921-5F87-4535-8C78-E57CF3C17E11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280AB-A934-4EDD-BE9E-55327662EF06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466F0-08DD-4728-A6BB-310F0207B7E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79DEC-FAF6-45E0-9D6C-47F153EE5DE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B9253-60FF-4FDC-984D-20C35C1FC02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A1385-BD3B-428A-9482-B74925834AF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2FF90-2A9C-46D5-B6AA-A22428EBACEE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617FD-BFB2-4A2F-80F5-FB30CD8568C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E2B7A-5157-440C-8715-1DC9BE092F2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CA677-85C5-4362-A7DE-EFD5F1F13192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B68CA-8DB5-4AC1-9E7F-F37FA4DFD3F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3FDAD-5AE8-4165-B3EB-D7C3BB955A13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2BE-31C0-4E8E-96CB-D28318A7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752-5A39-40FF-8F68-C53A8C78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35B-E63C-480A-9FEA-9AD4FF1E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6EB-DB73-4F7E-A73D-9C3F3705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2E4F-20DE-4DEA-B459-6ADB5876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38A7-A061-44D1-B873-DAB9BABC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4814-5C8A-47FB-A34E-CCDF17E6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D9D-0DA0-4FEC-A1D2-DD68C0C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D7F9-A7F2-47DF-B99B-7AB22607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AECA-0A51-409C-AE1E-8A2B4EB3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23B-5B9B-49F0-ADC7-E6608D2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E85-42E8-46EE-9849-8681F71C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8BBA-E6DA-4FB6-9051-5B1DD3B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B2FD-03AB-4979-A731-C1E6030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A3E-1333-428A-B631-E8B0C0A7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FF9-7739-455D-97CE-1BAEA941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3FDD-0D96-413B-9F70-D2213823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A9F7-2A18-4FCF-8F21-6FA6415A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D373-9D86-4F49-B6D0-61616E2B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F4E6-8BF0-4936-AAB1-6534F2CA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FF6E-D797-48C3-A850-73B32533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D21F-7865-41A0-A741-D2F01904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8F3-407E-4DBE-BB27-EF8A898C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DF9D-CFF2-4595-BE90-622E6677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B4ED-8831-427C-B496-B16137C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4F9B-D4C5-4746-ACE5-AEABB3A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44AA-5275-453A-A3ED-814F9F9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52D2-5E5F-47B6-B420-6F595B08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9942-3008-46C1-8C60-A58F22DF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EC33-C532-4F3E-BC35-33BABF01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2456-E0F6-474C-B786-7520C8F4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E866-0A36-4B1E-8687-91E8A67C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D8E5-C38D-4A55-81A9-139CA3A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E21-3878-45CE-9391-5BDB9E2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4651-8AAF-4FD3-B0D8-CE78BA1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8059-807C-49DF-816B-39B0E0B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8F76-5F7A-4662-9A1C-0B42A0C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492F-AD28-422E-8B8E-69EB776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C7D8-D941-4F91-A1E1-0086F07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D9DB-2B67-4BDE-A2B4-99B4C03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8647-3122-4AD7-B8FF-7CD9BE4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2B18-46B9-438C-93EF-2D8FB19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81D06-E388-4B18-88D1-236B959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EE46-34F7-429F-975E-4B6D76E9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E8A-6458-48F4-81D1-9CEADF9A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354C-F12C-405E-9611-552421A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19AB-E2DE-41AB-B690-A81540B8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9A13-E9E8-48FE-84DE-520FC526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5873-2C99-46E6-B55E-56621E4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A4A9B-5C2A-4E3C-A2E5-FDE8BD10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C809-6CC2-4D3D-8BCA-D1DFAEC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3953-1084-4259-9202-A26F12D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0683-D38D-4634-979F-FDD3D85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2578-F3F5-472A-8258-B859140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545A-AB4B-4DEC-A99C-5F655973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BA7-F626-44D8-B00D-ECB6983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61291-538B-4748-8CDD-5EDA9B52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4EF7-2D1D-4C1E-A8FB-4F7D5988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DB20D-7274-4CFE-A526-F86F1F6E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8FB81-2B95-4C6B-AFAF-03907E9D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A9BD-6432-4D87-946E-89CF8BE3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161E-9D7A-4791-95B3-0D5956A4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2DBEC-A0FF-4EBE-96C2-648E0517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CBD7-39FD-4F39-891A-3957A2D4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3403-C647-48E7-B46B-368C95F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BA4E2-27C7-41F1-90A6-AF8E683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1AA-644C-4B5A-8817-9CD7C50E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12BB-7734-4179-821E-17258446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FC193-DC0A-45CD-8215-657A6A46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5D3C-C204-488C-AEAC-DDC7EEBE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FE91E-9CCA-4CAD-8D3F-4CD41EB9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7CBE-18DB-435C-8B75-DD00941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6BAE-FC2A-4031-BE0B-7832A5C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EEE7-7365-4DA1-8E3A-F2A51EE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A472-8C88-4C9A-A0C9-B838B46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32E80-66A9-484A-A9CC-44A4C83B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0433-EE0F-475B-8E78-023B1AE3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83D-A9E1-48AB-AC83-3F993D2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058A-42A7-4F63-AF5E-DB99AEA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1D3B-1D27-4F83-B2D4-35E997F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3574E-A284-48C7-96FC-E43371B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4C1A-8665-4CFC-9ED1-C8115692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95FE8-14D9-4300-BE04-4E9E6FBC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BA4-836B-4AB6-A5F7-51DC9C07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F7B9-384B-4D96-98DD-2F946406DF23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EFD-8857-4E75-8F74-77C25097E6F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7EAA-F686-4977-89AF-FBF306B3774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FC8-96C0-4138-AD65-B786B9DF50B5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DC4D-B9D6-4727-9383-36FCB31F41B5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10E2-9F8A-43F7-9E60-190B80AFD10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BFA-9E2F-49C7-BC7F-C8EFD21C5E17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33440" y="2109960"/>
            <a:ext cx="8034120" cy="1468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56760" y="1714680"/>
            <a:ext cx="8572680" cy="4991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junto de actividades que llevan a la definición y especificación de requisit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tudio de factibilidad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nálisis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obtener los requisitos observando el sistema actual, discutiendo con usuario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arrollo de modelos y prototipos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defini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traducción del producto del análisis a un documento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ocumento orientado a múltiples lect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cripción detallada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base del contrato entre cliente y desarrollad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en paralelo con el diseño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0576-1014-4ED3-9F81-036C17BDE07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0"/>
          <p:cNvSpPr/>
          <p:nvPr/>
        </p:nvSpPr>
        <p:spPr>
          <a:xfrm>
            <a:off x="57150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50532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sp>
        <p:nvSpPr>
          <p:cNvPr id="36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392D-9E59-4A9E-8669-B9D7709700A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"/>
          <p:cNvGrpSpPr/>
          <p:nvPr/>
        </p:nvGrpSpPr>
        <p:grpSpPr>
          <a:xfrm>
            <a:off x="712800" y="1920960"/>
            <a:ext cx="2085840" cy="1176120"/>
            <a:chOff x="712800" y="1920960"/>
            <a:chExt cx="2085840" cy="1176120"/>
          </a:xfrm>
        </p:grpSpPr>
        <p:pic>
          <p:nvPicPr>
            <p:cNvPr id="362" name="AutoShape 3" descr=""/>
            <p:cNvPicPr/>
            <p:nvPr/>
          </p:nvPicPr>
          <p:blipFill>
            <a:blip r:embed="rId2"/>
            <a:stretch/>
          </p:blipFill>
          <p:spPr>
            <a:xfrm>
              <a:off x="712800" y="1920960"/>
              <a:ext cx="20858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98480" y="2008080"/>
              <a:ext cx="16002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tudi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4"/>
          <p:cNvGrpSpPr/>
          <p:nvPr/>
        </p:nvGrpSpPr>
        <p:grpSpPr>
          <a:xfrm>
            <a:off x="2773440" y="1920960"/>
            <a:ext cx="2090520" cy="1176120"/>
            <a:chOff x="2773440" y="1920960"/>
            <a:chExt cx="2090520" cy="1176120"/>
          </a:xfrm>
        </p:grpSpPr>
        <p:pic>
          <p:nvPicPr>
            <p:cNvPr id="365" name="AutoShape 4" descr=""/>
            <p:cNvPicPr/>
            <p:nvPr/>
          </p:nvPicPr>
          <p:blipFill>
            <a:blip r:embed="rId3"/>
            <a:stretch/>
          </p:blipFill>
          <p:spPr>
            <a:xfrm>
              <a:off x="2773440" y="1920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855880" y="200808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nálisi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5"/>
          <p:cNvGrpSpPr/>
          <p:nvPr/>
        </p:nvGrpSpPr>
        <p:grpSpPr>
          <a:xfrm>
            <a:off x="4937040" y="2914560"/>
            <a:ext cx="2183040" cy="1176480"/>
            <a:chOff x="4937040" y="2914560"/>
            <a:chExt cx="2183040" cy="1176480"/>
          </a:xfrm>
        </p:grpSpPr>
        <p:pic>
          <p:nvPicPr>
            <p:cNvPr id="368" name="AutoShape 5" descr=""/>
            <p:cNvPicPr/>
            <p:nvPr/>
          </p:nvPicPr>
          <p:blipFill>
            <a:blip r:embed="rId4"/>
            <a:stretch/>
          </p:blipFill>
          <p:spPr>
            <a:xfrm>
              <a:off x="4937040" y="2914560"/>
              <a:ext cx="2183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065560" y="29988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6"/>
          <p:cNvGrpSpPr/>
          <p:nvPr/>
        </p:nvGrpSpPr>
        <p:grpSpPr>
          <a:xfrm>
            <a:off x="6907320" y="3902040"/>
            <a:ext cx="2352600" cy="1176480"/>
            <a:chOff x="6907320" y="3902040"/>
            <a:chExt cx="2352600" cy="1176480"/>
          </a:xfrm>
        </p:grpSpPr>
        <p:pic>
          <p:nvPicPr>
            <p:cNvPr id="371" name="AutoShape 6" descr=""/>
            <p:cNvPicPr/>
            <p:nvPr/>
          </p:nvPicPr>
          <p:blipFill>
            <a:blip r:embed="rId5"/>
            <a:stretch/>
          </p:blipFill>
          <p:spPr>
            <a:xfrm>
              <a:off x="6907320" y="3902040"/>
              <a:ext cx="2352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122960" y="3989520"/>
              <a:ext cx="16034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AutoShape 7"/>
          <p:cNvCxnSpPr>
            <a:stCxn id="362" idx="3"/>
            <a:endCxn id="365" idx="1"/>
          </p:cNvCxnSpPr>
          <p:nvPr/>
        </p:nvCxnSpPr>
        <p:spPr>
          <a:xfrm>
            <a:off x="2435040" y="235224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8"/>
          <p:cNvCxnSpPr>
            <a:stCxn id="365" idx="2"/>
            <a:endCxn id="368" idx="1"/>
          </p:cNvCxnSpPr>
          <p:nvPr/>
        </p:nvCxnSpPr>
        <p:spPr>
          <a:xfrm flipH="1" rot="16200000">
            <a:off x="4038480" y="2352240"/>
            <a:ext cx="61020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9"/>
          <p:cNvCxnSpPr>
            <a:stCxn id="368" idx="0"/>
            <a:endCxn id="365" idx="3"/>
          </p:cNvCxnSpPr>
          <p:nvPr/>
        </p:nvCxnSpPr>
        <p:spPr>
          <a:xfrm flipV="1" rot="16200000">
            <a:off x="4876200" y="1971000"/>
            <a:ext cx="6105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10"/>
          <p:cNvCxnSpPr>
            <a:stCxn id="368" idx="2"/>
            <a:endCxn id="371" idx="1"/>
          </p:cNvCxnSpPr>
          <p:nvPr/>
        </p:nvCxnSpPr>
        <p:spPr>
          <a:xfrm flipH="1" rot="16200000">
            <a:off x="6171120" y="3419280"/>
            <a:ext cx="61056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1"/>
          <p:cNvCxnSpPr>
            <a:stCxn id="371" idx="0"/>
            <a:endCxn id="368" idx="3"/>
          </p:cNvCxnSpPr>
          <p:nvPr/>
        </p:nvCxnSpPr>
        <p:spPr>
          <a:xfrm flipV="1" rot="16200000">
            <a:off x="7009920" y="3037680"/>
            <a:ext cx="61020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8" name="Rectangle 12"/>
          <p:cNvGrpSpPr/>
          <p:nvPr/>
        </p:nvGrpSpPr>
        <p:grpSpPr>
          <a:xfrm>
            <a:off x="712800" y="3749760"/>
            <a:ext cx="2090880" cy="1176120"/>
            <a:chOff x="712800" y="3749760"/>
            <a:chExt cx="2090880" cy="1176120"/>
          </a:xfrm>
        </p:grpSpPr>
        <p:pic>
          <p:nvPicPr>
            <p:cNvPr id="379" name="Rectangle 12" descr=""/>
            <p:cNvPicPr/>
            <p:nvPr/>
          </p:nvPicPr>
          <p:blipFill>
            <a:blip r:embed="rId6"/>
            <a:stretch/>
          </p:blipFill>
          <p:spPr>
            <a:xfrm>
              <a:off x="712800" y="3749760"/>
              <a:ext cx="20908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62120" y="38005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porte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Rectangle 13"/>
          <p:cNvGrpSpPr/>
          <p:nvPr/>
        </p:nvGrpSpPr>
        <p:grpSpPr>
          <a:xfrm>
            <a:off x="2773440" y="4206960"/>
            <a:ext cx="2090520" cy="1176120"/>
            <a:chOff x="2773440" y="4206960"/>
            <a:chExt cx="2090520" cy="1176120"/>
          </a:xfrm>
        </p:grpSpPr>
        <p:pic>
          <p:nvPicPr>
            <p:cNvPr id="382" name="Rectangle 13" descr=""/>
            <p:cNvPicPr/>
            <p:nvPr/>
          </p:nvPicPr>
          <p:blipFill>
            <a:blip r:embed="rId7"/>
            <a:stretch/>
          </p:blipFill>
          <p:spPr>
            <a:xfrm>
              <a:off x="2773440" y="4206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819520" y="42577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14"/>
          <p:cNvGrpSpPr/>
          <p:nvPr/>
        </p:nvGrpSpPr>
        <p:grpSpPr>
          <a:xfrm>
            <a:off x="2773440" y="5273640"/>
            <a:ext cx="2090520" cy="1176480"/>
            <a:chOff x="2773440" y="5273640"/>
            <a:chExt cx="2090520" cy="1176480"/>
          </a:xfrm>
        </p:grpSpPr>
        <p:pic>
          <p:nvPicPr>
            <p:cNvPr id="385" name="Rectangle 14" descr=""/>
            <p:cNvPicPr/>
            <p:nvPr/>
          </p:nvPicPr>
          <p:blipFill>
            <a:blip r:embed="rId8"/>
            <a:stretch/>
          </p:blipFill>
          <p:spPr>
            <a:xfrm>
              <a:off x="2773440" y="5273640"/>
              <a:ext cx="20905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819520" y="532440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ectangle 15"/>
          <p:cNvGrpSpPr/>
          <p:nvPr/>
        </p:nvGrpSpPr>
        <p:grpSpPr>
          <a:xfrm>
            <a:off x="4932360" y="4664160"/>
            <a:ext cx="2181240" cy="1176120"/>
            <a:chOff x="4932360" y="4664160"/>
            <a:chExt cx="2181240" cy="1176120"/>
          </a:xfrm>
        </p:grpSpPr>
        <p:pic>
          <p:nvPicPr>
            <p:cNvPr id="388" name="Rectangle 15" descr=""/>
            <p:cNvPicPr/>
            <p:nvPr/>
          </p:nvPicPr>
          <p:blipFill>
            <a:blip r:embed="rId9"/>
            <a:stretch/>
          </p:blipFill>
          <p:spPr>
            <a:xfrm>
              <a:off x="4932360" y="4664160"/>
              <a:ext cx="2181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29200" y="471492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16"/>
          <p:cNvGrpSpPr/>
          <p:nvPr/>
        </p:nvGrpSpPr>
        <p:grpSpPr>
          <a:xfrm>
            <a:off x="6907320" y="5211720"/>
            <a:ext cx="2352600" cy="1170000"/>
            <a:chOff x="6907320" y="5211720"/>
            <a:chExt cx="2352600" cy="1170000"/>
          </a:xfrm>
        </p:grpSpPr>
        <p:pic>
          <p:nvPicPr>
            <p:cNvPr id="391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07320" y="5211720"/>
              <a:ext cx="23526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086600" y="525780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AutoShape 17"/>
          <p:cNvCxnSpPr>
            <a:stCxn id="362" idx="2"/>
            <a:endCxn id="379" idx="0"/>
          </p:cNvCxnSpPr>
          <p:nvPr/>
        </p:nvCxnSpPr>
        <p:spPr>
          <a:xfrm>
            <a:off x="1598760" y="2733480"/>
            <a:ext cx="2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AutoShape 19"/>
          <p:cNvCxnSpPr>
            <a:stCxn id="382" idx="2"/>
            <a:endCxn id="385" idx="0"/>
          </p:cNvCxnSpPr>
          <p:nvPr/>
        </p:nvCxnSpPr>
        <p:spPr>
          <a:xfrm flipH="1">
            <a:off x="3657240" y="5018040"/>
            <a:ext cx="21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AutoShape 21"/>
          <p:cNvCxnSpPr>
            <a:stCxn id="388" idx="2"/>
            <a:endCxn id="385" idx="3"/>
          </p:cNvCxnSpPr>
          <p:nvPr/>
        </p:nvCxnSpPr>
        <p:spPr>
          <a:xfrm rot="5400000">
            <a:off x="5065920" y="4902840"/>
            <a:ext cx="2307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Line 22"/>
          <p:cNvSpPr/>
          <p:nvPr/>
        </p:nvSpPr>
        <p:spPr>
          <a:xfrm flipH="1">
            <a:off x="4495320" y="5791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23"/>
          <p:cNvCxnSpPr>
            <a:stCxn id="371" idx="2"/>
            <a:endCxn id="391" idx="0"/>
          </p:cNvCxnSpPr>
          <p:nvPr/>
        </p:nvCxnSpPr>
        <p:spPr>
          <a:xfrm flipH="1">
            <a:off x="7922520" y="4716360"/>
            <a:ext cx="39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SRS: Software Requirements Specific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eclaración oficial de lo que hará el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Qué es los que el sistema debe hacer sin indicar có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Debe ser suficientemente específico como para poder relacionar los requisitos con la funcionalidad del sistema fina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12B-BBDF-4BA8-9D41-C7F9082C00E5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08400" y="214488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ocume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3445560" y="217980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efini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11000" y="217980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Especific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82096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64012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l documento debe ser completo y consistent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todas las funciones deben ser incluida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no debe haber conflic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ebe ser fácilmente modificabl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rrore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volución de los requisi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430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Características necesari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solamente comportamiento externo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tricciones a la implementa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fácilmente modificable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útil como referencia para los encargados del mantenimiento del sistema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gistro de reflexiones acerca de futura evolu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puestas aceptable a eventos inesperad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8DD7-0A2C-4B31-AF3D-048AD58B847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scripción general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funcionalidad e interacción con otros sistema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inserción en la empres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losari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finición de términ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odelos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de relación del sistema con el ambient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servicios del sistem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y explicac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No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volución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ambios que se anticipa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pecificación de Requisito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talle de la funcionalidad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rbel"/>
              </a:rPr>
              <a:t>funciones, datos, dinámica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68E3-D2DA-4867-8C3D-D4D6CF3B8D58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99680" y="1785960"/>
            <a:ext cx="8077320" cy="480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El documento de requisitos debe expresar lo que el cliente realmente necesit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Si existe errores, estos se propagan al diseño y a la implementació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corrección es más cara cuanto más tarde se detecte el err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100 veces más caro corregir un error de requisitos después de entregado el sistema que corregir el documento de requisi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validación debe hacerse con el cliente/usuario a medida que se construye el documento de requisito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visiones y “caminatas”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B693-9147-4B35-A335-2F8CD63CD33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094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alidez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a funcionalidad especificada es aceptada por todos los usuari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sistencia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no existen conflictos entre los requisit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leto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todas las funciones y restricciones están incluid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actibilidad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requisitos realizable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mejoras esperables realist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erific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requisitos pueden ser verificad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rensi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laridad de expres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astre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origen de los requisitos (evolución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dapt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cambios no afectan el sistema completo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B38-400A-49E3-BF7F-0AE22995186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comprensión del sistema avanza a medida que se analizan los requisit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tiempo de desarrollo de grandes sistemas puede ser varios añ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ambiente cambia y afecta los requisit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lases de requisit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uraderos: relativos a actividades esencial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olátiles: requisitos propensos a camb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B9A-BA30-4877-8F82-763A4399AA11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Mutabl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el ambiente organizaciona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Emergent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comprensión profunda del sistema trae a la luz est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nsecuenci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implantación del sistema trae nuev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mpatibilidad: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otros sistemas con los que se interactú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51DE-53E8-403D-901A-D3479874930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8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3637-2B93-49CE-92BF-27A9BFE830DE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26 Grupo"/>
          <p:cNvGrpSpPr/>
          <p:nvPr/>
        </p:nvGrpSpPr>
        <p:grpSpPr>
          <a:xfrm>
            <a:off x="990720" y="1981080"/>
            <a:ext cx="1923840" cy="1757520"/>
            <a:chOff x="990720" y="1981080"/>
            <a:chExt cx="1923840" cy="1757520"/>
          </a:xfrm>
        </p:grpSpPr>
        <p:grpSp>
          <p:nvGrpSpPr>
            <p:cNvPr id="430" name="Rectangle 3"/>
            <p:cNvGrpSpPr/>
            <p:nvPr/>
          </p:nvGrpSpPr>
          <p:grpSpPr>
            <a:xfrm>
              <a:off x="990720" y="1981080"/>
              <a:ext cx="1923840" cy="785880"/>
              <a:chOff x="990720" y="1981080"/>
              <a:chExt cx="1923840" cy="785880"/>
            </a:xfrm>
          </p:grpSpPr>
          <p:pic>
            <p:nvPicPr>
              <p:cNvPr id="431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98108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1028160" y="203940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Rectangle 4"/>
            <p:cNvGrpSpPr/>
            <p:nvPr/>
          </p:nvGrpSpPr>
          <p:grpSpPr>
            <a:xfrm>
              <a:off x="990720" y="2952720"/>
              <a:ext cx="1923840" cy="785880"/>
              <a:chOff x="990720" y="2952720"/>
              <a:chExt cx="1923840" cy="785880"/>
            </a:xfrm>
          </p:grpSpPr>
          <p:pic>
            <p:nvPicPr>
              <p:cNvPr id="434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95272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1028160" y="301356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6" name="AutoShape 6" descr=""/>
            <p:cNvPicPr/>
            <p:nvPr/>
          </p:nvPicPr>
          <p:blipFill>
            <a:blip r:embed="rId4"/>
            <a:stretch/>
          </p:blipFill>
          <p:spPr>
            <a:xfrm>
              <a:off x="1749240" y="2435040"/>
              <a:ext cx="40176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29 Grupo"/>
          <p:cNvGrpSpPr/>
          <p:nvPr/>
        </p:nvGrpSpPr>
        <p:grpSpPr>
          <a:xfrm>
            <a:off x="2914560" y="3197160"/>
            <a:ext cx="2494080" cy="541440"/>
            <a:chOff x="2914560" y="3197160"/>
            <a:chExt cx="2494080" cy="541440"/>
          </a:xfrm>
        </p:grpSpPr>
        <p:grpSp>
          <p:nvGrpSpPr>
            <p:cNvPr id="438" name="Rectangle 5"/>
            <p:cNvGrpSpPr/>
            <p:nvPr/>
          </p:nvGrpSpPr>
          <p:grpSpPr>
            <a:xfrm>
              <a:off x="3405960" y="3197160"/>
              <a:ext cx="2002680" cy="541440"/>
              <a:chOff x="3405960" y="3197160"/>
              <a:chExt cx="2002680" cy="541440"/>
            </a:xfrm>
          </p:grpSpPr>
          <p:pic>
            <p:nvPicPr>
              <p:cNvPr id="43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405960" y="3197160"/>
                <a:ext cx="20026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3445560" y="3238920"/>
                <a:ext cx="165060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AutoShape 7" descr=""/>
            <p:cNvPicPr/>
            <p:nvPr/>
          </p:nvPicPr>
          <p:blipFill>
            <a:blip r:embed="rId6"/>
            <a:stretch/>
          </p:blipFill>
          <p:spPr>
            <a:xfrm>
              <a:off x="2914560" y="3341520"/>
              <a:ext cx="87840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2"/>
          <p:cNvGrpSpPr/>
          <p:nvPr/>
        </p:nvGrpSpPr>
        <p:grpSpPr>
          <a:xfrm>
            <a:off x="2857680" y="2286000"/>
            <a:ext cx="2359080" cy="835200"/>
            <a:chOff x="2857680" y="2286000"/>
            <a:chExt cx="2359080" cy="835200"/>
          </a:xfrm>
        </p:grpSpPr>
        <p:sp>
          <p:nvSpPr>
            <p:cNvPr id="443" name="Text Box 8"/>
            <p:cNvSpPr/>
            <p:nvPr/>
          </p:nvSpPr>
          <p:spPr>
            <a:xfrm>
              <a:off x="3737520" y="228600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>
              <a:off x="2857680" y="2714760"/>
              <a:ext cx="7840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30 Grupo"/>
          <p:cNvGrpSpPr/>
          <p:nvPr/>
        </p:nvGrpSpPr>
        <p:grpSpPr>
          <a:xfrm>
            <a:off x="5276880" y="5935680"/>
            <a:ext cx="2494080" cy="541440"/>
            <a:chOff x="5276880" y="5935680"/>
            <a:chExt cx="2494080" cy="541440"/>
          </a:xfrm>
        </p:grpSpPr>
        <p:grpSp>
          <p:nvGrpSpPr>
            <p:cNvPr id="446" name="Rectangle 12"/>
            <p:cNvGrpSpPr/>
            <p:nvPr/>
          </p:nvGrpSpPr>
          <p:grpSpPr>
            <a:xfrm>
              <a:off x="5730480" y="5935680"/>
              <a:ext cx="2040480" cy="541440"/>
              <a:chOff x="5730480" y="5935680"/>
              <a:chExt cx="2040480" cy="541440"/>
            </a:xfrm>
          </p:grpSpPr>
          <p:pic>
            <p:nvPicPr>
              <p:cNvPr id="447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5730480" y="593568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5773320" y="5977800"/>
                <a:ext cx="16772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49" name="AutoShape 14"/>
            <p:cNvCxnSpPr>
              <a:stCxn id="450" idx="3"/>
              <a:endCxn id="447" idx="1"/>
            </p:cNvCxnSpPr>
            <p:nvPr/>
          </p:nvCxnSpPr>
          <p:spPr>
            <a:xfrm>
              <a:off x="5276880" y="612648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1" name="28 Grupo"/>
          <p:cNvGrpSpPr/>
          <p:nvPr/>
        </p:nvGrpSpPr>
        <p:grpSpPr>
          <a:xfrm>
            <a:off x="5276880" y="4719600"/>
            <a:ext cx="2494080" cy="541440"/>
            <a:chOff x="5276880" y="4719600"/>
            <a:chExt cx="2494080" cy="541440"/>
          </a:xfrm>
        </p:grpSpPr>
        <p:grpSp>
          <p:nvGrpSpPr>
            <p:cNvPr id="452" name="Rectangle 15"/>
            <p:cNvGrpSpPr/>
            <p:nvPr/>
          </p:nvGrpSpPr>
          <p:grpSpPr>
            <a:xfrm>
              <a:off x="5730480" y="4719600"/>
              <a:ext cx="2040480" cy="541440"/>
              <a:chOff x="5730480" y="4719600"/>
              <a:chExt cx="2040480" cy="541440"/>
            </a:xfrm>
          </p:grpSpPr>
          <p:pic>
            <p:nvPicPr>
              <p:cNvPr id="453" name="Rectangl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30480" y="471960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73320" y="4760640"/>
                <a:ext cx="167724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55" name="AutoShape 16"/>
            <p:cNvCxnSpPr>
              <a:stCxn id="456" idx="3"/>
              <a:endCxn id="453" idx="1"/>
            </p:cNvCxnSpPr>
            <p:nvPr/>
          </p:nvCxnSpPr>
          <p:spPr>
            <a:xfrm>
              <a:off x="5276880" y="491004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57" name="AutoShape 17"/>
          <p:cNvCxnSpPr>
            <a:stCxn id="453" idx="2"/>
            <a:endCxn id="447" idx="0"/>
          </p:cNvCxnSpPr>
          <p:nvPr/>
        </p:nvCxnSpPr>
        <p:spPr>
          <a:xfrm>
            <a:off x="6808320" y="5261040"/>
            <a:ext cx="10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27 Grupo"/>
          <p:cNvGrpSpPr/>
          <p:nvPr/>
        </p:nvGrpSpPr>
        <p:grpSpPr>
          <a:xfrm>
            <a:off x="3352680" y="4719600"/>
            <a:ext cx="1924200" cy="1757520"/>
            <a:chOff x="3352680" y="4719600"/>
            <a:chExt cx="1924200" cy="1757520"/>
          </a:xfrm>
        </p:grpSpPr>
        <p:grpSp>
          <p:nvGrpSpPr>
            <p:cNvPr id="459" name="Rectangle 10"/>
            <p:cNvGrpSpPr/>
            <p:nvPr/>
          </p:nvGrpSpPr>
          <p:grpSpPr>
            <a:xfrm>
              <a:off x="3352680" y="4719600"/>
              <a:ext cx="1924200" cy="783720"/>
              <a:chOff x="3352680" y="4719600"/>
              <a:chExt cx="1924200" cy="783720"/>
            </a:xfrm>
          </p:grpSpPr>
          <p:pic>
            <p:nvPicPr>
              <p:cNvPr id="460" name="Rectangle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2680" y="4719600"/>
                <a:ext cx="192420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392640" y="477900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1"/>
            <p:cNvGrpSpPr/>
            <p:nvPr/>
          </p:nvGrpSpPr>
          <p:grpSpPr>
            <a:xfrm>
              <a:off x="3352680" y="5688360"/>
              <a:ext cx="1924200" cy="788760"/>
              <a:chOff x="3352680" y="5688360"/>
              <a:chExt cx="1924200" cy="788760"/>
            </a:xfrm>
          </p:grpSpPr>
          <p:pic>
            <p:nvPicPr>
              <p:cNvPr id="46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2680" y="5688360"/>
                <a:ext cx="192420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3392640" y="574992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AutoShape 13" descr=""/>
            <p:cNvPicPr/>
            <p:nvPr/>
          </p:nvPicPr>
          <p:blipFill>
            <a:blip r:embed="rId11"/>
            <a:stretch/>
          </p:blipFill>
          <p:spPr>
            <a:xfrm>
              <a:off x="4114440" y="5172120"/>
              <a:ext cx="400680" cy="9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27"/>
          <p:cNvGrpSpPr/>
          <p:nvPr/>
        </p:nvGrpSpPr>
        <p:grpSpPr>
          <a:xfrm>
            <a:off x="5276880" y="3816360"/>
            <a:ext cx="2359080" cy="834480"/>
            <a:chOff x="5276880" y="3816360"/>
            <a:chExt cx="2359080" cy="834480"/>
          </a:xfrm>
        </p:grpSpPr>
        <p:sp>
          <p:nvSpPr>
            <p:cNvPr id="467" name="Text Box 18"/>
            <p:cNvSpPr/>
            <p:nvPr/>
          </p:nvSpPr>
          <p:spPr>
            <a:xfrm>
              <a:off x="6156720" y="381636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 flipH="1">
              <a:off x="5276880" y="4246200"/>
              <a:ext cx="78408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oceso mediante el cual se establecen los servicios que el sistema debe brindar y las restricciones que debe cumpli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s un proceso sistemático para derivar la definición del sistema a ser construid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D327-EB5B-4A2C-94C4-600B1FB99B18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utoShape 4"/>
          <p:cNvGrpSpPr/>
          <p:nvPr/>
        </p:nvGrpSpPr>
        <p:grpSpPr>
          <a:xfrm>
            <a:off x="334800" y="4456080"/>
            <a:ext cx="3310200" cy="2305080"/>
            <a:chOff x="334800" y="4456080"/>
            <a:chExt cx="3310200" cy="2305080"/>
          </a:xfrm>
        </p:grpSpPr>
        <p:pic>
          <p:nvPicPr>
            <p:cNvPr id="316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4456080"/>
              <a:ext cx="3310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79400" y="4772160"/>
              <a:ext cx="1892520" cy="11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ces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5"/>
          <p:cNvGrpSpPr/>
          <p:nvPr/>
        </p:nvGrpSpPr>
        <p:grpSpPr>
          <a:xfrm>
            <a:off x="6199200" y="4675320"/>
            <a:ext cx="2627280" cy="2017440"/>
            <a:chOff x="6199200" y="4675320"/>
            <a:chExt cx="2627280" cy="2017440"/>
          </a:xfrm>
        </p:grpSpPr>
        <p:pic>
          <p:nvPicPr>
            <p:cNvPr id="319" name="Rectangle 5" descr=""/>
            <p:cNvPicPr/>
            <p:nvPr/>
          </p:nvPicPr>
          <p:blipFill>
            <a:blip r:embed="rId3"/>
            <a:stretch/>
          </p:blipFill>
          <p:spPr>
            <a:xfrm>
              <a:off x="6199200" y="4675320"/>
              <a:ext cx="262728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248520" y="4724280"/>
              <a:ext cx="220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Group 9" descr=""/>
          <p:cNvPicPr/>
          <p:nvPr/>
        </p:nvPicPr>
        <p:blipFill>
          <a:blip r:embed="rId4"/>
          <a:stretch/>
        </p:blipFill>
        <p:spPr>
          <a:xfrm>
            <a:off x="3303720" y="4572000"/>
            <a:ext cx="31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rvicios o funciones ofreci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No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otras cualidades d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stricciones al Proceso de Desarroll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EE8-AD58-4388-9744-A4555A254755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361960" y="21337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abstracta de lo que el sistema debe hac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matemática y formal de las funciones del siste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B0FE-D459-48AF-9170-088F0BCD839E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4"/>
          <p:cNvGrpSpPr/>
          <p:nvPr/>
        </p:nvGrpSpPr>
        <p:grpSpPr>
          <a:xfrm>
            <a:off x="1627200" y="1706400"/>
            <a:ext cx="1103400" cy="4224600"/>
            <a:chOff x="1627200" y="1706400"/>
            <a:chExt cx="1103400" cy="4224600"/>
          </a:xfrm>
        </p:grpSpPr>
        <p:pic>
          <p:nvPicPr>
            <p:cNvPr id="329" name="AutoShape 4" descr=""/>
            <p:cNvPicPr/>
            <p:nvPr/>
          </p:nvPicPr>
          <p:blipFill>
            <a:blip r:embed="rId2"/>
            <a:stretch/>
          </p:blipFill>
          <p:spPr>
            <a:xfrm>
              <a:off x="1627200" y="1706400"/>
              <a:ext cx="110340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847880" y="2228760"/>
              <a:ext cx="342720" cy="33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5"/>
          <p:cNvSpPr/>
          <p:nvPr/>
        </p:nvSpPr>
        <p:spPr>
          <a:xfrm rot="16200000">
            <a:off x="304560" y="358776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s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orbel"/>
              </a:rPr>
              <a:t>En un llamado a licitación de un gran proyecto de software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Se debe definir las necesidades en forma suficientemente abstracta para que la solución no esté predefinida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os requisitos deben escribirse de modo que varios contratistas puedan competir por el contrato, ofreciendo quizás diferentes formas de lograr los objetivo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Una vez que la licitación es otorgada, el contratista debe escribir la definición del sistema para el cliente en más detalle para que el cliente entienda y pueda validar lo que el software finalmente hará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Ambos documentos pueden llamarse documento de requisitos del sistem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CCF-C3B3-408C-9C9D-8B7C9E8B413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8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rvicios que se espera del sistema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restricciones de oper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enguaje natural y diagrama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 desarrollo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rquitectos del sistem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1C91-ABD2-419B-A23C-7B25462D6E5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4 Llamada rectangular redondeada"/>
          <p:cNvGrpSpPr/>
          <p:nvPr/>
        </p:nvGrpSpPr>
        <p:grpSpPr>
          <a:xfrm>
            <a:off x="2865600" y="1663560"/>
            <a:ext cx="6357600" cy="1914840"/>
            <a:chOff x="2865600" y="1663560"/>
            <a:chExt cx="6357600" cy="1914840"/>
          </a:xfrm>
        </p:grpSpPr>
        <p:pic>
          <p:nvPicPr>
            <p:cNvPr id="339" name="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2865600" y="1663560"/>
              <a:ext cx="635760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716880" y="1787400"/>
              <a:ext cx="20682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La información la brinda 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5 Llamada rectangular redondeada"/>
          <p:cNvGrpSpPr/>
          <p:nvPr/>
        </p:nvGrpSpPr>
        <p:grpSpPr>
          <a:xfrm>
            <a:off x="2639880" y="3597120"/>
            <a:ext cx="4724640" cy="1913040"/>
            <a:chOff x="2639880" y="3597120"/>
            <a:chExt cx="4724640" cy="1913040"/>
          </a:xfrm>
        </p:grpSpPr>
        <p:pic>
          <p:nvPicPr>
            <p:cNvPr id="342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2639880" y="3597120"/>
              <a:ext cx="472464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9280" y="3716280"/>
              <a:ext cx="20685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Cada uno tiene un rol dife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talle de los servici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enguaje más formal y precis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del contrato entre desarrolladores y cl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FF1-0B72-4ACF-A008-AC8E2096658E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cripción abstracta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para el diseño y  la implement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grega detalles técnic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4890-15A4-4E54-97F3-376ACA4596C4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285840" y="1774440"/>
            <a:ext cx="8572320" cy="422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n sistemas grandes y complejos los requisitos nunca están completos al iniciar el desarrollo del proyect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espera que mejoren la situación actual (sistema manual o anticuado); no se sabe bien en qué dirección mejorar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múltiples y diversos con distintas necesidades y prioridades; el sistema final será un compromiso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quien paga por el sistema no es habitualmente quien lo va a usar; las restricciones de presupuesto se contraponen a las necesidades de los usuari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AA4E-2D8B-47E8-AFE5-B65F852C134A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8" descr=""/>
          <p:cNvPicPr/>
          <p:nvPr/>
        </p:nvPicPr>
        <p:blipFill>
          <a:blip r:embed="rId2"/>
          <a:stretch/>
        </p:blipFill>
        <p:spPr>
          <a:xfrm>
            <a:off x="3017880" y="5803920"/>
            <a:ext cx="6235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06T13:47:04Z</cp:lastPrinted>
  <dcterms:modified xsi:type="dcterms:W3CDTF">2010-08-31T14:59:10Z</dcterms:modified>
  <cp:revision>143</cp:revision>
  <dc:subject/>
  <dc:title>CC31B: Desarrollo de Software de Aplicaciones</dc:title>
</cp:coreProperties>
</file>