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28124-B53B-4C1A-9384-212007D1DC6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5AB12-17D7-4321-A84E-F834522BA36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A7C63-B1C1-4050-B908-CD8BFE6FBDA0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47A3B-0CB2-4D14-B57C-E289E1CB261A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2DDB1-145D-4400-8BF8-2B15163C7791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D8058-874F-4819-926C-09FC2E32073D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8C177-05B1-4E38-91B1-B375509C117A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DD3EA-71C8-4E9E-B472-C52409D6AD1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1228F-F466-423A-9017-C05FF7EF3FE7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633B7-F544-4C50-90E8-3E251FBD7C29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E99F5-AF81-4128-978C-962CBFCC833E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8B209-B3AF-4D95-840C-4D9B1EE58D77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DC13F-2628-400E-839F-67D7E6D56CAB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3F4FE-1C31-4BBB-AD39-44F7BC9FCA94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D592A-9F39-4DE4-9696-08F2B447E489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B9C24-BF27-4DE0-92DE-CFE612087C50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C6F10-A7AD-41C5-86AB-F25B993873A8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953F1-35EB-4897-B08D-9252A02F180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6AA9B-1280-4720-9963-1FC276FC0E5D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F8631-C9FA-4AA7-B44E-53E94EF36C10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D42-199D-47C6-A94E-6AF8D87F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D48-F081-4308-95C2-F93D42B0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BB4-77CE-4FAB-A384-78FF8C0C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692-BD50-410F-BB62-9C3B014C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D50A-4103-4783-BAE4-C64C436A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13F6-02CC-49EB-9101-1CF03508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6DCB-5F75-43CA-A132-7A733234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C172-657A-43B5-979E-7CB22454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7F34-1A59-4964-A2F0-1153841F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77CE-AC33-41D2-9C29-A0195187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0ABE-9F12-453A-B71C-FF3EFA6D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A8E-43A6-435C-ABD9-1692DE15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6FE6-D40B-4B32-8833-99A1C1C3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35AA-602E-49E8-B1CB-7490DB97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1ED8-C982-4D6F-BD35-A1A3B179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54D6-7017-4AD6-92E0-594B141A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57CF-9ABC-47CF-976D-F010B21D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C5A4-A999-4D8F-8D8C-82D469F6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126A-150F-42E5-BFD1-D271F891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14310-24A6-472F-8066-CFF6D8F3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9F7E-7A3B-4BC2-85E2-EA0F612A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A4803-352F-497C-9C63-BE6F4F29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7B1-1F84-4A44-9024-0A13D288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915C-7129-4CC2-9443-40F70128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AA7C-78A9-4CE8-83F8-DEAED135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29F62-9AA6-43BD-85E5-231CE18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4F73F-EED3-46DF-89DA-0034FACA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78FDD-F08E-48DB-9B13-2984B620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6D9A-D2F8-4EA4-A9CF-355A9F2A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DCAC-5EFF-4914-85CD-BEE131BC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6358-987E-4114-9250-CC204B21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22BC-05B2-4ECD-B291-5DF255E6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49016-4181-4F88-A8AB-13DCCB4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52F-1686-45E5-9B2F-8DFE19DF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9FFC9-8798-4B1A-AE0F-C8A6721C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70487-68EA-44D7-A16D-7666BAF8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49B8E-DE92-4132-955A-E661439D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50524-B167-4CAE-9EE3-120DBAE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D986-E8AC-47B8-972F-2A18B6A0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E623-F268-4BD4-B09D-3FB9D13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8FC5-12DE-46E2-995D-E888DCA7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3FE0-4E97-4F9F-B09C-FD713A51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8042C-53C5-4D08-BA81-8A24F519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35C73-4A4D-43C8-8B85-BC60D5FB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0FE-C213-4E35-9906-913D75BD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63E54-557D-4EB4-A132-37C96ACF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79166-5338-48A5-AB16-DDB42EE4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9BAF-5C15-4E9F-8A82-1B45B727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D003-872B-4D21-85A2-2D49F76B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51D3F-A37C-48C9-A5D2-52DF8C0B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E30C4-7A3B-4F47-A617-EE9ECD7D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E9DA8-25A2-4DCC-A6B7-94D5EAD1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5976-EA18-4C23-939C-BF552413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9F43E-8696-4AF6-95A7-4BBFC6B0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F803-EDED-45D7-99AD-06B0B047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09F-E1FF-47B0-9226-6D7023BD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A8C6B-9DF2-4677-8C3F-58F55848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6160F-38A4-44C6-9BE6-7CC4AF7A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E8726-4F90-4BCD-BB5D-F756AB3F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E1996-3E9C-4B78-9C62-1EAB3DFC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BDA7D-0686-4400-B9DD-5B14E4F3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025A3-95F8-482B-AEFF-7F4683A0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C19C5-56FA-4228-AFC8-30C334AC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E975C-568D-4032-A733-7B6B965D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6340A-5CE4-4DA4-87E5-1C5EE1E7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31B73-0C92-4891-AD80-C41A994D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9FA-33A1-4F2A-BAE7-4099ABA2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8DB3F-CF2E-4C45-8A32-099AE574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A54A8-A7D4-4615-83A3-1FFDBE79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018E7-D484-435A-BDC7-9639B570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5F42D-E289-4F9B-A159-94A4C5A9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6B62A-7168-47F9-96AF-2DA53D34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5654-47C3-4F59-A7BF-7758D196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26F51-79CC-4FE8-B8BC-5703092E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AB907-40D0-4808-BDB8-CA05258D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F9593-67D7-4FFF-A636-E5FBC8CA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806A8-FA91-4A89-B08A-AB3810B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F3E-A308-494E-9FC2-BE20AF37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F5082-7CDC-47CE-9765-220578E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DFC16-6991-46BD-8704-6A04923F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95049-5D8B-4DDA-B5E4-CFEA907E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0B594-73EE-416A-852A-ED68A85C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D2D5A-CAE1-4172-BA0B-4815E48C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800-0569-425D-844C-9E063E6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DB1B-1E43-4959-A844-390AE1E00700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A012-96CF-4715-9544-151E71F5863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A253-3B9E-49E6-B3BB-4B265F321E4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A42-5DEE-40E6-9B32-2BCCFCA35026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93B8-82CA-41B3-A2BC-AF49DA03BC2E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AE99-82A0-418E-9706-258731C65C58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9B16-B6E5-4F3C-8417-99A052303EB7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433440" y="2109960"/>
            <a:ext cx="8034120" cy="1468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56760" y="1714680"/>
            <a:ext cx="8572680" cy="4991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Conjunto de actividades que llevan a la definición y especificación de requisito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studio de factibilidad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nálisis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obtener los requisitos observando el sistema actual, discutiendo con usuario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esarrollo de modelos y prototipos del sistema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definición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traducción del producto del análisis a un documento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ocumento orientado a múltiples lectore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escripción detallada del sistema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base del contrato entre cliente y desarrolladore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en paralelo con el diseño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2589-6F19-483B-95A3-3A508AA390E7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20"/>
          <p:cNvSpPr/>
          <p:nvPr/>
        </p:nvSpPr>
        <p:spPr>
          <a:xfrm>
            <a:off x="57150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3505320" y="2666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sp>
        <p:nvSpPr>
          <p:cNvPr id="36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F804-D28B-4B41-A4C3-9AFF76E01A2F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AutoShape 3"/>
          <p:cNvGrpSpPr/>
          <p:nvPr/>
        </p:nvGrpSpPr>
        <p:grpSpPr>
          <a:xfrm>
            <a:off x="712800" y="1920960"/>
            <a:ext cx="2085840" cy="1176120"/>
            <a:chOff x="712800" y="1920960"/>
            <a:chExt cx="2085840" cy="1176120"/>
          </a:xfrm>
        </p:grpSpPr>
        <p:pic>
          <p:nvPicPr>
            <p:cNvPr id="362" name="AutoShape 3" descr=""/>
            <p:cNvPicPr/>
            <p:nvPr/>
          </p:nvPicPr>
          <p:blipFill>
            <a:blip r:embed="rId2"/>
            <a:stretch/>
          </p:blipFill>
          <p:spPr>
            <a:xfrm>
              <a:off x="712800" y="1920960"/>
              <a:ext cx="20858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98480" y="2008080"/>
              <a:ext cx="160020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tudi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4"/>
          <p:cNvGrpSpPr/>
          <p:nvPr/>
        </p:nvGrpSpPr>
        <p:grpSpPr>
          <a:xfrm>
            <a:off x="2773440" y="1920960"/>
            <a:ext cx="2090520" cy="1176120"/>
            <a:chOff x="2773440" y="1920960"/>
            <a:chExt cx="2090520" cy="1176120"/>
          </a:xfrm>
        </p:grpSpPr>
        <p:pic>
          <p:nvPicPr>
            <p:cNvPr id="365" name="AutoShape 4" descr=""/>
            <p:cNvPicPr/>
            <p:nvPr/>
          </p:nvPicPr>
          <p:blipFill>
            <a:blip r:embed="rId3"/>
            <a:stretch/>
          </p:blipFill>
          <p:spPr>
            <a:xfrm>
              <a:off x="2773440" y="1920960"/>
              <a:ext cx="20905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855880" y="200808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Análisi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AutoShape 5"/>
          <p:cNvGrpSpPr/>
          <p:nvPr/>
        </p:nvGrpSpPr>
        <p:grpSpPr>
          <a:xfrm>
            <a:off x="4937040" y="2914560"/>
            <a:ext cx="2183040" cy="1176480"/>
            <a:chOff x="4937040" y="2914560"/>
            <a:chExt cx="2183040" cy="1176480"/>
          </a:xfrm>
        </p:grpSpPr>
        <p:pic>
          <p:nvPicPr>
            <p:cNvPr id="368" name="AutoShape 5" descr=""/>
            <p:cNvPicPr/>
            <p:nvPr/>
          </p:nvPicPr>
          <p:blipFill>
            <a:blip r:embed="rId4"/>
            <a:stretch/>
          </p:blipFill>
          <p:spPr>
            <a:xfrm>
              <a:off x="4937040" y="2914560"/>
              <a:ext cx="21830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5065560" y="299880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6"/>
          <p:cNvGrpSpPr/>
          <p:nvPr/>
        </p:nvGrpSpPr>
        <p:grpSpPr>
          <a:xfrm>
            <a:off x="6907320" y="3902040"/>
            <a:ext cx="2352600" cy="1176480"/>
            <a:chOff x="6907320" y="3902040"/>
            <a:chExt cx="2352600" cy="1176480"/>
          </a:xfrm>
        </p:grpSpPr>
        <p:pic>
          <p:nvPicPr>
            <p:cNvPr id="371" name="AutoShape 6" descr=""/>
            <p:cNvPicPr/>
            <p:nvPr/>
          </p:nvPicPr>
          <p:blipFill>
            <a:blip r:embed="rId5"/>
            <a:stretch/>
          </p:blipFill>
          <p:spPr>
            <a:xfrm>
              <a:off x="6907320" y="3902040"/>
              <a:ext cx="23526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122960" y="3989520"/>
              <a:ext cx="160344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3" name="AutoShape 7"/>
          <p:cNvCxnSpPr>
            <a:stCxn id="362" idx="3"/>
            <a:endCxn id="365" idx="1"/>
          </p:cNvCxnSpPr>
          <p:nvPr/>
        </p:nvCxnSpPr>
        <p:spPr>
          <a:xfrm>
            <a:off x="2435040" y="2352240"/>
            <a:ext cx="384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8"/>
          <p:cNvCxnSpPr>
            <a:stCxn id="365" idx="2"/>
            <a:endCxn id="368" idx="1"/>
          </p:cNvCxnSpPr>
          <p:nvPr/>
        </p:nvCxnSpPr>
        <p:spPr>
          <a:xfrm flipH="1" rot="16200000">
            <a:off x="4038480" y="2352240"/>
            <a:ext cx="61020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AutoShape 9"/>
          <p:cNvCxnSpPr>
            <a:stCxn id="368" idx="0"/>
            <a:endCxn id="365" idx="3"/>
          </p:cNvCxnSpPr>
          <p:nvPr/>
        </p:nvCxnSpPr>
        <p:spPr>
          <a:xfrm flipV="1" rot="16200000">
            <a:off x="4876200" y="1971000"/>
            <a:ext cx="61056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AutoShape 10"/>
          <p:cNvCxnSpPr>
            <a:stCxn id="368" idx="2"/>
            <a:endCxn id="371" idx="1"/>
          </p:cNvCxnSpPr>
          <p:nvPr/>
        </p:nvCxnSpPr>
        <p:spPr>
          <a:xfrm flipH="1" rot="16200000">
            <a:off x="6171120" y="3419280"/>
            <a:ext cx="610560" cy="1220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11"/>
          <p:cNvCxnSpPr>
            <a:stCxn id="371" idx="0"/>
            <a:endCxn id="368" idx="3"/>
          </p:cNvCxnSpPr>
          <p:nvPr/>
        </p:nvCxnSpPr>
        <p:spPr>
          <a:xfrm flipV="1" rot="16200000">
            <a:off x="7009920" y="3037680"/>
            <a:ext cx="61020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8" name="Rectangle 12"/>
          <p:cNvGrpSpPr/>
          <p:nvPr/>
        </p:nvGrpSpPr>
        <p:grpSpPr>
          <a:xfrm>
            <a:off x="712800" y="3749760"/>
            <a:ext cx="2090880" cy="1176120"/>
            <a:chOff x="712800" y="3749760"/>
            <a:chExt cx="2090880" cy="1176120"/>
          </a:xfrm>
        </p:grpSpPr>
        <p:pic>
          <p:nvPicPr>
            <p:cNvPr id="379" name="Rectangle 12" descr=""/>
            <p:cNvPicPr/>
            <p:nvPr/>
          </p:nvPicPr>
          <p:blipFill>
            <a:blip r:embed="rId6"/>
            <a:stretch/>
          </p:blipFill>
          <p:spPr>
            <a:xfrm>
              <a:off x="712800" y="3749760"/>
              <a:ext cx="20908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762120" y="380052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porte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Rectangle 13"/>
          <p:cNvGrpSpPr/>
          <p:nvPr/>
        </p:nvGrpSpPr>
        <p:grpSpPr>
          <a:xfrm>
            <a:off x="2773440" y="4206960"/>
            <a:ext cx="2090520" cy="1176120"/>
            <a:chOff x="2773440" y="4206960"/>
            <a:chExt cx="2090520" cy="1176120"/>
          </a:xfrm>
        </p:grpSpPr>
        <p:pic>
          <p:nvPicPr>
            <p:cNvPr id="382" name="Rectangle 13" descr=""/>
            <p:cNvPicPr/>
            <p:nvPr/>
          </p:nvPicPr>
          <p:blipFill>
            <a:blip r:embed="rId7"/>
            <a:stretch/>
          </p:blipFill>
          <p:spPr>
            <a:xfrm>
              <a:off x="2773440" y="4206960"/>
              <a:ext cx="20905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819520" y="425772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l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14"/>
          <p:cNvGrpSpPr/>
          <p:nvPr/>
        </p:nvGrpSpPr>
        <p:grpSpPr>
          <a:xfrm>
            <a:off x="2773440" y="5273640"/>
            <a:ext cx="2090520" cy="1176480"/>
            <a:chOff x="2773440" y="5273640"/>
            <a:chExt cx="2090520" cy="1176480"/>
          </a:xfrm>
        </p:grpSpPr>
        <p:pic>
          <p:nvPicPr>
            <p:cNvPr id="385" name="Rectangle 14" descr=""/>
            <p:cNvPicPr/>
            <p:nvPr/>
          </p:nvPicPr>
          <p:blipFill>
            <a:blip r:embed="rId8"/>
            <a:stretch/>
          </p:blipFill>
          <p:spPr>
            <a:xfrm>
              <a:off x="2773440" y="5273640"/>
              <a:ext cx="20905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819520" y="532440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Rectangle 15"/>
          <p:cNvGrpSpPr/>
          <p:nvPr/>
        </p:nvGrpSpPr>
        <p:grpSpPr>
          <a:xfrm>
            <a:off x="4932360" y="4664160"/>
            <a:ext cx="2181240" cy="1176120"/>
            <a:chOff x="4932360" y="4664160"/>
            <a:chExt cx="2181240" cy="1176120"/>
          </a:xfrm>
        </p:grpSpPr>
        <p:pic>
          <p:nvPicPr>
            <p:cNvPr id="388" name="Rectangle 15" descr=""/>
            <p:cNvPicPr/>
            <p:nvPr/>
          </p:nvPicPr>
          <p:blipFill>
            <a:blip r:embed="rId9"/>
            <a:stretch/>
          </p:blipFill>
          <p:spPr>
            <a:xfrm>
              <a:off x="4932360" y="4664160"/>
              <a:ext cx="21812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029200" y="4714920"/>
              <a:ext cx="1676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Rectangle 16"/>
          <p:cNvGrpSpPr/>
          <p:nvPr/>
        </p:nvGrpSpPr>
        <p:grpSpPr>
          <a:xfrm>
            <a:off x="6907320" y="5211720"/>
            <a:ext cx="2352600" cy="1170000"/>
            <a:chOff x="6907320" y="5211720"/>
            <a:chExt cx="2352600" cy="1170000"/>
          </a:xfrm>
        </p:grpSpPr>
        <p:pic>
          <p:nvPicPr>
            <p:cNvPr id="391" name="Rectangle 16" descr=""/>
            <p:cNvPicPr/>
            <p:nvPr/>
          </p:nvPicPr>
          <p:blipFill>
            <a:blip r:embed="rId10"/>
            <a:stretch/>
          </p:blipFill>
          <p:spPr>
            <a:xfrm>
              <a:off x="6907320" y="5211720"/>
              <a:ext cx="23526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7086600" y="5257800"/>
              <a:ext cx="1676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3" name="AutoShape 17"/>
          <p:cNvCxnSpPr>
            <a:stCxn id="362" idx="2"/>
            <a:endCxn id="379" idx="0"/>
          </p:cNvCxnSpPr>
          <p:nvPr/>
        </p:nvCxnSpPr>
        <p:spPr>
          <a:xfrm>
            <a:off x="1598760" y="2733480"/>
            <a:ext cx="216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AutoShape 19"/>
          <p:cNvCxnSpPr>
            <a:stCxn id="382" idx="2"/>
            <a:endCxn id="385" idx="0"/>
          </p:cNvCxnSpPr>
          <p:nvPr/>
        </p:nvCxnSpPr>
        <p:spPr>
          <a:xfrm flipH="1">
            <a:off x="3657240" y="5018040"/>
            <a:ext cx="216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AutoShape 21"/>
          <p:cNvCxnSpPr>
            <a:stCxn id="388" idx="2"/>
            <a:endCxn id="385" idx="3"/>
          </p:cNvCxnSpPr>
          <p:nvPr/>
        </p:nvCxnSpPr>
        <p:spPr>
          <a:xfrm rot="5400000">
            <a:off x="5065920" y="4902840"/>
            <a:ext cx="23076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Line 22"/>
          <p:cNvSpPr/>
          <p:nvPr/>
        </p:nvSpPr>
        <p:spPr>
          <a:xfrm flipH="1">
            <a:off x="4495320" y="5791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AutoShape 23"/>
          <p:cNvCxnSpPr>
            <a:stCxn id="371" idx="2"/>
            <a:endCxn id="391" idx="0"/>
          </p:cNvCxnSpPr>
          <p:nvPr/>
        </p:nvCxnSpPr>
        <p:spPr>
          <a:xfrm flipH="1">
            <a:off x="7922520" y="4716360"/>
            <a:ext cx="39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9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SRS: Software Requirements Specific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eclaración oficial de lo que hará el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Qué es los que el sistema debe hacer sin indicar có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Debe ser suficientemente específico como para poder relacionar los requisitos con la funcionalidad del sistema final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D3AB-F0C8-4D3C-A8BD-87E3B8D55E9F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608400" y="2144880"/>
            <a:ext cx="18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Docume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3445560" y="217980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Defini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11000" y="217980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Especific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2820960" y="2249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640120" y="2249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80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l documento debe ser completo y consistent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todas las funciones deben ser incluidas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no debe haber conflict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ebe ser fácilmente modificabl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errores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evolución de los requisit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34304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Características necesaria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solamente comportamiento externo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stricciones a la implementación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fácilmente modificable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útil como referencia para los encargados del mantenimiento del sistema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gistro de reflexiones acerca de futura evolución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spuestas aceptable a eventos inesperad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3163-1B14-42A3-8FA2-F5D92E46352F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scripción general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funcionalidad e interacción con otros sistemas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inserción en la empresa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losari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finición de términ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odelos del Siste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iagramas de relación del sistema con el ambient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finición de Requisitos Funciona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servicios del sistem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iagramas y explicació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finición de Requisitos No Funciona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volución del Siste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cambios que se anticipa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pecificación de Requisito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talle de la funcionalidad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rbel"/>
              </a:rPr>
              <a:t>funciones, datos, dinámica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14E3-DF0F-4860-868B-CA3A51A60877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99680" y="1785960"/>
            <a:ext cx="8077320" cy="4805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El documento de requisitos debe expresar lo que el cliente realmente necesita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Si existe errores, estos se propagan al diseño y a la implementació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La corrección es más cara cuanto más tarde se detecte el err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100 veces más caro corregir un error de requisitos después de entregado el sistema que corregir el documento de requisi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La validación debe hacerse con el cliente/usuario a medida que se construye el documento de requisito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visiones y “caminatas”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6E53-CDA5-49CE-9F44-71070437B0AC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6094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Validez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a funcionalidad especificada es aceptada por todos los usuari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nsistencia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no existen conflictos entre los requisit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pleto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todas las funciones y restricciones están incluida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Factibilidad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requisitos realizables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mejoras esperables realista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Verific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os requisitos pueden ser verificad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prensi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claridad de expresió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astre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origen de los requisitos (evolución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dapt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os cambios no afectan el sistema completo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FA55-6FAB-49A1-ABCC-93D887CDF724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comprensión del sistema avanza a medida que se analizan los requisit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tiempo de desarrollo de grandes sistemas puede ser varios añ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l ambiente cambia y afecta los requisit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lases de requisit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uraderos: relativos a actividades esenciale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volátiles: requisitos propensos a cambi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334B-3398-498D-B395-63509A42E3E4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Mutabl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ambios en el ambiente organizacional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Emergent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la comprensión profunda del sistema trae a la luz estos requisi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Consecuencia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la implantación del sistema trae nuevos requisi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Compatibilidad: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ambios en otros sistemas con los que se interactúa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F85B-7CFC-4F4E-B315-DC93ACB2539A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8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2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1566-FCC3-45F7-B743-2E7D5DC1098A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26 Grupo"/>
          <p:cNvGrpSpPr/>
          <p:nvPr/>
        </p:nvGrpSpPr>
        <p:grpSpPr>
          <a:xfrm>
            <a:off x="990720" y="1981080"/>
            <a:ext cx="1923840" cy="1757520"/>
            <a:chOff x="990720" y="1981080"/>
            <a:chExt cx="1923840" cy="1757520"/>
          </a:xfrm>
        </p:grpSpPr>
        <p:grpSp>
          <p:nvGrpSpPr>
            <p:cNvPr id="430" name="Rectangle 3"/>
            <p:cNvGrpSpPr/>
            <p:nvPr/>
          </p:nvGrpSpPr>
          <p:grpSpPr>
            <a:xfrm>
              <a:off x="990720" y="1981080"/>
              <a:ext cx="1923840" cy="785880"/>
              <a:chOff x="990720" y="1981080"/>
              <a:chExt cx="1923840" cy="785880"/>
            </a:xfrm>
          </p:grpSpPr>
          <p:pic>
            <p:nvPicPr>
              <p:cNvPr id="431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1981080"/>
                <a:ext cx="19238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"/>
              <p:cNvSpPr/>
              <p:nvPr/>
            </p:nvSpPr>
            <p:spPr>
              <a:xfrm>
                <a:off x="1028160" y="2039400"/>
                <a:ext cx="158544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Rectangle 4"/>
            <p:cNvGrpSpPr/>
            <p:nvPr/>
          </p:nvGrpSpPr>
          <p:grpSpPr>
            <a:xfrm>
              <a:off x="990720" y="2952720"/>
              <a:ext cx="1923840" cy="785880"/>
              <a:chOff x="990720" y="2952720"/>
              <a:chExt cx="1923840" cy="785880"/>
            </a:xfrm>
          </p:grpSpPr>
          <p:pic>
            <p:nvPicPr>
              <p:cNvPr id="434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952720"/>
                <a:ext cx="19238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1028160" y="3013560"/>
                <a:ext cx="158544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6" name="AutoShape 6" descr=""/>
            <p:cNvPicPr/>
            <p:nvPr/>
          </p:nvPicPr>
          <p:blipFill>
            <a:blip r:embed="rId4"/>
            <a:stretch/>
          </p:blipFill>
          <p:spPr>
            <a:xfrm>
              <a:off x="1749240" y="2435040"/>
              <a:ext cx="40176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29 Grupo"/>
          <p:cNvGrpSpPr/>
          <p:nvPr/>
        </p:nvGrpSpPr>
        <p:grpSpPr>
          <a:xfrm>
            <a:off x="2914560" y="3197160"/>
            <a:ext cx="2494080" cy="541440"/>
            <a:chOff x="2914560" y="3197160"/>
            <a:chExt cx="2494080" cy="541440"/>
          </a:xfrm>
        </p:grpSpPr>
        <p:grpSp>
          <p:nvGrpSpPr>
            <p:cNvPr id="438" name="Rectangle 5"/>
            <p:cNvGrpSpPr/>
            <p:nvPr/>
          </p:nvGrpSpPr>
          <p:grpSpPr>
            <a:xfrm>
              <a:off x="3405960" y="3197160"/>
              <a:ext cx="2002680" cy="541440"/>
              <a:chOff x="3405960" y="3197160"/>
              <a:chExt cx="2002680" cy="541440"/>
            </a:xfrm>
          </p:grpSpPr>
          <p:pic>
            <p:nvPicPr>
              <p:cNvPr id="439" name="Rectangl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405960" y="3197160"/>
                <a:ext cx="20026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3445560" y="3238920"/>
                <a:ext cx="1650600" cy="2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AutoShape 7" descr=""/>
            <p:cNvPicPr/>
            <p:nvPr/>
          </p:nvPicPr>
          <p:blipFill>
            <a:blip r:embed="rId6"/>
            <a:stretch/>
          </p:blipFill>
          <p:spPr>
            <a:xfrm>
              <a:off x="2914560" y="3341520"/>
              <a:ext cx="878400" cy="26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22"/>
          <p:cNvGrpSpPr/>
          <p:nvPr/>
        </p:nvGrpSpPr>
        <p:grpSpPr>
          <a:xfrm>
            <a:off x="2857680" y="2286000"/>
            <a:ext cx="2359080" cy="835200"/>
            <a:chOff x="2857680" y="2286000"/>
            <a:chExt cx="2359080" cy="835200"/>
          </a:xfrm>
        </p:grpSpPr>
        <p:sp>
          <p:nvSpPr>
            <p:cNvPr id="443" name="Text Box 8"/>
            <p:cNvSpPr/>
            <p:nvPr/>
          </p:nvSpPr>
          <p:spPr>
            <a:xfrm>
              <a:off x="3737520" y="2286000"/>
              <a:ext cx="147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mbio en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 flipH="1">
              <a:off x="2857680" y="2714760"/>
              <a:ext cx="78408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30 Grupo"/>
          <p:cNvGrpSpPr/>
          <p:nvPr/>
        </p:nvGrpSpPr>
        <p:grpSpPr>
          <a:xfrm>
            <a:off x="5276880" y="5935680"/>
            <a:ext cx="2494080" cy="541440"/>
            <a:chOff x="5276880" y="5935680"/>
            <a:chExt cx="2494080" cy="541440"/>
          </a:xfrm>
        </p:grpSpPr>
        <p:grpSp>
          <p:nvGrpSpPr>
            <p:cNvPr id="446" name="Rectangle 12"/>
            <p:cNvGrpSpPr/>
            <p:nvPr/>
          </p:nvGrpSpPr>
          <p:grpSpPr>
            <a:xfrm>
              <a:off x="5730480" y="5935680"/>
              <a:ext cx="2040480" cy="541440"/>
              <a:chOff x="5730480" y="5935680"/>
              <a:chExt cx="2040480" cy="541440"/>
            </a:xfrm>
          </p:grpSpPr>
          <p:pic>
            <p:nvPicPr>
              <p:cNvPr id="447" name="Rectangl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5730480" y="5935680"/>
                <a:ext cx="20404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5773320" y="5977800"/>
                <a:ext cx="167724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49" name="AutoShape 14"/>
            <p:cNvCxnSpPr>
              <a:stCxn id="450" idx="3"/>
              <a:endCxn id="447" idx="1"/>
            </p:cNvCxnSpPr>
            <p:nvPr/>
          </p:nvCxnSpPr>
          <p:spPr>
            <a:xfrm>
              <a:off x="5276880" y="6126480"/>
              <a:ext cx="49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51" name="28 Grupo"/>
          <p:cNvGrpSpPr/>
          <p:nvPr/>
        </p:nvGrpSpPr>
        <p:grpSpPr>
          <a:xfrm>
            <a:off x="5276880" y="4719600"/>
            <a:ext cx="2494080" cy="541440"/>
            <a:chOff x="5276880" y="4719600"/>
            <a:chExt cx="2494080" cy="541440"/>
          </a:xfrm>
        </p:grpSpPr>
        <p:grpSp>
          <p:nvGrpSpPr>
            <p:cNvPr id="452" name="Rectangle 15"/>
            <p:cNvGrpSpPr/>
            <p:nvPr/>
          </p:nvGrpSpPr>
          <p:grpSpPr>
            <a:xfrm>
              <a:off x="5730480" y="4719600"/>
              <a:ext cx="2040480" cy="541440"/>
              <a:chOff x="5730480" y="4719600"/>
              <a:chExt cx="2040480" cy="541440"/>
            </a:xfrm>
          </p:grpSpPr>
          <p:pic>
            <p:nvPicPr>
              <p:cNvPr id="453" name="Rectangl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30480" y="4719600"/>
                <a:ext cx="20404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>
                <a:off x="5773320" y="4760640"/>
                <a:ext cx="1677240" cy="2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55" name="AutoShape 16"/>
            <p:cNvCxnSpPr>
              <a:stCxn id="456" idx="3"/>
              <a:endCxn id="453" idx="1"/>
            </p:cNvCxnSpPr>
            <p:nvPr/>
          </p:nvCxnSpPr>
          <p:spPr>
            <a:xfrm>
              <a:off x="5276880" y="4910040"/>
              <a:ext cx="49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57" name="AutoShape 17"/>
          <p:cNvCxnSpPr>
            <a:stCxn id="453" idx="2"/>
            <a:endCxn id="447" idx="0"/>
          </p:cNvCxnSpPr>
          <p:nvPr/>
        </p:nvCxnSpPr>
        <p:spPr>
          <a:xfrm>
            <a:off x="6808320" y="5261040"/>
            <a:ext cx="1080" cy="67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27 Grupo"/>
          <p:cNvGrpSpPr/>
          <p:nvPr/>
        </p:nvGrpSpPr>
        <p:grpSpPr>
          <a:xfrm>
            <a:off x="3352680" y="4719600"/>
            <a:ext cx="1924200" cy="1757520"/>
            <a:chOff x="3352680" y="4719600"/>
            <a:chExt cx="1924200" cy="1757520"/>
          </a:xfrm>
        </p:grpSpPr>
        <p:grpSp>
          <p:nvGrpSpPr>
            <p:cNvPr id="459" name="Rectangle 10"/>
            <p:cNvGrpSpPr/>
            <p:nvPr/>
          </p:nvGrpSpPr>
          <p:grpSpPr>
            <a:xfrm>
              <a:off x="3352680" y="4719600"/>
              <a:ext cx="1924200" cy="783720"/>
              <a:chOff x="3352680" y="4719600"/>
              <a:chExt cx="1924200" cy="783720"/>
            </a:xfrm>
          </p:grpSpPr>
          <p:pic>
            <p:nvPicPr>
              <p:cNvPr id="460" name="Rectangle 10" descr=""/>
              <p:cNvPicPr/>
              <p:nvPr/>
            </p:nvPicPr>
            <p:blipFill>
              <a:blip r:embed="rId9"/>
              <a:stretch/>
            </p:blipFill>
            <p:spPr>
              <a:xfrm>
                <a:off x="3352680" y="4719600"/>
                <a:ext cx="192420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3392640" y="4779000"/>
                <a:ext cx="158184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Rectangle 11"/>
            <p:cNvGrpSpPr/>
            <p:nvPr/>
          </p:nvGrpSpPr>
          <p:grpSpPr>
            <a:xfrm>
              <a:off x="3352680" y="5688360"/>
              <a:ext cx="1924200" cy="788760"/>
              <a:chOff x="3352680" y="5688360"/>
              <a:chExt cx="1924200" cy="788760"/>
            </a:xfrm>
          </p:grpSpPr>
          <p:pic>
            <p:nvPicPr>
              <p:cNvPr id="463" name="Rectangl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52680" y="5688360"/>
                <a:ext cx="192420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3392640" y="5749920"/>
                <a:ext cx="158184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AutoShape 13" descr=""/>
            <p:cNvPicPr/>
            <p:nvPr/>
          </p:nvPicPr>
          <p:blipFill>
            <a:blip r:embed="rId11"/>
            <a:stretch/>
          </p:blipFill>
          <p:spPr>
            <a:xfrm>
              <a:off x="4114440" y="5172120"/>
              <a:ext cx="400680" cy="90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Group 27"/>
          <p:cNvGrpSpPr/>
          <p:nvPr/>
        </p:nvGrpSpPr>
        <p:grpSpPr>
          <a:xfrm>
            <a:off x="5276880" y="3816360"/>
            <a:ext cx="2359080" cy="834480"/>
            <a:chOff x="5276880" y="3816360"/>
            <a:chExt cx="2359080" cy="834480"/>
          </a:xfrm>
        </p:grpSpPr>
        <p:sp>
          <p:nvSpPr>
            <p:cNvPr id="467" name="Text Box 18"/>
            <p:cNvSpPr/>
            <p:nvPr/>
          </p:nvSpPr>
          <p:spPr>
            <a:xfrm>
              <a:off x="6156720" y="3816360"/>
              <a:ext cx="147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mbio en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9"/>
            <p:cNvSpPr/>
            <p:nvPr/>
          </p:nvSpPr>
          <p:spPr>
            <a:xfrm flipH="1">
              <a:off x="5276880" y="4246200"/>
              <a:ext cx="78408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oceso mediante el cual se establecen los servicios que el sistema debe brindar y las restricciones que debe cumplir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Es un proceso sistemático para derivar la definición del sistema a ser construid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8C49-B01A-4276-8277-672223F55B26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AutoShape 4"/>
          <p:cNvGrpSpPr/>
          <p:nvPr/>
        </p:nvGrpSpPr>
        <p:grpSpPr>
          <a:xfrm>
            <a:off x="334800" y="4456080"/>
            <a:ext cx="3310200" cy="2305080"/>
            <a:chOff x="334800" y="4456080"/>
            <a:chExt cx="3310200" cy="2305080"/>
          </a:xfrm>
        </p:grpSpPr>
        <p:pic>
          <p:nvPicPr>
            <p:cNvPr id="316" name="AutoShape 4" descr=""/>
            <p:cNvPicPr/>
            <p:nvPr/>
          </p:nvPicPr>
          <p:blipFill>
            <a:blip r:embed="rId2"/>
            <a:stretch/>
          </p:blipFill>
          <p:spPr>
            <a:xfrm>
              <a:off x="334800" y="4456080"/>
              <a:ext cx="3310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79400" y="4772160"/>
              <a:ext cx="1892520" cy="11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ces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l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5"/>
          <p:cNvGrpSpPr/>
          <p:nvPr/>
        </p:nvGrpSpPr>
        <p:grpSpPr>
          <a:xfrm>
            <a:off x="6199200" y="4675320"/>
            <a:ext cx="2627280" cy="2017440"/>
            <a:chOff x="6199200" y="4675320"/>
            <a:chExt cx="2627280" cy="2017440"/>
          </a:xfrm>
        </p:grpSpPr>
        <p:pic>
          <p:nvPicPr>
            <p:cNvPr id="319" name="Rectangle 5" descr=""/>
            <p:cNvPicPr/>
            <p:nvPr/>
          </p:nvPicPr>
          <p:blipFill>
            <a:blip r:embed="rId3"/>
            <a:stretch/>
          </p:blipFill>
          <p:spPr>
            <a:xfrm>
              <a:off x="6199200" y="4675320"/>
              <a:ext cx="262728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248520" y="4724280"/>
              <a:ext cx="22096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Group 9" descr=""/>
          <p:cNvPicPr/>
          <p:nvPr/>
        </p:nvPicPr>
        <p:blipFill>
          <a:blip r:embed="rId4"/>
          <a:stretch/>
        </p:blipFill>
        <p:spPr>
          <a:xfrm>
            <a:off x="3303720" y="4572000"/>
            <a:ext cx="3157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quisitos Funciona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rvicios o funciones ofrecid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quisitos No Funciona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otras cualidades d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stricciones al Proceso de Desarroll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4F7B-0C3F-48D8-9AF3-21A0C81FC92E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361960" y="213372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abstracta de lo que el sistema debe hac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matemática y formal de las funciones del sistem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B26A-BFC3-4126-8F6A-4F4AA6928BBB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AutoShape 4"/>
          <p:cNvGrpSpPr/>
          <p:nvPr/>
        </p:nvGrpSpPr>
        <p:grpSpPr>
          <a:xfrm>
            <a:off x="1627200" y="1706400"/>
            <a:ext cx="1103400" cy="4224600"/>
            <a:chOff x="1627200" y="1706400"/>
            <a:chExt cx="1103400" cy="4224600"/>
          </a:xfrm>
        </p:grpSpPr>
        <p:pic>
          <p:nvPicPr>
            <p:cNvPr id="329" name="AutoShape 4" descr=""/>
            <p:cNvPicPr/>
            <p:nvPr/>
          </p:nvPicPr>
          <p:blipFill>
            <a:blip r:embed="rId2"/>
            <a:stretch/>
          </p:blipFill>
          <p:spPr>
            <a:xfrm>
              <a:off x="1627200" y="1706400"/>
              <a:ext cx="1103400" cy="422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847880" y="2228760"/>
              <a:ext cx="342720" cy="33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5"/>
          <p:cNvSpPr/>
          <p:nvPr/>
        </p:nvSpPr>
        <p:spPr>
          <a:xfrm rot="16200000">
            <a:off x="304560" y="358776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st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orbel"/>
              </a:rPr>
              <a:t>En un llamado a licitación de un gran proyecto de software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Se debe definir las necesidades en forma suficientemente abstracta para que la solución no esté predefinida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os requisitos deben escribirse de modo que varios contratistas puedan competir por el contrato, ofreciendo quizás diferentes formas de lograr los objetivos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Una vez que la licitación es otorgada, el contratista debe escribir la definición del sistema para el cliente en más detalle para que el cliente entienda y pueda validar lo que el software finalmente hará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Ambos documentos pueden llamarse documento de requisitos del sistem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A995-67A1-4E64-B7CF-3950D469F371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8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rvicios que se espera del sistema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restricciones de oper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enguaje natural y diagrama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gerencia del client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usuarios finale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s del client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gerencia de desarrollo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rquitectos del sistema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2102-8CB6-4D1F-BD53-216498F62197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4 Llamada rectangular redondeada"/>
          <p:cNvGrpSpPr/>
          <p:nvPr/>
        </p:nvGrpSpPr>
        <p:grpSpPr>
          <a:xfrm>
            <a:off x="2865600" y="1663560"/>
            <a:ext cx="6357600" cy="1914840"/>
            <a:chOff x="2865600" y="1663560"/>
            <a:chExt cx="6357600" cy="1914840"/>
          </a:xfrm>
        </p:grpSpPr>
        <p:pic>
          <p:nvPicPr>
            <p:cNvPr id="339" name="4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2865600" y="1663560"/>
              <a:ext cx="635760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716880" y="1787400"/>
              <a:ext cx="206820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rbel"/>
                </a:rPr>
                <a:t>La información la brinda el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5 Llamada rectangular redondeada"/>
          <p:cNvGrpSpPr/>
          <p:nvPr/>
        </p:nvGrpSpPr>
        <p:grpSpPr>
          <a:xfrm>
            <a:off x="2639880" y="3597120"/>
            <a:ext cx="4724640" cy="1913040"/>
            <a:chOff x="2639880" y="3597120"/>
            <a:chExt cx="4724640" cy="1913040"/>
          </a:xfrm>
        </p:grpSpPr>
        <p:pic>
          <p:nvPicPr>
            <p:cNvPr id="342" name="5 Llamada rectangular redondeada" descr=""/>
            <p:cNvPicPr/>
            <p:nvPr/>
          </p:nvPicPr>
          <p:blipFill>
            <a:blip r:embed="rId3"/>
            <a:stretch/>
          </p:blipFill>
          <p:spPr>
            <a:xfrm>
              <a:off x="2639880" y="3597120"/>
              <a:ext cx="472464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859280" y="3716280"/>
              <a:ext cx="206856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rbel"/>
                </a:rPr>
                <a:t>Cada uno tiene un rol difer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talle de los servicios del siste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enguaje más formal y precis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base del contrato entre desarrolladores y cli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suarios finale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ingenieros del client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rquitectos del siste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arrollador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55F4-06C3-44C0-BC85-9442A2D8E5BA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cripción abstracta del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base para el diseño y  la implement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grega detalles técnic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ingenieros del clien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rquitectos del sist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arrollador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8508-EFD0-45DF-89B7-4D9481A20534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285840" y="1774440"/>
            <a:ext cx="8572320" cy="422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En sistemas grandes y complejos los requisitos nunca están completos al iniciar el desarrollo del proyect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espera que mejoren la situación actual (sistema manual o anticuado); no se sabe bien en qué dirección mejorar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usuarios múltiples y diversos con distintas necesidades y prioridades; el sistema final será un compromiso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quien paga por el sistema no es habitualmente quien lo va a usar; las restricciones de presupuesto se contraponen a las necesidades de los usuari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CC4F-6378-4644-A3E5-28A928129749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Group 8" descr=""/>
          <p:cNvPicPr/>
          <p:nvPr/>
        </p:nvPicPr>
        <p:blipFill>
          <a:blip r:embed="rId2"/>
          <a:stretch/>
        </p:blipFill>
        <p:spPr>
          <a:xfrm>
            <a:off x="3017880" y="5803920"/>
            <a:ext cx="6235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06T13:47:04Z</cp:lastPrinted>
  <dcterms:modified xsi:type="dcterms:W3CDTF">2010-08-31T14:59:10Z</dcterms:modified>
  <cp:revision>143</cp:revision>
  <dc:subject/>
  <dc:title>CC31B: Desarrollo de Software de Aplicaciones</dc:title>
</cp:coreProperties>
</file>