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C261-AAD0-44FD-A768-566437AD9A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B8ED-644E-4617-94C3-EDF137ACD4D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DD1E-4A86-490C-86BF-2FFB0164F5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E39C-ACEE-4CCC-9A1B-19E081F2F13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9533-0CF4-422D-B353-87B61E41239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EC27-AB74-4979-95A2-AD78B87AEEA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07CF-7FCA-48DE-8481-7FF5CABC99C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0BC4-7994-41C3-BB7D-5E51E15DE15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FBF0-74F6-4263-8D58-A913218FB34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753D-EDC1-44FC-B6D4-E4AD57F0CE0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0FE0-6236-44D6-B674-DAF23A276F2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09FE-D492-4C8B-900A-B0E431E6D5E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7CAA-CE71-4E0F-A45F-C5814989B48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C3C4-B516-4D00-9B53-B1EFF15CC52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64F3-1982-46C0-80DE-3C5BB7C9425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04F6-FE37-4AAC-9C5F-94D6B8D5AC4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1348-6B25-4224-92A2-775692DBB98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132E-82AB-472A-8A1C-3987020FF40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EC37-87E5-46D4-AC6D-A568F4404B8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C09F-563C-451F-A1E9-85742F5F803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4D9-1D68-4B25-81DC-62CCBA5C62F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39A4-3683-4643-8064-0D5BB3B74EE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3903-50B7-4DD1-86F2-1A93B741424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B9AB-C0AD-4E47-B12C-B3FE639D0DA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8652-4445-44B8-9B7F-D7C045D41FF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F663-9BE9-45AF-B102-2177B11067D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7199-235C-4505-8899-72F53463263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99BC-A194-4F50-974B-D9B51523296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8909-D262-4E39-970A-56B7DE6BCD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81D8-5E65-4D9B-AE3E-20B2ADEFB58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AC1B-1237-4A27-8C75-D8019AC8DF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3C92-6DF0-4F43-9788-F928E2E7957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40CC-97F7-435C-8416-CC3505A14E2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ED3C-483A-41D1-ACC7-5EB98B37F8C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C3B9-2404-4650-9124-4D0F71F6413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464-B87E-49B8-ACFA-A5A714B0AC1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5B2E-EB18-4708-8DE9-8E7F8440A7A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1E7E-10A6-485B-9074-74C961C6815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1C5A-84D8-400C-92BB-B852CD792E4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C12E-042C-4C65-B5E5-CB0BC76EC62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4C66-809F-47B4-B3A2-71D6979BB1C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6AA4-95BC-4D25-8844-DD41AD334D7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5E8-A662-4B90-83E5-FF622FE8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0BB-12BB-4071-8286-013701F7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C3D-5394-45DB-8FD0-914E121C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411-F836-4F47-BA62-D2D800E1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6F9D-3E5F-477A-BA97-992971B5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BF63-D770-4074-8049-A5341F03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74FB-F5F4-4A1D-9F6C-65FFDD00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212E-76C3-4CE2-BB97-56A2FACA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5733-4035-470A-A285-2E0BF9FF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491E-FEEA-4770-814A-9E4FF4D4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9682-920D-4ED3-8B40-4744D390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FED-229B-4022-9E91-FF71EAFF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105A-2470-4352-ADA0-193D4EF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092A-539C-46CD-8B8D-2EA1A73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EC12-5114-42A0-B4D5-9703B756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6CE9-975A-4EDE-9A01-D1FED93B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B2A1-4664-47E6-81AD-6FCEEEA4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C9BA-867E-45C7-A9B3-74EEA50C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BC7A-B716-45AB-9F5C-BD2C0C46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208E-5683-4C17-908B-13BD4A48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AE94E-E591-40D9-8399-7C42DD08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E982-D57D-4D67-844A-88D22706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E00-E782-4DAD-AABF-E6BEF634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8597-AAE4-4DAD-8C5C-34BF2D35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F555-629F-4645-82F9-52C30E8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9042-4C20-4792-8B76-46B4CA80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C70A-AB59-41DD-A450-7CAE2881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F363-0FF3-4954-B876-FF80577A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9CC9-520F-4B21-9006-30A0B5CF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E75E-F7BB-4F73-8A52-64CDDFB5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D7EA-E4C8-4CF4-A22A-F91CE123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BD31-7D35-4B3C-B120-77D21541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25CC-3692-47EA-8268-6D8EE732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12B-6F2F-4ADF-A983-1AC9B408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49FD-3736-4D7F-8682-10619B97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18C6-769F-42A9-BD4F-4A4D8616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530ED-A8B2-4277-8A37-99C7DDA4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0AE4-5513-4408-B909-58C5CBA3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AF226-FA4F-4B6D-8292-28D05DC0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1CB3-FEE4-4237-B639-74C8AD41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85E4-5A0C-4EC4-9E1D-4619A0D4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7170-F1F9-4E7B-81A6-A7CE7C1E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2F78-8AAF-4FF6-91D3-5794783D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0E58-1A3B-4DBE-83EC-87C5CAB3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07E-5363-4C66-90AA-280703C8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A4769-29C9-4E81-BB59-B1918108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28DF-8707-4EC2-BED2-892ED332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F2FB-B904-4B8D-9412-5050E025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20111-5722-42FC-8E90-739AD00F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CCF84-5B7C-4B50-9136-ED19D821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B59A-34F7-4105-AC4C-7E8B19D1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21F7D-7A9E-4D5A-9AF8-3B4F26C8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1312-F7F0-4E6D-810A-190921A5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7F58-C57B-4C32-8966-ED617DA3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91BFA-7E18-41DA-8225-07422C85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C2F-495C-403A-89FE-C5E5CB7B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5343-CC5E-4F7C-8CCB-6BB4750F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DEFC-BDEE-4088-831E-567B3884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E6FF-4C8E-447C-B121-5F3B6129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0AEE-6726-489B-AFB1-01D78F8A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2E452-0CB8-49A7-B329-0F73B39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0AB9-15AE-4F6B-84C8-C3C7A00E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A497A-3DA1-4D42-82D1-111C7F4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0DC35-D2F7-4D65-8316-8B5F8C54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4D204-3685-4144-9579-BFA7151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B4964-84EA-44C3-B00A-8D6C5E1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012-C5DB-449D-AF71-82D0A80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EADCB-DFC8-4CAE-A7B9-C18C7482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1AE30-4FE5-4CCE-B878-4D418F94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C999-5B54-45CC-9BA4-4A5DE4E5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ABFF1-AE61-40A5-981D-59D16D01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763D0-B3FF-4DE1-BAAB-EE365C25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4B916-C4A5-428E-8FD3-9DCEFCB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C6D82-BF99-459F-AE22-B3D7BCF2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F1F2F-2098-4660-9662-1AFBE8D1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D83E-4350-43FF-8484-C809BABF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02F0E-6B7F-48AA-BDBD-0650CD45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65F-EBA0-4CA7-A991-A42D7B5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7F77F-E968-456D-98F6-6819670A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35773-3381-4C15-9BB6-8DDE8D9D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5980F-6CAC-471D-A773-D66AD82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11C9-B42A-4332-BD09-6E2B2100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7EFC-83A6-4B33-A0E2-6C816EC0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412F6-5B39-4BD5-90B9-95672FD2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EB3C8-719C-43ED-B3E2-9861CB72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5E235-BDD7-437D-B30C-FFF14CCC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13666-5AC3-49E9-8430-42AAACFE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6FA3A-1C57-4CBC-A28B-398E84EC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B9C-8351-45F0-9C67-4F684DA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96949-6F71-4D85-9522-3821A01F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C31F8-6068-42BA-B89D-AEB9E55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1D9DF-AC3A-4A45-9BA0-B82E89D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7EA2F-385A-4796-B2AF-4E97AE26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5937A-0B3B-4E7F-A573-3D634547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261AB-7319-44A0-91D3-92B0613B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29CB-7556-41E3-AC9E-6EBE7D65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92B5-BD91-4DD4-9EF0-C51DAAD7F8E9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56D5-EA0F-40EE-A633-947B06E65963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F7E4-25CB-4F0A-B88C-F09E8E9A34C5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B16D-1548-4ABE-8FDB-F4717EBF1A1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7032-7696-412C-87C0-18021D62888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FEC7-36B1-4422-9716-A345BE43C27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4979-50A6-4986-8EAB-DF80E120396E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F611-EF6B-4E22-ADC4-F7064F58A19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536400" y="1816200"/>
            <a:ext cx="8040960" cy="15364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0FE3-A891-4B59-9F8C-A218040D748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número de usuario es único en e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.número = u’.número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 = u’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.número = u’.número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2956-7E2A-4C1A-87BF-8552C71D378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566640" y="378000"/>
            <a:ext cx="8053560" cy="1152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38080" y="3124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ocumentación rigurosa y/o form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29120" y="1928880"/>
            <a:ext cx="3810240" cy="3504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fi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Verific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anten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ort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Interoper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3" name="AutoShape 5"/>
          <p:cNvGrpSpPr/>
          <p:nvPr/>
        </p:nvGrpSpPr>
        <p:grpSpPr>
          <a:xfrm>
            <a:off x="4370400" y="1762200"/>
            <a:ext cx="890640" cy="4108320"/>
            <a:chOff x="4370400" y="1762200"/>
            <a:chExt cx="890640" cy="4108320"/>
          </a:xfrm>
        </p:grpSpPr>
        <p:pic>
          <p:nvPicPr>
            <p:cNvPr id="394" name="AutoShape 5" descr=""/>
            <p:cNvPicPr/>
            <p:nvPr/>
          </p:nvPicPr>
          <p:blipFill>
            <a:blip r:embed="rId2"/>
            <a:stretch/>
          </p:blipFill>
          <p:spPr>
            <a:xfrm>
              <a:off x="4370400" y="1762200"/>
              <a:ext cx="89064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768920" y="1917720"/>
              <a:ext cx="108000" cy="34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6"/>
          <p:cNvSpPr/>
          <p:nvPr/>
        </p:nvSpPr>
        <p:spPr>
          <a:xfrm>
            <a:off x="1002240" y="589608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lidades del producto y del proceso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C9F2-C547-4B6C-AB96-1EC2D940F29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ivide et Impera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Separar el problema en sus diferentes aspectos y abordarlos separadamen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5 Diagrama" descr=""/>
          <p:cNvPicPr/>
          <p:nvPr/>
        </p:nvPicPr>
        <p:blipFill>
          <a:blip r:embed="rId2"/>
          <a:stretch/>
        </p:blipFill>
        <p:spPr>
          <a:xfrm>
            <a:off x="1566720" y="3206880"/>
            <a:ext cx="55105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"/>
          <p:cNvPicPr/>
          <p:nvPr/>
        </p:nvPicPr>
        <p:blipFill>
          <a:blip r:embed="rId1"/>
          <a:stretch/>
        </p:blipFill>
        <p:spPr>
          <a:xfrm>
            <a:off x="7437600" y="1571760"/>
            <a:ext cx="1706400" cy="2857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"/>
          <a:stretch/>
        </p:blipFill>
        <p:spPr>
          <a:xfrm>
            <a:off x="0" y="4692600"/>
            <a:ext cx="2786040" cy="2022480"/>
          </a:xfrm>
          <a:prstGeom prst="rect">
            <a:avLst/>
          </a:prstGeom>
          <a:ln w="0">
            <a:noFill/>
          </a:ln>
        </p:spPr>
      </p:pic>
      <p:sp>
        <p:nvSpPr>
          <p:cNvPr id="40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DA28-8C38-435B-A146-B1AA645F743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24480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untos económ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6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ara un producto de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funcionalidad ofreci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nfiabilidad espera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ficiencia en el uso del tiempo y el espaci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pendencias del ambiente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interfaces del usuari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4324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ara el proceso de desarroll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tructura y organización del equipo de trabaj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gen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rocedimientos de control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trategias de diseñ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ecanismos de recuperación de erro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13 Grupo"/>
          <p:cNvGrpSpPr/>
          <p:nvPr/>
        </p:nvGrpSpPr>
        <p:grpSpPr>
          <a:xfrm>
            <a:off x="4500720" y="2500200"/>
            <a:ext cx="4429080" cy="3005280"/>
            <a:chOff x="4500720" y="2500200"/>
            <a:chExt cx="4429080" cy="3005280"/>
          </a:xfrm>
        </p:grpSpPr>
        <p:pic>
          <p:nvPicPr>
            <p:cNvPr id="409" name="Picture 11" descr=""/>
            <p:cNvPicPr/>
            <p:nvPr/>
          </p:nvPicPr>
          <p:blipFill>
            <a:blip r:embed="rId1"/>
            <a:stretch/>
          </p:blipFill>
          <p:spPr>
            <a:xfrm>
              <a:off x="4500720" y="2500200"/>
              <a:ext cx="442908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12 Rectángulo"/>
            <p:cNvSpPr/>
            <p:nvPr/>
          </p:nvSpPr>
          <p:spPr>
            <a:xfrm>
              <a:off x="4500720" y="4554000"/>
              <a:ext cx="2598840" cy="947880"/>
            </a:xfrm>
            <a:prstGeom prst="rect">
              <a:avLst/>
            </a:prstGeom>
            <a:solidFill>
              <a:srgbClr val="ffffff"/>
            </a:solidFill>
            <a:ln w="47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D693-355F-4E31-A879-25A0F4EF199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600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Algunos aspectos no pueden decidirse en forma completamente independient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inero disponibl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mbiente de desarroll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gen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498C-0D29-4838-8B83-D455D36E878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42560" y="1857240"/>
            <a:ext cx="47401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iempo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organización de las actividades en el tiemp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base del ciclo de vida del software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secuencia de actividad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ualidad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dicarse a desarrollar distintas cualidades por separad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j.: funcionalidad y eficienci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89200" y="1857240"/>
            <a:ext cx="4654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Vision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flujo de datos y flujo de contro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interfaces del usuario y diseño de la base de da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Part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finamiento del sistema por partes dependiendo del tamañ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modular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557B-84C9-4013-8C2C-40E5B68E257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38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separación del problema completo en pequeñas partes sugiere que es posible no considerar una solución óptima glob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general, la complejidad del problema completo nos impide resolver bien los problemas parciales y también el problema glob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1" name="AutoShape 4"/>
          <p:cNvGrpSpPr/>
          <p:nvPr/>
        </p:nvGrpSpPr>
        <p:grpSpPr>
          <a:xfrm>
            <a:off x="1017720" y="5151600"/>
            <a:ext cx="7961040" cy="1176120"/>
            <a:chOff x="1017720" y="5151600"/>
            <a:chExt cx="7961040" cy="1176120"/>
          </a:xfrm>
        </p:grpSpPr>
        <p:pic>
          <p:nvPicPr>
            <p:cNvPr id="422" name="AutoShape 4" descr=""/>
            <p:cNvPicPr/>
            <p:nvPr/>
          </p:nvPicPr>
          <p:blipFill>
            <a:blip r:embed="rId2"/>
            <a:stretch/>
          </p:blipFill>
          <p:spPr>
            <a:xfrm>
              <a:off x="1017720" y="5151600"/>
              <a:ext cx="7961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066680" y="5400720"/>
              <a:ext cx="6993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5"/>
          <p:cNvSpPr/>
          <p:nvPr/>
        </p:nvSpPr>
        <p:spPr>
          <a:xfrm>
            <a:off x="1350360" y="4765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067760" y="588024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7111080" y="4815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935040" y="60325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48A2-6570-4246-BCF4-AE05B96F61B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separación de intereses determina la división de las tareas posiblemente entre personas con diferentes habilidad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ambién las necesidades de personal en las distintas etapas de desarrollo del software son diferent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ntidad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lific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"/>
          <p:cNvPicPr/>
          <p:nvPr/>
        </p:nvPicPr>
        <p:blipFill>
          <a:blip r:embed="rId1"/>
          <a:srcRect l="1417" t="4091" r="5334" b="2661"/>
          <a:stretch/>
        </p:blipFill>
        <p:spPr>
          <a:xfrm>
            <a:off x="6572160" y="4000680"/>
            <a:ext cx="2500560" cy="25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3E3B-3D6C-46FB-959F-FF8676C2BF6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557280" y="16430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sistema complejo puede dividirse en partes llamadas </a:t>
            </a:r>
            <a:r>
              <a:rPr b="0" i="1" lang="es-ES_tradnl" sz="3200" spc="-1" strike="noStrike">
                <a:solidFill>
                  <a:srgbClr val="000000"/>
                </a:solidFill>
                <a:latin typeface="Corbel"/>
              </a:rPr>
              <a:t>módulos</a:t>
            </a: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sistema dividido en módulos es modu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modularidad es importante en casi todos los productos y procesos de ingenierí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reutiliz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CB3D-C9B8-4058-861B-D327BE851B5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85840" y="1774800"/>
            <a:ext cx="8858160" cy="472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scomposi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componer un sistema en grandes bloques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plicar la descomposición recursivamente a bloques complej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mposi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usando varios elementos (módulos) básicos, se construye un sistema más complej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reutilización de módulos de software beneficia todo el proceso de desarrol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mprens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s más fácil localizar cambios en un sistema modular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también es más fácil comprender módulos peque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A97C-F727-494C-AF82-C8D39E0F39D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7859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Cómo se logra construir un software de calida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Existe algún principio o práctica general que me asegure que el producto de software creado tendrá ciertas cualidad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8 Diagrama" descr=""/>
          <p:cNvPicPr/>
          <p:nvPr/>
        </p:nvPicPr>
        <p:blipFill>
          <a:blip r:embed="rId2"/>
          <a:stretch/>
        </p:blipFill>
        <p:spPr>
          <a:xfrm>
            <a:off x="2382840" y="4316400"/>
            <a:ext cx="49816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16B4-63FA-4E19-8797-2550BBF090A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lta Cohesión (interna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elementos comprendidos dentro de un módulo están altamente relacionados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operan para lograr un mismo fi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no están juntos al az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Bajo Acoplamiento (extern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relación e interacción entre los distintos módulos debe ser simple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si dos módulos dependen altamente uno del otro, es probable que los cambios en un módulo afecten al otr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F18F-9B53-40FE-B6D0-ACC74F7FAB2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1: Nivel de Módul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detalles de cada módulo se tratan en forma independi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2: Nivel del Sist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interacción entre los módulos se trata independientemente de los detalles intern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1 - Fase 2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Bottom - u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2 - Fase 1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Top - dow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4" name="4 Diagrama" descr=""/>
          <p:cNvPicPr/>
          <p:nvPr/>
        </p:nvPicPr>
        <p:blipFill>
          <a:blip r:embed="rId2"/>
          <a:stretch/>
        </p:blipFill>
        <p:spPr>
          <a:xfrm>
            <a:off x="5467320" y="4400640"/>
            <a:ext cx="33228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7" descr=""/>
          <p:cNvPicPr/>
          <p:nvPr/>
        </p:nvPicPr>
        <p:blipFill>
          <a:blip r:embed="rId2"/>
          <a:stretch/>
        </p:blipFill>
        <p:spPr>
          <a:xfrm>
            <a:off x="2143080" y="1714680"/>
            <a:ext cx="500076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EDB9-B80A-4D19-A5ED-4E1FC0FF8D8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42560" y="185724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istinguir los elementos esenciales e ignorar los detal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s un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separación de intereses (esencia y detalle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abstracción no es únic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pende del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l usuario de la abstrac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0" name="Picture 17" descr=""/>
          <p:cNvPicPr/>
          <p:nvPr/>
        </p:nvPicPr>
        <p:blipFill>
          <a:blip r:embed="rId2"/>
          <a:srcRect l="0" t="0" r="0" b="5496"/>
          <a:stretch/>
        </p:blipFill>
        <p:spPr>
          <a:xfrm>
            <a:off x="4743360" y="1428840"/>
            <a:ext cx="4400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EA44-B3B9-47ED-9FB2-1C97A9E5948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3520800" y="2255760"/>
            <a:ext cx="2111760" cy="642600"/>
          </a:xfrm>
          <a:prstGeom prst="rect">
            <a:avLst/>
          </a:prstGeom>
          <a:noFill/>
          <a:ln w="2844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4120" y="41101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uario Fi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2640960" y="411012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iseñ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575600" y="411012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rogram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, lengu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6861240" y="4110120"/>
            <a:ext cx="163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antene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quite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V="1">
            <a:off x="1295280" y="2971440"/>
            <a:ext cx="2362320" cy="1066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 flipV="1">
            <a:off x="3352680" y="2971440"/>
            <a:ext cx="76212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 flipH="1" flipV="1">
            <a:off x="4876920" y="2971440"/>
            <a:ext cx="45720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"/>
          <p:cNvSpPr/>
          <p:nvPr/>
        </p:nvSpPr>
        <p:spPr>
          <a:xfrm flipH="1" flipV="1">
            <a:off x="5409720" y="2971440"/>
            <a:ext cx="221004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F446-9BDD-4A58-8796-92D1F99B9E8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rquitectu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plano de una casa describ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orient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tamaño relativo de las habitacion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istribu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ero no incluy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ateriales de construc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lores de las pare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ircuitos eléctric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incluy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esistencias, capacitores, etc.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cuacion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no incluy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esistencia de los conecto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E16-720C-4476-90B9-004EDD36935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Rectangle 4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0"/>
          <p:cNvGrpSpPr/>
          <p:nvPr/>
        </p:nvGrpSpPr>
        <p:grpSpPr>
          <a:xfrm>
            <a:off x="457200" y="1752480"/>
            <a:ext cx="4267080" cy="2590920"/>
            <a:chOff x="457200" y="1752480"/>
            <a:chExt cx="4267080" cy="2590920"/>
          </a:xfrm>
        </p:grpSpPr>
        <p:sp>
          <p:nvSpPr>
            <p:cNvPr id="469" name="AutoShape 3"/>
            <p:cNvSpPr/>
            <p:nvPr/>
          </p:nvSpPr>
          <p:spPr>
            <a:xfrm>
              <a:off x="457200" y="1752480"/>
              <a:ext cx="4267080" cy="2590920"/>
            </a:xfrm>
            <a:prstGeom prst="cloudCallout">
              <a:avLst>
                <a:gd name="adj1" fmla="val -21351"/>
                <a:gd name="adj2" fmla="val 31555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5"/>
            <p:cNvSpPr/>
            <p:nvPr/>
          </p:nvSpPr>
          <p:spPr>
            <a:xfrm>
              <a:off x="1704960" y="247824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9"/>
          <p:cNvGrpSpPr/>
          <p:nvPr/>
        </p:nvGrpSpPr>
        <p:grpSpPr>
          <a:xfrm>
            <a:off x="5867280" y="4267080"/>
            <a:ext cx="2133720" cy="2057400"/>
            <a:chOff x="5867280" y="4267080"/>
            <a:chExt cx="2133720" cy="2057400"/>
          </a:xfrm>
        </p:grpSpPr>
        <p:sp>
          <p:nvSpPr>
            <p:cNvPr id="472" name="Oval 2"/>
            <p:cNvSpPr/>
            <p:nvPr/>
          </p:nvSpPr>
          <p:spPr>
            <a:xfrm>
              <a:off x="5867280" y="4267080"/>
              <a:ext cx="2133720" cy="2057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6314400" y="4875120"/>
              <a:ext cx="12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odelo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1"/>
          <p:cNvGrpSpPr/>
          <p:nvPr/>
        </p:nvGrpSpPr>
        <p:grpSpPr>
          <a:xfrm>
            <a:off x="2525400" y="2715840"/>
            <a:ext cx="4017240" cy="2505240"/>
            <a:chOff x="2525400" y="2715840"/>
            <a:chExt cx="4017240" cy="2505240"/>
          </a:xfrm>
        </p:grpSpPr>
        <p:sp>
          <p:nvSpPr>
            <p:cNvPr id="475" name="AutoShape 7"/>
            <p:cNvSpPr/>
            <p:nvPr/>
          </p:nvSpPr>
          <p:spPr>
            <a:xfrm rot="17788800">
              <a:off x="4159080" y="191088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8"/>
            <p:cNvSpPr/>
            <p:nvPr/>
          </p:nvSpPr>
          <p:spPr>
            <a:xfrm rot="1651200">
              <a:off x="3491640" y="353700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718F-273C-400E-BABF-60C28D2A068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8265960" cy="11588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1828800" y="5486400"/>
            <a:ext cx="5486400" cy="533520"/>
          </a:xfrm>
          <a:prstGeom prst="rect">
            <a:avLst/>
          </a:prstGeom>
          <a:solidFill>
            <a:srgbClr val="f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1828800" y="4800600"/>
            <a:ext cx="5486400" cy="533520"/>
          </a:xfrm>
          <a:prstGeom prst="rect">
            <a:avLst/>
          </a:prstGeom>
          <a:solidFill>
            <a:srgbClr val="d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828800" y="4114800"/>
            <a:ext cx="5486400" cy="533520"/>
          </a:xfrm>
          <a:prstGeom prst="rect">
            <a:avLst/>
          </a:prstGeom>
          <a:solidFill>
            <a:srgbClr val="c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1828800" y="3429000"/>
            <a:ext cx="5486400" cy="533520"/>
          </a:xfrm>
          <a:prstGeom prst="rect">
            <a:avLst/>
          </a:prstGeom>
          <a:solidFill>
            <a:srgbClr val="b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 AL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828800" y="2743200"/>
            <a:ext cx="5486400" cy="533520"/>
          </a:xfrm>
          <a:prstGeom prst="rect">
            <a:avLst/>
          </a:prstGeom>
          <a:solidFill>
            <a:srgbClr val="a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2057400"/>
            <a:ext cx="5486400" cy="533520"/>
          </a:xfrm>
          <a:prstGeom prst="rect">
            <a:avLst/>
          </a:prstGeom>
          <a:solidFill>
            <a:srgbClr val="8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CIFICACIÓN D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9"/>
          <p:cNvGrpSpPr/>
          <p:nvPr/>
        </p:nvGrpSpPr>
        <p:grpSpPr>
          <a:xfrm>
            <a:off x="514080" y="1967040"/>
            <a:ext cx="752040" cy="4115160"/>
            <a:chOff x="514080" y="1967040"/>
            <a:chExt cx="752040" cy="4115160"/>
          </a:xfrm>
        </p:grpSpPr>
        <p:sp>
          <p:nvSpPr>
            <p:cNvPr id="486" name="AutoShape 10"/>
            <p:cNvSpPr/>
            <p:nvPr/>
          </p:nvSpPr>
          <p:spPr>
            <a:xfrm rot="10797600">
              <a:off x="515520" y="196704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 rot="16260000">
              <a:off x="141480" y="426888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2BCA-7570-4329-A8A2-96F18CFC843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Rectangle 4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roducto de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l comentario en el encabezado describe una abstracción de la funcionalidad del procedimient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roceso de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estimación del costo de desarrollo se realiza considerando los principales factor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ersona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apacitació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ca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quipamiento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252-C059-42E8-8FF5-F5BDDEBAB57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17859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mantenibilidad es una cualidad deseable del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rrección de error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umentar la funcionalida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arrollar software fácilmente mantenible no es grat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nticipar el cómo y dónde van a ocurrir los cambi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roceder de modo que haga fácil la aplicación de futuros cambi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ste principio se aplica generalmente en la etapa de diseño del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los lugares que van a cambiar se aíslan de modo que los cambios no afecten otras porciones del softwar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D153-6727-49D4-AA89-7FF24B6A075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85480" y="1774800"/>
            <a:ext cx="8715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orma sistemática de abordar una activ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écnic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más formales y restringidas que los méto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organización de métodos y técnicas para guiar el proceso de resolución de un probl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Herramien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carna y fuerza la metodología (métodos y técnica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89AC-378C-4F1B-AD75-AE94E929226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s aplicaciones de software se desarrollan a pesar de que sus requerimientos muchas veces no se han comprendido completa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pués de instalado el sistema, el usuario realiza comentarios que dan lugar a cambios y ajus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s organizaciones se ven afectadas por la instalación de un nuevo sistema, de modo que los requerimientos cambian con su implanta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anticipación de los cambios es casi la única forma de abordar esta situación eficiente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561A-3BB4-4079-AF73-4E0BCED7F9D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Una componente es reusable si puede ser utilizada para construir un nuevo sistema de software (sin cambios o con cambios mínimos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Reutilización es una evolución en pequeña escala, a nivel de compon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i puede anticiparse los contextos en que la componente será utilizada, se la diseña de modo de poder acomodar fácilmente los cambios necesari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6058-B41E-4BC5-AE31-C8CFB48CF65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os cambios en las componentes deben ser registrados y almacen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da sistema debe tener la versión apropiada de cada una de sus compon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da configuración consistente debe también ser almacena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s herramientas son esenci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553080" y="2286000"/>
            <a:ext cx="106704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5257800" y="3581280"/>
            <a:ext cx="106668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6553080" y="3581280"/>
            <a:ext cx="106704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5181480" y="4800600"/>
            <a:ext cx="609840" cy="60948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57913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4771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80773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13"/>
          <p:cNvCxnSpPr>
            <a:stCxn id="503" idx="2"/>
            <a:endCxn id="504" idx="0"/>
          </p:cNvCxnSpPr>
          <p:nvPr/>
        </p:nvCxnSpPr>
        <p:spPr>
          <a:xfrm flipH="1">
            <a:off x="5790960" y="2990520"/>
            <a:ext cx="129600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3" name="AutoShape 14"/>
          <p:cNvCxnSpPr>
            <a:stCxn id="503" idx="2"/>
            <a:endCxn id="505" idx="0"/>
          </p:cNvCxnSpPr>
          <p:nvPr/>
        </p:nvCxnSpPr>
        <p:spPr>
          <a:xfrm>
            <a:off x="7086240" y="2990520"/>
            <a:ext cx="108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4" name="AutoShape 15"/>
          <p:cNvCxnSpPr>
            <a:stCxn id="503" idx="2"/>
            <a:endCxn id="506" idx="0"/>
          </p:cNvCxnSpPr>
          <p:nvPr/>
        </p:nvCxnSpPr>
        <p:spPr>
          <a:xfrm>
            <a:off x="7086600" y="2990520"/>
            <a:ext cx="129600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5" name="AutoShape 16"/>
          <p:cNvCxnSpPr>
            <a:stCxn id="504" idx="2"/>
            <a:endCxn id="507" idx="0"/>
          </p:cNvCxnSpPr>
          <p:nvPr/>
        </p:nvCxnSpPr>
        <p:spPr>
          <a:xfrm flipH="1">
            <a:off x="548568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AutoShape 17"/>
          <p:cNvCxnSpPr>
            <a:stCxn id="504" idx="2"/>
            <a:endCxn id="508" idx="0"/>
          </p:cNvCxnSpPr>
          <p:nvPr/>
        </p:nvCxnSpPr>
        <p:spPr>
          <a:xfrm>
            <a:off x="5791320" y="4286160"/>
            <a:ext cx="30528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7" name="AutoShape 18"/>
          <p:cNvCxnSpPr>
            <a:stCxn id="505" idx="2"/>
            <a:endCxn id="509" idx="0"/>
          </p:cNvCxnSpPr>
          <p:nvPr/>
        </p:nvCxnSpPr>
        <p:spPr>
          <a:xfrm flipH="1">
            <a:off x="6780960" y="4286160"/>
            <a:ext cx="30564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8" name="AutoShape 19"/>
          <p:cNvCxnSpPr>
            <a:stCxn id="505" idx="2"/>
            <a:endCxn id="510" idx="0"/>
          </p:cNvCxnSpPr>
          <p:nvPr/>
        </p:nvCxnSpPr>
        <p:spPr>
          <a:xfrm>
            <a:off x="708624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AutoShape 20"/>
          <p:cNvCxnSpPr>
            <a:stCxn id="506" idx="2"/>
            <a:endCxn id="511" idx="0"/>
          </p:cNvCxnSpPr>
          <p:nvPr/>
        </p:nvCxnSpPr>
        <p:spPr>
          <a:xfrm>
            <a:off x="8381520" y="4286160"/>
            <a:ext cx="108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3A6B-0864-412A-923C-A57DC29E19B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eben anticiparse acciones en caso de cambio en el persona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ambién debe considerarse el mantenimiento para la estimación de costos de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ebe considerarse la construcción de componentes reutilizables como parte del proyecto o como un proyecto parale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8B56-B722-4B5F-9E12-413FD5E94EB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ideremos un algoritmo de ordenamiento, por ejemplo QuickSo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Algunos posibles cambios en una componente que implemente este algoritm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mbio en el tipo de datos a ordenar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cantidad de datos es tan grande que deben almacenarse en disc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Qué consideraciones haría para prever este tipo de cambio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AF1C-8023-4742-A1EF-C8C60B7E9FF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852560" y="5900760"/>
            <a:ext cx="60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que evaluar la conveniencia de una solución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709560" y="599436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5a63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ada vez que deba resolver un problema, trate de concentrarse en descubrir un problema más general que se esconde bajo el problema particular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uede suceder que el problema generalizado sea más sencillo que el original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Una solución más general es potencialmente más reutilizabl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 inclusive posible que ya exista una solución general disponibl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También es posible que la solución general sea invocada en varias circunstancias en la aplicación en lugar de tener varias soluciones particu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o contrapartida, una solución general puede ser menos eficiente (ejecución, uso de memoria, tiempo de desarrollo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4E99-3FDF-49BB-97B5-2FADFF73295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7010280" y="1752480"/>
            <a:ext cx="1599840" cy="4800240"/>
            <a:chOff x="7010280" y="1752480"/>
            <a:chExt cx="1599840" cy="4800240"/>
          </a:xfrm>
        </p:grpSpPr>
        <p:sp>
          <p:nvSpPr>
            <p:cNvPr id="534" name="Rectangle 4"/>
            <p:cNvSpPr/>
            <p:nvPr/>
          </p:nvSpPr>
          <p:spPr>
            <a:xfrm>
              <a:off x="7010280" y="1752480"/>
              <a:ext cx="487080" cy="1728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8123400" y="1752480"/>
              <a:ext cx="486720" cy="1728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7636320" y="3928680"/>
              <a:ext cx="487080" cy="262404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7"/>
            <p:cNvSpPr/>
            <p:nvPr/>
          </p:nvSpPr>
          <p:spPr>
            <a:xfrm>
              <a:off x="7358040" y="3544560"/>
              <a:ext cx="347760" cy="255960"/>
            </a:xfrm>
            <a:prstGeom prst="line">
              <a:avLst/>
            </a:prstGeom>
            <a:ln w="3816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8"/>
            <p:cNvSpPr/>
            <p:nvPr/>
          </p:nvSpPr>
          <p:spPr>
            <a:xfrm flipH="1">
              <a:off x="7984080" y="3544560"/>
              <a:ext cx="347760" cy="255960"/>
            </a:xfrm>
            <a:prstGeom prst="line">
              <a:avLst/>
            </a:prstGeom>
            <a:ln w="3816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Rectangle 10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620200" cy="126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28760" y="19810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e desea intercalar dos archivos ordenados para obtener un único archivo ordena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e sabe que no existen claves duplicad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i se desarrolla un algoritmo que acepte también claves duplicadas, habrá una mayor cantidad de casos para reusar el algoritm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demás existe un algoritmo para esta tarea que puede tom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379B-1DA1-45DE-923D-4600B259865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generalidad es esencial si se intenta desarrollar herramientas o paquetes para comercializar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más generalidad implica más aplicaciones y por lo tanto más potenciales comprado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nfigurar un producto general es más fácil, rápido y barato que desarrollar una aplicación a medi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endencia natural en todas las áreas de la ingeniería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¿ropa a medid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¿autos a medid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4299-DF80-4A1F-A778-63AFBB16ABE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proceso es incremental si se compone de pequeños pasos (increment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objetivo se logra como una sucesión de aproximaciones construidas cada una sobre la anterio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n el software, un proceso de desarrollo es incremental si se aplica el modelo Evolutivo de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9D92-6DA4-427A-87CA-A0BEEADC0AC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ject 2" descr=""/>
          <p:cNvPicPr/>
          <p:nvPr/>
        </p:nvPicPr>
        <p:blipFill>
          <a:blip r:embed="rId1"/>
          <a:stretch/>
        </p:blipFill>
        <p:spPr>
          <a:xfrm>
            <a:off x="3048120" y="280188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3651480" y="165744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ciona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conj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un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429200" y="523872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r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6274080" y="5162400"/>
            <a:ext cx="204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ntario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seguir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BAE3-A16C-4788-9FEB-529F7D59116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14360" y="493560"/>
            <a:ext cx="8053200" cy="1159200"/>
          </a:xfrm>
          <a:prstGeom prst="rect">
            <a:avLst/>
          </a:prstGeom>
          <a:ln w="0">
            <a:noFill/>
          </a:ln>
        </p:spPr>
      </p:pic>
      <p:pic>
        <p:nvPicPr>
          <p:cNvPr id="364" name="15 Diagrama" descr=""/>
          <p:cNvPicPr/>
          <p:nvPr/>
        </p:nvPicPr>
        <p:blipFill>
          <a:blip r:embed="rId2"/>
          <a:stretch/>
        </p:blipFill>
        <p:spPr>
          <a:xfrm>
            <a:off x="1706400" y="1951200"/>
            <a:ext cx="6542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0704-5C06-4B72-9B36-7D624DA07ED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sarrollo controlado cuando los requerimientos no son estables o completamente clar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la mayor parte de los casos es imposible tener todos los requerimientos al momento de comenzar el desarroll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clarificación de los requerimientos surge como consecuencia de la experimentación con 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retroalimentación permite desarrollar 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á íntimamente relacionado con la anticipación del cambi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FEF4-0C9D-44D7-A5E9-59B67B40B21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Rectangle 2" descr=""/>
          <p:cNvPicPr/>
          <p:nvPr/>
        </p:nvPicPr>
        <p:blipFill>
          <a:blip r:embed="rId1"/>
          <a:stretch/>
        </p:blipFill>
        <p:spPr>
          <a:xfrm>
            <a:off x="262080" y="530280"/>
            <a:ext cx="8358120" cy="1152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4495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estados intermedios del sistema pueden considerarse prototipos del sistema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control de la configuración resulta también esencial para administrar la incrementa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volucion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mig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obustez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264400" y="2604960"/>
            <a:ext cx="17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re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4267080" y="2057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9"/>
                </a:lnTo>
                <a:cubicBezTo>
                  <a:pt x="10800" y="10519"/>
                  <a:pt x="5400" y="11419"/>
                  <a:pt x="0" y="11419"/>
                </a:cubicBezTo>
                <a:cubicBezTo>
                  <a:pt x="5400" y="11419"/>
                  <a:pt x="10800" y="12319"/>
                  <a:pt x="10800" y="1321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C695-1EEC-4ABE-847A-8402CDC4071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67" name="4 Diagrama" descr=""/>
          <p:cNvPicPr/>
          <p:nvPr/>
        </p:nvPicPr>
        <p:blipFill>
          <a:blip r:embed="rId2"/>
          <a:stretch/>
        </p:blipFill>
        <p:spPr>
          <a:xfrm>
            <a:off x="1163520" y="1646280"/>
            <a:ext cx="72741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9D1D-E0FC-4417-872D-64FBCDC5B62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5"/>
          <p:cNvSpPr/>
          <p:nvPr/>
        </p:nvSpPr>
        <p:spPr>
          <a:xfrm>
            <a:off x="3581280" y="2457360"/>
            <a:ext cx="2133720" cy="304920"/>
          </a:xfrm>
          <a:prstGeom prst="leftRightArrow">
            <a:avLst>
              <a:gd name="adj1" fmla="val 50000"/>
              <a:gd name="adj2" fmla="val 1393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421520" y="1643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0" descr=""/>
          <p:cNvPicPr/>
          <p:nvPr/>
        </p:nvPicPr>
        <p:blipFill>
          <a:blip r:embed="rId2"/>
          <a:stretch/>
        </p:blipFill>
        <p:spPr>
          <a:xfrm>
            <a:off x="324000" y="3078000"/>
            <a:ext cx="4039920" cy="3151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"/>
          <p:cNvPicPr/>
          <p:nvPr/>
        </p:nvPicPr>
        <p:blipFill>
          <a:blip r:embed="rId3"/>
          <a:stretch/>
        </p:blipFill>
        <p:spPr>
          <a:xfrm>
            <a:off x="5214960" y="29289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374" name="11 Rectángulo"/>
          <p:cNvSpPr/>
          <p:nvPr/>
        </p:nvSpPr>
        <p:spPr>
          <a:xfrm>
            <a:off x="5821200" y="2220840"/>
            <a:ext cx="3251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13 Rectángulo" descr=""/>
          <p:cNvPicPr/>
          <p:nvPr/>
        </p:nvPicPr>
        <p:blipFill>
          <a:blip r:embed="rId4"/>
          <a:stretch/>
        </p:blipFill>
        <p:spPr>
          <a:xfrm>
            <a:off x="5357880" y="1908000"/>
            <a:ext cx="4316400" cy="1432080"/>
          </a:xfrm>
          <a:prstGeom prst="rect">
            <a:avLst/>
          </a:prstGeom>
          <a:ln w="0">
            <a:noFill/>
          </a:ln>
        </p:spPr>
      </p:pic>
      <p:pic>
        <p:nvPicPr>
          <p:cNvPr id="376" name="14 Rectángulo" descr=""/>
          <p:cNvPicPr/>
          <p:nvPr/>
        </p:nvPicPr>
        <p:blipFill>
          <a:blip r:embed="rId5"/>
          <a:stretch/>
        </p:blipFill>
        <p:spPr>
          <a:xfrm>
            <a:off x="-195120" y="1865160"/>
            <a:ext cx="35049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24E6-D2E7-4BE2-91C1-F5AB800B010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79" name="7 Diagrama" descr=""/>
          <p:cNvPicPr/>
          <p:nvPr/>
        </p:nvPicPr>
        <p:blipFill>
          <a:blip r:embed="rId2"/>
          <a:stretch/>
        </p:blipFill>
        <p:spPr>
          <a:xfrm>
            <a:off x="378000" y="2066760"/>
            <a:ext cx="8918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F72A-2FC1-4447-ABAD-68696B9DBFC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28760" y="1714320"/>
            <a:ext cx="8229600" cy="4625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Una serie de pas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finidos, precisos, coher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cada paso se aplica alguna técnic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técnica aplicada depende d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sultados teóricos derivados de un modelo de la realidad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justes empíricos para casos no cubiertos por el model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xperiencia del desarrollad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a mezcla define una metodología que puede usarse repetid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2823-C7A0-4B1F-A596-06B505AEEA7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grado de formalismo usado en cada paso depende de varios factor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xperiencia en el área de desarroll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uán crítico es el produc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iempo en ejecu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s necesario que el desarrollador sepa decidir sobre el grado de formalidad necesario para cada paso del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9T15:44:42Z</dcterms:modified>
  <cp:revision>573</cp:revision>
  <dc:subject/>
  <dc:title>CC31B – Desarrollo de Software de Aplicación</dc:title>
</cp:coreProperties>
</file>