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3EB3-404F-4AD4-A6EB-9913C309B7E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4441-8849-45B6-B61D-B77D48EAC12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0415-C0FF-4641-9E86-D54999FFC5E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01BB-D2A4-4C10-9250-34AA8C8CE22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07EF-DB93-4331-8C95-C2AD1FA7BE9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A26D-E493-407F-90DB-56C4BC4D6C3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0D6E-9680-439A-8F51-454007F4855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BC0F-19E8-4D20-9EC7-0E4204B9F8F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89E8-A4F6-48E6-9C40-1C286C318B8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F471-8C29-40C4-83F4-7C9B98654EA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D9D4-AC34-46BF-8FCC-AF4154753D3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B7E6-8204-4EAC-9C3C-D76D2FFDBF6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4964-D68F-44B7-92D2-620908ADBE9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0692-51AB-4ED4-B69E-6AD0C8CDAE2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6C18-C31F-4EC4-ABCF-60B8EE4C536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98AF-9184-4DAC-BF00-D203343CBE4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2475-6189-4CB3-9151-7E4867FADEB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3464-AF2C-4FA4-8540-DD56153C200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3DA8-41B2-448B-BAAC-01F8BBD1EB1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FEFF-7B80-4396-A63F-528B9D4CCA0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1049-8451-45A3-9601-547A2E33936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47E2-9450-467E-8E92-715FD89E8F8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ADA4-02DD-4E8B-A429-38461479684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19DA-2520-48F1-BB6A-925B1E0502F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7E45-7DFA-46B1-9E42-4A2E5CA5FBA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4E30-427E-4BA9-B5F6-C3292ECD2F3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3B79-8A7C-43E6-966A-B795EA3C10A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DF21-800A-4169-AC54-736BF3A3389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3F86-7439-45DD-8722-24A4FE61551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A204-B2CD-464E-8DFF-D13C029D20D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F41F-BF0E-471A-891A-CC18C7DE148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1A08-6224-444F-A9CD-137BA029335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FBE4-2C27-4EAF-B377-2AF12F6B61A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4DFC-3D57-4885-8BB1-B90E3F61FB4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0ED7-ED8D-437A-B721-C078259E1B2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D3CE-9364-4D5A-8C03-67C335F695D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9CD2-BB54-4F29-8656-C451CAB65EF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4CC7-4F41-4D32-AEE2-DD1CCA6556C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4A06-3C1B-42E6-8275-6BC75B721EC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2FE9-76C5-49F4-A062-E2B1593794F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EFDC-9EE4-4361-A8F6-B04C1800D13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99DF-AAB7-49A6-8EE6-E07D0914D9A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48E-CCB2-40F5-BD07-CB4DEE5A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924-6202-4A61-A352-A6AB558F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D7A-A32D-478A-A637-29A511DC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496-7821-4B12-BB46-9749CF38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1A7C-4DF0-4F10-838C-A771416D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BDEF-11F6-446C-9E89-18D31F43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B5A9-E50D-47F7-AFEF-0E2814F2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EE3D-36AA-443C-A7F6-BC3FA523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DC79-36A0-4584-A702-916522C4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16D5-E9FE-4D8D-9DBD-F8B432D4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2818-BDEF-4601-99A8-34701A41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EC0-9267-4BCF-A66C-C6C16F52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9E4D-AC67-4285-9A3D-9FCBBEE4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88E4-2E8A-45C6-90A6-86AFE3B2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184F-B759-44C9-8DA5-B54F70D6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27AA-3302-4FF2-8BD4-E579464A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0026-55C7-4D15-8228-E73A0A02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2453-E8F3-496B-88A7-9592E018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07E2-2F21-4FCD-9EEC-89B7C9A3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7A07-DE69-4D4B-BF1D-DA05F7E5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53A5-ECC6-46AB-96A7-9B6F22C8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4D59-EEA4-4834-B06A-896531C0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4D6-F68C-44F6-A651-62EA58C3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06CC-9134-4700-8234-7EC92A43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D97D-4A87-4173-AC15-D26C8E46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90BF-2658-4EB2-8AA0-C95AE9D4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CD08-D00A-417B-A1F3-9FB9DC37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BF13-0438-4719-B41D-D764E00C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0385-C382-4B26-A8DF-62AF635E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9CF9C-78B6-442C-B1ED-4327BB58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1E8AE-9F24-4C23-B29B-B90DC209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C218-00D7-46F7-B8E1-731F9D26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A2194-681F-4244-BE8E-9472E1E0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1FC-A2AC-491D-9A26-8BC7F786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7F007-5BC2-40A4-AEA3-A32E36B5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BBE33-7C28-4E49-BCBD-CF6C180B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24ADA-F394-44CF-9004-8460CA1B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C031-8AC4-4372-8F8E-D23474F2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D98A0-7CC4-4B8E-B579-1E4DDA4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20290-0FFD-4E99-92AD-AC55B261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39E7C-49E1-4CBF-B2C3-92E0A03F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C44C2-A37C-4CF4-8D61-444DCF62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FA946-9E8E-491E-84C8-DC0E793F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52967-688C-443F-A00A-03144410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516-D603-4ADB-86A6-093CE694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13DE-EBE0-4C11-AD5B-5D2C2AB4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F5458-2774-4C66-B034-EFD1A204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F3F92-9CB1-461C-B498-F19D080C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F6B84-E199-4FD8-9BAD-159027FE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D29F2-5C31-4110-AD8F-97535365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5CC59-EC61-4DEE-AD14-44604D0D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51FE8-7903-47C5-97C8-9829D9E7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5D151-FED1-482C-B33D-A525A446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756ED-03CD-44D3-9D57-8A73313F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8A6E6-72D6-4249-95C3-121FC44C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359-D8AB-4F18-A479-0734F61E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E4EB1-186B-48A2-962A-54D3375F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81ECD-C647-4116-9BB4-2303D8A8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1C19D-2369-4367-AD6B-EF971F3B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AD819-B0E4-4228-AD1D-183D4B70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8B158-9A22-478B-9E4F-67F4858D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33FEE-5F6D-42BE-828F-64CD07B5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8249E-B7E2-428E-8CEF-392C1644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4410C-F0CE-413D-80BA-88EDB872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E458D-4213-49F6-B80E-F379D6BB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4F3A4-D949-400F-9088-CFF11DDB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FC3-BA65-4251-8138-98151C49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85031-9BA1-46E7-AA2C-68010B76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381AD-19C7-46A2-95E2-E7A46A3D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AFF64-8060-4A28-810F-0D4FFBC9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64547-3A91-458C-8D2B-5A31400D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6A2A3-63B4-4B64-82CF-AD23F74D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182FB-0ED2-483D-B444-956AE970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91868-8F9E-49AD-8B49-697843E1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FD486-4F97-4EAD-8907-D6B52632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1F458-D773-4D74-8AA1-4B245E28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3F335-7E52-4A87-90E2-A6B9DD04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364-73F8-404B-89D3-A63D78E9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31FC6-F265-4336-88C6-63BF7A0D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482D6-E678-43F8-AF17-7BB6C7A6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F061D-BD7B-4931-90EE-C644E09E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2B4BF-B8ED-42E7-9661-C6CB4065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69453-BA67-40AE-A4F0-95A5C715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8FFE2-2EE0-4015-82C3-23209FE8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F9561-37EF-41C5-ADD5-49569E37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6B18E-909A-4D78-B1C9-22FFA9B0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36205-036F-4A76-B9AD-3197E00A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20CF9-7931-4E6A-A6EB-B8A65AF0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366-AC53-4A1B-AE8E-B0486FB2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C5F85-15B2-49C0-86B2-3AD54E1D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DBBB2-96E5-47EB-969F-34471EFE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4C9E5-9921-4BF8-8F96-B48DED30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30B32-97F2-4493-944F-4CBDF60E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B18C5-9B9B-4370-A39A-7B31D193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04909-6E03-47D4-A68B-14FA1C6D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60F2D-D50C-4A26-90A4-B1DFAAAD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B6C6-0DC1-444C-B8A7-0B665610F417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8477-D288-4CB6-8C22-1F8AA2D123B0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F8A2-4FBC-4BD1-AA3C-06A91322EC5C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A93A-BAEE-44ED-98F8-43DFE1B16D28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4F1F-16A4-4A8D-8FFE-9504982864C1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5046-8E70-494E-B297-8ED9A76AD6D7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CB48-EC50-4B94-ACBC-F5E2626036B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AFD4-9CF6-4703-8D4B-4A97235C54A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536400" y="1816200"/>
            <a:ext cx="8040960" cy="15364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2305-7E52-4740-BA04-FDA3ACDAA59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número de usuario es único en e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.número = u’.número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u = u’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.número = u’.número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CCC8-7AD1-4A86-848C-DFEA37FB69C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566640" y="378000"/>
            <a:ext cx="8053560" cy="11523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38080" y="3124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ocumentación rigurosa y/o form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29120" y="1928880"/>
            <a:ext cx="3810240" cy="3504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fi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Verific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Manteni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Reus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Port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Interoper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3" name="AutoShape 5"/>
          <p:cNvGrpSpPr/>
          <p:nvPr/>
        </p:nvGrpSpPr>
        <p:grpSpPr>
          <a:xfrm>
            <a:off x="4370400" y="1762200"/>
            <a:ext cx="890640" cy="4108320"/>
            <a:chOff x="4370400" y="1762200"/>
            <a:chExt cx="890640" cy="4108320"/>
          </a:xfrm>
        </p:grpSpPr>
        <p:pic>
          <p:nvPicPr>
            <p:cNvPr id="394" name="AutoShape 5" descr=""/>
            <p:cNvPicPr/>
            <p:nvPr/>
          </p:nvPicPr>
          <p:blipFill>
            <a:blip r:embed="rId2"/>
            <a:stretch/>
          </p:blipFill>
          <p:spPr>
            <a:xfrm>
              <a:off x="4370400" y="1762200"/>
              <a:ext cx="890640" cy="41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4768920" y="1917720"/>
              <a:ext cx="108000" cy="34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6"/>
          <p:cNvSpPr/>
          <p:nvPr/>
        </p:nvSpPr>
        <p:spPr>
          <a:xfrm>
            <a:off x="1002240" y="5896080"/>
            <a:ext cx="77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alidades del producto y del proceso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660F-58A1-4079-8DB3-9C77118FFB6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ivide et Impera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Separar el problema en sus diferentes aspectos y abordarlos separadament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0" name="5 Diagrama" descr=""/>
          <p:cNvPicPr/>
          <p:nvPr/>
        </p:nvPicPr>
        <p:blipFill>
          <a:blip r:embed="rId2"/>
          <a:stretch/>
        </p:blipFill>
        <p:spPr>
          <a:xfrm>
            <a:off x="1566720" y="3206880"/>
            <a:ext cx="55105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"/>
          <p:cNvPicPr/>
          <p:nvPr/>
        </p:nvPicPr>
        <p:blipFill>
          <a:blip r:embed="rId1"/>
          <a:stretch/>
        </p:blipFill>
        <p:spPr>
          <a:xfrm>
            <a:off x="7437600" y="1571760"/>
            <a:ext cx="1706400" cy="2857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"/>
          <a:stretch/>
        </p:blipFill>
        <p:spPr>
          <a:xfrm>
            <a:off x="0" y="4692600"/>
            <a:ext cx="2786040" cy="2022480"/>
          </a:xfrm>
          <a:prstGeom prst="rect">
            <a:avLst/>
          </a:prstGeom>
          <a:ln w="0">
            <a:noFill/>
          </a:ln>
        </p:spPr>
      </p:pic>
      <p:sp>
        <p:nvSpPr>
          <p:cNvPr id="40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1246-6450-4972-998A-8D2B860ABCC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2448000" y="563868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untos económ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Rectangle 6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ara un producto de softwar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funcionalidad ofrecida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nfiabilidad esperada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ficiencia en el uso del tiempo y el espaci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pendencias del ambiente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interfaces del usuari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4324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ara el proceso de desarroll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tructura y organización del equipo de trabaj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genda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procedimientos de control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trategias de diseñ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mecanismos de recuperación de erro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13 Grupo"/>
          <p:cNvGrpSpPr/>
          <p:nvPr/>
        </p:nvGrpSpPr>
        <p:grpSpPr>
          <a:xfrm>
            <a:off x="4500720" y="2500200"/>
            <a:ext cx="4429080" cy="3005280"/>
            <a:chOff x="4500720" y="2500200"/>
            <a:chExt cx="4429080" cy="3005280"/>
          </a:xfrm>
        </p:grpSpPr>
        <p:pic>
          <p:nvPicPr>
            <p:cNvPr id="409" name="Picture 11" descr=""/>
            <p:cNvPicPr/>
            <p:nvPr/>
          </p:nvPicPr>
          <p:blipFill>
            <a:blip r:embed="rId1"/>
            <a:stretch/>
          </p:blipFill>
          <p:spPr>
            <a:xfrm>
              <a:off x="4500720" y="2500200"/>
              <a:ext cx="442908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12 Rectángulo"/>
            <p:cNvSpPr/>
            <p:nvPr/>
          </p:nvSpPr>
          <p:spPr>
            <a:xfrm>
              <a:off x="4500720" y="4554000"/>
              <a:ext cx="2598840" cy="947880"/>
            </a:xfrm>
            <a:prstGeom prst="rect">
              <a:avLst/>
            </a:prstGeom>
            <a:solidFill>
              <a:srgbClr val="ffffff"/>
            </a:solidFill>
            <a:ln w="47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9962-2D58-4F50-94BD-537D25F17DA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6004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Algunos aspectos no pueden decidirse en forma completamente independient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inero disponibl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mbiente de desarroll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gend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68D3-0B53-4B2A-AA7D-558020B909A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42560" y="1857240"/>
            <a:ext cx="47401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Tiempo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organización de las actividades en el tiemp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base del ciclo de vida del software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secuencia de actividad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ualidad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dicarse a desarrollar distintas cualidades por separad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j.: funcionalidad y eficienci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89200" y="1857240"/>
            <a:ext cx="46544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Vision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flujo de datos y flujo de control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interfaces del usuario y diseño de la base de da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Part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finamiento del sistema por partes dependiendo del tamañ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modular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F580-C418-4CDB-A8B2-93888DBED1B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738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separación del problema completo en pequeñas partes sugiere que es posible no considerar una solución óptima glob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 general, la complejidad del problema completo nos impide resolver bien los problemas parciales y también el problema glob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21" name="AutoShape 4"/>
          <p:cNvGrpSpPr/>
          <p:nvPr/>
        </p:nvGrpSpPr>
        <p:grpSpPr>
          <a:xfrm>
            <a:off x="1017720" y="5151600"/>
            <a:ext cx="7961040" cy="1176120"/>
            <a:chOff x="1017720" y="5151600"/>
            <a:chExt cx="7961040" cy="1176120"/>
          </a:xfrm>
        </p:grpSpPr>
        <p:pic>
          <p:nvPicPr>
            <p:cNvPr id="422" name="AutoShape 4" descr=""/>
            <p:cNvPicPr/>
            <p:nvPr/>
          </p:nvPicPr>
          <p:blipFill>
            <a:blip r:embed="rId2"/>
            <a:stretch/>
          </p:blipFill>
          <p:spPr>
            <a:xfrm>
              <a:off x="1017720" y="5151600"/>
              <a:ext cx="7961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066680" y="5400720"/>
              <a:ext cx="6993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5"/>
          <p:cNvSpPr/>
          <p:nvPr/>
        </p:nvSpPr>
        <p:spPr>
          <a:xfrm>
            <a:off x="1350360" y="47656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p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067760" y="588024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7111080" y="48150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935040" y="60325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A49C-7B08-4E6F-A058-55D738E52D9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separación de intereses determina la división de las tareas posiblemente entre personas con diferentes habilidad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También las necesidades de personal en las distintas etapas de desarrollo del software son diferent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ntidad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lific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"/>
          <p:cNvPicPr/>
          <p:nvPr/>
        </p:nvPicPr>
        <p:blipFill>
          <a:blip r:embed="rId1"/>
          <a:srcRect l="1417" t="4091" r="5334" b="2661"/>
          <a:stretch/>
        </p:blipFill>
        <p:spPr>
          <a:xfrm>
            <a:off x="6572160" y="4000680"/>
            <a:ext cx="2500560" cy="25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6032-039D-41AD-B035-11BC289DAD6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557280" y="16430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Un sistema complejo puede dividirse en partes llamadas </a:t>
            </a:r>
            <a:r>
              <a:rPr b="0" i="1" lang="es-ES_tradnl" sz="3200" spc="-1" strike="noStrike">
                <a:solidFill>
                  <a:srgbClr val="000000"/>
                </a:solidFill>
                <a:latin typeface="Corbel"/>
              </a:rPr>
              <a:t>módulos</a:t>
            </a: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Un sistema dividido en módulos es modul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modularidad es importante en casi todos los productos y procesos de ingenierí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standarizac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reutiliz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7EF8-0A33-4662-9D5A-FE611FC1CDA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85840" y="1774800"/>
            <a:ext cx="8858160" cy="472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scomposic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scomponer un sistema en grandes bloques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aplicar la descomposición recursivamente a bloques complej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omposic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usando varios elementos (módulos) básicos, se construye un sistema más complej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reutilización de módulos de software beneficia todo el proceso de desarrol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omprens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s más fácil localizar cambios en un sistema modular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también es más fácil comprender módulos pequeñ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8E0D-C346-44F0-8F91-3B4FDEE3946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17859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¿Cómo se logra construir un software de calidad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¿Existe algún principio o práctica general que me asegure que el producto de software creado tendrá ciertas cualidad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8 Diagrama" descr=""/>
          <p:cNvPicPr/>
          <p:nvPr/>
        </p:nvPicPr>
        <p:blipFill>
          <a:blip r:embed="rId2"/>
          <a:stretch/>
        </p:blipFill>
        <p:spPr>
          <a:xfrm>
            <a:off x="2382840" y="4316400"/>
            <a:ext cx="49816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846B-343C-4B21-947E-CA8BA41266C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lta Cohesión (interna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s elementos comprendidos dentro de un módulo están altamente relacionados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operan para lograr un mismo fin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no están juntos al az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Bajo Acoplamiento (extern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relación e interacción entre los distintos módulos debe ser simple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si dos módulos dependen altamente uno del otro, es probable que los cambios en un módulo afecten al otr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E2F8-06B3-4C4E-8964-352EF0AA33B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1: Nivel de Módul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s detalles de cada módulo se tratan en forma independi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2: Nivel del Siste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interacción entre los módulos se trata independientemente de los detalles intern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601"/>
              </a:spcBef>
              <a:buNone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1 - Fase 2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Bottom - u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2 - Fase 1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Top - dow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4" name="4 Diagrama" descr=""/>
          <p:cNvPicPr/>
          <p:nvPr/>
        </p:nvPicPr>
        <p:blipFill>
          <a:blip r:embed="rId2"/>
          <a:stretch/>
        </p:blipFill>
        <p:spPr>
          <a:xfrm>
            <a:off x="5467320" y="4400640"/>
            <a:ext cx="33228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7" descr=""/>
          <p:cNvPicPr/>
          <p:nvPr/>
        </p:nvPicPr>
        <p:blipFill>
          <a:blip r:embed="rId2"/>
          <a:stretch/>
        </p:blipFill>
        <p:spPr>
          <a:xfrm>
            <a:off x="2143080" y="1714680"/>
            <a:ext cx="500076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D5C4-D2CE-46E4-99AB-63C8B78FA1B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42560" y="185724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istinguir los elementos esenciales e ignorar los detal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s una form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separación de intereses (esencia y detalle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abstracción no es únic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pende del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l usuario de la abstrac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0" name="Picture 17" descr=""/>
          <p:cNvPicPr/>
          <p:nvPr/>
        </p:nvPicPr>
        <p:blipFill>
          <a:blip r:embed="rId2"/>
          <a:srcRect l="0" t="0" r="0" b="5496"/>
          <a:stretch/>
        </p:blipFill>
        <p:spPr>
          <a:xfrm>
            <a:off x="4743360" y="1428840"/>
            <a:ext cx="4400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030A-EA48-4C27-8A01-E3A4B0DDAAA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"/>
          <p:cNvSpPr/>
          <p:nvPr/>
        </p:nvSpPr>
        <p:spPr>
          <a:xfrm>
            <a:off x="3520800" y="2255760"/>
            <a:ext cx="2111760" cy="642600"/>
          </a:xfrm>
          <a:prstGeom prst="rect">
            <a:avLst/>
          </a:prstGeom>
          <a:noFill/>
          <a:ln w="2844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84120" y="411012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Usuario Fin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canism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a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2640960" y="4110120"/>
            <a:ext cx="162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iseñ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4575600" y="411012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rogram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, lengu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progra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6861240" y="4110120"/>
            <a:ext cx="163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Mantene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quitect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V="1">
            <a:off x="1295280" y="2971440"/>
            <a:ext cx="2362320" cy="10666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 flipV="1">
            <a:off x="3352680" y="2971440"/>
            <a:ext cx="76212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0"/>
          <p:cNvSpPr/>
          <p:nvPr/>
        </p:nvSpPr>
        <p:spPr>
          <a:xfrm flipH="1" flipV="1">
            <a:off x="4876920" y="2971440"/>
            <a:ext cx="45720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1"/>
          <p:cNvSpPr/>
          <p:nvPr/>
        </p:nvSpPr>
        <p:spPr>
          <a:xfrm flipH="1" flipV="1">
            <a:off x="5409720" y="2971440"/>
            <a:ext cx="221004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223A-A243-44A1-8946-195EA091E97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rquitectu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plano de una casa describ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orient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tamaño relativo de las habitacion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istribu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ero no incluy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materiales de construc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lores de las pare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ircuitos eléctric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incluy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resistencias, capacitores, etc.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cuacion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no incluy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resistencia de los conecto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4B9F-0819-478A-A550-B956D364809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Rectangle 4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10"/>
          <p:cNvGrpSpPr/>
          <p:nvPr/>
        </p:nvGrpSpPr>
        <p:grpSpPr>
          <a:xfrm>
            <a:off x="457200" y="1752480"/>
            <a:ext cx="4267080" cy="2590920"/>
            <a:chOff x="457200" y="1752480"/>
            <a:chExt cx="4267080" cy="2590920"/>
          </a:xfrm>
        </p:grpSpPr>
        <p:sp>
          <p:nvSpPr>
            <p:cNvPr id="469" name="AutoShape 3"/>
            <p:cNvSpPr/>
            <p:nvPr/>
          </p:nvSpPr>
          <p:spPr>
            <a:xfrm>
              <a:off x="457200" y="1752480"/>
              <a:ext cx="4267080" cy="2590920"/>
            </a:xfrm>
            <a:prstGeom prst="cloudCallout">
              <a:avLst>
                <a:gd name="adj1" fmla="val -21351"/>
                <a:gd name="adj2" fmla="val 31555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5"/>
            <p:cNvSpPr/>
            <p:nvPr/>
          </p:nvSpPr>
          <p:spPr>
            <a:xfrm>
              <a:off x="1704960" y="247824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querimi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9"/>
          <p:cNvGrpSpPr/>
          <p:nvPr/>
        </p:nvGrpSpPr>
        <p:grpSpPr>
          <a:xfrm>
            <a:off x="5867280" y="4267080"/>
            <a:ext cx="2133720" cy="2057400"/>
            <a:chOff x="5867280" y="4267080"/>
            <a:chExt cx="2133720" cy="2057400"/>
          </a:xfrm>
        </p:grpSpPr>
        <p:sp>
          <p:nvSpPr>
            <p:cNvPr id="472" name="Oval 2"/>
            <p:cNvSpPr/>
            <p:nvPr/>
          </p:nvSpPr>
          <p:spPr>
            <a:xfrm>
              <a:off x="5867280" y="4267080"/>
              <a:ext cx="2133720" cy="205740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"/>
            <p:cNvSpPr/>
            <p:nvPr/>
          </p:nvSpPr>
          <p:spPr>
            <a:xfrm>
              <a:off x="6314400" y="4875120"/>
              <a:ext cx="129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odelo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1"/>
          <p:cNvGrpSpPr/>
          <p:nvPr/>
        </p:nvGrpSpPr>
        <p:grpSpPr>
          <a:xfrm>
            <a:off x="2525400" y="2715840"/>
            <a:ext cx="4017240" cy="2505240"/>
            <a:chOff x="2525400" y="2715840"/>
            <a:chExt cx="4017240" cy="2505240"/>
          </a:xfrm>
        </p:grpSpPr>
        <p:sp>
          <p:nvSpPr>
            <p:cNvPr id="475" name="AutoShape 7"/>
            <p:cNvSpPr/>
            <p:nvPr/>
          </p:nvSpPr>
          <p:spPr>
            <a:xfrm rot="17788800">
              <a:off x="4159080" y="191088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8"/>
            <p:cNvSpPr/>
            <p:nvPr/>
          </p:nvSpPr>
          <p:spPr>
            <a:xfrm rot="1651200">
              <a:off x="3491640" y="353700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8CF4-5C38-44ED-92E2-F6FA3D1FE3E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8265960" cy="115884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1828800" y="5486400"/>
            <a:ext cx="5486400" cy="533520"/>
          </a:xfrm>
          <a:prstGeom prst="rect">
            <a:avLst/>
          </a:prstGeom>
          <a:solidFill>
            <a:srgbClr val="f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1828800" y="4800600"/>
            <a:ext cx="5486400" cy="533520"/>
          </a:xfrm>
          <a:prstGeom prst="rect">
            <a:avLst/>
          </a:prstGeom>
          <a:solidFill>
            <a:srgbClr val="d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1828800" y="4114800"/>
            <a:ext cx="5486400" cy="533520"/>
          </a:xfrm>
          <a:prstGeom prst="rect">
            <a:avLst/>
          </a:prstGeom>
          <a:solidFill>
            <a:srgbClr val="c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1828800" y="3429000"/>
            <a:ext cx="5486400" cy="533520"/>
          </a:xfrm>
          <a:prstGeom prst="rect">
            <a:avLst/>
          </a:prstGeom>
          <a:solidFill>
            <a:srgbClr val="b4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 AL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1828800" y="2743200"/>
            <a:ext cx="5486400" cy="533520"/>
          </a:xfrm>
          <a:prstGeom prst="rect">
            <a:avLst/>
          </a:prstGeom>
          <a:solidFill>
            <a:srgbClr val="a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ENERADOR DE CÓD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828800" y="2057400"/>
            <a:ext cx="5486400" cy="533520"/>
          </a:xfrm>
          <a:prstGeom prst="rect">
            <a:avLst/>
          </a:prstGeom>
          <a:solidFill>
            <a:srgbClr val="8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PECIFICACIÓN D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9"/>
          <p:cNvGrpSpPr/>
          <p:nvPr/>
        </p:nvGrpSpPr>
        <p:grpSpPr>
          <a:xfrm>
            <a:off x="514080" y="1967040"/>
            <a:ext cx="752040" cy="4115160"/>
            <a:chOff x="514080" y="1967040"/>
            <a:chExt cx="752040" cy="4115160"/>
          </a:xfrm>
        </p:grpSpPr>
        <p:sp>
          <p:nvSpPr>
            <p:cNvPr id="486" name="AutoShape 10"/>
            <p:cNvSpPr/>
            <p:nvPr/>
          </p:nvSpPr>
          <p:spPr>
            <a:xfrm rot="10797600">
              <a:off x="515520" y="196704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1"/>
            <p:cNvSpPr/>
            <p:nvPr/>
          </p:nvSpPr>
          <p:spPr>
            <a:xfrm rot="16260000">
              <a:off x="141480" y="426888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4612-4D58-4DCE-9B65-1675D50B8D9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Rectangle 4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40096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Producto de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l comentario en el encabezado describe una abstracción de la funcionalidad del procedimient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Proceso de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estimación del costo de desarrollo se realiza considerando los principales factor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ersonal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apacitación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cal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quipamiento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6E89-EC88-4A2A-A1AA-16CBA9CB594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17859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mantenibilidad es una cualidad deseable del softwar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rrección de error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umentar la funcionalida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sarrollar software fácilmente mantenible no es grat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nticipar el cómo y dónde van a ocurrir los cambi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proceder de modo que haga fácil la aplicación de futuros cambi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ste principio se aplica generalmente en la etapa de diseño del softwar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los lugares que van a cambiar se aíslan de modo que los cambios no afecten otras porciones del softwar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15C5-00F0-400D-B086-2E4E69C3DB1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285480" y="1774800"/>
            <a:ext cx="871524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Métod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orma sistemática de abordar una activid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Técnic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más formales y restringidas que los méto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organización de métodos y técnicas para guiar el proceso de resolución de un proble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Herramient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carna y fuerza la metodología (métodos y técnica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DC8E-FCB1-4BC5-B708-876B3D88B84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s aplicaciones de software se desarrollan a pesar de que sus requerimientos muchas veces no se han comprendido completa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spués de instalado el sistema, el usuario realiza comentarios que dan lugar a cambios y ajus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s organizaciones se ven afectadas por la instalación de un nuevo sistema, de modo que los requerimientos cambian con su implanta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anticipación de los cambios es casi la única forma de abordar esta situación eficiente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2693-1ACD-47CE-A665-0D1313BE34C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Una componente es reusable si puede ser utilizada para construir un nuevo sistema de software (sin cambios o con cambios mínimos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Reutilización es una evolución en pequeña escala, a nivel de compon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i puede anticiparse los contextos en que la componente será utilizada, se la diseña de modo de poder acomodar fácilmente los cambios necesari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DFAA-0616-4BD3-A864-D3A8248F9D2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os cambios en las componentes deben ser registrados y almacen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da sistema debe tener la versión apropiada de cada una de sus compon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da configuración consistente debe también ser almacenad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s herramientas son esenci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553080" y="2286000"/>
            <a:ext cx="106704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5257800" y="3581280"/>
            <a:ext cx="106668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6553080" y="3581280"/>
            <a:ext cx="106704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7848720" y="3581280"/>
            <a:ext cx="106668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5181480" y="4800600"/>
            <a:ext cx="609840" cy="609480"/>
          </a:xfrm>
          <a:prstGeom prst="ellipse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5791320" y="4800600"/>
            <a:ext cx="609480" cy="609480"/>
          </a:xfrm>
          <a:prstGeom prst="ellipse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6477120" y="4800600"/>
            <a:ext cx="609480" cy="609480"/>
          </a:xfrm>
          <a:prstGeom prst="ellipse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7086600" y="4800600"/>
            <a:ext cx="609480" cy="609480"/>
          </a:xfrm>
          <a:prstGeom prst="ellipse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8077320" y="4800600"/>
            <a:ext cx="609480" cy="609480"/>
          </a:xfrm>
          <a:prstGeom prst="ellipse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13"/>
          <p:cNvCxnSpPr>
            <a:stCxn id="503" idx="2"/>
            <a:endCxn id="504" idx="0"/>
          </p:cNvCxnSpPr>
          <p:nvPr/>
        </p:nvCxnSpPr>
        <p:spPr>
          <a:xfrm flipH="1">
            <a:off x="5790960" y="2990520"/>
            <a:ext cx="1296000" cy="57204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3" name="AutoShape 14"/>
          <p:cNvCxnSpPr>
            <a:stCxn id="503" idx="2"/>
            <a:endCxn id="505" idx="0"/>
          </p:cNvCxnSpPr>
          <p:nvPr/>
        </p:nvCxnSpPr>
        <p:spPr>
          <a:xfrm>
            <a:off x="7086240" y="2990520"/>
            <a:ext cx="1080" cy="57204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4" name="AutoShape 15"/>
          <p:cNvCxnSpPr>
            <a:stCxn id="503" idx="2"/>
            <a:endCxn id="506" idx="0"/>
          </p:cNvCxnSpPr>
          <p:nvPr/>
        </p:nvCxnSpPr>
        <p:spPr>
          <a:xfrm>
            <a:off x="7086600" y="2990520"/>
            <a:ext cx="1296000" cy="57204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5" name="AutoShape 16"/>
          <p:cNvCxnSpPr>
            <a:stCxn id="504" idx="2"/>
            <a:endCxn id="507" idx="0"/>
          </p:cNvCxnSpPr>
          <p:nvPr/>
        </p:nvCxnSpPr>
        <p:spPr>
          <a:xfrm flipH="1">
            <a:off x="548568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AutoShape 17"/>
          <p:cNvCxnSpPr>
            <a:stCxn id="504" idx="2"/>
            <a:endCxn id="508" idx="0"/>
          </p:cNvCxnSpPr>
          <p:nvPr/>
        </p:nvCxnSpPr>
        <p:spPr>
          <a:xfrm>
            <a:off x="5791320" y="4286160"/>
            <a:ext cx="305280" cy="49608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7" name="AutoShape 18"/>
          <p:cNvCxnSpPr>
            <a:stCxn id="505" idx="2"/>
            <a:endCxn id="509" idx="0"/>
          </p:cNvCxnSpPr>
          <p:nvPr/>
        </p:nvCxnSpPr>
        <p:spPr>
          <a:xfrm flipH="1">
            <a:off x="6780960" y="4286160"/>
            <a:ext cx="305640" cy="49608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8" name="AutoShape 19"/>
          <p:cNvCxnSpPr>
            <a:stCxn id="505" idx="2"/>
            <a:endCxn id="510" idx="0"/>
          </p:cNvCxnSpPr>
          <p:nvPr/>
        </p:nvCxnSpPr>
        <p:spPr>
          <a:xfrm>
            <a:off x="708624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AutoShape 20"/>
          <p:cNvCxnSpPr>
            <a:stCxn id="506" idx="2"/>
            <a:endCxn id="511" idx="0"/>
          </p:cNvCxnSpPr>
          <p:nvPr/>
        </p:nvCxnSpPr>
        <p:spPr>
          <a:xfrm>
            <a:off x="8381520" y="4286160"/>
            <a:ext cx="1080" cy="49608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0F9C-BDA1-43A5-B5CF-F3F9BE5C734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eben anticiparse acciones en caso de cambio en el persona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También debe considerarse el mantenimiento para la estimación de costos de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ebe considerarse la construcción de componentes reutilizables como parte del proyecto o como un proyecto parale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D870-F6CF-4A1F-881B-80965202598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ideremos un algoritmo de ordenamiento, por ejemplo QuickSor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Algunos posibles cambios en una componente que implemente este algoritm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mbio en el tipo de datos a ordenar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cantidad de datos es tan grande que deben almacenarse en disc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¿Qué consideraciones haría para prever este tipo de cambio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B80C-9CA5-4A6D-80EB-9558FD11E54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852560" y="5900760"/>
            <a:ext cx="60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 que evaluar la conveniencia de una solución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709560" y="599436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5a63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ada vez que deba resolver un problema, trate de concentrarse en descubrir un problema más general que se esconde bajo el problema particular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Puede suceder que el problema generalizado sea más sencillo que el original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Una solución más general es potencialmente más reutilizabl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2667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 inclusive posible que ya exista una solución general disponibl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También es posible que la solución general sea invocada en varias circunstancias en la aplicación en lugar de tener varias soluciones particu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o contrapartida, una solución general puede ser menos eficiente (ejecución, uso de memoria, tiempo de desarrollo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D411-1A27-41AA-8793-0CE7C4F3EBB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9"/>
          <p:cNvGrpSpPr/>
          <p:nvPr/>
        </p:nvGrpSpPr>
        <p:grpSpPr>
          <a:xfrm>
            <a:off x="7010280" y="1752480"/>
            <a:ext cx="1599840" cy="4800240"/>
            <a:chOff x="7010280" y="1752480"/>
            <a:chExt cx="1599840" cy="4800240"/>
          </a:xfrm>
        </p:grpSpPr>
        <p:sp>
          <p:nvSpPr>
            <p:cNvPr id="534" name="Rectangle 4"/>
            <p:cNvSpPr/>
            <p:nvPr/>
          </p:nvSpPr>
          <p:spPr>
            <a:xfrm>
              <a:off x="7010280" y="1752480"/>
              <a:ext cx="487080" cy="1728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8123400" y="1752480"/>
              <a:ext cx="486720" cy="1728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6"/>
            <p:cNvSpPr/>
            <p:nvPr/>
          </p:nvSpPr>
          <p:spPr>
            <a:xfrm>
              <a:off x="7636320" y="3928680"/>
              <a:ext cx="487080" cy="262404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7"/>
            <p:cNvSpPr/>
            <p:nvPr/>
          </p:nvSpPr>
          <p:spPr>
            <a:xfrm>
              <a:off x="7358040" y="3544560"/>
              <a:ext cx="347760" cy="255960"/>
            </a:xfrm>
            <a:prstGeom prst="line">
              <a:avLst/>
            </a:prstGeom>
            <a:ln w="3816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8"/>
            <p:cNvSpPr/>
            <p:nvPr/>
          </p:nvSpPr>
          <p:spPr>
            <a:xfrm flipH="1">
              <a:off x="7984080" y="3544560"/>
              <a:ext cx="347760" cy="255960"/>
            </a:xfrm>
            <a:prstGeom prst="line">
              <a:avLst/>
            </a:prstGeom>
            <a:ln w="3816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9" name="Rectangle 10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620200" cy="12621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28760" y="1981080"/>
            <a:ext cx="66578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e desea intercalar dos archivos ordenados para obtener un único archivo ordenad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e sabe que no existen claves duplicad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i se desarrolla un algoritmo que acepte también claves duplicadas, habrá una mayor cantidad de casos para reusar el algoritm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demás existe un algoritmo para esta tarea que puede tom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081D-2AA5-437D-9504-E660B859FB3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lnSpc>
                <a:spcPct val="11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generalidad es esencial si se intenta desarrollar herramientas o paquetes para comercializar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lnSpc>
                <a:spcPct val="11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más generalidad implica más aplicaciones y por lo tanto más potenciales comprado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1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onfigurar un producto general es más fácil, rápido y barato que desarrollar una aplicación a medid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1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Tendencia natural en todas las áreas de la ingeniería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lnSpc>
                <a:spcPct val="11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¿ropa a medida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lnSpc>
                <a:spcPct val="11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¿autos a medida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7F80-52D7-44AD-88CE-A08E3801A01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Un proceso es incremental si se compone de pequeños pasos (incremento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objetivo se logra como una sucesión de aproximaciones construidas cada una sobre la anterio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n el software, un proceso de desarrollo es incremental si se aplica el modelo Evolutivo de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A596-E9D0-4D96-BC1C-BE2774F0B4C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ject 2" descr=""/>
          <p:cNvPicPr/>
          <p:nvPr/>
        </p:nvPicPr>
        <p:blipFill>
          <a:blip r:embed="rId1"/>
          <a:stretch/>
        </p:blipFill>
        <p:spPr>
          <a:xfrm>
            <a:off x="3048120" y="2801880"/>
            <a:ext cx="3244680" cy="339084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"/>
          <p:cNvSpPr/>
          <p:nvPr/>
        </p:nvSpPr>
        <p:spPr>
          <a:xfrm>
            <a:off x="3651480" y="1657440"/>
            <a:ext cx="19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leccionar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r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conju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un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429200" y="523872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gar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6274080" y="5162400"/>
            <a:ext cx="204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ntarios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seguir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F1B5-BEE2-44EA-AFD3-01222D60E3D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414360" y="493560"/>
            <a:ext cx="8053200" cy="1159200"/>
          </a:xfrm>
          <a:prstGeom prst="rect">
            <a:avLst/>
          </a:prstGeom>
          <a:ln w="0">
            <a:noFill/>
          </a:ln>
        </p:spPr>
      </p:pic>
      <p:pic>
        <p:nvPicPr>
          <p:cNvPr id="364" name="15 Diagrama" descr=""/>
          <p:cNvPicPr/>
          <p:nvPr/>
        </p:nvPicPr>
        <p:blipFill>
          <a:blip r:embed="rId2"/>
          <a:stretch/>
        </p:blipFill>
        <p:spPr>
          <a:xfrm>
            <a:off x="1706400" y="1951200"/>
            <a:ext cx="6542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3390-49B1-4F11-BCF5-751D627D706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sarrollo controlado cuando los requerimientos no son estables o completamente clar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 la mayor parte de los casos es imposible tener todos los requerimientos al momento de comenzar el desarroll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clarificación de los requerimientos surge como consecuencia de la experimentación con el sistem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retroalimentación permite desarrollar el sistem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stá íntimamente relacionado con la anticipación del cambi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D87A-DA41-440F-95BD-B5A5DD95D34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Rectangle 2" descr=""/>
          <p:cNvPicPr/>
          <p:nvPr/>
        </p:nvPicPr>
        <p:blipFill>
          <a:blip r:embed="rId1"/>
          <a:stretch/>
        </p:blipFill>
        <p:spPr>
          <a:xfrm>
            <a:off x="262080" y="530280"/>
            <a:ext cx="8358120" cy="11523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44953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s estados intermedios del sistema pueden considerarse prototipos del sistema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control de la configuración resulta también esencial para administrar la incrementa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volucionab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Amigab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obustez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264400" y="2604960"/>
            <a:ext cx="17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re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4267080" y="20574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19"/>
                </a:lnTo>
                <a:cubicBezTo>
                  <a:pt x="10800" y="10519"/>
                  <a:pt x="5400" y="11419"/>
                  <a:pt x="0" y="11419"/>
                </a:cubicBezTo>
                <a:cubicBezTo>
                  <a:pt x="5400" y="11419"/>
                  <a:pt x="10800" y="12319"/>
                  <a:pt x="10800" y="1321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7230-B9E7-45A0-8FBC-0FCD815655A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67" name="4 Diagrama" descr=""/>
          <p:cNvPicPr/>
          <p:nvPr/>
        </p:nvPicPr>
        <p:blipFill>
          <a:blip r:embed="rId2"/>
          <a:stretch/>
        </p:blipFill>
        <p:spPr>
          <a:xfrm>
            <a:off x="1163520" y="1646280"/>
            <a:ext cx="72741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9800-5E99-4AE5-9A61-DED7E260724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5"/>
          <p:cNvSpPr/>
          <p:nvPr/>
        </p:nvSpPr>
        <p:spPr>
          <a:xfrm>
            <a:off x="3581280" y="2457360"/>
            <a:ext cx="2133720" cy="304920"/>
          </a:xfrm>
          <a:prstGeom prst="leftRightArrow">
            <a:avLst>
              <a:gd name="adj1" fmla="val 50000"/>
              <a:gd name="adj2" fmla="val 13930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421520" y="1643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0" descr=""/>
          <p:cNvPicPr/>
          <p:nvPr/>
        </p:nvPicPr>
        <p:blipFill>
          <a:blip r:embed="rId2"/>
          <a:stretch/>
        </p:blipFill>
        <p:spPr>
          <a:xfrm>
            <a:off x="324000" y="3078000"/>
            <a:ext cx="4039920" cy="3151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"/>
          <p:cNvPicPr/>
          <p:nvPr/>
        </p:nvPicPr>
        <p:blipFill>
          <a:blip r:embed="rId3"/>
          <a:stretch/>
        </p:blipFill>
        <p:spPr>
          <a:xfrm>
            <a:off x="5214960" y="29289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374" name="11 Rectángulo"/>
          <p:cNvSpPr/>
          <p:nvPr/>
        </p:nvSpPr>
        <p:spPr>
          <a:xfrm>
            <a:off x="5821200" y="2220840"/>
            <a:ext cx="3251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13 Rectángulo" descr=""/>
          <p:cNvPicPr/>
          <p:nvPr/>
        </p:nvPicPr>
        <p:blipFill>
          <a:blip r:embed="rId4"/>
          <a:stretch/>
        </p:blipFill>
        <p:spPr>
          <a:xfrm>
            <a:off x="5357880" y="1908000"/>
            <a:ext cx="4316400" cy="1432080"/>
          </a:xfrm>
          <a:prstGeom prst="rect">
            <a:avLst/>
          </a:prstGeom>
          <a:ln w="0">
            <a:noFill/>
          </a:ln>
        </p:spPr>
      </p:pic>
      <p:pic>
        <p:nvPicPr>
          <p:cNvPr id="376" name="14 Rectángulo" descr=""/>
          <p:cNvPicPr/>
          <p:nvPr/>
        </p:nvPicPr>
        <p:blipFill>
          <a:blip r:embed="rId5"/>
          <a:stretch/>
        </p:blipFill>
        <p:spPr>
          <a:xfrm>
            <a:off x="-195120" y="1865160"/>
            <a:ext cx="35049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DBC7-0B61-466D-8AC0-E7B7CB4EB79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79" name="7 Diagrama" descr=""/>
          <p:cNvPicPr/>
          <p:nvPr/>
        </p:nvPicPr>
        <p:blipFill>
          <a:blip r:embed="rId2"/>
          <a:stretch/>
        </p:blipFill>
        <p:spPr>
          <a:xfrm>
            <a:off x="378000" y="2066760"/>
            <a:ext cx="8918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17EF-5262-44ED-BA06-F6D401058FA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28760" y="1714320"/>
            <a:ext cx="8229600" cy="4625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Una serie de pas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finidos, precisos, coheren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 cada paso se aplica alguna técnic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técnica aplicada depende d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sultados teóricos derivados de un modelo de la realidad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ajustes empíricos para casos no cubiertos por el model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xperiencia del desarrollad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sta mezcla define una metodología que puede usarse repetid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5916-A7E1-4B17-8D86-1FD7A183E91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grado de formalismo usado en cada paso depende de varios factor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xperiencia en el área de desarroll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uán crítico es el produc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tiempo en ejecu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s necesario que el desarrollador sepa decidir sobre el grado de formalidad necesario para cada paso del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0-08-19T15:44:42Z</dcterms:modified>
  <cp:revision>573</cp:revision>
  <dc:subject/>
  <dc:title>CC31B – Desarrollo de Software de Aplicación</dc:title>
</cp:coreProperties>
</file>