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6C8-C9FD-4452-9FDD-7973430494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809-9FD4-4CD3-ACA7-B768A69E79D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A949-64CA-490F-AB37-A1939931EB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393-52BD-4A2A-9E86-87DFD2A69E2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7618-52C5-4504-8FC3-F3EA431D90F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B8E-26E6-420D-8179-0549F6D8B8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56B-FEDF-4F6F-9B13-3B6E423FFB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611-5A68-41AE-99DB-FCFE6336699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B53D-8183-4E99-8EA7-C64E7C38292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B67A-871F-40CF-AC52-F14325BD6EE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43F-9D2E-4523-BCB7-A76DB8F82F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470-4B32-4F53-90F5-EC56DFE321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4C64-B7B0-4ECF-BC1A-39F42DBAA69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242E-352E-4057-B80B-5FA81717F6A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A89-43E8-4D87-B4E6-F2D5A59A66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3CC6-3015-486B-BC72-048C9DAB15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AB0-196A-4D10-A85C-6A5A908E60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36AC-42BF-4A27-8538-3937938DCF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26F9-A23A-4F3E-9F39-CC93BBE189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8011-A7CD-4C16-963F-2A4E711AFF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7FD2-E886-4DC0-80E9-A9FCC0270C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0D5-A99D-44BC-A1E6-9B07333799E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064-E41E-4BE8-974C-797CA49B30E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AABE-A181-4036-8516-412E4D10E11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944-014E-4A2F-A8AF-A17A770B2A9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EA9-FF19-4B67-9DAF-540AADBDE28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4DF-8CE7-41E2-9E87-7AC2E7C34F0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904-F17B-4AED-8289-46C6DE30808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9CD-DB3E-4965-B9A1-40A530C2C6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AE4-700D-48B7-9916-4AB57B85D1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2F5-304B-4FB5-9B91-04C0AF2431C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F832-77B5-417C-99FB-CCDE27CED28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2EF-5A73-4B94-8D37-B3C9C9DCE7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77A1-2A3D-4A16-9B3C-7DF569CDC1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E90-FEB1-449E-8C70-4E7BC18B38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BD54-4139-4622-BE25-D1EF15AF99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9F5-7F5F-4704-BFB4-516017A711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0060-20F1-4743-A140-19A6460A42F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84A-1B83-4C69-A34E-60883AB880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0FB3-3174-495D-9C6F-DBCB59931EB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6662-822C-41B4-93B1-53EAA7335E4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9DE5-741D-4980-9A7B-4BC821FAC62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536-6E10-4253-92AC-6D38F90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43-7984-4E7A-B932-A026E82C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B9C-1499-4783-BEB5-A3BBFC78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7AD-8321-4FF7-85BC-4E0FB657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A65-4BD5-4DD0-981D-FA936F6E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7E6-F71B-4383-A2D2-6F1CB89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E5D3-9CC7-4A4B-A6BC-881C1754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D2ED-79A3-4CFD-91DD-D82BEB06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AD83-D5B4-477B-8683-DBB8DAC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91D9-A446-455D-B7F5-6B49C4D1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7C4-7520-4F57-B593-8339EF7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2C4-5CB4-40A4-9FF4-FFFDD40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5CA-7572-4265-A702-19BD1231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6BA8-F811-4A38-8278-8131427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1DE-DC15-47FD-8ACB-739656A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F869-9805-470F-BB4C-397E330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F8B8-01CE-4F90-93D6-5F53EC42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82B6-E5A3-42CE-8F11-43F8727D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1D0A-49C2-4919-9B44-86C9937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692C-7F3D-4D83-9BC3-E0BA090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D615-1487-470E-8208-17AA8A3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FF59-E8D5-41D4-ADD6-7FDBD8C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1B8-06E0-4EFB-8E10-A13C0D2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0755-3D2D-41E0-9C12-3B34591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72BB-BDEB-439F-82E7-F871445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AD1F-4664-4786-95BB-56733827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41A6-7F06-4628-BC77-B66D6B15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A67C-792B-4EE6-8DE5-774E3C9A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031D-FC47-4374-ABA8-A1AFB9A1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D1FC-1A77-4230-96C3-9F1384BB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2946-8D5F-4D5D-9B7B-73D7867D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45DF-E88A-4558-B9BC-722D5E1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0C77-D915-4D62-A0DE-12CE2777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297-7AD7-4693-B377-31434DA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B3DB-32F5-414F-83DE-5F4A1C3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BA43-895B-43A9-A1EF-53F810D0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1309-56EA-42B5-A390-33BA865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46F6-B854-405C-A297-123C0FC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55BC-EC6A-4492-8D04-711BEEA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F64C-99FC-41CE-AC82-13E94CA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1DB7-DFDD-4396-B812-672F3EB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77D2-1E4F-452C-BB64-DCA26626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D4C9-43A2-426F-98DA-A7B6B3F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B535-DF50-4AE9-B4CD-EB0FF4D3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46E-5211-4C9D-B8EA-869A4EEE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4FE40-6F67-4AE7-867F-15476D96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8FDB-302C-4328-B1A0-BB73D881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07FD-7885-42E2-8E89-B0BFEA5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51B1-5337-4175-8DBA-0BC96B83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A157-DCFA-44CA-9FB9-4736314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114B-B8ED-4BDE-9542-02A1AE9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F2A3-9376-4FC6-BD84-DC2370D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99D2-3F2A-4EFB-8C93-4F7CED4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C974-FE66-4158-A8BB-04CC89E5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387C5-3434-4CF2-8EC9-E235C8E6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51B-C239-4728-8931-F8424FD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E2843-30D2-4B74-82D8-6650066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C0F51-029A-4B8E-B81C-A06D1CA8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95A1B-B7C5-4753-B6B8-68CC304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4FF0-0284-4E50-A99A-5737C1B1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E0FB-9362-4273-B02A-3204052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9714-5260-4984-B105-A45379A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6038-730E-4439-8F45-D901D4F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34DF-5FB0-4FA0-A89F-9F3B2B8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F83CB-6D7D-4A68-B65C-AC7BFB4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A9040-7F2B-4EBB-AAB9-EB6DC77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4CC-9195-44BE-AF7E-F142D2B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AB7C-902A-468F-9FF1-A728E4B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3845-7253-408D-A337-985E0D57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B585-1EE8-4E0B-9D8C-C7F13F09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DC88-6908-4C58-9AB3-A8D2C09F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CD60-BEE2-4245-9405-DB38E79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2DDE-984E-4913-818A-6AAA4D6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9581-FE78-4986-ADCA-DAECCF07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5D81-9197-467F-AAF8-C7D144D2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FB37-8EC9-4EEF-AA71-71D8C19D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7479-2588-4269-8935-12AD73D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B39-EB75-4B4E-9781-CCEF574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054E-C124-48BA-9B44-ADD8413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9769A-FFC4-442B-B5A3-D99B4EF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CF72-0BA5-415E-86B8-F57FD396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7ABC-E2D3-454B-8582-3E1B8E88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484D-F448-4254-B949-3EA648FE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2F71-794B-464C-8D4A-C9CCD8C6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C8F1-9291-424D-8B7F-3E74B8D0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99660-969E-42CA-9F78-A88CD98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6111-BD5B-4561-A8CB-B3863B2C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F4A7-BE31-4394-B46E-301A63A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7F6-80CD-4005-B3F0-62656A6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62AAD-DC88-4A7F-95EB-737B56C8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D079F-415C-4235-B0F2-86A92F5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4D933-1405-48F2-A7D6-F1F9AE6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370B-CE56-4D8A-AB12-7A53396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9DB9-0AF7-40A8-A1A0-4E293B5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7239B-993B-4409-87EF-F5F9BC17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1496-38A3-43D0-9D50-7C5DF38B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949-6A2C-4A5D-8B9C-24C477968AD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2253-5AFC-438A-80C0-09DB3A906A82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69E8-73ED-4544-B18C-7E68FB850AC0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7179-69BE-4E7D-BF4D-96F846B0180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C756-BCA1-430C-BE28-4B4015443D4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593-8EA2-40D3-9BE0-62623EEF910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6C7C-1E5A-49DF-908B-32A5AD71D9E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B90-8BC5-4A5B-922B-A2E9FC6E97A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536400" y="1816200"/>
            <a:ext cx="8040960" cy="1536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0D6-79E0-4F77-8225-97634E9EC2C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número de usuario es único en 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4B6-405B-4DA7-A22D-C6988241B4E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566640" y="378000"/>
            <a:ext cx="8053560" cy="1152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29120" y="192888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fi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Verific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anten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Reus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Interopera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3" name="AutoShape 5"/>
          <p:cNvGrpSpPr/>
          <p:nvPr/>
        </p:nvGrpSpPr>
        <p:grpSpPr>
          <a:xfrm>
            <a:off x="4370400" y="1762200"/>
            <a:ext cx="890640" cy="4108320"/>
            <a:chOff x="4370400" y="1762200"/>
            <a:chExt cx="890640" cy="4108320"/>
          </a:xfrm>
        </p:grpSpPr>
        <p:pic>
          <p:nvPicPr>
            <p:cNvPr id="394" name="AutoShape 5" descr=""/>
            <p:cNvPicPr/>
            <p:nvPr/>
          </p:nvPicPr>
          <p:blipFill>
            <a:blip r:embed="rId2"/>
            <a:stretch/>
          </p:blipFill>
          <p:spPr>
            <a:xfrm>
              <a:off x="4370400" y="1762200"/>
              <a:ext cx="89064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768920" y="1917720"/>
              <a:ext cx="10800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6"/>
          <p:cNvSpPr/>
          <p:nvPr/>
        </p:nvSpPr>
        <p:spPr>
          <a:xfrm>
            <a:off x="1002240" y="58960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481-55C2-4977-83FA-A761408DBF1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vide et Impera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r el problema en sus diferentes aspectos y abordarlos separadam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5 Diagrama" descr=""/>
          <p:cNvPicPr/>
          <p:nvPr/>
        </p:nvPicPr>
        <p:blipFill>
          <a:blip r:embed="rId2"/>
          <a:stretch/>
        </p:blipFill>
        <p:spPr>
          <a:xfrm>
            <a:off x="1566720" y="3206880"/>
            <a:ext cx="55105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7437600" y="1571760"/>
            <a:ext cx="1706400" cy="2857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0" y="4692600"/>
            <a:ext cx="2786040" cy="2022480"/>
          </a:xfrm>
          <a:prstGeom prst="rect">
            <a:avLst/>
          </a:prstGeom>
          <a:ln w="0">
            <a:noFill/>
          </a:ln>
        </p:spPr>
      </p:pic>
      <p:sp>
        <p:nvSpPr>
          <p:cNvPr id="40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B0C-1363-4BA7-B2E7-6A7AB45F0FD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24480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6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4324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13 Grupo"/>
          <p:cNvGrpSpPr/>
          <p:nvPr/>
        </p:nvGrpSpPr>
        <p:grpSpPr>
          <a:xfrm>
            <a:off x="4500720" y="2500200"/>
            <a:ext cx="4429080" cy="3005280"/>
            <a:chOff x="4500720" y="2500200"/>
            <a:chExt cx="4429080" cy="3005280"/>
          </a:xfrm>
        </p:grpSpPr>
        <p:pic>
          <p:nvPicPr>
            <p:cNvPr id="409" name="Picture 11" descr=""/>
            <p:cNvPicPr/>
            <p:nvPr/>
          </p:nvPicPr>
          <p:blipFill>
            <a:blip r:embed="rId1"/>
            <a:stretch/>
          </p:blipFill>
          <p:spPr>
            <a:xfrm>
              <a:off x="4500720" y="2500200"/>
              <a:ext cx="44290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12 Rectángulo"/>
            <p:cNvSpPr/>
            <p:nvPr/>
          </p:nvSpPr>
          <p:spPr>
            <a:xfrm>
              <a:off x="4500720" y="4554000"/>
              <a:ext cx="2598840" cy="947880"/>
            </a:xfrm>
            <a:prstGeom prst="rect">
              <a:avLst/>
            </a:prstGeom>
            <a:solidFill>
              <a:srgbClr val="ffffff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2B6-38ED-4C65-8B8E-4AD7B1065A7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600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aspectos no pueden decidirse en forma completamente independien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inero disponibl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mbiente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gen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CAD-5C5B-40A6-81AB-E94B493BAF3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47401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organización de las actividades en el tiemp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ase del ciclo de vida del softwar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ecuencia de actividad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alidad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dicarse a desarrollar distintas cualidades por separad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j.: funcionalidad y eficienc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89200" y="1857240"/>
            <a:ext cx="4654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ision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flujo de datos y flujo de contro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terfaces del usuario y diseño de la base de da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Par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finamiento del sistema por partes dependiendo del tamañ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odular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FB5-D96C-4E10-8B7C-FC4C25D70D4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separación del problema completo en pequeñas partes sugiere que es posible no considerar una solución ópti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general, la complejidad del problema completo nos impide resolver bien los problemas parciales y también el problema glob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017720" y="5151600"/>
            <a:ext cx="7961040" cy="1176120"/>
            <a:chOff x="1017720" y="5151600"/>
            <a:chExt cx="7961040" cy="1176120"/>
          </a:xfrm>
        </p:grpSpPr>
        <p:pic>
          <p:nvPicPr>
            <p:cNvPr id="422" name="AutoShape 4" descr=""/>
            <p:cNvPicPr/>
            <p:nvPr/>
          </p:nvPicPr>
          <p:blipFill>
            <a:blip r:embed="rId2"/>
            <a:stretch/>
          </p:blipFill>
          <p:spPr>
            <a:xfrm>
              <a:off x="1017720" y="5151600"/>
              <a:ext cx="7961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66680" y="5400720"/>
              <a:ext cx="699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5"/>
          <p:cNvSpPr/>
          <p:nvPr/>
        </p:nvSpPr>
        <p:spPr>
          <a:xfrm>
            <a:off x="1350360" y="4765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067760" y="5880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7111080" y="481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935040" y="6032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6FE-159D-4AF1-A61E-43C09B924B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separación de intereses determina la división de las tareas posiblemente entre personas con diferentes habilid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las necesidades de personal en las distintas etapas de desarrollo del software son diferen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ntidad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lific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"/>
          <p:cNvPicPr/>
          <p:nvPr/>
        </p:nvPicPr>
        <p:blipFill>
          <a:blip r:embed="rId1"/>
          <a:srcRect l="1417" t="4091" r="5334" b="2661"/>
          <a:stretch/>
        </p:blipFill>
        <p:spPr>
          <a:xfrm>
            <a:off x="6572160" y="4000680"/>
            <a:ext cx="250056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99A-E831-4E73-AD08-6FD18579A5E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5728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complejo puede dividirse en partes llamadas </a:t>
            </a:r>
            <a:r>
              <a:rPr b="0" i="1" lang="es-ES_tradnl" sz="3200" spc="-1" strike="noStrike">
                <a:solidFill>
                  <a:srgbClr val="000000"/>
                </a:solidFill>
                <a:latin typeface="Corbel"/>
              </a:rPr>
              <a:t>módulos</a:t>
            </a: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sistema dividido en módulos es mod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modularidad es importante en casi todos los productos y procesos de ingenierí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1AC-48C6-41B2-8F28-DC8D2E48EB7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85840" y="1774800"/>
            <a:ext cx="8858160" cy="472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componer un sistema en grandes bloque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plicar la descomposición recursivamente a bloques complej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osic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usando varios elementos (módulos) básicos, se construye un sistema más complej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utilización de módulos de software beneficia todo el proceso de desarrol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mprens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 más fácil localizar cambios en un sistema modular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ambién es más fácil comprender módulos peque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3654-AB59-4EF5-B55C-A33B6C1644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7859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Cómo se logra construir un software de calida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Existe algún principio o práctica general que me asegure que el producto de software creado tendrá ciertas cualidad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8 Diagrama" descr=""/>
          <p:cNvPicPr/>
          <p:nvPr/>
        </p:nvPicPr>
        <p:blipFill>
          <a:blip r:embed="rId2"/>
          <a:stretch/>
        </p:blipFill>
        <p:spPr>
          <a:xfrm>
            <a:off x="2382840" y="4316400"/>
            <a:ext cx="49816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95A6-BC1D-4FCC-A3CF-90DB8245B1C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lta Cohesión (intern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lementos comprendidos dentro de un módulo están altamente relacionados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operan para lograr un mismo f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están juntos al az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Bajo Acoplamiento (extern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relación e interacción entre los distintos módulos debe ser simple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si dos módulos dependen altamente uno del otro, es probable que los cambios en un módulo afecten al otr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D425-8075-4557-B630-9282CA93F35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: Nivel de Módul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detalles de cada módulo se tratan en forma independi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: Nivel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interacción entre los módulos se trata independientemente de los detalles intern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1 - Fase 2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Bottom - 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ase 2 - Fase 1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Top - dow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4" name="4 Diagrama" descr=""/>
          <p:cNvPicPr/>
          <p:nvPr/>
        </p:nvPicPr>
        <p:blipFill>
          <a:blip r:embed="rId2"/>
          <a:stretch/>
        </p:blipFill>
        <p:spPr>
          <a:xfrm>
            <a:off x="5467320" y="4400640"/>
            <a:ext cx="332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50007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E5E9-35F3-42A0-835B-622F4D77BC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42560" y="185724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istinguir los elementos esenciales e ignorar los detal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un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separación de intereses (esencia y detal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abstracción no es únic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pende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l usuario de la abstrac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0" name="Picture 17" descr=""/>
          <p:cNvPicPr/>
          <p:nvPr/>
        </p:nvPicPr>
        <p:blipFill>
          <a:blip r:embed="rId2"/>
          <a:srcRect l="0" t="0" r="0" b="5496"/>
          <a:stretch/>
        </p:blipFill>
        <p:spPr>
          <a:xfrm>
            <a:off x="4743360" y="1428840"/>
            <a:ext cx="4400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7FD-8579-4066-BCB6-CBA94CC15CB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38C-C0B5-4A57-880E-6F2AD3E98B3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rquitectu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plano de una casa describ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orient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año relativo de las habit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istribu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o no incluy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ateriales de construc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lores de las pare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ircuitos eléctric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s, capacitores, etc.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cuacion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no incluy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esistencia de los conecto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442-1A5E-42AC-A235-FE04DB95C90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Rectangle 4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0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469" name="AutoShape 3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5"/>
            <p:cNvSpPr/>
            <p:nvPr/>
          </p:nvSpPr>
          <p:spPr>
            <a:xfrm>
              <a:off x="1704960" y="247824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9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472" name="Oval 2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6314400" y="487512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475" name="AutoShape 7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 rot="1651200">
              <a:off x="3491640" y="35370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6A3-F1BD-433A-8955-8F2F8805C77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6596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486" name="AutoShape 10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 rot="16260000">
              <a:off x="141480" y="42688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5D4-9102-4755-8CA5-56D855958D0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ctangle 4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duct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comentario en el encabezado describe una abstracción de la funcionalidad del procedimient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Proceso de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estimación del costo de desarrollo se realiza considerando los principales factor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person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apacitació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cal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quipamiento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156-74AD-4F59-B594-373BE3E3DDC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17859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26D-27BD-4CD7-9A94-FA285228673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480" y="1774800"/>
            <a:ext cx="8715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forma sistemática de abordar una activ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écn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más formales y restringidas que los méto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organización de métodos y técnicas para guiar el proceso de resolución de un probl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Herramien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carna y fuerza la metodología (métodos y técnic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370-2EBE-4EF6-A0FD-25FA8B13B1B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65C-47A0-4DA1-8148-F86620EE30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componente es reusable si puede ser utilizada para construir un nuevo sistema de software (sin cambios o con cambios mínimo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Reutilización es una evolución en pequeña escala, a nivel de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puede anticiparse los contextos en que la componente será utilizada, se la diseña de modo de poder acomodar fácilmente los cambios necesari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EE03-C046-49DF-B3DE-D1CDC71DE2C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os cambios en las componentes deben ser registrados y almacen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sistema debe tener la versión apropiada de cada una de sus compon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da configuración consistente debe también ser almacena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s herramientas son esenci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f0ad00"/>
          </a:solidFill>
          <a:ln w="3816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13"/>
          <p:cNvCxnSpPr>
            <a:stCxn id="503" idx="2"/>
            <a:endCxn id="504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3" name="AutoShape 14"/>
          <p:cNvCxnSpPr>
            <a:stCxn id="503" idx="2"/>
            <a:endCxn id="505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4" name="AutoShape 15"/>
          <p:cNvCxnSpPr>
            <a:stCxn id="503" idx="2"/>
            <a:endCxn id="506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5" name="AutoShape 16"/>
          <p:cNvCxnSpPr>
            <a:stCxn id="504" idx="2"/>
            <a:endCxn id="507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7"/>
          <p:cNvCxnSpPr>
            <a:stCxn id="504" idx="2"/>
            <a:endCxn id="508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7" name="AutoShape 18"/>
          <p:cNvCxnSpPr>
            <a:stCxn id="505" idx="2"/>
            <a:endCxn id="509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  <p:cxnSp>
        <p:nvCxnSpPr>
          <p:cNvPr id="518" name="AutoShape 19"/>
          <p:cNvCxnSpPr>
            <a:stCxn id="505" idx="2"/>
            <a:endCxn id="510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20"/>
          <p:cNvCxnSpPr>
            <a:stCxn id="506" idx="2"/>
            <a:endCxn id="511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60b5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5DF9-B53A-44D8-B76C-C2AB634D64F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n anticiparse acciones en caso de cambio en el person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También debe considerarse el mantenimiento para la estimación de costos de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Debe considerarse la construcción de componentes reutilizables como parte del proyecto o como un proyecto parale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155F-3499-4F90-B845-2CE996C6CE6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ideremos un algoritmo de ordenamiento, por ejemplo QuickS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Algunos posibles cambios en una componente que implemente este algoritm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ambio en el tipo de datos a ordenar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antidad de datos es tan grande que deben almacenarse en disc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¿Qué consideraciones haría para prever este tipo de cambi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E4DD-5235-448C-8413-E4FD6655B57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852560" y="59007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709560" y="599436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a63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B63-6B63-4967-898B-7B5F79CC38E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534" name="Rectangle 4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8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Rectangle 10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620200" cy="126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28760" y="19810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desea intercalar dos archivos ordenados para obtener un único archivo ordena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e sabe que no existen claves duplica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Si se desarrolla un algoritmo que acepte también claves duplicadas, habrá una mayor cantidad de casos para reusar el algoritm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Además existe un algoritmo para esta tarea que puede tom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302-F1CF-4DD5-ADED-8A235BA621A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generalidad es esencial si se intenta desarrollar herramientas o paquetes para comercializar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más generalidad implica más aplicaciones y por lo tanto más potenciales comprado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onfigurar un producto general es más fácil, rápido y barato que desarrollar una aplicación a medid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1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endencia natural en todas las áreas de la ingenierí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ropa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lnSpc>
                <a:spcPct val="11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¿autos a medid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602B-94BE-4D80-A47F-471297CFEAC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Un proceso es incremental si se compone de pequeños pasos (increment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objetivo se logra como una sucesión de aproximaciones construidas cada una sobre la anteri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n el software, un proceso de desarrollo es incremental si se aplica el modelo Evolutivo de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3581-47B6-45B0-B7A1-C900EF6D7F9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C393-FB2B-4C9F-9812-940F430BDF2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14360" y="493560"/>
            <a:ext cx="8053200" cy="1159200"/>
          </a:xfrm>
          <a:prstGeom prst="rect">
            <a:avLst/>
          </a:prstGeom>
          <a:ln w="0">
            <a:noFill/>
          </a:ln>
        </p:spPr>
      </p:pic>
      <p:pic>
        <p:nvPicPr>
          <p:cNvPr id="364" name="15 Diagrama" descr=""/>
          <p:cNvPicPr/>
          <p:nvPr/>
        </p:nvPicPr>
        <p:blipFill>
          <a:blip r:embed="rId2"/>
          <a:stretch/>
        </p:blipFill>
        <p:spPr>
          <a:xfrm>
            <a:off x="1706400" y="1951200"/>
            <a:ext cx="6542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339-CAFF-4BDA-890B-73FC9C91F54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esarrollo controlado cuando los requerimientos no son estables o completamente cla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la mayor parte de los casos es imposible tener todos los requerimientos al momento de comenzar el desarroll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clarificación de los requerimientos surge como consecuencia de la experimentación con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retroalimentación permite desarrollar 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á íntimamente relacionado con la anticipación del cambi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049-C616-4275-8C0B-6957051E0E5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262080" y="530280"/>
            <a:ext cx="8358120" cy="1152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volucion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mig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obustez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264400" y="2604960"/>
            <a:ext cx="17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E4B-6A8B-459A-931F-EFDD3030AA5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7" name="4 Diagrama" descr=""/>
          <p:cNvPicPr/>
          <p:nvPr/>
        </p:nvPicPr>
        <p:blipFill>
          <a:blip r:embed="rId2"/>
          <a:stretch/>
        </p:blipFill>
        <p:spPr>
          <a:xfrm>
            <a:off x="1163520" y="1646280"/>
            <a:ext cx="7274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4C1-DF7E-4FE5-9F31-1463F81821B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5"/>
          <p:cNvSpPr/>
          <p:nvPr/>
        </p:nvSpPr>
        <p:spPr>
          <a:xfrm>
            <a:off x="3581280" y="245736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421520" y="1643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0" descr=""/>
          <p:cNvPicPr/>
          <p:nvPr/>
        </p:nvPicPr>
        <p:blipFill>
          <a:blip r:embed="rId2"/>
          <a:stretch/>
        </p:blipFill>
        <p:spPr>
          <a:xfrm>
            <a:off x="324000" y="3078000"/>
            <a:ext cx="4039920" cy="315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374" name="11 Rectángulo"/>
          <p:cNvSpPr/>
          <p:nvPr/>
        </p:nvSpPr>
        <p:spPr>
          <a:xfrm>
            <a:off x="5821200" y="2220840"/>
            <a:ext cx="3251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13 Rectángulo" descr=""/>
          <p:cNvPicPr/>
          <p:nvPr/>
        </p:nvPicPr>
        <p:blipFill>
          <a:blip r:embed="rId4"/>
          <a:stretch/>
        </p:blipFill>
        <p:spPr>
          <a:xfrm>
            <a:off x="5357880" y="1908000"/>
            <a:ext cx="4316400" cy="1432080"/>
          </a:xfrm>
          <a:prstGeom prst="rect">
            <a:avLst/>
          </a:prstGeom>
          <a:ln w="0">
            <a:noFill/>
          </a:ln>
        </p:spPr>
      </p:pic>
      <p:pic>
        <p:nvPicPr>
          <p:cNvPr id="376" name="14 Rectángulo" descr=""/>
          <p:cNvPicPr/>
          <p:nvPr/>
        </p:nvPicPr>
        <p:blipFill>
          <a:blip r:embed="rId5"/>
          <a:stretch/>
        </p:blipFill>
        <p:spPr>
          <a:xfrm>
            <a:off x="-195120" y="1865160"/>
            <a:ext cx="3504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BF7A-244B-4949-B406-4E11B9BAADC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79" name="7 Diagrama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918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EE0B-D2D5-4EE3-BFAB-0FA816FCFE4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62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Una serie de pas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efinidos, precisos, coher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n cada paso se aplica alguna técnic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La técnica aplicada depende 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sultados teóricos derivados de un modelo de la realidad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ajustes empíricos para casos no cubiertos por el modelo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xperiencia del desarrollad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sta mezcla define una metodología que puede usarse repetid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0C31-672F-4ECF-A8CB-DE327BA93C2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grado de formalismo usado en cada paso depende de varios factor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xperiencia en el área de desarroll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cuán crítico es el produc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tiempo en ejecu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s necesario que el desarrollador sepa decidir sobre el grado de formalidad necesario para cada paso del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9T15:44:42Z</dcterms:modified>
  <cp:revision>573</cp:revision>
  <dc:subject/>
  <dc:title>CC31B – Desarrollo de Software de Aplicación</dc:title>
</cp:coreProperties>
</file>