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22E4-CCD9-40ED-AA0B-EDF1A58D5DC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B8D5-E9A5-42B0-B673-EF02BAE3228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7E59-D163-48F7-BB9D-0BB48E38D5D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23AB-FE5B-4CAE-8D7A-844DF62B8EC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ED1-7D82-4B0A-B2DB-207B98FA115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6F79-58B8-4C3D-AD1F-FA17AFABBD9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7180-A29E-4EC4-A982-DA9326DF74A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1C44-7141-4C9F-9C51-D0A5E40F851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68BD-2E14-4C6D-A162-CFB1DD7519F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D022-B77D-4EC2-A754-40E4B8B7EA3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E3DC-2A8C-48F4-B3D5-C3552641ED5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BCEC-C81B-41A9-8143-B0A393D593C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F7B6-2CAA-4D63-9E85-2BB99470A1A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D4E-2AD3-4D8E-BE64-3462B70C00B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72D5-0083-4925-8474-7B310F186AA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E635-5629-483B-8860-789991C6D5B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D321-1D0B-4802-9768-4E5AAEF6C52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232F-D982-4777-BB33-34D1B1A1217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17AC-81FD-4C31-972D-060C18D69A1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4B3-E279-47A2-9EDB-A643CC0F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C04-F654-4C0C-8262-A52AB48C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0A4-A8AB-4A13-8F82-4EE716A3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049-5087-48FF-A0AF-03EB5320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713B-7D98-4B56-8611-5B51C3BD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0BEE-35D4-46EC-856E-B71EF2D8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9228-F794-42CC-8D16-F9EE88D0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8C6D-5E4D-4A61-9943-995F6F20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92D8-A1D9-4DE0-9C1F-FB12346B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049B-9A25-44EA-81F3-72EEA43D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DF1C-6368-44F5-ACFD-9781514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CE0-96B7-4186-BEF9-865A73F2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0EE3-A16F-4A81-9BDF-74173AB7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89F3-98D1-435F-B4B4-D0BBAA6E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8A79-673E-4DB9-AEFA-6FCBFFEF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EBF5-A35D-408B-A100-31E5F810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4BA0-4047-43C9-8309-4B3100F6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8AE9-3CA9-4E59-9A29-A75AEA68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B702-5EB9-4316-8324-D9D6DC0D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3694-DC84-49DE-979A-FBDB8146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ED41-EF40-45F5-A598-F626B50C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86AF-53A0-444F-AA1C-3F163B12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9C6-C0C2-4D4F-86BF-65E1C3F3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C4E0-263A-40AB-BFFF-FFD74822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1286-9434-47CA-A794-0ED7BBC8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03EAC-06F4-4B5D-8767-B67DD78A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CEC4-6AC6-4702-86E6-D74CF693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C45B1-01D1-46D7-9A1A-167D48FD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EB1E-48A8-4D90-AC75-B9613CA8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C789-25EA-4CED-B738-2C321762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1210C-F578-49E6-B656-49E788EE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9C6A-1D18-4876-B314-646A7A97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B0F9A-2B4B-44E4-9CC0-1AF21D9B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740-769D-4114-8518-0315B3B4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83CE5-0D71-4E7C-92D4-96FA88D8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A7CB-6F2F-4F40-9FE6-996CDCEE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9C6B7-318C-44D0-B63F-E5CCAD90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20DFE-E149-4760-8D78-0BB585EC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41DE3-592E-4CFD-A0F9-BCC099AD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B3725-3F7B-4E33-8EE3-BFF693AD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E112-FB45-4583-A41E-72761675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F8D13-60AA-4ADE-AA01-31E81218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BFAF1-A6F0-406B-AF55-2F719742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0761D-DE5D-4346-B6FF-CA5AE8F8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CF7-7C67-411D-85BA-7259601C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CB8F4-A56C-4201-AEAA-ECC05331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B17FB-A446-4392-B91C-84BDF84C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235C9-D50E-4FCF-9CD7-9E02582A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BD7F3-E4F5-407E-ACFA-79DB8693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E36FD-A4DE-4C57-BB93-F50A9E1D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3866F-18E0-4405-B399-C4DB3C4C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25BCB-FE4B-4F27-B752-4F1DF2CD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4B485-25BF-4A29-945C-79DD2E59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1D1BA-C4A1-4C83-951E-818DDA73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E58DE-ACB3-4D4E-B504-3799F920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15A-C575-4E91-A5CC-44973E54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9ECF5-2AF4-4722-9652-31609ABD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7D883-2628-401A-A1F1-AEBCCE55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18C8C-6003-48FD-8304-05D7AC01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820FE-ED1E-417E-BE13-03E794BF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F3F2F-5B4D-46E6-A9B7-9735879C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111AF-EC0B-4850-9357-2B9695D2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A67B0-0E6A-4551-AE91-8C73F7CF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D00DC-E1E0-4183-8AA1-463CCAAF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8BCC9-1F1C-4690-9443-98B81975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A0639-3658-43EE-BA61-440D050B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847-5D6B-41C2-9BE8-91563DA6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87330-E126-47F9-8E3D-6455BAFD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43E6A-AA82-459E-B70B-162A702D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5C891-8956-434E-B088-5FF3E1C2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B0B42-A9E2-4E26-B6D3-5B33D397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A1AA7-A7CE-45C1-829D-A2A4C91E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9CC81-FF20-489B-9F1B-9B98601F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3BF02-51B6-4BAF-87F9-802D297E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0C43A-FD4D-42B8-8586-40117DA6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9BD9E-6F61-4294-AFC1-65A9070C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1F6CF-F13A-4536-BAEA-C38B8055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D3E-CAF1-4CB7-9A2C-BD7A02CC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60AB3-E853-47D0-A187-3A80BDBC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1368E-BE8D-4F25-8283-7C372EB4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FA8A7-E0FC-4002-B8F6-81D89616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92828-583B-4DDB-8D34-784647EC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44848-F3C9-4EC5-9978-B730478B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2FB-F42A-444C-89A0-28A33678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9721-8A55-40D5-B4A0-2FF29184638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991D-E427-4D3C-81AB-8209A7B30AC7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9419-37DD-41C7-9AAF-35608952096B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7308-030B-453B-B260-723036422774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7605-8010-491C-A4AF-602BC6883471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FF6D-2BC8-413B-83C4-B802AA652A3B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93DA-EEFB-4BD4-8D91-D1B9E070D2F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96720" y="1401840"/>
            <a:ext cx="8070840" cy="1347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e193"/>
                </a:solidFill>
                <a:latin typeface="Corbel"/>
              </a:rPr>
              <a:t>¿Qué es un buen softwar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6072120" y="1500120"/>
            <a:ext cx="3000600" cy="2089080"/>
          </a:xfrm>
          <a:prstGeom prst="rect">
            <a:avLst/>
          </a:prstGeom>
          <a:ln w="0">
            <a:noFill/>
          </a:ln>
        </p:spPr>
      </p:pic>
      <p:sp>
        <p:nvSpPr>
          <p:cNvPr id="35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A33A-ACF9-4853-B5A0-305C47DF129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42920" y="1752480"/>
            <a:ext cx="6143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portable si puede ejecutarse en 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14240" y="30715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Una forma de lograr portabilidad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 suponer la mínima configur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to penaliza los sistemas que podrían ejecutar mejor haciendo uso del ambiente disponi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Otra opción es determinar sobre la marcha las disponibilidades del ambi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9175-0391-43E0-A7E8-75D7C2359B5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746280" y="1716120"/>
            <a:ext cx="56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1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85800" y="311940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s componentes reutilizables son (deben ser) inherentemente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 estandarización de las interfaces promueve la interoperabi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os sistemas abiertos son casos típicos de sistemas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500880" y="142920"/>
            <a:ext cx="25113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1C54-7DD4-42A4-A03A-9A95D5BAE98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65040" y="1792440"/>
            <a:ext cx="54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Rectangle 9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275256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productividad de un equipo de desarrollo es generalmente menor que la suma de las productividades individu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xisten métricas para medir la productividad (LOC, puntos de función, etc.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automatización y el soporte de software de desarrollo aumen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7" descr=""/>
          <p:cNvPicPr/>
          <p:nvPr/>
        </p:nvPicPr>
        <p:blipFill>
          <a:blip r:embed="rId2"/>
          <a:stretch/>
        </p:blipFill>
        <p:spPr>
          <a:xfrm>
            <a:off x="6572160" y="214200"/>
            <a:ext cx="2428920" cy="22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"/>
          <p:cNvPicPr/>
          <p:nvPr/>
        </p:nvPicPr>
        <p:blipFill>
          <a:blip r:embed="rId1"/>
          <a:stretch/>
        </p:blipFill>
        <p:spPr>
          <a:xfrm>
            <a:off x="6215040" y="1428840"/>
            <a:ext cx="3071880" cy="2163600"/>
          </a:xfrm>
          <a:prstGeom prst="rect">
            <a:avLst/>
          </a:prstGeom>
          <a:ln w="0">
            <a:noFill/>
          </a:ln>
        </p:spPr>
      </p:pic>
      <p:sp>
        <p:nvSpPr>
          <p:cNvPr id="37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2E28-4F5C-49E1-B81B-3B5A2524208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857160" y="164304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Rectangle 7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714240" y="257184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el producto a tiempo da, en general,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una mejor oportunidad comercial, y a vece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hace que el producto sea útil o in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un producto a tiempo sin confiabilidad o eficiencia tampoco es 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Requier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stimación del trabaj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hitos verificab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"/>
          <p:cNvPicPr/>
          <p:nvPr/>
        </p:nvPicPr>
        <p:blipFill>
          <a:blip r:embed="rId1"/>
          <a:srcRect l="66169" t="0" r="0" b="13461"/>
          <a:stretch/>
        </p:blipFill>
        <p:spPr>
          <a:xfrm>
            <a:off x="6757920" y="928800"/>
            <a:ext cx="2314800" cy="1928880"/>
          </a:xfrm>
          <a:prstGeom prst="rect">
            <a:avLst/>
          </a:prstGeom>
          <a:ln w="0">
            <a:noFill/>
          </a:ln>
        </p:spPr>
      </p:pic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2E45-F74A-497E-9308-3FC1163B0C9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42920" y="1643040"/>
            <a:ext cx="78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Un proceso de desarrollo de software es visible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si todos sus pasos están claramente documentados, 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y se puede saber su estado de avance en cada </a:t>
            </a:r>
            <a:br>
              <a:rPr sz="2200"/>
            </a:b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Rectangle 1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714240" y="307188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iseño, testing, codificación e integración pueden suceder simultáneamente, pero deben coordin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visibilidad ayuda a evaluar el impacto de las decision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ambién es esencial cuando existe rotación en el person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A2B4-0B5F-48FA-AA1E-BFA1EF406A1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380880" y="1752480"/>
            <a:ext cx="640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60b5cc"/>
                </a:solidFill>
                <a:latin typeface="Arial"/>
              </a:rPr>
              <a:t>Medida de la relación entre las partes de una </a:t>
            </a:r>
            <a:br>
              <a:rPr sz="2400"/>
            </a:br>
            <a:r>
              <a:rPr b="0" lang="es-UY" sz="2400" spc="-1" strike="noStrike">
                <a:solidFill>
                  <a:srgbClr val="60b5cc"/>
                </a:solidFill>
                <a:latin typeface="Arial"/>
              </a:rPr>
              <a:t>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incident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 relacionad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Lógica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funciones simi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empo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jecución simultáne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Procedu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secuencia de contro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unica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arten el inpu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ecuenci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output de uno es input del otr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Fun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partes son necesarias para la fun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Objeto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acciones actúan sobre los mismos datos del objet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2"/>
          <a:stretch/>
        </p:blipFill>
        <p:spPr>
          <a:xfrm>
            <a:off x="6715080" y="285840"/>
            <a:ext cx="212400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CE83-6DCB-4400-A0A0-F3D6B534FA6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871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muy 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arten variables o información de contro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des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interfaces definidas con listas de parámetr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Corbe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36" descr=""/>
          <p:cNvPicPr/>
          <p:nvPr/>
        </p:nvPicPr>
        <p:blipFill>
          <a:blip r:embed="rId2"/>
          <a:stretch/>
        </p:blipFill>
        <p:spPr>
          <a:xfrm>
            <a:off x="6215040" y="663480"/>
            <a:ext cx="2714760" cy="17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41BA-0F83-47C3-B27A-8521538418F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Rectangle 2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28760" y="26427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aracterísticas que afectan la </a:t>
            </a:r>
            <a:br>
              <a:rPr sz="2400"/>
            </a:b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rensibilidad del sistema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22" descr=""/>
          <p:cNvPicPr/>
          <p:nvPr/>
        </p:nvPicPr>
        <p:blipFill>
          <a:blip r:embed="rId2"/>
          <a:stretch/>
        </p:blipFill>
        <p:spPr>
          <a:xfrm>
            <a:off x="6215040" y="285840"/>
            <a:ext cx="2760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6773760" y="71280"/>
            <a:ext cx="2298960" cy="2000520"/>
          </a:xfrm>
          <a:prstGeom prst="rect">
            <a:avLst/>
          </a:prstGeom>
          <a:ln w="0">
            <a:noFill/>
          </a:ln>
        </p:spPr>
      </p:pic>
      <p:sp>
        <p:nvSpPr>
          <p:cNvPr id="39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12B0-83B1-46A3-84C1-78FD1E41B8E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3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70c0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6715080" y="1571760"/>
            <a:ext cx="2428920" cy="1904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85840" y="3314520"/>
            <a:ext cx="8472240" cy="311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Una estrategia habitual es definir identificación de usuarios para acceder al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Otra estrategia más sofisticada es la definición de perfi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En sistemas abiertos: inundar servidor con solicitudes le impide brindar otros servici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4 Marcador de contenido"/>
          <p:cNvSpPr/>
          <p:nvPr/>
        </p:nvSpPr>
        <p:spPr>
          <a:xfrm>
            <a:off x="214200" y="1774800"/>
            <a:ext cx="65008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Arial"/>
              </a:rPr>
              <a:t>Un software es seguro si es capaz de resistir usos maliciosos sin restar funcionalidad a los usos regu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F056-CBC9-423F-8EFA-4D738012247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0713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rrec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nfi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obus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ficient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mig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erific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eus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ort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Interoper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2"/>
          <a:stretch/>
        </p:blipFill>
        <p:spPr>
          <a:xfrm>
            <a:off x="6213600" y="1500120"/>
            <a:ext cx="2930400" cy="30718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5740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roductiv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 Tiemp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i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hes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Desacoplad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mpren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Manten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scal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6215040" y="1500120"/>
            <a:ext cx="2857680" cy="2041560"/>
          </a:xfrm>
          <a:prstGeom prst="rect">
            <a:avLst/>
          </a:prstGeom>
          <a:ln w="0">
            <a:noFill/>
          </a:ln>
        </p:spPr>
      </p:pic>
      <p:pic>
        <p:nvPicPr>
          <p:cNvPr id="409" name="1 Título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32148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Un sistema puede crecer con respecto al número de usuarios, cantidad de datos manejado o alguna otra dimens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Durante el análisis y el diseño del sistema se piensa las dimensiones de crecimiento y se realizan pruebas de esfuerz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2 Marcador de contenido"/>
          <p:cNvSpPr/>
          <p:nvPr/>
        </p:nvSpPr>
        <p:spPr>
          <a:xfrm>
            <a:off x="457200" y="1774800"/>
            <a:ext cx="6186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Arial"/>
              </a:rPr>
              <a:t>Un sistema es escalable si puede crecer sin degradarse significa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ABBF-6793-4363-89E8-A8BC3B8C1DD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71680" y="2819520"/>
            <a:ext cx="6215040" cy="3657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definición supon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xistencia de un especificación de requisi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posibilidad de determinar sin ambigüedad la correspondencia entre la especificación y el diseñ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orrectitud del software puede comprobarse probándolo o mediante análisi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33520" y="1828800"/>
            <a:ext cx="568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2"/>
          <a:stretch/>
        </p:blipFill>
        <p:spPr>
          <a:xfrm>
            <a:off x="6072120" y="1571760"/>
            <a:ext cx="30718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A26A-395E-495C-B93A-C29B2DC722A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685800" y="1752480"/>
            <a:ext cx="5958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software es confiable si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1969560" y="632448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Rectangle 1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85480" y="3142800"/>
            <a:ext cx="8715240" cy="3071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A diferencia de la corrección, la confiabilidad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 algo relativ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l mercado puede admitir algunos errores en el software siempre que en general se comporte en forma esper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No sólo no damos garantías de corrección del software, sino que varios productos incluyen un “disclaimer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6858000" y="150012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05E9-104B-4A76-99F0-82937D5EE4C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85840" y="1752480"/>
            <a:ext cx="63579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70c0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56760" y="2786040"/>
            <a:ext cx="8358120" cy="3929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atos de entrada incorrectos o falla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e hardware son las situaciones más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frecu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antidad de código que se dedica a hacer el software robusto depende de la experiencia de los usuarios o lo crítico de su mis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Si algo se especifica como requisito, cumplirlo es cuestión de corrección; si no está en los requisitos es cuestión de robustez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2"/>
          <a:stretch/>
        </p:blipFill>
        <p:spPr>
          <a:xfrm>
            <a:off x="6595920" y="71280"/>
            <a:ext cx="24768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62C3-4E0F-46A5-9DE1-33B77BED076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14200" y="175248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50560" y="2792160"/>
            <a:ext cx="4027320" cy="399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57440" y="2743200"/>
            <a:ext cx="4786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8" descr=""/>
          <p:cNvPicPr/>
          <p:nvPr/>
        </p:nvPicPr>
        <p:blipFill>
          <a:blip r:embed="rId2"/>
          <a:stretch/>
        </p:blipFill>
        <p:spPr>
          <a:xfrm>
            <a:off x="6143760" y="142920"/>
            <a:ext cx="2857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7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257184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interfaz con el usuario es parte esencial del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ser amig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214B-6F42-4D0F-A562-67F0293E8DF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6786720" y="1500120"/>
            <a:ext cx="228096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42A3-F882-472E-B48E-67F47BDD658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714240" y="1752480"/>
            <a:ext cx="5572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440" y="316548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316548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2"/>
          <a:stretch/>
        </p:blipFill>
        <p:spPr>
          <a:xfrm>
            <a:off x="6402240" y="1571760"/>
            <a:ext cx="25750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8" descr=""/>
          <p:cNvPicPr/>
          <p:nvPr/>
        </p:nvPicPr>
        <p:blipFill>
          <a:blip r:embed="rId1"/>
          <a:stretch/>
        </p:blipFill>
        <p:spPr>
          <a:xfrm>
            <a:off x="7215120" y="17146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5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EB3E-0EDB-48EE-9947-5ED21563FAE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642960" y="1571760"/>
            <a:ext cx="70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Arial"/>
              </a:rPr>
              <a:t>Un software es reusable si una vez construido se usa con pocos o ningún cambio como parte de otra apl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50560" y="271440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s bibliotecas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ervicios web son un caso actu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48320" y="2792160"/>
            <a:ext cx="4316400" cy="3779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l reuso es una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cualidad difícil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0-08-12T18:22:20Z</dcterms:modified>
  <cp:revision>572</cp:revision>
  <dc:subject/>
  <dc:title>CC31B – Desarrollo de Software de Aplicación</dc:title>
</cp:coreProperties>
</file>