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A80F-D741-427D-B883-097F2885D2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9B5B-49C1-411A-946D-EB971713AEC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8D7C-9053-4CB9-A95C-4D1C8C49C97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D5F8-0A81-41CC-8699-A7D301FE508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8E4C-1BE1-4CFA-A6F7-D7EF5AE7697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18E1-6601-47DC-8734-A134225EB42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4AAF-973F-44C3-BE0E-25BA876CECC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A07A-E789-4A86-8900-A2B356B7930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8CB9-D941-4DDF-B4B0-C57D4B12201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01C6-E833-4DEB-934D-F840C347DBC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F939-B8C6-45EC-A453-89BB831A5BC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5BB2-EB52-4B3A-B78D-FA7396F0DCC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E510-AD8C-4402-9F3C-39E24CE6F03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F902-60E1-4BEA-9164-80AD461E226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4291-68F5-485A-9DDF-010B1A0A160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D562-78B2-4305-BFF2-EE338CACDB8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4B70-D54B-4048-ADB6-6802A1A0E76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00CD-38DA-4BD1-8BD8-99118C2DBAE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1288-BA58-4BD3-8362-0C017617E7B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84B-8FFE-4AFD-8387-3C3232FB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9E9-4F39-4FFB-9AF1-9A42EE0B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535-26F1-47CA-809D-A660C5C3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AA2-C33F-4227-BFAD-CFFC568D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B678-7CD1-43A0-8EAE-F90DBB14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DC47-8B7C-4700-AF76-AA849593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EF0B-B149-466A-BD71-2F15F54D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AE08-291C-4E9F-B0E2-2B33865C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F011-3133-4E92-BDD7-A99CA7AB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931B-0415-4CA3-92BA-13756B8E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76CF-0B09-4A2C-A4C8-5024016F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DEC-38EC-4811-B59E-A542C1DA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1C73-DD1E-43CE-85ED-5D4D5115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1E6D-001E-4A2F-AC4C-660FE68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D211-3425-4A81-985E-46110103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6633-118D-4F86-B783-EC466836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8DB9-34CB-4545-95C6-8530DD41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FC6C5-3A3B-4F05-B833-75CD372A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B01B-9428-42BF-9B62-2BC0F3A6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25BD-D445-4A39-B00D-37D2BA4F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F3C3-7550-4558-B170-9B6BA4A6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C167-D38E-428B-B67D-D4692B84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F52-54A1-44E2-94A5-4F538A27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1449-3B11-4559-8B34-32D3A487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B45B-40A5-4B38-A76F-EAF0C3CE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65BA-1C1C-4DF3-B065-AD28741A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9B66-AB03-46B5-9224-1DE68F42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F39FA-C98D-4FFA-8682-3AC444BB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88714-1031-451A-9589-7591EE5D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4C584-8BE4-4BD9-8898-BB359A46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AD5D6-FF74-469D-B051-D6E633D2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AA5A3-250D-4275-9490-991A4381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2C793-B795-4FA7-A381-AE3653FC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5C9-49EB-4877-999C-3F2BF0FD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F6F9B-C11D-4BB8-83EA-5DBBBDE6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EDC6-EC97-49AB-B49E-64D0DAE4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B7632-1288-4A26-BF43-6E259C1B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1CAF4-6349-48E2-87C5-9E5680B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52D7-AB62-4778-853D-C3AB30DF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584A-2FCA-4D46-8ED3-2D5B1B50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F1A2A-D837-4CEA-A59A-FDA52F9C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B679-95CD-419F-AA56-BADA6803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B2D3-316C-4CE5-B079-D75A9946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76806-39E9-4527-A098-C312342F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A1F-6FC5-47FB-AF83-FF630C06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B4706-395D-4CD2-9473-846E8048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B52B-7889-4CD8-A82F-58C2D64B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317D7-40E5-4CFA-98B8-E3AE53C9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EF32-9C83-4F95-A404-7A80797C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17E58-21EA-44FE-9A9E-482D1765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D317D-2043-445A-BAD3-B7CA88C5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11D97-BDFD-4195-9E36-52366A9D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88A6F-15CF-4065-AB96-0EF13CD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9FFE3-A98E-4570-B3E6-C06BB4D0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59B01-BFC7-4674-B0CB-FDCE18C5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23B-91B6-4ECA-9FE3-24423712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43309-86D9-40A7-97EB-DE581227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AEF21-C43C-4197-92CE-39AA6DE0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AE7EB-91B1-4509-A748-2C9BE5E1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49646-8494-4F99-8200-2AEC6583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EDCC9-50EB-4293-AF58-E11C3E89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25472-1896-4E3D-88B5-712B9881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5505F-7F5A-4C6B-8F20-3A3E0A78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D4E24-27F4-44E9-8068-819AD674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D5AC6-F115-4427-ADF8-7489A287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462E5-CD1C-427B-A591-27C6A5B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D87-BEC6-43F9-93B3-0E3D2FC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EBA91-06CF-4C6E-A314-B7EC930B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89679-66D0-44AE-B695-0CA53150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BAE91-C502-4220-A46C-03535B95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5D9DB-91EB-4D12-8529-FDED4A0F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FF746-3193-4950-A508-F57B4865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8DA16-A495-4C96-BC90-9CDB72FB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5BBCB-59E2-474E-812B-DC4C896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D612-FDE5-469F-9AB9-72A73AC9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2B72A-4DFE-49A6-BF0D-7FAB8682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DA0BE-95D1-4A4D-8CCF-49C9BBBF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E04-1E5B-4CF7-B88C-C5F6824A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3BC89-E94B-4E0C-AB2D-7699626E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BD2C2-0294-42A0-8F7F-3A5C708A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8F87B-227C-48D8-AD4C-F1E7A069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66B6C-6CCB-4601-9513-61CD9055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CE3AB-ADF8-48DA-8503-5332CF6D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524-7E9E-44E6-934D-89101797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4835-9F63-4668-978B-665B674A169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1A48-79BD-4BFF-A507-BBE763E4ECF3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CC3A-2F16-4DCD-AD80-BAB4027566C4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F8A0-BFFD-48B7-ACB2-EDB54318E43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41F0-C573-4BD2-972B-BAC6D6D63CC9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B4AA-C692-4FFF-9A16-258E7C0A3AF1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573B-AD6F-41BA-AC62-08E21D265D6A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1401840"/>
            <a:ext cx="8070840" cy="1347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e193"/>
                </a:solidFill>
                <a:latin typeface="Corbel"/>
              </a:rPr>
              <a:t>¿Qué es un buen softwar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6072120" y="1500120"/>
            <a:ext cx="3000600" cy="2089080"/>
          </a:xfrm>
          <a:prstGeom prst="rect">
            <a:avLst/>
          </a:prstGeom>
          <a:ln w="0">
            <a:noFill/>
          </a:ln>
        </p:spPr>
      </p:pic>
      <p:sp>
        <p:nvSpPr>
          <p:cNvPr id="35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F942-9A7E-43EE-8529-EF727BAD807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42920" y="1752480"/>
            <a:ext cx="6143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portable si puede ejecutarse en 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14240" y="30715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forma de lograr portabilidad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suponer la mínima configur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to penaliza los sistemas que podrían ejecutar mejor haciendo uso del ambiente disponi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Otra opción es determinar sobre la marcha las disponibilidades del ambi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D667-7128-4746-B7F0-BE3163FDAC4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746280" y="1716120"/>
            <a:ext cx="56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1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800" y="311940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s componentes reutilizables son (deben ser) inherentemente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 estandarización de las interfaces promueve la interopera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os sistemas abiertos son casos típicos de sistemas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511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6D27-1B46-4153-B6A3-09975087ED6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65040" y="1792440"/>
            <a:ext cx="54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Rectangle 9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275256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productividad de un equipo de desarrollo es generalmente menor que la suma de las productividades individu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xisten métricas para medir la productividad (LOC, puntos de función, etc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automatización y el soporte de software de desarrollo aumen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7" descr=""/>
          <p:cNvPicPr/>
          <p:nvPr/>
        </p:nvPicPr>
        <p:blipFill>
          <a:blip r:embed="rId2"/>
          <a:stretch/>
        </p:blipFill>
        <p:spPr>
          <a:xfrm>
            <a:off x="6572160" y="214200"/>
            <a:ext cx="242892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6215040" y="1428840"/>
            <a:ext cx="3071880" cy="2163600"/>
          </a:xfrm>
          <a:prstGeom prst="rect">
            <a:avLst/>
          </a:prstGeom>
          <a:ln w="0">
            <a:noFill/>
          </a:ln>
        </p:spPr>
      </p:pic>
      <p:sp>
        <p:nvSpPr>
          <p:cNvPr id="37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A305-EBB7-4E8B-A895-6FAB1ED128F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857160" y="164304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7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714240" y="25718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el producto a tiempo da, en general,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mejor oportunidad comercial, y a vece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hace que el producto sea útil o in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un producto a tiempo sin confiabilidad o eficiencia tampoco es 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Requier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stimación del trabaj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hitos verificab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"/>
          <p:cNvPicPr/>
          <p:nvPr/>
        </p:nvPicPr>
        <p:blipFill>
          <a:blip r:embed="rId1"/>
          <a:srcRect l="66169" t="0" r="0" b="13461"/>
          <a:stretch/>
        </p:blipFill>
        <p:spPr>
          <a:xfrm>
            <a:off x="6757920" y="928800"/>
            <a:ext cx="2314800" cy="1928880"/>
          </a:xfrm>
          <a:prstGeom prst="rect">
            <a:avLst/>
          </a:prstGeom>
          <a:ln w="0">
            <a:noFill/>
          </a:ln>
        </p:spPr>
      </p:pic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1B5F-3FA5-4FAC-8BC6-C87A14C8F60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42920" y="1643040"/>
            <a:ext cx="78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proceso de desarrollo de software es visible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si todos sus pasos están claramente documentados,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y se puede saber su estado de avance en cada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Rectangle 1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14240" y="3071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iseño, testing, codificación e integración pueden suceder simultáneamente, pero deben coordin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visibilidad ayuda a evaluar el impacto de las decisio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ambién es esencial cuando existe rotación en el person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0EE4-EEF8-4B8B-8AAB-B7D4B4B9EC2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380880" y="1752480"/>
            <a:ext cx="640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Medida de la relación entre las partes de una </a:t>
            </a:r>
            <a:br>
              <a:rPr sz="2400"/>
            </a:b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incident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 relacionad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Lógica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funciones simi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empo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jecución simultán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Procedu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secuencia de contro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unica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arten el inpu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ecuenci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output de uno es input del otr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Fun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partes son necesarias para la fun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acciones actúan sobre los mismos datos del objet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2"/>
          <a:stretch/>
        </p:blipFill>
        <p:spPr>
          <a:xfrm>
            <a:off x="6715080" y="285840"/>
            <a:ext cx="212400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1476-4C83-4965-956B-3221B072C3E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871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muy 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arten variables o información de contro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des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interfaces definidas con listas de parámetr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Corbe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36" descr=""/>
          <p:cNvPicPr/>
          <p:nvPr/>
        </p:nvPicPr>
        <p:blipFill>
          <a:blip r:embed="rId2"/>
          <a:stretch/>
        </p:blipFill>
        <p:spPr>
          <a:xfrm>
            <a:off x="6215040" y="663480"/>
            <a:ext cx="2714760" cy="17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FE07-286F-498A-8AFD-0CB3889233B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Rectangle 2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28760" y="26427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aracterísticas que afectan la </a:t>
            </a:r>
            <a:br>
              <a:rPr sz="2400"/>
            </a:b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rensibilidad del sistem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22" descr=""/>
          <p:cNvPicPr/>
          <p:nvPr/>
        </p:nvPicPr>
        <p:blipFill>
          <a:blip r:embed="rId2"/>
          <a:stretch/>
        </p:blipFill>
        <p:spPr>
          <a:xfrm>
            <a:off x="6215040" y="285840"/>
            <a:ext cx="2760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6773760" y="71280"/>
            <a:ext cx="2298960" cy="2000520"/>
          </a:xfrm>
          <a:prstGeom prst="rect">
            <a:avLst/>
          </a:prstGeom>
          <a:ln w="0">
            <a:noFill/>
          </a:ln>
        </p:spPr>
      </p:pic>
      <p:sp>
        <p:nvSpPr>
          <p:cNvPr id="39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1B41-5B10-44F0-B9F1-0B3EFADF8FD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3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6715080" y="1571760"/>
            <a:ext cx="2428920" cy="1904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85840" y="3314520"/>
            <a:ext cx="8472240" cy="311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a estrategia habitual es definir identificación de usuarios para acceder a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Otra estrategia más sofisticada es la definición de perfi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n sistemas abiertos: inundar servidor con solicitudes le impide brindar otros servici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4 Marcador de contenido"/>
          <p:cNvSpPr/>
          <p:nvPr/>
        </p:nvSpPr>
        <p:spPr>
          <a:xfrm>
            <a:off x="214200" y="1774800"/>
            <a:ext cx="65008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oftware es seguro si es capaz de resistir usos maliciosos sin restar funcionalidad a los usos reg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DA79-A412-4BD5-89F8-1ABAB5CA86B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0713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rrec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nfi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obus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ficient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mig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erific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ort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Interoper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6213600" y="1500120"/>
            <a:ext cx="2930400" cy="30718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5740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roductiv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 Tiemp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i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hes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Desacoplad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mpre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Manten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scal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6215040" y="1500120"/>
            <a:ext cx="2857680" cy="2041560"/>
          </a:xfrm>
          <a:prstGeom prst="rect">
            <a:avLst/>
          </a:prstGeom>
          <a:ln w="0">
            <a:noFill/>
          </a:ln>
        </p:spPr>
      </p:pic>
      <p:pic>
        <p:nvPicPr>
          <p:cNvPr id="409" name="1 Título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32148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 sistema puede crecer con respecto al número de usuarios, cantidad de datos manejado o alguna otra dimens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Durante el análisis y el diseño del sistema se piensa las dimensiones de crecimiento y se realizan pruebas de esfuerz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2 Marcador de contenido"/>
          <p:cNvSpPr/>
          <p:nvPr/>
        </p:nvSpPr>
        <p:spPr>
          <a:xfrm>
            <a:off x="457200" y="1774800"/>
            <a:ext cx="6186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istema es escalable si puede crecer sin degradarse significa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7997-91EB-4C2C-945C-6E9B03E0944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680" y="2819520"/>
            <a:ext cx="6215040" cy="3657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definición supon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xistencia de un especificación de requisi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posibilidad de determinar sin ambigüedad la correspondencia entre la especificación y el diseñ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orrectitud del software puede comprobarse probándolo o mediante análi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33520" y="1828800"/>
            <a:ext cx="568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2"/>
          <a:stretch/>
        </p:blipFill>
        <p:spPr>
          <a:xfrm>
            <a:off x="6072120" y="1571760"/>
            <a:ext cx="30718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8A94-8344-4D2B-939A-995B2CB125C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85800" y="1752480"/>
            <a:ext cx="5958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confiable si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1969560" y="632448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Rectangle 1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85480" y="3142800"/>
            <a:ext cx="8715240" cy="3071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A diferencia de la corrección, la confiabilidad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algo relativ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l mercado puede admitir algunos errores en el software siempre que en general se comporte en forma esper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No sólo no damos garantías de corrección del software, sino que varios productos incluyen un “disclaimer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6858000" y="15001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6061-FEB9-486A-A3E8-9C4925E57BF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85840" y="1752480"/>
            <a:ext cx="63579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56760" y="2786040"/>
            <a:ext cx="8358120" cy="3929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atos de entrada incorrectos o falla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e hardware son las situaciones má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frecu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antidad de código que se dedica a hacer el software robusto depende de la experiencia de los usuarios o lo crítico de su mis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Si algo se especifica como requisito, cumplirlo es cuestión de corrección; si no está en los requisitos es cuestión de robustez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6595920" y="71280"/>
            <a:ext cx="2476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1443-2026-4565-B5E1-2590E01602A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4200" y="175248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50560" y="2792160"/>
            <a:ext cx="4027320" cy="399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57440" y="2743200"/>
            <a:ext cx="4786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8" descr=""/>
          <p:cNvPicPr/>
          <p:nvPr/>
        </p:nvPicPr>
        <p:blipFill>
          <a:blip r:embed="rId2"/>
          <a:stretch/>
        </p:blipFill>
        <p:spPr>
          <a:xfrm>
            <a:off x="6143760" y="142920"/>
            <a:ext cx="2857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2571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interfaz con el usuario es parte esencial del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ser amig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0F69-3070-4D02-BDB6-483C3982F89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6786720" y="1500120"/>
            <a:ext cx="228096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14B4-ACF9-4800-9538-24C11AFD0BE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714240" y="1752480"/>
            <a:ext cx="5572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440" y="316548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316548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2"/>
          <a:stretch/>
        </p:blipFill>
        <p:spPr>
          <a:xfrm>
            <a:off x="6402240" y="1571760"/>
            <a:ext cx="25750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8" descr=""/>
          <p:cNvPicPr/>
          <p:nvPr/>
        </p:nvPicPr>
        <p:blipFill>
          <a:blip r:embed="rId1"/>
          <a:stretch/>
        </p:blipFill>
        <p:spPr>
          <a:xfrm>
            <a:off x="7215120" y="17146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5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44BA-7128-425F-BBDD-D7081F127C0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642960" y="1571760"/>
            <a:ext cx="70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reusable si una vez construido se usa con pocos o ningún cambio como parte de otra apl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50560" y="271440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s bibliotecas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ervicios web son un caso actu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48320" y="2792160"/>
            <a:ext cx="4316400" cy="3779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l reuso es una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cualidad difícil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0-08-12T18:22:20Z</dcterms:modified>
  <cp:revision>572</cp:revision>
  <dc:subject/>
  <dc:title>CC31B – Desarrollo de Software de Aplicación</dc:title>
</cp:coreProperties>
</file>