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ACE7-96B4-4895-ABA7-2C628E66E1D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798-1807-47F0-A68A-6885828B9C8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0453-13E3-42C4-B06B-022386334EF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3D73-0F55-4902-B3F5-7EF753B2D0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FC1A-87C5-48B3-8990-C1EA46B7074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B825-E6A4-4258-AAC6-A3273EE9501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FA31-4C26-4AFA-91DC-4A89F1D8A91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E4DD-C080-4285-A89C-A054664048E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A784-91BB-4AB8-BF31-72E9E47CFE5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3377-F2D5-4CEF-92AA-41828896687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E4CF-65F4-4F6F-8ABD-DC1F875E0DA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FB12-4848-4FB0-889D-57A85B4320B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2B90-9247-4C0C-8CE6-8E31EA300F1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BB1E-43C5-4D66-8D68-7DA8F27C27D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B83C-987D-4D12-A90B-6F3158AF051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CF1C-7AF0-411C-BE56-AB885FCCEF1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5D5B-2C43-4514-8577-5D16FE12509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7EC7-7028-4A14-8A34-4B340541646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6662-4512-470E-BBD3-B2DCBF54CFB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E003-48BA-4F9E-AF54-0CD3D0C4638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01A2-4675-4243-90ED-5D8676188E7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8C89-D57C-45E1-AF30-EC4FAE58E24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01F1-FEB0-49DC-B41A-8C1562D012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A36D-96E1-48F4-BFC2-252BA2AC39E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1A2-FD2D-4313-BAAB-A329648F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CA1-0587-4C71-B5BE-57ABEFB5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670-8B6E-4B57-8F42-5ECA2BB8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670-D117-4DF3-B56C-A4210932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5E5D-0642-487C-913C-7DC682A7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B094-EB68-45E6-8487-1183D3BF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FBDC-C5A5-48D8-A6A8-E276FED6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3C55-F416-4807-8BCD-C67E6DA5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F021-9B29-4EFD-9F53-3FB20749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4695-D987-4423-81B1-A23C97B6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BA53-1529-48DD-A649-9F2B9286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B4E-13FD-4818-84BB-55307096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27F9-893B-4474-8AC5-AE798501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168F-A7DF-4706-8AE9-9E762013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DE0A-9623-4B36-8C8E-A4B8172B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8B78-F0D4-48BA-92D6-94F14DB7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8F6C-2636-44D9-A39D-20F18BD6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9E69-FCDA-4E4A-BAFC-C9D704B2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3C8D2-8276-4A0D-B13A-3D1FA8D3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47FB-C807-4F57-89BD-525D8E6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03BC-326A-4777-B692-89DCAD4D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D2A93-01DD-4021-9DC2-24C5F701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5E1-D19C-4504-BC80-44BF0954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86AB-E19D-4A4C-85B7-2F4E95B9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AF69-82AB-42C6-AC5B-D2B931F9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5E54-B7C3-4BC9-B969-3978DEC9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3CE8-34F7-415A-828C-12ABB76B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A0223-AD20-423A-BD31-030CBCFA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34F3-ACA5-4C83-B819-37801BFD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1FA5-1478-4944-BEE2-89DDB409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68109-6272-4C90-BD88-56E6D913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40DE2-E238-4F14-9524-E9C3588B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A1EE-42FE-4F11-B4FF-0FC50DC3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24A-F943-4969-B99A-BA895EE0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72A4-A75A-42C7-81E2-161BE37B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F691-3AA1-4724-9C02-E9B93377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2898D-8DF9-4F77-A7A7-4A059FA6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83E5E-1C67-4E9B-80CE-E68DC00C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7ECE-92D8-4C6A-9633-ADEDB26B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45E34-EC54-4443-876A-1E2AF4E7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2B48-6C80-4B93-BEBA-79B0FEC3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0F5E-BB9C-4C42-A7A6-FC00D84D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D937-3A39-47DF-98E2-DB6AF007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8884A-4F80-46E2-A2D4-3D321EF6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101-7862-43BF-ABD6-6052EF24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2B1B7-DB29-42DA-9044-F1C76DB6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9FF82-6118-4766-BE89-828CB3C6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F252A-6752-4DF8-8906-ABBB69A0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B3556-F4FE-4C2A-88A0-E08BF2E8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C72EA-661C-474F-A523-3DFE85E8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B5056-6D09-4F69-BFE2-B972D7BA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4954F-116A-4661-8C00-DA2A475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73C7B-5B70-47C4-9648-F31AF97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CCF8-0C3E-4A0D-803F-18AE6777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22A3-3316-4701-9C66-5B1AB13B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BF4-3A7B-4785-AACF-1A840340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FD0C5-04FA-4AE3-92C2-6FC20BDC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C29BB-1861-4FC4-AA72-6C5DE4F4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005A3-7440-4244-A738-1CCD967D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9F90-116A-4F9E-BDEA-3D827B7C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53221-7D77-4B4B-BE3A-5F58877F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6447C-CF3F-4790-A501-6D11ACC4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15064-6B81-46E3-9C96-A977F191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3FDBE-8CD7-417A-99B0-E736B40E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9CDFE-F936-449D-91E0-61F23E4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F06FE-3DD8-459D-A475-1FBEAFCD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05B-F240-4B18-9016-50465F1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8D989-BEFC-40D0-BDC1-F3DC8709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525CB-0096-4A70-9270-079D850D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A5265-BF06-437C-A680-55E164AE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E846F-D32C-4922-AA97-4698C367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165F7-37D4-4CBE-9412-91EEED1C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66A9E-2A5D-4440-869F-8332F936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3942F-0463-4DD6-BF25-8E1F2D1B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37363-E364-4A21-A23D-FBDE7133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3480B-897A-4002-AAE4-4E4F50EC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559BD-13BE-4E0D-87A2-0A2F7217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DEB-1A00-41CD-8A52-FC4C221A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1C61B-7D6F-4920-B6AE-E18C751B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C893C-B036-4A4C-AC74-19999A12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D365-E7E9-4047-AE80-C09787D4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A1796-7083-400F-8ACE-8D38E138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33BA0-CEC2-47BD-BF96-5EC0F43E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55B4-0F3D-48C0-BFF9-2243F362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37A5C-3096-4756-B93C-9C363975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1534B-52B0-40FC-B023-CABD4607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01593-0115-467D-BE36-E4EAFA8C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8EBED-BDE9-4ADB-B09C-96934530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BFE-BBF7-4333-A7FB-0F272AE9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489B6-731A-433A-B83F-B3FE683E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CE2C1-8591-4C42-BA67-B01E996D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C6CAD-76C7-4C4D-BFEA-CDB4E2E8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45CDA-DE99-4305-AB7B-306447F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5205D-2CA7-4BDF-BD1E-09278BD3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0FC1-8BA0-42A0-9C3F-0E1086B9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F6E74-C60F-4327-B140-8CC268CA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0630-32B1-4937-93FE-DAA7662C0FB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3866-124A-4274-9557-73CE5773FC28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2411-A953-47C2-9E4D-C0092792FB69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DE59-490A-4FCB-ABBD-D3976ED95FC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3B33-063A-4566-B62F-E1366AA569A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C13C-31B5-425F-8793-2E4915DDD0A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412E-90AD-47FE-8312-6F0735E36D8B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62DF-A09F-44C3-9A2E-6876F441F2B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C38D-E29C-4CA7-ADC6-329FA4440B1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7147-C3FE-4B81-8F0E-D30BD309C93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0D9E-B8E0-4BD5-816C-ED47D9C142A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D932-B946-41E6-9379-D126E5003A2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25C3-F8CC-4D6E-9183-3603FC71A43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202-1788-467C-A18B-B429BABF3D4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9D1B-75C1-4D48-84E7-CF38260D73D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AE67-8D10-4956-8EED-0554BDE00A0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EF9E-206E-45A4-8FD8-496885D6513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FA16-04AA-43D1-A119-CA5BC8574C6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3 y Jueves/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3E62-C5F7-4559-A82E-D7D05AC3E6B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42DF-9FC2-491A-8946-EDF1EF2D252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CDEC-3FD3-4F65-9523-C47A4681D15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A84A-98D9-4F51-AB3B-4843214D4D3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BE03-8E80-465C-90A2-D9748605094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3642-1E10-4031-9877-1A23CFDF7F9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869C-18E6-44EC-AD59-31C9775D9B4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7 de agosto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7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1F2F-92ED-4C8B-A2CA-19B2913C5210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es de lectura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33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1CF6-4D54-48CF-9E71-56D62930C14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0F9A-4FF1-441C-824D-FFE069DDAD1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D4F2-13D9-4211-8629-08D433B0430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8C69-4AD0-471D-BEF1-09B84B85947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EA2A-D639-4912-80B9-1DDCAA6E627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0-08-10T14:25:56Z</dcterms:modified>
  <cp:revision>12</cp:revision>
  <dc:subject/>
  <dc:title>CC31B – Desarrollo de Software de Aplicación</dc:title>
</cp:coreProperties>
</file>