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37D9-1F7D-4E83-96B4-5FFC0419373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1BE6-E205-49FA-90F6-F2B43989C47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FC91-E037-4D0D-A7BF-FCD1B132AD1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3B27-191A-4C5D-B89E-4CE177BA028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D585-6646-4A4D-8DB1-56D152F304F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58F1-787A-43E3-A708-460F960BABC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6D42-CE19-434A-A6F6-80F94B724D7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06E5-78AC-4DAF-9A00-249680691DC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7CA3-F822-40B4-9AAB-3F2B63D35B1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DCA0-DE18-4340-8CE4-46309EE738C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3177-5C42-441E-8398-DE350952D3B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5E5C-D95B-4A57-9113-20E4FF6AE7D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B621-8D82-43CA-ACB2-FDE766C912F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65F7-EEE9-49CB-92CF-30443021CFB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85A5-FEDB-4FF0-BA38-CC9E5B8D935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9D15-2E69-4487-A7C1-98FE004F373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57A0-D1EB-4314-A001-309A92044C2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3341-1DEE-4D61-BF31-AA5FFF3FAA6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C3E1-2DBD-4B6D-8A4B-26A011F2518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9EFA-DEB5-46DC-9651-B9A843756D1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96EC-7021-4EB5-9637-B8F4E5E78AE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D027-9803-4EBA-AD06-B5C1B431240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E3AB-7165-40DE-8C25-95E86590EC4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1057-289A-41BB-8BCA-64CE23EB18B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416B-FAC6-4BE0-8DC5-27FD6BE6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28FE-E315-4C81-A435-92303969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E91-F2DC-4329-A319-A88D9D6B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B9B-2F34-4831-94D2-D4902CDC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1F42-7FE7-4CF9-8E61-B1C784A8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DAEB-45C5-44E0-81DA-CBF6D397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906F-086A-404E-A60D-C9308812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C933-1D44-4C23-B16C-13DD905B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1F4C-86CE-4825-8A81-58B55F21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514A-9FCC-47C0-BF02-4EB92431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9402-DC82-4474-BA23-9FABED63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DA3-C87B-4E2E-8C75-76621F64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3BDF-F7B2-413A-BAC2-0B55F699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0B57-06BE-4343-B79A-15787E46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3F87-EFB4-4142-8EE0-391CDC7E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AB84-B2C9-491A-8C42-96316EF8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3030-6F1E-4A5B-A1F4-837371CA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EA7C-A1C3-4A5F-AFE3-F7ED11DE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8AFF3-7C8F-4BCB-B0FF-99CABEFE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E543D-8075-4C75-B572-CB6A8A86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C4E43-1B31-43E5-8803-F7D4049E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ED602-EE69-4F63-B488-A45AED07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172B-76A6-4B6D-8DA9-7CA900C3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8CCA5-A080-4FB5-986F-907B6892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E14D4-D9FE-428F-A0D2-AC18CC74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2C9C3-9597-491E-9430-60A74B4D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89510-BC3F-4791-AEA9-6C1FE62C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BCC55-379C-4F89-9100-52CEA05E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665D0-8D7C-4386-B9BC-1B1EDC38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51F26-B4C0-44D8-8C9F-77886D9C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09276-4AAE-46C1-B6EF-A2E971E3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06545-C4C4-48D8-BDF4-EAF40815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01785-289A-4997-871F-82C93EDC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FB5-3862-41EA-8CAA-6D34377A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1F698-BB72-4461-8815-9440745B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6A1FC-D8A6-489B-9DDB-495E441A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02EC0-018D-4283-9E89-49AD5C26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9F0AD-E8C6-4DC5-AA87-14A97C9F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891FE-30D0-4117-B40C-3F6B4FB2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68D4A-78B4-43B0-9FF4-6DE11D7A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88EF7-F6D0-45B2-8DD2-30C9B9BE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D5040-7FA6-46E0-A7D2-6CD9A8AC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494BF-38EF-4E05-9FB6-7F32209A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21ABE-E52B-45F9-9941-81B2F9C2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D95-988F-4ADD-BB11-FD1C8A6C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1CF41-17C9-49A3-9AA5-8A805CF4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96287-3DF2-4D80-8D14-5EE92B1E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482A1-85DD-4809-8985-21BD7D6F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D5D29-5FC1-4ED1-9E99-62FBE462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AE316-2E6D-4C7C-85A0-1D3CEF9E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42C18-D533-4766-BE2C-C1ACA3BD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99E4A-EEF6-4272-802D-D4E491AF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4C6BE-381C-4E18-86C2-F6FD7EC8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95CEB-BBA1-4495-B90B-870735B5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BF12A-327C-491E-8739-54A60A49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A2A-7C5E-412A-8351-9C6EB3DC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A78A6-BDD1-470F-AF2E-3331CCF2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FD916-4B2D-4296-9EEA-09A5881F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862F8-CF9C-4460-B487-EB3A9FCA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4F793-F7E8-4501-8DD0-8FD7EBC6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BA8AC-22AD-49C6-A294-D7E22336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2DBF1-9EB2-45A4-B3F2-3B410839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ABE72-2CFF-48B8-99BA-072F606A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1D12C-8D5E-47C8-919C-0A5C9035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9C293-04CC-48F1-A53C-1DD7F8D0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A7FE0-5452-4B38-999C-553965C1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01F-57C1-471A-A1D4-70BF8692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72DAD-2D48-4BEA-AC2F-7742C3F3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FDD11-F135-4132-9827-368704D6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3412D-166C-47C8-90F1-9806E2DB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BACF3-5B9E-4709-BCFD-D7039A22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0265A-254E-484D-82FA-2D308CC6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4C7D8-69C3-4D76-A214-80B2F1B5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916F7-64DB-45D9-AD5B-2D8B82B9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E38EA-15C9-4937-A8AE-85EDA668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AFF4E-F296-4BDC-BCB7-7C8B99B0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1F06E-272C-4968-A47E-C5BC23BB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9E4B-9F56-4603-9AEE-3C8B8AD8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EDFAE-8CBE-4846-B64E-8A837366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1D135-49E8-4003-A8D5-039B5FB7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B3C31-B277-4BAD-B397-8BF4F5CF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4CC4C-CEFD-4F1D-9639-1E609C68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18677-7704-4FCE-94E6-B40E2F26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605AC-8DF4-41EC-8F88-F104989E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36E3C-7B8A-443C-B892-5ABFCB77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7EAD1-C989-47DA-81CC-5A78F731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0221F-B297-4ACE-B500-FCBF1390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B295C-3D1E-42EE-A13B-4C47D480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0B8-6846-4436-AA16-40EB96F2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015C6-176C-4577-A7FA-4624A3AF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56FE9-AC60-469B-BD4E-93641AC0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A0D8C-9CA7-4BA7-90ED-D1A795B0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76684-3572-4EAA-ADEE-86F9E00A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E3574-857C-45B0-928D-0EAA6B9B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44EDF-B68C-489D-BC76-EADD7D55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8483F-A7FF-4E0E-8DB4-364162BB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5853-B1C2-4EB3-9E58-6D4F206DD215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B4FB-99D7-48DF-8609-E5B92C3EF2E5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921B-4D71-4D31-85A8-123E98B729E3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95B6-EC46-4725-AA93-0548DC1720E1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C436-3096-4562-B58D-829BF0856BEF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EB19-A394-4E3C-A95E-F440FC885CE2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CC1E-1B15-4DDF-AE9F-61329DCF15C4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FA88-F589-4908-9BFC-E48AC2D1668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rbel"/>
              </a:rPr>
              <a:t>Primavera 20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3 CuadroTexto"/>
          <p:cNvSpPr/>
          <p:nvPr/>
        </p:nvSpPr>
        <p:spPr>
          <a:xfrm>
            <a:off x="2500200" y="564372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 Bastar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09AC-8823-4CA2-A0CB-9DDA826DA8A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BS00580_"/>
          <p:cNvPicPr/>
          <p:nvPr/>
        </p:nvPicPr>
        <p:blipFill>
          <a:blip r:embed="rId1"/>
          <a:stretch/>
        </p:blipFill>
        <p:spPr>
          <a:xfrm>
            <a:off x="6500880" y="1600200"/>
            <a:ext cx="2514600" cy="2119320"/>
          </a:xfrm>
          <a:prstGeom prst="rect">
            <a:avLst/>
          </a:prstGeom>
          <a:ln w="0">
            <a:noFill/>
          </a:ln>
        </p:spPr>
      </p:pic>
      <p:pic>
        <p:nvPicPr>
          <p:cNvPr id="382" name="Rectangle 3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a ciencia de la computación se ocupa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e las teorías y métodos subyacentes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 las computadoras y los sistemas de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a ingeniería de software se refiere a los problemas prácticos de producir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Los ingenieros de software requieren conocimiento de ciencias de la computación para realizar su labor, pero su objetivo es pragmátic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E844-4973-40D6-9C85-FAB1C1F9E06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de la computación para la construcción de programas de software y todos sus documentos y datos asociad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es así como se desarrolla habitualmente la práctica profesional? y ¿por qué sería conveniente que así fuer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8301-BD61-484A-9070-BADB82E5921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ngeniería de Software es el área de la ciencia de la computación que trata con la construcción de sistemas de software que son tan grandes o complejos que son construidos por un equipo o varios equipos de ingenieros. [Ghezzi91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strucción de un software con múltiples versiones  por múltiples personas. [Parnas87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EC75-62EB-402E-8A21-FC05E0C1685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993600" y="3489480"/>
            <a:ext cx="7139520" cy="2986920"/>
            <a:chOff x="993600" y="3489480"/>
            <a:chExt cx="7139520" cy="2986920"/>
          </a:xfrm>
        </p:grpSpPr>
        <p:sp>
          <p:nvSpPr>
            <p:cNvPr id="392" name="Rectangle 5"/>
            <p:cNvSpPr/>
            <p:nvPr/>
          </p:nvSpPr>
          <p:spPr>
            <a:xfrm>
              <a:off x="99360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rbel"/>
                </a:rPr>
                <a:t>CC44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358452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5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>
              <a:off x="617544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6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8"/>
            <p:cNvSpPr/>
            <p:nvPr/>
          </p:nvSpPr>
          <p:spPr>
            <a:xfrm>
              <a:off x="289872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9"/>
            <p:cNvSpPr/>
            <p:nvPr/>
          </p:nvSpPr>
          <p:spPr>
            <a:xfrm>
              <a:off x="548964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1147320" y="5162760"/>
              <a:ext cx="155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écnicas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du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3669480" y="5086440"/>
              <a:ext cx="1695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ces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2"/>
            <p:cNvSpPr/>
            <p:nvPr/>
          </p:nvSpPr>
          <p:spPr>
            <a:xfrm>
              <a:off x="6196680" y="5162760"/>
              <a:ext cx="1936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Re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ye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3"/>
            <p:cNvSpPr/>
            <p:nvPr/>
          </p:nvSpPr>
          <p:spPr>
            <a:xfrm flipV="1">
              <a:off x="19080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4"/>
            <p:cNvSpPr/>
            <p:nvPr/>
          </p:nvSpPr>
          <p:spPr>
            <a:xfrm flipV="1">
              <a:off x="449892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 flipV="1">
              <a:off x="71658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3" name="Rectangle 1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S trata de organizar un buen proceso de desarrollo para lograr un buen product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6AF1-DD98-4D4B-9DBA-B844234E4CB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3"/>
          <p:cNvGrpSpPr/>
          <p:nvPr/>
        </p:nvGrpSpPr>
        <p:grpSpPr>
          <a:xfrm>
            <a:off x="1295280" y="2209680"/>
            <a:ext cx="6782040" cy="3429000"/>
            <a:chOff x="1295280" y="2209680"/>
            <a:chExt cx="6782040" cy="3429000"/>
          </a:xfrm>
        </p:grpSpPr>
        <p:sp>
          <p:nvSpPr>
            <p:cNvPr id="408" name="AutoShape 4"/>
            <p:cNvSpPr/>
            <p:nvPr/>
          </p:nvSpPr>
          <p:spPr>
            <a:xfrm>
              <a:off x="1295280" y="38862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5"/>
            <p:cNvSpPr/>
            <p:nvPr/>
          </p:nvSpPr>
          <p:spPr>
            <a:xfrm>
              <a:off x="3657600" y="259092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6"/>
            <p:cNvSpPr/>
            <p:nvPr/>
          </p:nvSpPr>
          <p:spPr>
            <a:xfrm>
              <a:off x="3352680" y="403848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7"/>
            <p:cNvSpPr/>
            <p:nvPr/>
          </p:nvSpPr>
          <p:spPr>
            <a:xfrm>
              <a:off x="3657600" y="45720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8"/>
            <p:cNvSpPr/>
            <p:nvPr/>
          </p:nvSpPr>
          <p:spPr>
            <a:xfrm>
              <a:off x="1295280" y="52578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9"/>
            <p:cNvSpPr/>
            <p:nvPr/>
          </p:nvSpPr>
          <p:spPr>
            <a:xfrm>
              <a:off x="5715000" y="2743200"/>
              <a:ext cx="228600" cy="2057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10"/>
            <p:cNvSpPr/>
            <p:nvPr/>
          </p:nvSpPr>
          <p:spPr>
            <a:xfrm>
              <a:off x="6019920" y="3581280"/>
              <a:ext cx="2057400" cy="381240"/>
            </a:xfrm>
            <a:prstGeom prst="rightArrow">
              <a:avLst>
                <a:gd name="adj1" fmla="val 50000"/>
                <a:gd name="adj2" fmla="val 134915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1392480" y="35053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2"/>
            <p:cNvSpPr/>
            <p:nvPr/>
          </p:nvSpPr>
          <p:spPr>
            <a:xfrm>
              <a:off x="1561320" y="49528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rtesan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3"/>
            <p:cNvSpPr/>
            <p:nvPr/>
          </p:nvSpPr>
          <p:spPr>
            <a:xfrm>
              <a:off x="3765960" y="419112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mer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3782520" y="22096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i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5"/>
            <p:cNvSpPr/>
            <p:nvPr/>
          </p:nvSpPr>
          <p:spPr>
            <a:xfrm>
              <a:off x="6131160" y="3124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28"/>
          <p:cNvGrpSpPr/>
          <p:nvPr/>
        </p:nvGrpSpPr>
        <p:grpSpPr>
          <a:xfrm>
            <a:off x="2057400" y="1752480"/>
            <a:ext cx="1981080" cy="1371600"/>
            <a:chOff x="2057400" y="1752480"/>
            <a:chExt cx="1981080" cy="1371600"/>
          </a:xfrm>
        </p:grpSpPr>
        <p:sp>
          <p:nvSpPr>
            <p:cNvPr id="421" name="Oval 17"/>
            <p:cNvSpPr/>
            <p:nvPr/>
          </p:nvSpPr>
          <p:spPr>
            <a:xfrm>
              <a:off x="3352680" y="251460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19"/>
            <p:cNvGrpSpPr/>
            <p:nvPr/>
          </p:nvGrpSpPr>
          <p:grpSpPr>
            <a:xfrm>
              <a:off x="2057400" y="1752480"/>
              <a:ext cx="1676520" cy="836640"/>
              <a:chOff x="2057400" y="1752480"/>
              <a:chExt cx="1676520" cy="836640"/>
            </a:xfrm>
          </p:grpSpPr>
          <p:sp>
            <p:nvSpPr>
              <p:cNvPr id="423" name="Text Box 20"/>
              <p:cNvSpPr/>
              <p:nvPr/>
            </p:nvSpPr>
            <p:spPr>
              <a:xfrm>
                <a:off x="2057400" y="1752480"/>
                <a:ext cx="167652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65-70: Algoritmos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structuras de dato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4" name="AutoShape 21"/>
              <p:cNvCxnSpPr>
                <a:stCxn id="423" idx="2"/>
                <a:endCxn id="421" idx="1"/>
              </p:cNvCxnSpPr>
              <p:nvPr/>
            </p:nvCxnSpPr>
            <p:spPr>
              <a:xfrm>
                <a:off x="2895480" y="2219040"/>
                <a:ext cx="558000" cy="37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25" name="Group 29"/>
          <p:cNvGrpSpPr/>
          <p:nvPr/>
        </p:nvGrpSpPr>
        <p:grpSpPr>
          <a:xfrm>
            <a:off x="3200400" y="4419720"/>
            <a:ext cx="2743200" cy="1602000"/>
            <a:chOff x="3200400" y="4419720"/>
            <a:chExt cx="2743200" cy="1602000"/>
          </a:xfrm>
        </p:grpSpPr>
        <p:sp>
          <p:nvSpPr>
            <p:cNvPr id="426" name="Oval 16"/>
            <p:cNvSpPr/>
            <p:nvPr/>
          </p:nvSpPr>
          <p:spPr>
            <a:xfrm>
              <a:off x="3200400" y="441972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22"/>
            <p:cNvGrpSpPr/>
            <p:nvPr/>
          </p:nvGrpSpPr>
          <p:grpSpPr>
            <a:xfrm>
              <a:off x="3785400" y="4953960"/>
              <a:ext cx="2158200" cy="1067760"/>
              <a:chOff x="3785400" y="4953960"/>
              <a:chExt cx="2158200" cy="1067760"/>
            </a:xfrm>
          </p:grpSpPr>
          <p:sp>
            <p:nvSpPr>
              <p:cNvPr id="428" name="Text Box 23"/>
              <p:cNvSpPr/>
              <p:nvPr/>
            </p:nvSpPr>
            <p:spPr>
              <a:xfrm>
                <a:off x="3962520" y="5562720"/>
                <a:ext cx="19810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80s: Metodologías 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sarrollo de Software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9" name="AutoShape 24"/>
              <p:cNvCxnSpPr>
                <a:stCxn id="428" idx="0"/>
                <a:endCxn id="426" idx="5"/>
              </p:cNvCxnSpPr>
              <p:nvPr/>
            </p:nvCxnSpPr>
            <p:spPr>
              <a:xfrm flipH="1" flipV="1">
                <a:off x="3785400" y="4953960"/>
                <a:ext cx="1167480" cy="60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30" name="Group 30"/>
          <p:cNvGrpSpPr/>
          <p:nvPr/>
        </p:nvGrpSpPr>
        <p:grpSpPr>
          <a:xfrm>
            <a:off x="5724360" y="3429000"/>
            <a:ext cx="2969280" cy="1399680"/>
            <a:chOff x="5724360" y="3429000"/>
            <a:chExt cx="2969280" cy="1399680"/>
          </a:xfrm>
        </p:grpSpPr>
        <p:sp>
          <p:nvSpPr>
            <p:cNvPr id="431" name="Oval 18"/>
            <p:cNvSpPr/>
            <p:nvPr/>
          </p:nvSpPr>
          <p:spPr>
            <a:xfrm>
              <a:off x="5724360" y="3429000"/>
              <a:ext cx="722520" cy="57852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25"/>
            <p:cNvGrpSpPr/>
            <p:nvPr/>
          </p:nvGrpSpPr>
          <p:grpSpPr>
            <a:xfrm>
              <a:off x="6338520" y="3922920"/>
              <a:ext cx="2355120" cy="905760"/>
              <a:chOff x="6338520" y="3922920"/>
              <a:chExt cx="2355120" cy="905760"/>
            </a:xfrm>
          </p:grpSpPr>
          <p:sp>
            <p:nvSpPr>
              <p:cNvPr id="433" name="Text Box 26"/>
              <p:cNvSpPr/>
              <p:nvPr/>
            </p:nvSpPr>
            <p:spPr>
              <a:xfrm>
                <a:off x="6606720" y="4369680"/>
                <a:ext cx="208692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jemplos aislad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(compiladores, BD)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4" name="AutoShape 27"/>
              <p:cNvCxnSpPr>
                <a:stCxn id="433" idx="0"/>
                <a:endCxn id="431" idx="5"/>
              </p:cNvCxnSpPr>
              <p:nvPr/>
            </p:nvCxnSpPr>
            <p:spPr>
              <a:xfrm flipH="1" flipV="1">
                <a:off x="6338520" y="3922920"/>
                <a:ext cx="1310040" cy="447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ECE1-E8DB-493D-8386-11137D93881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195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programadores escribían programa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Principio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xpertos desarrollaron grandes proye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Fine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parecen los grandes sistemas comerciales de softwar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l trabajo va más allá de la programación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crea el término “ingeniería de software”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7EB9-343E-41B7-830A-6B1E3ECBA7E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70102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2"/>
          <p:cNvGraphicFramePr/>
          <p:nvPr/>
        </p:nvGraphicFramePr>
        <p:xfrm>
          <a:off x="685800" y="2286000"/>
          <a:ext cx="7924680" cy="388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86000"/>
                    <a:ext cx="79246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7"/>
          <p:cNvSpPr/>
          <p:nvPr/>
        </p:nvSpPr>
        <p:spPr>
          <a:xfrm>
            <a:off x="380880" y="4876920"/>
            <a:ext cx="8229600" cy="2286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380880" y="4648320"/>
            <a:ext cx="281952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2438280" y="4419720"/>
            <a:ext cx="24386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6248520" y="4419720"/>
            <a:ext cx="236196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142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82202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189576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3571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52484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7"/>
          <p:cNvSpPr/>
          <p:nvPr/>
        </p:nvSpPr>
        <p:spPr>
          <a:xfrm>
            <a:off x="67723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Arquitecturas orientadas a servici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s basados en componen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Grid/clou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 dirigido por model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1543-E63C-4D0A-ACAB-4CA4681D428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3045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gramació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un solo programador escribe todo el progra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small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los programadores aprecian el sistema complet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se requiere más tiempo para comunicación que para cod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ambios de personal afec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1" name="Object 2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20131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F026-6704-4A56-B531-08F61687537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¿Para qué la Ingeniería de Softwa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construir grandes sistemas de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definir claramente los problema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large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dministración, organización, herramientas, teorías, metodologías y técnicas como base para resolver los problemas computacion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4618-C1C5-46A9-ACF9-DFA979ACAF0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Clas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Cátedra: Martes/3 y Jueves/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Auxiliar: Viernes/2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Las transparencias se publicarán regularmente en la página web del curso en UCurs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Regularmente se mandará leer el capítulo correspondiente de algún libro de Ingeniería de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Tareas grupales aproximadamente cada dos seman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Dos controles de lecturas, dos controles de materia y un examen fin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DB82-B66D-44C7-BE8B-DEEABCADE2E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costos de desarrollo de software crecen en comparación con los costos del hard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requiere una producción de software más eficient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complejidad de los sistemas grandes de software hace que el desarrollo sea más que la codificación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cepción, diseño, desarrollo, documentación, mantenimiento,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ingeniería de software continuará creciendo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economía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rol creciente del software en todos los ámbit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9AB4-99FD-4330-B44A-1E6A998FBEC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341280" y="298440"/>
            <a:ext cx="804708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Programador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baja sol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estructuras de datos y algoritm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hábil con varios lenguajes de program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Ingeniero de software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parte de un equipo de trabaj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e estrategias de diseñ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duce necesidades en especificacione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varias áreas de aplic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visión del sistema con distintos niveles de abstrac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municación e interacción con otras persona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B356-1673-438B-95DA-045C2725806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0"/>
          <p:cNvGrpSpPr/>
          <p:nvPr/>
        </p:nvGrpSpPr>
        <p:grpSpPr>
          <a:xfrm>
            <a:off x="685800" y="5973840"/>
            <a:ext cx="7890480" cy="327240"/>
            <a:chOff x="685800" y="5973840"/>
            <a:chExt cx="7890480" cy="327240"/>
          </a:xfrm>
        </p:grpSpPr>
        <p:sp>
          <p:nvSpPr>
            <p:cNvPr id="473" name="Text Box 5"/>
            <p:cNvSpPr/>
            <p:nvPr/>
          </p:nvSpPr>
          <p:spPr>
            <a:xfrm>
              <a:off x="2064960" y="5978520"/>
              <a:ext cx="65113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a IS se ocupa tanto del producto como del proce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6"/>
            <p:cNvSpPr/>
            <p:nvPr/>
          </p:nvSpPr>
          <p:spPr>
            <a:xfrm>
              <a:off x="685800" y="597384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5" name="Rectangle 7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objetivo de la IS es desarrollar productos de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calidad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os tipos de product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genéricos - desarrollados para vender masivamen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 medida - desarrollados para un cliente particul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desafío es desarrollar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alta calidad 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on una cantidad finita de recursos y dentro del plazo plane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proceso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 tiene una incidencia importante en la calidad del produc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8" name="14 Grupo" descr=""/>
          <p:cNvPicPr/>
          <p:nvPr/>
        </p:nvPicPr>
        <p:blipFill>
          <a:blip r:embed="rId2"/>
          <a:stretch/>
        </p:blipFill>
        <p:spPr>
          <a:xfrm>
            <a:off x="6907320" y="139680"/>
            <a:ext cx="18586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C49E-0FDC-4B40-A33E-83A2966DF80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onjunto de actividades y resultados asociados que producen un producto de soft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Actividades fundamentales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especificación de requisit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diseño, codificación y test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verificación y valid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instalación y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Distintos tipos de procesos pueden aplicarse para desarrollar un mismo producto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En general algunos procesos son más apropiados para desarrollar ciertos produ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4D50-9868-481F-847B-49FAC77AD2A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685800" y="1846440"/>
          <a:ext cx="8229600" cy="49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46440"/>
                    <a:ext cx="82296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Rectangle 5" descr=""/>
          <p:cNvPicPr/>
          <p:nvPr/>
        </p:nvPicPr>
        <p:blipFill>
          <a:blip r:embed="rId3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0FE2-DA7F-447C-B46A-4D737311405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6"/>
          <p:cNvGrpSpPr/>
          <p:nvPr/>
        </p:nvGrpSpPr>
        <p:grpSpPr>
          <a:xfrm>
            <a:off x="533520" y="1981080"/>
            <a:ext cx="7924320" cy="4190760"/>
            <a:chOff x="533520" y="1981080"/>
            <a:chExt cx="7924320" cy="4190760"/>
          </a:xfrm>
        </p:grpSpPr>
        <p:sp>
          <p:nvSpPr>
            <p:cNvPr id="490" name="Rectangle 3"/>
            <p:cNvSpPr/>
            <p:nvPr/>
          </p:nvSpPr>
          <p:spPr>
            <a:xfrm>
              <a:off x="533520" y="19810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Análisis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specificación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AutoShape 4"/>
            <p:cNvCxnSpPr>
              <a:stCxn id="492" idx="3"/>
              <a:endCxn id="493" idx="0"/>
            </p:cNvCxnSpPr>
            <p:nvPr/>
          </p:nvCxnSpPr>
          <p:spPr>
            <a:xfrm>
              <a:off x="5287680" y="407664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4" name="AutoShape 5"/>
            <p:cNvCxnSpPr>
              <a:stCxn id="493" idx="3"/>
              <a:endCxn id="495" idx="0"/>
            </p:cNvCxnSpPr>
            <p:nvPr/>
          </p:nvCxnSpPr>
          <p:spPr>
            <a:xfrm>
              <a:off x="6872760" y="49147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6" name="AutoShape 6"/>
            <p:cNvCxnSpPr>
              <a:stCxn id="490" idx="3"/>
              <a:endCxn id="497" idx="0"/>
            </p:cNvCxnSpPr>
            <p:nvPr/>
          </p:nvCxnSpPr>
          <p:spPr>
            <a:xfrm>
              <a:off x="2118240" y="24001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8" name="AutoShape 7"/>
            <p:cNvCxnSpPr>
              <a:stCxn id="497" idx="3"/>
              <a:endCxn id="492" idx="0"/>
            </p:cNvCxnSpPr>
            <p:nvPr/>
          </p:nvCxnSpPr>
          <p:spPr>
            <a:xfrm>
              <a:off x="3702960" y="323820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9" name="AutoShape 8"/>
            <p:cNvCxnSpPr>
              <a:endCxn id="490" idx="2"/>
            </p:cNvCxnSpPr>
            <p:nvPr/>
          </p:nvCxnSpPr>
          <p:spPr>
            <a:xfrm rot="10800000">
              <a:off x="1325160" y="2818440"/>
              <a:ext cx="5547600" cy="300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Line 9"/>
            <p:cNvSpPr/>
            <p:nvPr/>
          </p:nvSpPr>
          <p:spPr>
            <a:xfrm flipH="1" flipV="1">
              <a:off x="2876040" y="3656880"/>
              <a:ext cx="684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0"/>
            <p:cNvSpPr/>
            <p:nvPr/>
          </p:nvSpPr>
          <p:spPr>
            <a:xfrm flipV="1">
              <a:off x="4461120" y="449568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1"/>
            <p:cNvSpPr/>
            <p:nvPr/>
          </p:nvSpPr>
          <p:spPr>
            <a:xfrm flipV="1">
              <a:off x="6045840" y="533376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118240" y="28191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3703320" y="365724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Codific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 Módu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5288040" y="44956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tegr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l Sist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5"/>
            <p:cNvSpPr/>
            <p:nvPr/>
          </p:nvSpPr>
          <p:spPr>
            <a:xfrm>
              <a:off x="6872760" y="53337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stal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anten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7AB4-80E4-4064-8580-CEB75C21FE4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Los grupos de trabajo deberá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tener dos persona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cidirse antes del martes 17 de agosto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mandarme un mail informándome la conformación de los grupo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quien para el martes 17 no tenga grupo será asignado arbitrariam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6FB8-B967-4D92-8FC5-33AB5AFB522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role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es de lectura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 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0">
              <a:buNone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 5.5 de promedio en tareas </a:t>
            </a:r>
            <a:r>
              <a:rPr b="1" lang="es-CL" sz="3200" spc="-1" strike="noStrike">
                <a:solidFill>
                  <a:srgbClr val="000000"/>
                </a:solidFill>
                <a:latin typeface="Corbe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 5.5 en controles se puede eximi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075A-CDBE-4B10-9C00-0AA6736D477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de Ingeniería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incipios y Cualidades del Software y su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Modelos de ciclo de vida del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Etapas del ciclo de vida del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spec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iseñ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verificación y valid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ceso de Desarroll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8C4E-0470-4D69-8E45-F81A6FE1895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1295280" y="308916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0b5cc"/>
                </a:solidFill>
                <a:latin typeface="Tahoma"/>
              </a:rPr>
              <a:t>¿Qué es la Ingeniería de Softw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A8D7-3EBB-4434-965A-844E48B0471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14200" y="1856880"/>
            <a:ext cx="8786880" cy="446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tecnolog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ciencia para la resolución de problemas práctic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ingenier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tecnología en presencia de recursos limitad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Pero, ¿qué es la ciencia y cuándo estamos aplicando la cienci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Cuerpo de doctrina metódicamente formado y ordenado, que constituye una rama particular del sab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Modelos de la realidad cuyo comportamiento es explicable y que permiten predecir el comportamiento de situaciones similar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AC16-B94C-4769-966E-0F858389F39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Entonces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para la construcción de software en presencia de recursos limitad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qué es el software? y ¿qué ciencia se aplica en su construcció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9FF1-E3A6-4A3C-95D7-B528FF29ECB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8401320" cy="4857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El software es una serie de programas, conjuntamente con todos los documentos asociados y la configuración de datos que se necesitan para que los programas operen de manera correc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Programa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ejecutables, de instalación, de re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requisitos, diseño, pruebas, código fuente, manuales de usuario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 de la aplicación, parámetros de 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0-08-10T14:25:56Z</dcterms:modified>
  <cp:revision>12</cp:revision>
  <dc:subject/>
  <dc:title>CC31B – Desarrollo de Software de Aplicación</dc:title>
</cp:coreProperties>
</file>