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7908-0B1C-4AED-9D89-45FFABD38DE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0A61-048C-4DFD-BCD3-F6D8E656BE1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B0E3-A493-48DE-9459-6DA8F971E1D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09D4-A519-49A6-98CF-E63351E5B9D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3635-761E-4199-A2E7-747A91B47B6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E8F4-F671-4A7E-8DFA-DB26FEF663D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E257-09CA-4C49-808B-BDEB9FE2798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788C-1235-4CBB-AA02-C4D5EA5AE83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45EF-0267-427B-89A5-664A444E519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52A2-6DAE-4CE4-A761-C47342F6B10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61ED-1F9C-4332-93A7-7B4F6DDD0A6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0BD8-3F8C-4988-962C-56A9BF9AE50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1AB3-0E5D-4151-A241-CDEB6BED02A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A997-7A22-45BA-A66D-33E50A6633E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6F09-C050-4A2C-94DB-8348629E6FE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02DA-D40B-463F-A29D-805FC7FCC91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A6D2-DFB8-4AC1-988C-898967DA0E7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6D2A-D10A-4F0E-ABBF-CA96582413E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A086-E31A-40CD-915D-7D36EB67011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06C3-A894-437D-A14E-0FDACD47D36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A5A4-ED0F-4084-9939-11FC2D79E3B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EF12-F56B-47CE-A71B-8E20D080EC6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3274-9FF6-4FDA-99D2-5CC82468556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8B99-C0D2-49C2-96D9-BEDFBF77637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144-299D-4794-9EE5-3CB59383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5B7E-28A0-4CAC-8DDE-796E2079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05BC-AA28-40B1-B9BA-49D1F471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789-080F-4347-A429-684AA4C9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8391-79E8-4D12-AD91-25704F78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85C9-B824-43CB-8E6A-64EB0DFF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76F9-6D08-4D30-8AEF-BF99B5D5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A015-4E7D-4030-AB53-1A2389E9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55B9-4F73-4A03-96C4-1DF55FA6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1996-BFB8-41CF-B9F7-667DE432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235B-C581-4F13-B953-32A3BACE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ECB-AD7F-40DF-84C2-6A81F1D3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C758-7188-4B11-B2C5-81002126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FDE6-DF3C-4F25-B4BB-A80515B3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EF7E-3600-4285-A7C6-D3B3CC63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2DE9-A438-4417-A3CD-BCE56D7C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7E4A-A901-41E8-B8C2-17755BB6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F573E-C1F9-42F5-B560-A21DFB17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48494-C9D3-459C-87EC-65D24DE1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52088-7B30-432C-BC3A-295E2FF8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FB650-C208-4714-9787-B13D8BB2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37407-78F2-4397-B8E7-C8052849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7F4-9C7D-4773-AFF7-97FC26C2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B2992-5A5D-47AA-A153-C04033E7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1E627-8DBE-4D12-BA0A-1C3FBFEB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E3AB5-60B4-42DE-BB01-08CD0AF5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B067B-7E77-46B3-B634-CE1C41F3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07F38-B041-4403-8DEF-24D43BDF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4790B-DA56-4C8A-87C0-B1B16E71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78CCD-AD25-4F50-A5B0-2CEBFC5F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7E8A2-B4ED-4006-8839-A6D591B3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60C56-273C-4470-8BC0-01ED79FB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CBA6E-0BE9-40B7-8E3E-2A03613D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B105-67CA-4712-926F-9A16CB35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59BDF-DBCD-4DFF-9E83-A1BCAF2D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DAF8F-16F0-4ECA-8776-62EB12EB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21B01-60B6-4DCB-8782-FEB2490F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914C6-8B2E-4143-AF7D-FF1EAA9F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422CB-871D-4029-8746-AB08DA2B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0FE3B-B0D4-49B1-B415-FF938826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BF37B-6EFB-4A43-88E3-9765C891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FAA53-E818-4E30-ABCF-6F319ECE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D0F7D-DDB0-4543-AD9A-7AB59BFB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FD379-6D98-497A-924D-A53FF4BC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119-6AF3-4A95-A674-FBD23901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AC082-76FE-44D3-B300-7DC28B26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15CC1-6FCD-4181-A9E0-59FB1FFC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F7469-F682-4853-BC6E-844EA5AA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807DE-3883-4040-8B4A-8CD4B423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0B26D-D107-456A-8C45-D6561E16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6A981-957A-4917-85C6-ECD2F03D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8E797-1026-4FFE-970B-5314D088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CD1C5-6CD5-4FFE-A51F-AA1AABFF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213AE-3B9D-4DAC-B164-13530185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A404E-272B-41DC-9992-FDA21082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08D-2984-45BD-A882-067213BF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9CA16-A4CE-449F-B69D-E9F48829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3AA6F-4F24-4EDF-8997-3D547D7A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6B86C-E6B5-4BB2-9056-B9FFEA6C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D1889-BA4A-4982-BC98-034DBA20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67D8F-5493-432C-A968-550C18FB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27B90-3A47-4E4E-B0FE-03F37C7A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E217F-9AE2-40EF-8956-900D390A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4012A-40D3-455C-867D-D5DC5795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E2865-5F39-44B7-A966-999D289C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780ED-72F7-478B-A5FA-0D07B061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4E8-75BE-4591-BF6E-7D70209C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8C944-138E-4A20-8E66-B4639E18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60D02-1A14-462A-A30C-C9CD012B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CEF51-63D5-4D45-81B2-44375E0D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E01C9-2CAA-4A64-A058-A3D258E1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EAD33-6810-4743-9C06-DA535D72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9CC2D-C4B3-4E5F-9083-04BADD87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85EDD-D8E5-4D40-B99A-DE546D72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33902-C2A3-472F-AE24-FE6DD418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53587-D8E9-4C97-BCD7-D192000C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2C0B7-A9D0-446F-8A25-47B35104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CE8B-973B-4C3C-8229-74C21183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D031F-993D-4871-B686-68A92938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6DC5B-7441-42F2-8CDF-B1BD5776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A0595-5A14-40B8-975C-A0833B5F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AB47B-541B-4B9D-BDA6-23FB3849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9DC92-421B-44B5-A31D-4B1B578C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D4514-F37A-4A65-98C4-41665CFE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EB4FA-E495-4D51-A965-D3A142C4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5F221-B85A-4F84-B866-7D37EEEC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7CAD2-CE88-490E-A027-17A3D4CD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D8610-971D-4FC8-9958-14244764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8CD-3429-4986-A13D-64AFEF6A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12481-A6BB-4209-8A45-985C718D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59819-09E2-42AD-B41C-E6B9AC97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81FAC-04C7-4628-9688-716534BF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75F56-D6C5-4BAE-B83A-E0D89169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2C60B-622F-43F9-BFC4-DA0EB62F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8210F-D68D-41B6-8099-492312BF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50785-3FDC-43A8-971F-93E04D70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7B4F-CCE3-4497-BF58-72B3AF012FE2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3629-9F1B-4D89-BA91-1A1B939643D1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2E99-F1D7-48B8-AF77-C5496EF39F44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C8DF-EF87-44B1-836A-40D53366856D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5DA9-3D75-4919-9A40-F129E95626E2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AE05-E31E-47FE-9276-6A967BCAB68A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7D8E-E3D8-49F6-B57C-59FD2D27E770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74CB-C728-4FCA-8419-3464B7730F2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1 Título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rbel"/>
              </a:rPr>
              <a:t>Primavera 20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3 CuadroTexto"/>
          <p:cNvSpPr/>
          <p:nvPr/>
        </p:nvSpPr>
        <p:spPr>
          <a:xfrm>
            <a:off x="2500200" y="564372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 Bastar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@dc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4FC0-B01B-448F-8551-A41468E78F2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BS00580_"/>
          <p:cNvPicPr/>
          <p:nvPr/>
        </p:nvPicPr>
        <p:blipFill>
          <a:blip r:embed="rId1"/>
          <a:stretch/>
        </p:blipFill>
        <p:spPr>
          <a:xfrm>
            <a:off x="6500880" y="1600200"/>
            <a:ext cx="2514600" cy="2119320"/>
          </a:xfrm>
          <a:prstGeom prst="rect">
            <a:avLst/>
          </a:prstGeom>
          <a:ln w="0">
            <a:noFill/>
          </a:ln>
        </p:spPr>
      </p:pic>
      <p:pic>
        <p:nvPicPr>
          <p:cNvPr id="382" name="Rectangle 3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La ciencia de la computación se ocupa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e las teorías y métodos subyacentes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 las computadoras y los sistemas de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La ingeniería de software se refiere a los problemas prácticos de producir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Los ingenieros de software requieren conocimiento de ciencias de la computación para realizar su labor, pero su objetivo es pragmátic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CFA0-8B3D-40AC-B36E-B9994184D05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de la computación para la construcción de programas de software y todos sus documentos y datos asociad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es así como se desarrolla habitualmente la práctica profesional? y ¿por qué sería conveniente que así fuer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CC94-4B26-4F93-84C8-4EB326F0576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ngeniería de Software es el área de la ciencia de la computación que trata con la construcción de sistemas de software que son tan grandes o complejos que son construidos por un equipo o varios equipos de ingenieros. [Ghezzi91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nstrucción de un software con múltiples versiones  por múltiples personas. [Parnas87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69A6-16DD-4FF0-8EC7-AFC5227BE50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993600" y="3489480"/>
            <a:ext cx="7139520" cy="2986920"/>
            <a:chOff x="993600" y="3489480"/>
            <a:chExt cx="7139520" cy="2986920"/>
          </a:xfrm>
        </p:grpSpPr>
        <p:sp>
          <p:nvSpPr>
            <p:cNvPr id="392" name="Rectangle 5"/>
            <p:cNvSpPr/>
            <p:nvPr/>
          </p:nvSpPr>
          <p:spPr>
            <a:xfrm>
              <a:off x="99360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rbel"/>
                </a:rPr>
                <a:t>CC44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6"/>
            <p:cNvSpPr/>
            <p:nvPr/>
          </p:nvSpPr>
          <p:spPr>
            <a:xfrm>
              <a:off x="358452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5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7"/>
            <p:cNvSpPr/>
            <p:nvPr/>
          </p:nvSpPr>
          <p:spPr>
            <a:xfrm>
              <a:off x="617544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6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8"/>
            <p:cNvSpPr/>
            <p:nvPr/>
          </p:nvSpPr>
          <p:spPr>
            <a:xfrm>
              <a:off x="289872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9"/>
            <p:cNvSpPr/>
            <p:nvPr/>
          </p:nvSpPr>
          <p:spPr>
            <a:xfrm>
              <a:off x="548964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1147320" y="5162760"/>
              <a:ext cx="1555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Técnicas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duc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3669480" y="5086440"/>
              <a:ext cx="1695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ces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2"/>
            <p:cNvSpPr/>
            <p:nvPr/>
          </p:nvSpPr>
          <p:spPr>
            <a:xfrm>
              <a:off x="6196680" y="5162760"/>
              <a:ext cx="1936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Re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yec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3"/>
            <p:cNvSpPr/>
            <p:nvPr/>
          </p:nvSpPr>
          <p:spPr>
            <a:xfrm flipV="1">
              <a:off x="19080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4"/>
            <p:cNvSpPr/>
            <p:nvPr/>
          </p:nvSpPr>
          <p:spPr>
            <a:xfrm flipV="1">
              <a:off x="449892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 flipV="1">
              <a:off x="71658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3" name="Rectangle 1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500040" y="1714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S trata de organizar un buen proceso de desarrollo para lograr un buen product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1D29-7D4C-44CF-AA80-2684A3E3167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3"/>
          <p:cNvGrpSpPr/>
          <p:nvPr/>
        </p:nvGrpSpPr>
        <p:grpSpPr>
          <a:xfrm>
            <a:off x="1295280" y="2209680"/>
            <a:ext cx="6782040" cy="3429000"/>
            <a:chOff x="1295280" y="2209680"/>
            <a:chExt cx="6782040" cy="3429000"/>
          </a:xfrm>
        </p:grpSpPr>
        <p:sp>
          <p:nvSpPr>
            <p:cNvPr id="408" name="AutoShape 4"/>
            <p:cNvSpPr/>
            <p:nvPr/>
          </p:nvSpPr>
          <p:spPr>
            <a:xfrm>
              <a:off x="1295280" y="38862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5"/>
            <p:cNvSpPr/>
            <p:nvPr/>
          </p:nvSpPr>
          <p:spPr>
            <a:xfrm>
              <a:off x="3657600" y="259092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6"/>
            <p:cNvSpPr/>
            <p:nvPr/>
          </p:nvSpPr>
          <p:spPr>
            <a:xfrm>
              <a:off x="3352680" y="4038480"/>
              <a:ext cx="228600" cy="13716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7"/>
            <p:cNvSpPr/>
            <p:nvPr/>
          </p:nvSpPr>
          <p:spPr>
            <a:xfrm>
              <a:off x="3657600" y="45720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8"/>
            <p:cNvSpPr/>
            <p:nvPr/>
          </p:nvSpPr>
          <p:spPr>
            <a:xfrm>
              <a:off x="1295280" y="52578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9"/>
            <p:cNvSpPr/>
            <p:nvPr/>
          </p:nvSpPr>
          <p:spPr>
            <a:xfrm>
              <a:off x="5715000" y="2743200"/>
              <a:ext cx="228600" cy="2057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10"/>
            <p:cNvSpPr/>
            <p:nvPr/>
          </p:nvSpPr>
          <p:spPr>
            <a:xfrm>
              <a:off x="6019920" y="3581280"/>
              <a:ext cx="2057400" cy="381240"/>
            </a:xfrm>
            <a:prstGeom prst="rightArrow">
              <a:avLst>
                <a:gd name="adj1" fmla="val 50000"/>
                <a:gd name="adj2" fmla="val 134915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1"/>
            <p:cNvSpPr/>
            <p:nvPr/>
          </p:nvSpPr>
          <p:spPr>
            <a:xfrm>
              <a:off x="1392480" y="350532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2"/>
            <p:cNvSpPr/>
            <p:nvPr/>
          </p:nvSpPr>
          <p:spPr>
            <a:xfrm>
              <a:off x="1561320" y="495288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rtesan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3"/>
            <p:cNvSpPr/>
            <p:nvPr/>
          </p:nvSpPr>
          <p:spPr>
            <a:xfrm>
              <a:off x="3765960" y="419112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omer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4"/>
            <p:cNvSpPr/>
            <p:nvPr/>
          </p:nvSpPr>
          <p:spPr>
            <a:xfrm>
              <a:off x="3782520" y="22096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i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5"/>
            <p:cNvSpPr/>
            <p:nvPr/>
          </p:nvSpPr>
          <p:spPr>
            <a:xfrm>
              <a:off x="6131160" y="3124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28"/>
          <p:cNvGrpSpPr/>
          <p:nvPr/>
        </p:nvGrpSpPr>
        <p:grpSpPr>
          <a:xfrm>
            <a:off x="2057400" y="1752480"/>
            <a:ext cx="1981080" cy="1371600"/>
            <a:chOff x="2057400" y="1752480"/>
            <a:chExt cx="1981080" cy="1371600"/>
          </a:xfrm>
        </p:grpSpPr>
        <p:sp>
          <p:nvSpPr>
            <p:cNvPr id="421" name="Oval 17"/>
            <p:cNvSpPr/>
            <p:nvPr/>
          </p:nvSpPr>
          <p:spPr>
            <a:xfrm>
              <a:off x="3352680" y="251460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19"/>
            <p:cNvGrpSpPr/>
            <p:nvPr/>
          </p:nvGrpSpPr>
          <p:grpSpPr>
            <a:xfrm>
              <a:off x="2057400" y="1752480"/>
              <a:ext cx="1676520" cy="836640"/>
              <a:chOff x="2057400" y="1752480"/>
              <a:chExt cx="1676520" cy="836640"/>
            </a:xfrm>
          </p:grpSpPr>
          <p:sp>
            <p:nvSpPr>
              <p:cNvPr id="423" name="Text Box 20"/>
              <p:cNvSpPr/>
              <p:nvPr/>
            </p:nvSpPr>
            <p:spPr>
              <a:xfrm>
                <a:off x="2057400" y="1752480"/>
                <a:ext cx="1676520" cy="64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65-70: Algoritmos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structuras de datos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4" name="AutoShape 21"/>
              <p:cNvCxnSpPr>
                <a:stCxn id="423" idx="2"/>
                <a:endCxn id="421" idx="1"/>
              </p:cNvCxnSpPr>
              <p:nvPr/>
            </p:nvCxnSpPr>
            <p:spPr>
              <a:xfrm>
                <a:off x="2895480" y="2219040"/>
                <a:ext cx="558000" cy="37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25" name="Group 29"/>
          <p:cNvGrpSpPr/>
          <p:nvPr/>
        </p:nvGrpSpPr>
        <p:grpSpPr>
          <a:xfrm>
            <a:off x="3200400" y="4419720"/>
            <a:ext cx="2743200" cy="1602000"/>
            <a:chOff x="3200400" y="4419720"/>
            <a:chExt cx="2743200" cy="1602000"/>
          </a:xfrm>
        </p:grpSpPr>
        <p:sp>
          <p:nvSpPr>
            <p:cNvPr id="426" name="Oval 16"/>
            <p:cNvSpPr/>
            <p:nvPr/>
          </p:nvSpPr>
          <p:spPr>
            <a:xfrm>
              <a:off x="3200400" y="441972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22"/>
            <p:cNvGrpSpPr/>
            <p:nvPr/>
          </p:nvGrpSpPr>
          <p:grpSpPr>
            <a:xfrm>
              <a:off x="3785400" y="4953960"/>
              <a:ext cx="2158200" cy="1067760"/>
              <a:chOff x="3785400" y="4953960"/>
              <a:chExt cx="2158200" cy="1067760"/>
            </a:xfrm>
          </p:grpSpPr>
          <p:sp>
            <p:nvSpPr>
              <p:cNvPr id="428" name="Text Box 23"/>
              <p:cNvSpPr/>
              <p:nvPr/>
            </p:nvSpPr>
            <p:spPr>
              <a:xfrm>
                <a:off x="3962520" y="5562720"/>
                <a:ext cx="19810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80s: Metodologías 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sarrollo de Software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9" name="AutoShape 24"/>
              <p:cNvCxnSpPr>
                <a:stCxn id="428" idx="0"/>
                <a:endCxn id="426" idx="5"/>
              </p:cNvCxnSpPr>
              <p:nvPr/>
            </p:nvCxnSpPr>
            <p:spPr>
              <a:xfrm flipH="1" flipV="1">
                <a:off x="3785400" y="4953960"/>
                <a:ext cx="1167480" cy="60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30" name="Group 30"/>
          <p:cNvGrpSpPr/>
          <p:nvPr/>
        </p:nvGrpSpPr>
        <p:grpSpPr>
          <a:xfrm>
            <a:off x="5724360" y="3429000"/>
            <a:ext cx="2969280" cy="1399680"/>
            <a:chOff x="5724360" y="3429000"/>
            <a:chExt cx="2969280" cy="1399680"/>
          </a:xfrm>
        </p:grpSpPr>
        <p:sp>
          <p:nvSpPr>
            <p:cNvPr id="431" name="Oval 18"/>
            <p:cNvSpPr/>
            <p:nvPr/>
          </p:nvSpPr>
          <p:spPr>
            <a:xfrm>
              <a:off x="5724360" y="3429000"/>
              <a:ext cx="722520" cy="57852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25"/>
            <p:cNvGrpSpPr/>
            <p:nvPr/>
          </p:nvGrpSpPr>
          <p:grpSpPr>
            <a:xfrm>
              <a:off x="6338520" y="3922920"/>
              <a:ext cx="2355120" cy="905760"/>
              <a:chOff x="6338520" y="3922920"/>
              <a:chExt cx="2355120" cy="905760"/>
            </a:xfrm>
          </p:grpSpPr>
          <p:sp>
            <p:nvSpPr>
              <p:cNvPr id="433" name="Text Box 26"/>
              <p:cNvSpPr/>
              <p:nvPr/>
            </p:nvSpPr>
            <p:spPr>
              <a:xfrm>
                <a:off x="6606720" y="4369680"/>
                <a:ext cx="208692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jemplos aislad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(compiladores, BD)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4" name="AutoShape 27"/>
              <p:cNvCxnSpPr>
                <a:stCxn id="433" idx="0"/>
                <a:endCxn id="431" idx="5"/>
              </p:cNvCxnSpPr>
              <p:nvPr/>
            </p:nvCxnSpPr>
            <p:spPr>
              <a:xfrm flipH="1" flipV="1">
                <a:off x="6338520" y="3922920"/>
                <a:ext cx="1310040" cy="447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D58E-1D41-4B47-A85A-0D43139B1EC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195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programadores escribían programa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Principio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xpertos desarrollaron grandes proye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Fine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parecen los grandes sistemas comerciales de softwar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l trabajo va más allá de la programación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crea el término “ingeniería de software”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9529-C690-4351-9E37-570606B0A61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3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70102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2"/>
          <p:cNvGraphicFramePr/>
          <p:nvPr/>
        </p:nvGraphicFramePr>
        <p:xfrm>
          <a:off x="685800" y="2286000"/>
          <a:ext cx="7924680" cy="388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86000"/>
                    <a:ext cx="79246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Rectangle 7"/>
          <p:cNvSpPr/>
          <p:nvPr/>
        </p:nvSpPr>
        <p:spPr>
          <a:xfrm>
            <a:off x="380880" y="4876920"/>
            <a:ext cx="8229600" cy="2286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380880" y="4648320"/>
            <a:ext cx="281952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2438280" y="4419720"/>
            <a:ext cx="24386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4495680" y="4648320"/>
            <a:ext cx="22100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6248520" y="4419720"/>
            <a:ext cx="236196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142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82202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189576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3571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52484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7"/>
          <p:cNvSpPr/>
          <p:nvPr/>
        </p:nvSpPr>
        <p:spPr>
          <a:xfrm>
            <a:off x="67723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Arquitecturas orientadas a servici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s basados en component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Grid/clou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u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 dirigido por model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9D30-D6D2-49E7-84BF-1E3A6B7249F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3045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gramació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un solo programador escribe todo el progra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small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los programadores aprecian el sistema complet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se requiere más tiempo para comunicación que para cod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ambios de personal afec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1" name="Object 2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20131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6B80-1368-4480-A9DF-B2FDDA7595B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¿Para qué la Ingeniería de Softwar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construir grandes sistemas de softwar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definir claramente los problemas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large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dministración, organización, herramientas, teorías, metodologías y técnicas como base para resolver los problemas computacion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9C41-D4BC-4B36-B5C7-462CF0B39BA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Clas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Cátedra: Martes/3 y Jueves/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Auxiliar: Viernes/2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Las transparencias se publicarán regularmente en la página web del curso en UCurs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Regularmente se mandará leer el capítulo correspondiente de algún libro de Ingeniería de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Tareas grupales aproximadamente cada dos seman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Dos controles de lecturas, dos controles de materia y un examen fin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E6AF-15D7-4698-BEE1-8CF224A5DFF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costos de desarrollo de software crecen en comparación con los costos del hard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requiere una producción de software más eficient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complejidad de los sistemas grandes de software hace que el desarrollo sea más que la codificación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cepción, diseño, desarrollo, documentación, mantenimiento,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ingeniería de software continuará creciendo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economía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rol creciente del software en todos los ámbit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E10A-CF9D-4D1E-8948-1C80DD24DCA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341280" y="298440"/>
            <a:ext cx="804708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Programador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baja sol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estructuras de datos y algoritm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hábil con varios lenguajes de program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Ingeniero de software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parte de un equipo de trabaj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e estrategias de diseñ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duce necesidades en especificacione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varias áreas de aplic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visión del sistema con distintos niveles de abstrac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municación e interacción con otras persona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1C81-6DC7-4F86-87FB-3558992AFE3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10"/>
          <p:cNvGrpSpPr/>
          <p:nvPr/>
        </p:nvGrpSpPr>
        <p:grpSpPr>
          <a:xfrm>
            <a:off x="685800" y="5973840"/>
            <a:ext cx="7890480" cy="327240"/>
            <a:chOff x="685800" y="5973840"/>
            <a:chExt cx="7890480" cy="327240"/>
          </a:xfrm>
        </p:grpSpPr>
        <p:sp>
          <p:nvSpPr>
            <p:cNvPr id="473" name="Text Box 5"/>
            <p:cNvSpPr/>
            <p:nvPr/>
          </p:nvSpPr>
          <p:spPr>
            <a:xfrm>
              <a:off x="2064960" y="5978520"/>
              <a:ext cx="65113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a IS se ocupa tanto del producto como del proce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6"/>
            <p:cNvSpPr/>
            <p:nvPr/>
          </p:nvSpPr>
          <p:spPr>
            <a:xfrm>
              <a:off x="685800" y="597384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5" name="Rectangle 7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objetivo de la IS es desarrollar productos de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calidad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os tipos de product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genéricos - desarrollados para vender masivament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 medida - desarrollados para un cliente particul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desafío es desarrollar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alta calidad 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con una cantidad finita de recursos y dentro del plazo planead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proceso de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 tiene una incidencia importante en la calidad del produc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8" name="14 Grupo" descr=""/>
          <p:cNvPicPr/>
          <p:nvPr/>
        </p:nvPicPr>
        <p:blipFill>
          <a:blip r:embed="rId2"/>
          <a:stretch/>
        </p:blipFill>
        <p:spPr>
          <a:xfrm>
            <a:off x="6907320" y="139680"/>
            <a:ext cx="18586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0495-97F5-4017-9B47-AE21F982F85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onjunto de actividades y resultados asociados que producen un producto de soft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Actividades fundamentales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especificación de requisit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diseño, codificación y test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verificación y valid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instalación y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Distintos tipos de procesos pueden aplicarse para desarrollar un mismo producto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En general algunos procesos son más apropiados para desarrollar ciertos produ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BDB5-48AB-4954-B9B9-177065184B8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Object 2"/>
          <p:cNvGraphicFramePr/>
          <p:nvPr/>
        </p:nvGraphicFramePr>
        <p:xfrm>
          <a:off x="685800" y="1846440"/>
          <a:ext cx="8229600" cy="493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46440"/>
                    <a:ext cx="822960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Rectangle 5" descr=""/>
          <p:cNvPicPr/>
          <p:nvPr/>
        </p:nvPicPr>
        <p:blipFill>
          <a:blip r:embed="rId3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061F-6EEC-43BB-8523-FF40AE1B35E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6"/>
          <p:cNvGrpSpPr/>
          <p:nvPr/>
        </p:nvGrpSpPr>
        <p:grpSpPr>
          <a:xfrm>
            <a:off x="533520" y="1981080"/>
            <a:ext cx="7924320" cy="4190760"/>
            <a:chOff x="533520" y="1981080"/>
            <a:chExt cx="7924320" cy="4190760"/>
          </a:xfrm>
        </p:grpSpPr>
        <p:sp>
          <p:nvSpPr>
            <p:cNvPr id="490" name="Rectangle 3"/>
            <p:cNvSpPr/>
            <p:nvPr/>
          </p:nvSpPr>
          <p:spPr>
            <a:xfrm>
              <a:off x="533520" y="19810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Análisis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specificación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AutoShape 4"/>
            <p:cNvCxnSpPr>
              <a:stCxn id="492" idx="3"/>
              <a:endCxn id="493" idx="0"/>
            </p:cNvCxnSpPr>
            <p:nvPr/>
          </p:nvCxnSpPr>
          <p:spPr>
            <a:xfrm>
              <a:off x="5287680" y="407664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4" name="AutoShape 5"/>
            <p:cNvCxnSpPr>
              <a:stCxn id="493" idx="3"/>
              <a:endCxn id="495" idx="0"/>
            </p:cNvCxnSpPr>
            <p:nvPr/>
          </p:nvCxnSpPr>
          <p:spPr>
            <a:xfrm>
              <a:off x="6872760" y="49147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6" name="AutoShape 6"/>
            <p:cNvCxnSpPr>
              <a:stCxn id="490" idx="3"/>
              <a:endCxn id="497" idx="0"/>
            </p:cNvCxnSpPr>
            <p:nvPr/>
          </p:nvCxnSpPr>
          <p:spPr>
            <a:xfrm>
              <a:off x="2118240" y="24001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8" name="AutoShape 7"/>
            <p:cNvCxnSpPr>
              <a:stCxn id="497" idx="3"/>
              <a:endCxn id="492" idx="0"/>
            </p:cNvCxnSpPr>
            <p:nvPr/>
          </p:nvCxnSpPr>
          <p:spPr>
            <a:xfrm>
              <a:off x="3702960" y="323820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9" name="AutoShape 8"/>
            <p:cNvCxnSpPr>
              <a:endCxn id="490" idx="2"/>
            </p:cNvCxnSpPr>
            <p:nvPr/>
          </p:nvCxnSpPr>
          <p:spPr>
            <a:xfrm rot="10800000">
              <a:off x="1325160" y="2818440"/>
              <a:ext cx="5547600" cy="300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Line 9"/>
            <p:cNvSpPr/>
            <p:nvPr/>
          </p:nvSpPr>
          <p:spPr>
            <a:xfrm flipH="1" flipV="1">
              <a:off x="2876040" y="3656880"/>
              <a:ext cx="6840" cy="21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0"/>
            <p:cNvSpPr/>
            <p:nvPr/>
          </p:nvSpPr>
          <p:spPr>
            <a:xfrm flipV="1">
              <a:off x="4461120" y="4495680"/>
              <a:ext cx="0" cy="13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1"/>
            <p:cNvSpPr/>
            <p:nvPr/>
          </p:nvSpPr>
          <p:spPr>
            <a:xfrm flipV="1">
              <a:off x="6045840" y="5333760"/>
              <a:ext cx="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2"/>
            <p:cNvSpPr/>
            <p:nvPr/>
          </p:nvSpPr>
          <p:spPr>
            <a:xfrm>
              <a:off x="2118240" y="28191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3703320" y="365724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Codific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 Módul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4"/>
            <p:cNvSpPr/>
            <p:nvPr/>
          </p:nvSpPr>
          <p:spPr>
            <a:xfrm>
              <a:off x="5288040" y="44956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tegr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l Sist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5"/>
            <p:cNvSpPr/>
            <p:nvPr/>
          </p:nvSpPr>
          <p:spPr>
            <a:xfrm>
              <a:off x="6872760" y="53337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stal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anteni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0178-0C83-4667-B0C7-C48A045907F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Los grupos de trabajo deberá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tener dos persona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cidirse antes del martes 17 de agosto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mandarme un mail informándome la conformación de los grupo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quien para el martes 17 no tenga grupo será asignado arbitrariam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5673-973A-4126-87A7-A9BF3332BEF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role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es de lectura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 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0">
              <a:buNone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 5.5 de promedio en tareas </a:t>
            </a:r>
            <a:r>
              <a:rPr b="1" lang="es-CL" sz="3200" spc="-1" strike="noStrike">
                <a:solidFill>
                  <a:srgbClr val="000000"/>
                </a:solidFill>
                <a:latin typeface="Corbe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 5.5 en controles se puede eximi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17B8-4675-4AD2-AE9D-EBDDC27B0AB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de Ingeniería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incipios y Cualidades del Software y su Desarrol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Modelos de ciclo de vida del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Etapas del ciclo de vida del softw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espec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iseñ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verificación y valid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ceso de Desarroll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F2E7-4FCA-46D2-99B4-BB6809B4579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1295280" y="308916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0b5cc"/>
                </a:solidFill>
                <a:latin typeface="Tahoma"/>
              </a:rPr>
              <a:t>¿Qué es la Ingeniería de Softw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B1D6-3692-4D0B-8E78-5EC66606509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14200" y="1856880"/>
            <a:ext cx="8786880" cy="446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tecnolog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ciencia para la resolución de problemas práctic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ingenier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tecnología en presencia de recursos limitad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Pero, ¿qué es la ciencia y cuándo estamos aplicando la cienci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Cuerpo de doctrina metódicamente formado y ordenado, que constituye una rama particular del sab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Modelos de la realidad cuyo comportamiento es explicable y que permiten predecir el comportamiento de situaciones similar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1C32-F2D2-46E1-9634-E7A30A6F7A0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Entonces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para la construcción de software en presencia de recursos limitad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qué es el software? y ¿qué ciencia se aplica en su construcció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5C0A-83B6-4C2A-B9DD-73B00D3DF7D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213840" y="1714320"/>
            <a:ext cx="8401320" cy="4857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El software es una serie de programas, conjuntamente con todos los documentos asociados y la configuración de datos que se necesitan para que los programas operen de manera correc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Programa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ejecutables, de instalación, de re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requisitos, diseño, pruebas, código fuente, manuales de usuario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 de la aplicación, parámetros de 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cecilia</cp:lastModifiedBy>
  <dcterms:modified xsi:type="dcterms:W3CDTF">2010-08-10T14:25:56Z</dcterms:modified>
  <cp:revision>12</cp:revision>
  <dc:subject/>
  <dc:title>CC31B – Desarrollo de Software de Aplicación</dc:title>
</cp:coreProperties>
</file>