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E387-20C5-444C-9818-42E958D06B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7F4B-3500-4F52-A00E-2017BF28EB0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398-4F5C-4A22-A6D0-95D623539D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26F3-8592-45A9-86BC-4F0A1E9144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C21-48B1-45C2-A4FD-AE1644BB78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F69-21FC-4964-A914-3FCFC1330C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132-7A02-4119-B16F-F885E1DFF1F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476-30A9-452B-8A8F-7732E5D2D2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B7F-D58B-4593-A729-46C5DB4063E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1FD-0A0F-4557-947D-9829E836B9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5DE2-E04C-4172-83B9-526707782B4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CBD-ED88-42E8-846A-28126AD3FA2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8A0-9597-4E1F-B14F-2830623EC51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2FDB-9248-4D5B-BF42-446CB081B2F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9CE-829A-4D6D-81FD-183A9F6E107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5B8-FF3A-4519-B308-14378DD4844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4C66-0C31-44A2-98D3-9DBFF7962FF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2C2-698A-4B73-B1C3-F6C3E2DBCA7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34F-F55C-4253-A79E-BC933341919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C68-1F4C-496C-903F-CAD64112E07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85EB-6409-45F9-9633-C03BCE7C7A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437F-FA66-4D20-89E0-B4F27932C6D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EEBD-6ECA-41CE-8FDA-76D747F979B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4669-D0C8-4828-9A96-E6997299C1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CB2-594E-4ACE-91A0-95289A35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6E3-30A8-4F29-9DED-8B6609E3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87A-FDCE-48F0-9439-59BFB987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22F-98F7-4FE0-95D2-68361D64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91EA-691C-409B-8ABB-F6514B83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442D-9152-4147-B409-20799C31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CF3-A21C-470C-B04A-6609A0BA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1DDC-1A0E-47E0-BAB8-1826DC4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F03-EB2E-406E-9D52-FE5BE438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71F7-9C3A-4F5B-A977-B4B335D9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7DF-F9E3-455D-9EA9-563476E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C35-9751-497F-8464-AECCCFB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A663-875F-4694-AF85-0815FAC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D38-2FE5-4164-981C-8AB63A2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B438-FF29-4821-894B-9530E09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C497-0923-44DA-B162-E61A91AD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484A-8CAF-46CE-B8E7-DC3AFCC9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2B2A-C4CE-4A4E-9879-373C73E7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EC1D-C150-4158-81CB-DC17180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78A6-5D5B-4B47-8B3A-A7D02A8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9856-7533-4C35-87D4-C713B435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9EAD-893E-434F-9DC6-80952AD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90F-6E99-4A4D-9883-32DB030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D580-2DC1-4D0D-829C-90424E2F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6D95-6486-400D-8C07-D81C2B2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4556-4B4D-4121-8479-78CFE52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3562-FAA3-4EF6-A317-6C13E1D8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EFAF-FF2C-4F67-9151-68EC692E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D780-D8E7-4CD6-8D9C-7B318440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C8A8-7539-4361-93AB-02D91943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C8BB-43F3-4239-B275-0D617DCC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7F56-3821-4D86-B9D1-6C3C4180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631-54AC-4D85-999A-DCD6378D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B75-908E-4921-A97F-50FDA07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E1EB-C5D8-45A4-9A96-8259C7C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78D0-4D69-4496-B3A2-1218E7A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6170-03E5-4EFA-925F-2CD20C7D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CD414-D423-4C90-A31B-9ACA548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AFDA-8285-4131-AABE-B285254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DD99-C219-4B70-AB46-669C2CEF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9ADE-DFF8-48C4-A5A3-8356E717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3747-B184-4F57-8C01-27480F9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2684-C531-4BF9-91B6-72D10601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62D9-B2A9-4291-8E4D-077CE0A2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0A1-611C-43BB-9ABB-E17084C6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FBAE-3897-4DD8-8560-1AF44E33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D91D-4146-4FDC-A920-E4A66EC4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8C24-025D-4A0E-887E-B4B5C85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5EAA5-0A1D-440D-8B43-7D30BE4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DD67-7228-4217-A585-68D88AF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18BA-517F-416A-9F75-EED7D5A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C9EB-B70E-4AFC-9363-99B6869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4969A-34FE-4B3C-95BD-6C4CB28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E86C-02BC-4D5A-8D06-EF0D660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7EE5-CEA3-470A-9A97-3D65A29C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DE1-C02F-4F42-A97B-580B64D9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93263-51DE-4E6A-940D-69019692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2C71-2E4E-4750-BDAC-C95385C1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2F69-E05C-4026-AE82-EBC70E19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17E50-70CE-4D41-ADB5-6353679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1738-E82C-4235-A678-55D374CB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DE55-5F00-4278-8E9F-8BA23F9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3D99-DDBF-4129-BC16-E21E1EE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149E-85DD-419F-B62D-5334E83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A29C-1DDE-4402-A243-E227FCF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C8265-6060-4C9F-8B32-F748E5B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C2A-EEA5-4E9E-9FA9-6AFE961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480C2-E349-4C2C-A6E2-ACBAA292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B036-F6A3-4B3B-BD8B-D76359A8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99C0-55B6-42AD-BE91-752EEE20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2EC4-3505-4217-8031-53D57FC6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59FB-944B-48C1-AFFF-B785685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A635E-1BD0-4C23-AD0A-37B702D2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E39B-8F49-4CB4-8DB3-B402A40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EB668-FC25-48AC-8E9F-167A28D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9AB17-55A3-4325-940C-3BAE64B3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1101-80D4-40DE-A554-FB0A3A4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9CC-C345-4C6A-8C44-1013B1E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F457-F361-4797-A525-BEE7B68D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B491E-395C-480D-8779-E992B32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0F93-8E72-4267-93AD-774AFB0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B86B-2DB6-4E41-9C3F-6F05EDF2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8BC1F-907E-46F5-9971-33A3C0E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F3E92-E605-43D7-B997-06EE5835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EE67E-0CA9-479C-9F64-77270774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759B-DE2C-493D-AC19-49A5781E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FA0E-BB2C-433D-8335-AAA4FFBA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E55B8-41E2-4F0F-BF18-709239F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4DC-C4C2-4551-8F19-96B90FD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96053-9D0E-4A88-B0E7-779EB105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05D74-34E0-4BE2-9B8C-D8109DF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10339-EDAF-469D-8C50-646FEA81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1773-272B-4952-9167-97F2182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A8778-BA57-44FC-93AC-5FF19F87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0C85-4B40-4CBB-A422-1169527E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0017-E90C-4BB2-ABF9-9341023D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2F56-B590-4CF2-93C8-7D0123FEA95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1CC6-58EE-47CA-AB82-628DFE101828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3B1E-BA07-43DE-B119-728E7E243D9B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3AB-9D46-4ECD-9C41-6C8E6B364BD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EA48-0843-48C3-8C14-942D87EF1476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F6B-EF10-4A79-8E3F-B87B0DE7DD7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D73-3083-457C-ACFC-36D948220F5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141-747D-4284-860A-97F096521ED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6A8-D4E1-4187-836E-BD44C48CFC7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3ED0-350D-44E2-9A3E-6AE2BAB7DE2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0DD-8FBC-42DA-9472-20EC8A5CFBC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12E0-3A68-4149-82DF-D49C15A1E86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0531-8547-4346-9DE8-4B21A21790F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B86-8AE2-4914-AA37-E9F29932304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F630-27E7-490E-8019-373A82E40F5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829-D43B-4219-87F8-D3DFA3F867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4602-C5F6-4CA1-A259-DAE254B86FD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3851-8D66-487C-8D18-DF2533C4B0D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3 y Jueves/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025-1DDD-4F1E-9F8D-F44B7009C71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3595-04E8-482E-9E08-65A7646DED0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E35-E166-4AB0-AFAF-20190F53E02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0F1-DF6B-43F6-9914-2819C5F07CD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21D-0C2D-4D5B-A963-91D41B719C3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B757-7AB3-48FA-A3D2-746AC953B8A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EC8-9F28-4FF0-A603-2E795A4AF8D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7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7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BBC3-007F-49E4-BD6C-B82D7CCB5A8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CAB8-F4AA-468B-AD1B-AA66FADE1CC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3A0F-DDDC-4F5E-AAA8-2E6A945ABB1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7BA-A362-4DA8-9789-C8D7083D9D47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BD34-77A3-4205-9292-2707712CC1E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25A8-3A13-4FCA-A239-A4918312ADB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0T14:25:56Z</dcterms:modified>
  <cp:revision>12</cp:revision>
  <dc:subject/>
  <dc:title>CC31B – Desarrollo de Software de Aplicación</dc:title>
</cp:coreProperties>
</file>