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5.png" ContentType="image/png"/>
  <Override PartName="/ppt/media/image2.png" ContentType="image/png"/>
  <Override PartName="/ppt/media/image20.wmf" ContentType="image/x-wmf"/>
  <Override PartName="/ppt/media/image18.wmf" ContentType="image/x-wmf"/>
  <Override PartName="/ppt/media/image1.png" ContentType="image/png"/>
  <Override PartName="/ppt/media/image26.png" ContentType="image/png"/>
  <Override PartName="/ppt/media/image3.png" ContentType="image/png"/>
  <Override PartName="/ppt/media/image4.png" ContentType="image/pn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PlaceHolder 1"/>
          <p:cNvSpPr>
            <a:spLocks noGrp="1"/>
          </p:cNvSpPr>
          <p:nvPr>
            <p:ph type="sldImg"/>
          </p:nvPr>
        </p:nvSpPr>
        <p:spPr>
          <a:xfrm>
            <a:off x="-11798280" y="-11798280"/>
            <a:ext cx="11791800" cy="1234764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0" name="PlaceHolder 2"/>
          <p:cNvSpPr>
            <a:spLocks noGrp="1"/>
          </p:cNvSpPr>
          <p:nvPr>
            <p:ph type="body"/>
          </p:nvPr>
        </p:nvSpPr>
        <p:spPr>
          <a:xfrm>
            <a:off x="960480" y="3474720"/>
            <a:ext cx="7672320" cy="32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ACD20F-AAA5-4928-B560-7A3C834DD50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9EB1AB52-963E-4A35-8C17-CF811DD00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E28D6EEC-BE85-4BAE-9AA9-3893BBA8A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57BF05AD-E5E1-48C0-A90A-D929D9D120A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7CCB05-6112-402F-8B5E-FE8F6BF70F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9E4EAEFC-F629-4802-BEF3-8022605DB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E291459D-39F2-47AC-84F8-5A06A8CAD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8FCF6CCC-84D7-4BD1-A9A2-2F8779F7B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1119C156-AC65-4A70-9C0D-16AAADF481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8EFBCD82-1FEA-44D4-934E-1CD0637940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3CBE6E2A-BC38-46D9-BE38-E1264561A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A32AC317-5D02-496B-AC35-EB6AE22A2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673A2EFD-7FF0-4C98-8C7B-F4A54510E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E85D0BB2-06E0-43A8-8CE7-C37DCBC47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993F6439-67FC-4D4A-A44B-77FEC2639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13B83C28-C9E4-43EE-A2E7-B3A1DA274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663E4C01-4295-46B0-85F9-798CD6E2D8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5D096FF-9A7A-4334-9A51-F19BA8A058F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28694AF4-445F-46D0-855D-1450F2AA82E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1CAB278E-FEDC-4067-ACD4-690C1D7203C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9926B1BF-C4F4-4FAB-8DBC-FFDB3EA2603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77515F83-82CD-486D-9895-D19E8C8429D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CBE8AB97-B941-43A3-B6E7-7B5C3CE63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AF9110F3-DBBF-42D8-89E9-DA7E01B0D85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AADCDDA6-70FF-4900-B9F2-8E0DF6709EE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E1473A3-CBD7-4682-B08F-FC149C17461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0A55255-DCD0-4832-B7A0-5874B331033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147EEA87-9031-4728-B567-D3650B757E8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8B134D82-F98E-46BE-95F9-CE633A81469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133DC40F-C854-4B9F-8E9B-62637FE432F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78D94C5-C22C-41B4-B732-4BB9707651A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AF14841-DC85-47F2-AA0A-820E384260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988FD3FE-FB5A-4BDD-8AFF-254EEA6B1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7E2B3C97-1F32-4CEA-8500-1832B1840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24E9E1AD-75D5-4133-8375-9195500AB0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1EE4A56E-E4F8-4204-87AD-DAF1BA3381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8257FED6-4122-47C0-896B-11CEC2DCD4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B9EF33A6-2915-49BA-9A03-93E86E4836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F59E0AC4-D35A-4A57-809F-5A2D32EB92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C755DA98-065D-4C5E-BFA6-A65F597C6A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BFFC087A-63D4-42FA-87B2-D0AC44D777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9C47E51A-20AB-4BFD-911D-9475F1B21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8330030F-9FA8-4ED2-8366-49E368ED4C5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67FC0A0-B891-43E5-9D1C-00A290D77C7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A2BB558E-4AA5-4AB9-BC7F-341217BD4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1B46E044-0DE4-4FC6-BF46-6D98536C72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4F5B9A80-D369-48AF-A8B4-7704ECFAEF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417D6881-EDB8-45F2-A666-905B57672A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C2DAB96F-A08A-47E7-B9B7-C20AFBB60B2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62D7C73A-B964-4F99-8108-C9539320DFC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F122E1BA-3187-4429-A420-3180A208E7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50B0679-AB2B-430B-9DC6-3D22F48267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99ED2E34-7A0C-417A-98A0-B357FA3E86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E23F641E-3978-4C7F-8564-48D964756F8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BE18B5C4-3053-43C0-A3B5-98E9FA81A8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7166F73D-94CD-4F92-83C4-4EA069782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249AD22A-20F2-45E9-AF2B-EBF7F6B13BD3}"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E3028C6-C674-40F2-84F1-32DB6D9806C1}"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62A3861B-6081-47D7-A3C5-FD25BAD8289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76E70CFB-59DF-4F55-AEB3-238C621C34E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BAEC07C0-8A26-4B40-B00F-B2E857973CD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841A4F17-4C44-4D66-8CEF-7493EE70C21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7D54839B-40BF-4428-9F86-D81953367F6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F159EF04-2259-4125-872F-EFFFA456710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1769342-9AD6-455C-83EC-299040D66AC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A7D4AE50-020E-4CC5-BC22-00E6CA74585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B9D0FA1-10FD-49AB-813F-A4D99BBCB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70F2CB8F-EBE5-4E50-BA1A-6F3F885B7FB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0C7030CC-A7EC-44E1-A9AF-0EF0655BEE7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83BB7DE6-0317-4FBC-9E42-393FEE4A6DB4}"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657DD7B-E146-4ED4-A3DC-16547FF196E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8551C658-9BA8-4311-B9C7-D1E777678B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85FAA7CF-AAB8-46D9-85BE-389D6DE935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E3CD9A59-D462-4CDC-A17B-1A25D75A39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9B34014B-F72B-4E7B-9E2D-6F12A0DA7B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A346AA35-9868-4F06-B7CD-91AE430767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4D6A11D6-F07D-4C25-868A-227833F10D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6171BC6-51E3-4E29-B391-A3F60F207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AD77E36A-0AEA-46DF-AC55-F9D52D646F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8E8623F-1A85-4C5C-A657-B823AAEF67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242FE600-1956-4521-815D-AEA2AFDEF8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74A0AB23-1BEF-4E0F-86C8-63BEDF1F15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08BCD9C1-2594-4761-BEF8-C521CFF833A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2908364-C42D-4782-BB4A-A8CA42B88E5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4689B9-EDDF-443A-AF11-3C8BCAF1210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4320" y="6553080"/>
            <a:ext cx="166824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B509306-E2D4-4533-A3A9-E43DA92E28B4}"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FD32F89-36A3-4B0C-84B9-9F3D87A8999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536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45EA382-6422-4405-8348-B0102865D44F}"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62E365B-EB48-41C9-A74A-F309FA297DA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F30D69D-782B-4434-8738-BB1483D91C8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7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236B61C-2446-487D-9376-B912AA9F54A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
          <p:cNvGrpSpPr/>
          <p:nvPr/>
        </p:nvGrpSpPr>
        <p:grpSpPr>
          <a:xfrm>
            <a:off x="1841400" y="5834160"/>
            <a:ext cx="6637320" cy="500040"/>
            <a:chOff x="1841400" y="5834160"/>
            <a:chExt cx="6637320" cy="500040"/>
          </a:xfrm>
        </p:grpSpPr>
        <p:pic>
          <p:nvPicPr>
            <p:cNvPr id="332" name="" descr=""/>
            <p:cNvPicPr/>
            <p:nvPr/>
          </p:nvPicPr>
          <p:blipFill>
            <a:blip r:embed="rId1"/>
            <a:stretch/>
          </p:blipFill>
          <p:spPr>
            <a:xfrm>
              <a:off x="1841400" y="5834160"/>
              <a:ext cx="6637320" cy="500040"/>
            </a:xfrm>
            <a:prstGeom prst="rect">
              <a:avLst/>
            </a:prstGeom>
            <a:ln w="0">
              <a:noFill/>
            </a:ln>
          </p:spPr>
        </p:pic>
        <p:sp>
          <p:nvSpPr>
            <p:cNvPr id="333"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5"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1" name="" descr=""/>
          <p:cNvPicPr/>
          <p:nvPr/>
        </p:nvPicPr>
        <p:blipFill>
          <a:blip r:embed="rId1"/>
          <a:stretch/>
        </p:blipFill>
        <p:spPr>
          <a:xfrm>
            <a:off x="1979640" y="3906720"/>
            <a:ext cx="6985080" cy="1251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06" name=""/>
          <p:cNvGraphicFramePr/>
          <p:nvPr/>
        </p:nvGraphicFramePr>
        <p:xfrm>
          <a:off x="2195640" y="5338800"/>
          <a:ext cx="6543720" cy="1403280"/>
        </p:xfrm>
        <a:graphic>
          <a:graphicData uri="http://schemas.openxmlformats.org/presentationml/2006/ole">
            <p:oleObj r:id="rId1" spid="">
              <p:embed/>
              <p:pic>
                <p:nvPicPr>
                  <p:cNvPr id="407"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37"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0"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6" name=""/>
          <p:cNvGraphicFramePr/>
          <p:nvPr/>
        </p:nvGraphicFramePr>
        <p:xfrm>
          <a:off x="1960560" y="3141720"/>
          <a:ext cx="7075440" cy="2108160"/>
        </p:xfrm>
        <a:graphic>
          <a:graphicData uri="http://schemas.openxmlformats.org/presentationml/2006/ole">
            <p:oleObj r:id="rId1" spid="">
              <p:embed/>
              <p:pic>
                <p:nvPicPr>
                  <p:cNvPr id="417"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1"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3"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5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58"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8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7"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6480" indent="-449280">
              <a:lnSpc>
                <a:spcPct val="10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endParaRPr b="0" lang="en-US" sz="16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3" name=""/>
          <p:cNvGrpSpPr/>
          <p:nvPr/>
        </p:nvGrpSpPr>
        <p:grpSpPr>
          <a:xfrm>
            <a:off x="2708280" y="5667480"/>
            <a:ext cx="5978520" cy="1190520"/>
            <a:chOff x="2708280" y="5667480"/>
            <a:chExt cx="5978520" cy="1190520"/>
          </a:xfrm>
        </p:grpSpPr>
        <p:sp>
          <p:nvSpPr>
            <p:cNvPr id="474"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89"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0"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1"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2" name=""/>
            <p:cNvSpPr/>
            <p:nvPr/>
          </p:nvSpPr>
          <p:spPr>
            <a:xfrm flipV="1">
              <a:off x="4205160" y="6469200"/>
              <a:ext cx="180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V="1">
              <a:off x="6927840" y="6469200"/>
              <a:ext cx="144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7"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8"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07"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68" name=""/>
          <p:cNvGrpSpPr/>
          <p:nvPr/>
        </p:nvGrpSpPr>
        <p:grpSpPr>
          <a:xfrm>
            <a:off x="3452040" y="3357720"/>
            <a:ext cx="4535280" cy="3288600"/>
            <a:chOff x="3452040" y="3357720"/>
            <a:chExt cx="4535280" cy="3288600"/>
          </a:xfrm>
        </p:grpSpPr>
        <p:sp>
          <p:nvSpPr>
            <p:cNvPr id="569"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77"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78"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79"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0"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1"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2"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9"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0"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1"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96"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597"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8"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9"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0"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7250040" y="4032000"/>
              <a:ext cx="1800" cy="895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5"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0"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5"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6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6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5" name=""/>
          <p:cNvGrpSpPr/>
          <p:nvPr/>
        </p:nvGrpSpPr>
        <p:grpSpPr>
          <a:xfrm>
            <a:off x="2635560" y="2565360"/>
            <a:ext cx="5348160" cy="3848040"/>
            <a:chOff x="2635560" y="2565360"/>
            <a:chExt cx="5348160" cy="3848040"/>
          </a:xfrm>
        </p:grpSpPr>
        <p:sp>
          <p:nvSpPr>
            <p:cNvPr id="636"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37"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38"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39" name=""/>
            <p:cNvSpPr/>
            <p:nvPr/>
          </p:nvSpPr>
          <p:spPr>
            <a:xfrm rot="780000">
              <a:off x="3976920" y="343836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0" name=""/>
            <p:cNvSpPr/>
            <p:nvPr/>
          </p:nvSpPr>
          <p:spPr>
            <a:xfrm rot="780000">
              <a:off x="6438960" y="3723840"/>
              <a:ext cx="144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5"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46"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3760560" y="4329000"/>
              <a:ext cx="37242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49" name=""/>
            <p:cNvSpPr/>
            <p:nvPr/>
          </p:nvSpPr>
          <p:spPr>
            <a:xfrm rot="20760000">
              <a:off x="4407840" y="477360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0"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1" name=""/>
            <p:cNvSpPr/>
            <p:nvPr/>
          </p:nvSpPr>
          <p:spPr>
            <a:xfrm rot="20760000">
              <a:off x="3809880" y="444636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56"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5"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66"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0"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5"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76"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77"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1"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graphicFrame>
        <p:nvGraphicFramePr>
          <p:cNvPr id="691" name=""/>
          <p:cNvGraphicFramePr/>
          <p:nvPr/>
        </p:nvGraphicFramePr>
        <p:xfrm>
          <a:off x="3059280" y="3284640"/>
          <a:ext cx="5041800" cy="3132000"/>
        </p:xfrm>
        <a:graphic>
          <a:graphicData uri="http://schemas.openxmlformats.org/presentationml/2006/ole">
            <p:oleObj r:id="rId1" spid="">
              <p:embed/>
              <p:pic>
                <p:nvPicPr>
                  <p:cNvPr id="692"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6"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graphicFrame>
        <p:nvGraphicFramePr>
          <p:cNvPr id="697" name=""/>
          <p:cNvGraphicFramePr/>
          <p:nvPr/>
        </p:nvGraphicFramePr>
        <p:xfrm>
          <a:off x="3780000" y="3933720"/>
          <a:ext cx="4038480" cy="2808360"/>
        </p:xfrm>
        <a:graphic>
          <a:graphicData uri="http://schemas.openxmlformats.org/presentationml/2006/ole">
            <p:oleObj r:id="rId1" spid="">
              <p:embed/>
              <p:pic>
                <p:nvPicPr>
                  <p:cNvPr id="698"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6480" indent="-449280">
              <a:lnSpc>
                <a:spcPct val="80000"/>
              </a:lnSpc>
              <a:spcBef>
                <a:spcPts val="1800"/>
              </a:spcBef>
              <a:buClr>
                <a:srgbClr val="000000"/>
              </a:buClr>
              <a:buFont typeface="Times New Roman"/>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
        <p:nvSpPr>
          <p:cNvPr id="715"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9280" indent="-449280">
              <a:lnSpc>
                <a:spcPct val="80000"/>
              </a:lnSpc>
              <a:spcBef>
                <a:spcPts val="1800"/>
              </a:spcBef>
              <a:buSzPct val="100000"/>
              <a:buBlip>
                <a:blip r:embed="rId7"/>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6" name="" descr=""/>
          <p:cNvPicPr/>
          <p:nvPr/>
        </p:nvPicPr>
        <p:blipFill>
          <a:blip r:embed="rId1"/>
          <a:stretch/>
        </p:blipFill>
        <p:spPr>
          <a:xfrm>
            <a:off x="2081160" y="1012680"/>
            <a:ext cx="64008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