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E37BAE-423A-4FDA-984F-4D4DA3E3D08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05F2B0B2-2D35-4106-8B3B-74727208F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B9F52859-310B-48D8-B619-E992F8721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0AFA70B0-40BE-4AE9-AADC-6B4E6D686F6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B2FDA4-C369-48B1-A8F0-8EC2155B50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BAA5E25B-5B59-4560-ADE2-A46EAADA2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449C3D46-C0FE-4FA4-8D4A-35076F2B0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2B45D784-9689-45C1-A494-A113AA47B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0C2F07BC-AE7F-4981-B311-A048F401E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023273F2-29A5-414E-9D18-96BBB4C40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DED0783-7BE2-4D82-B2D1-8C961D919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58EE628-BF81-48A9-BD0E-F36DF219C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0D7C8016-1515-4C07-8E90-30BD4FF00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C47BE3A-B9AF-47CA-A2AE-372FDB44E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5C55A857-A8D9-4908-ABFB-AB2F11C33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82662BD2-9A88-48F7-85BC-7646817B6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C91A6722-1BC1-45B3-A61B-B0EFFB8470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AC02F55-DC5B-4F4F-B4DA-48EF8DBFEAB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ACC7BFF8-43B6-49F1-B385-356A29A8CB1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093B1439-C1A8-40EE-9B8F-FFDA23FCD8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5BD164AD-4641-4E98-B786-493668249E8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A8D44310-FF5F-4741-AA30-30E584E15A1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1399841-206F-4B7D-965C-8731D22F6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211AAE58-05C6-4457-955D-0545ADC4840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F85EEC3-84C3-4F16-BFD2-4DE47DD81FE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9592DA1-354E-40C2-BDE9-F81357CFFF5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88471C80-E855-465E-B437-B9F3DE62FB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CA94DC5C-BD30-4A13-B67B-8C19E4003F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8EB9CB8E-EB33-4209-808D-42D38789DA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92EE2D4C-6FA7-49CD-9D7F-E5C9483CD1E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5BB0EF7-9ADF-4192-A8FA-53182314175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A809F908-5F36-4C2E-916A-901D5BB70E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C5D87EA2-F593-4277-BFA6-C1EE3FD8C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ACD5B2F2-9375-402A-A7FE-CA2479F95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DB5CC599-6C37-4939-99FD-23939CE089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1C5909B0-2DCD-4231-944C-7C812FABCA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180C56A5-8A2F-41C9-8638-4C95AF93C3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4DC8C3D-E185-4301-B16A-A4BE01F75A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8A47A46-6C63-49A1-B1E7-E8C677AA1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C8C99E0-7016-455D-8735-DA72AAC7D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05DCC0F-43A8-4233-9886-36297440E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0E4EFAF7-2340-4851-AA93-B72B426499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A91D2B80-1015-47F7-B926-019BF41CDF7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CDF2044-A1D4-422A-8529-9058859ABF9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E89C7F9D-6D40-47F5-876F-47BF9A193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5A9FDB5A-9E30-41A0-BF14-8997597599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162C45B-02CE-487E-B7F9-F843B03480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25AB347-EB86-4F75-9D30-74AC9B0CF5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E5A1C0F6-AEA4-4E75-96E0-E4B3E9FA55D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8C349AFB-A5B4-4EF4-8FD6-7DFF7ED1122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C11B686F-AF81-4675-AEBB-9DD20C00FE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3EF9D10-B7FF-4842-93C8-3D8413E6A0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7950E12-4D4D-4118-B1FD-D4450E4A78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47DECE22-BC61-4B7F-9911-C1DB2502C3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395DA472-00C7-44FF-A7FD-6A7712CF18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2DDF38A8-47E5-4229-A751-07DDB3649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6EBA997E-E627-4404-9C8E-881F41CD92E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7F353B1-AED4-40FB-B04B-6FFC7831A36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1B9AAFBF-7A40-416E-BA93-B303DCB903E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665394B1-A886-41A3-A8BC-58EF62FC2BF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B987605-B65E-45E9-BBD3-EBE714C3CCF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4F7B2A18-9627-4A02-97A0-9416C90E70F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C8601E5E-677A-4E84-ABCB-59D33D739D3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4652A64-4DCB-4E93-9CF7-D3C4BC43CAD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E93A8511-81FD-47A0-B65B-D9CC7E58AE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69DCCEB-29F8-4CDB-8797-268B22DCBA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F4258C9-94FB-4BB8-AFDE-B4062EBEF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9DEC90A1-D1E4-4E2E-82B2-B8F6BD24901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05D8F007-8C90-401B-85E0-1EF267E96D2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494722BB-51C6-434D-BB72-45147B4DB0F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CB37FB8-9CB5-4A52-A42E-B1963870F8E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B7AF9D91-3C3E-450C-A0BC-93120A4EDE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ABDEC114-4366-4FF6-BB26-097BBF78FF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F1111831-9E21-4845-890C-C0FAB31C9D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75C03884-7CB0-4DA2-8A47-D3A83E1D95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CFC20D0C-761C-49CC-BA36-04507CB191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FE28C61-1607-4153-BB9C-BDA0B39C8D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CCDDAAA-4589-452C-80B0-E096101C7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92304F5-E001-4210-89B7-E3D308EF27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1138F86-7B9C-4D09-8E6F-FF7B106885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DD7D979-B9DD-49A8-ADED-E18A2A8095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6A3D50F2-45E0-41EC-B1AB-AA38135B1E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A9702E3F-92F1-4B55-909C-3371B2087CD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7789D33F-F306-4D84-971A-C6F999EB68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46138B-8BFE-4468-AA4B-F082539D63E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7B70CAA-7E83-4C85-A497-9873A6169CD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25E0EF3-D837-4C0E-B735-D446338DC2D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1AF5CEC-02D4-401A-AB09-711D04BFF7DA}"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1096678-5706-46FA-83D1-9572CC4153D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8117BF1-2E3C-4274-A22B-48B42ED1E79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11AB275-36F1-471A-A206-0A5F045CAB4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7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000000"/>
              </a:solidFill>
              <a:latin typeface="Arial"/>
            </a:endParaRPr>
          </a:p>
        </p:txBody>
      </p:sp>
      <p:sp>
        <p:nvSpPr>
          <p:cNvPr id="6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6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06"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15"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3" name=""/>
          <p:cNvGrpSpPr/>
          <p:nvPr/>
        </p:nvGrpSpPr>
        <p:grpSpPr>
          <a:xfrm>
            <a:off x="2149920" y="3357720"/>
            <a:ext cx="2350800" cy="1627200"/>
            <a:chOff x="2149920" y="3357720"/>
            <a:chExt cx="2350800" cy="1627200"/>
          </a:xfrm>
        </p:grpSpPr>
        <p:sp>
          <p:nvSpPr>
            <p:cNvPr id="724" name=""/>
            <p:cNvSpPr/>
            <p:nvPr/>
          </p:nvSpPr>
          <p:spPr>
            <a:xfrm>
              <a:off x="2449440" y="3409920"/>
              <a:ext cx="2051280" cy="15750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2414520" y="3357720"/>
              <a:ext cx="2051280" cy="15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417760" y="3983040"/>
              <a:ext cx="20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214992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28" name=""/>
            <p:cNvSpPr/>
            <p:nvPr/>
          </p:nvSpPr>
          <p:spPr>
            <a:xfrm>
              <a:off x="2417760" y="3662280"/>
              <a:ext cx="2043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a:off x="2417760" y="4417920"/>
              <a:ext cx="204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0" name=""/>
            <p:cNvSpPr/>
            <p:nvPr/>
          </p:nvSpPr>
          <p:spPr>
            <a:xfrm>
              <a:off x="314316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28788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43368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57840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43756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35"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36" name=""/>
            <p:cNvSpPr/>
            <p:nvPr/>
          </p:nvSpPr>
          <p:spPr>
            <a:xfrm>
              <a:off x="289404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37"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38" name=""/>
            <p:cNvSpPr/>
            <p:nvPr/>
          </p:nvSpPr>
          <p:spPr>
            <a:xfrm>
              <a:off x="357984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39" name=""/>
            <p:cNvSpPr/>
            <p:nvPr/>
          </p:nvSpPr>
          <p:spPr>
            <a:xfrm>
              <a:off x="34657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0" name=""/>
          <p:cNvGrpSpPr/>
          <p:nvPr/>
        </p:nvGrpSpPr>
        <p:grpSpPr>
          <a:xfrm>
            <a:off x="6048000" y="2133720"/>
            <a:ext cx="2845080" cy="4441680"/>
            <a:chOff x="6048000" y="2133720"/>
            <a:chExt cx="2845080" cy="4441680"/>
          </a:xfrm>
        </p:grpSpPr>
        <p:sp>
          <p:nvSpPr>
            <p:cNvPr id="741" name=""/>
            <p:cNvSpPr/>
            <p:nvPr/>
          </p:nvSpPr>
          <p:spPr>
            <a:xfrm>
              <a:off x="6461280" y="217800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418440" y="2133720"/>
              <a:ext cx="2431800" cy="12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4800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44" name=""/>
            <p:cNvSpPr/>
            <p:nvPr/>
          </p:nvSpPr>
          <p:spPr>
            <a:xfrm>
              <a:off x="6423120" y="264960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a:off x="6423120" y="239076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
            <p:cNvSpPr/>
            <p:nvPr/>
          </p:nvSpPr>
          <p:spPr>
            <a:xfrm>
              <a:off x="6423120" y="3003480"/>
              <a:ext cx="243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728352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45488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26240" y="2390760"/>
              <a:ext cx="180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79940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7280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2"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3" name=""/>
            <p:cNvSpPr/>
            <p:nvPr/>
          </p:nvSpPr>
          <p:spPr>
            <a:xfrm>
              <a:off x="703440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54"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55" name=""/>
            <p:cNvSpPr/>
            <p:nvPr/>
          </p:nvSpPr>
          <p:spPr>
            <a:xfrm>
              <a:off x="783108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56" name=""/>
            <p:cNvSpPr/>
            <p:nvPr/>
          </p:nvSpPr>
          <p:spPr>
            <a:xfrm>
              <a:off x="76694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57" name=""/>
            <p:cNvSpPr/>
            <p:nvPr/>
          </p:nvSpPr>
          <p:spPr>
            <a:xfrm>
              <a:off x="6461280" y="3726000"/>
              <a:ext cx="2431800" cy="129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418440" y="3684600"/>
              <a:ext cx="2431800" cy="129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423120" y="420228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a:off x="6423120" y="39434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6423120" y="4557600"/>
              <a:ext cx="242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728964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6280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3416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807320" y="3943440"/>
              <a:ext cx="144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8072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67" name=""/>
            <p:cNvSpPr/>
            <p:nvPr/>
          </p:nvSpPr>
          <p:spPr>
            <a:xfrm>
              <a:off x="704700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8"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9" name=""/>
            <p:cNvSpPr/>
            <p:nvPr/>
          </p:nvSpPr>
          <p:spPr>
            <a:xfrm>
              <a:off x="780660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0" name=""/>
            <p:cNvSpPr/>
            <p:nvPr/>
          </p:nvSpPr>
          <p:spPr>
            <a:xfrm>
              <a:off x="76773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1"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2" name=""/>
            <p:cNvSpPr/>
            <p:nvPr/>
          </p:nvSpPr>
          <p:spPr>
            <a:xfrm>
              <a:off x="6461280" y="527832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18440" y="5235480"/>
              <a:ext cx="243180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423120" y="57578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flipH="1">
              <a:off x="6418440" y="5499000"/>
              <a:ext cx="24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6423120" y="611352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a:off x="729612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46928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64064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1380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8864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2"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3" name=""/>
            <p:cNvSpPr/>
            <p:nvPr/>
          </p:nvSpPr>
          <p:spPr>
            <a:xfrm>
              <a:off x="705168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84"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85" name=""/>
            <p:cNvSpPr/>
            <p:nvPr/>
          </p:nvSpPr>
          <p:spPr>
            <a:xfrm>
              <a:off x="781812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86" name=""/>
            <p:cNvSpPr/>
            <p:nvPr/>
          </p:nvSpPr>
          <p:spPr>
            <a:xfrm>
              <a:off x="768348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87"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2"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7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79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900" spc="-1" strike="noStrike">
              <a:solidFill>
                <a:srgbClr val="000000"/>
              </a:solidFill>
              <a:latin typeface="Arial"/>
            </a:endParaRPr>
          </a:p>
        </p:txBody>
      </p:sp>
      <p:sp>
        <p:nvSpPr>
          <p:cNvPr id="8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8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35622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1"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26"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2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3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39" name=""/>
          <p:cNvSpPr/>
          <p:nvPr/>
        </p:nvSpPr>
        <p:spPr>
          <a:xfrm>
            <a:off x="2664000" y="2852640"/>
            <a:ext cx="6229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Pnet = getnet(dgram.destI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IPnet,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oute != NOT_FOUN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efault, tabl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 != NOT_FOUND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error(dgram, "Net Unreach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905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