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4.png" ContentType="image/png"/>
  <Override PartName="/ppt/media/image5.png" ContentType="image/png"/>
  <Override PartName="/ppt/media/image10.png" ContentType="image/png"/>
  <Override PartName="/ppt/media/image3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C22520-100D-443C-AA3D-734B780CB99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94BE11EF-FC8D-4ED2-BA06-7AA4FD1CA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3F046AA4-0578-4BEA-8186-383678FD9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90CF6E72-6CE1-4862-994E-0D31CA0CECD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6125BE-256C-45C3-AFB9-8578324859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2FC3A620-755B-462F-AE9B-899D21FF4C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03A4F29B-AB93-41DE-85F3-0BFA598A6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49219347-74CE-45B6-9F15-097BF47CC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EB398E85-9FE1-4101-901E-FCAC440EA7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04F06FD0-41B0-45A3-A79E-A6242091C9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C585D7E4-CACD-4611-92B2-8991CF881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6532CAA1-FA74-4F11-A673-AE56CC8B4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C0D8E5F0-C944-4409-A74F-8ACE526E2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BB14224C-8415-42B8-94EC-1BDEAEB2A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66216D3A-1906-4E60-A0C7-6F720A98BA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F4E4B5BF-8E94-4B31-8F3F-884D153643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0BB43354-956B-4093-9220-5C39CF8F46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D7E8C17-238E-4069-89B4-1B57A5FC376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0F7A2B74-536F-400E-A710-BF141A7A9BA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B1BBBEE2-BB03-4155-899A-8727C0FCED8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9FF9DD39-57C2-4703-8E2D-F3A89CBB83B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C11C3E4D-7134-480E-96F8-E930973F8BE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2CB576C2-1CEA-447A-B386-047C8F96D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E57AE139-565C-465F-BEDA-F533E1E456D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A76B4D3-69F2-4F80-A821-7FCDCEABAA6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9A4D3CC5-B493-4517-A777-99ABB2159EB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FF121A07-4D79-4960-84B8-FADD1ADE8A4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0653B14D-A350-4BB2-B59D-557BE967EBA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6FD0D59C-042E-4E9A-8914-3192AAD150A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E0905439-0A3C-4A87-9527-3199C9FDDEB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8A31DAD-A28C-4717-B448-026B3C7F749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2A905BFC-9B18-4C90-AD38-C39944CAFD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F3A88611-B2B3-4EA7-9222-A0A61F0CF9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F7C1F0BA-290D-42E7-8CDD-8FF494D2E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7E7026C8-DFD6-4E91-A1A7-1800059A9E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5004B5C1-3874-4243-B88C-E76262CE68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39E16E1C-C0DA-4652-974F-2A1800B6A4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35376530-3AD1-4280-A758-55693144F3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7D2E09C4-2019-4612-9AA6-93431B2D0B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5EA067A5-5731-45D9-84E4-56A80D1684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BF8C04C0-8F3C-4BC7-9566-E5AEA8DF0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B8319FD9-C60C-465F-BA4F-1958B5512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4B29ACEB-3B3C-487B-8D3E-9C532F1EAF5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217CE50-79AD-4B7A-A989-CA437D5B1E0A}"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7CC601A6-1D21-4907-943E-3F1337A54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058F0596-E3FB-443A-9C43-82E69082602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157C7D59-925F-4ADA-8F6F-897C4922F6F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8D5CB4FE-4BE1-41A5-AE05-EB8E57C1D15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B84FEE5D-7811-42D5-8131-6CDF7117EAF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B1F34A08-50B1-4B1E-8218-9C56A6713D5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6772FCF-7B00-4F9A-8A9D-417089CBBB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93A06DFA-A2D1-4138-A782-638B8F4D9A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CDB7D25D-74CC-4B65-9C4B-386E83C6A8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347E4A67-1F14-4B4B-B80F-6682827A06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9C526D3B-79EC-4449-BFBB-936EEF2340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25017D77-7D80-4E1D-8DC2-70A75DBBD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42DBB19E-61BD-46B4-8B9A-2A74C9006DC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1AA3481-8D8A-4FCF-959D-F6C03FE129F1}"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45B92937-5536-473D-90B5-2556EE85087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F0C744BA-13D4-4981-99A6-CA3F3FA41C6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82ED964D-FB33-4BAB-8A31-4FDB7E9A986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C511609C-D69F-4EE2-9AEC-08567891024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B9B866BC-AE3C-4D03-A334-24D5ECCE7CE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5003B4C6-3321-443B-A2B2-BF1EAB269B8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D9941EE7-FA40-4E8F-BA24-1502BC41ADF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72424AFF-EBAF-4023-ABDB-0E87FB0D15E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46CFB766-BD56-4DB6-BA26-9823830FA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6F7929CD-FC20-4CC2-96AE-B451D214CEB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21CC10F6-BBA3-4CF9-884A-83F59D37B65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39D9B920-4011-44DD-AEBB-11E02932B344}"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CEA2F84-289D-4089-AA46-0546042C61B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3CAE65BA-9FE2-4C00-850B-85BC3192B2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D798A096-3E4D-46C6-9B07-9A8F83686E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2004BE96-D2F1-4640-8972-95908918DA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E76E51F6-6198-45D2-A13F-73610CACE5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C3D51E87-492D-4304-BB61-5CC8066A13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2506D35-B82A-40B4-AC9D-D1D11C06F8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F36C08F9-2FA3-4DC6-91E1-0D9328DAA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FC17E0E-AECA-43C3-9387-520C13D895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FC34F21C-7A81-446F-9E97-A868B70BA0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4E94419A-6EFB-40E1-BFCA-059CB89937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079BF197-6BBA-47ED-BED4-D2A669347A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31902973-E41A-487D-A812-DF083D62E4E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4A644D1B-D952-47A3-BAF6-DB521996D4B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0EFD70-294C-4B49-A403-F66A77349BC8}"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011B61A-9798-472C-8691-618BC8C0F871}"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0AC7883-D499-4A6B-B38E-87E4D8313F1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BBFA50D-672C-469B-B2D5-81BF347FB2AD}"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0A2E51A-DAD8-414C-A192-DAE00AFB6AE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2293670-797F-4111-A39D-00C872BC126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C07FC91-F539-4AB9-8EAB-5C3BE6DD974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1828800" y="5611680"/>
            <a:ext cx="1371600" cy="101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