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7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4.png" ContentType="image/png"/>
  <Override PartName="/ppt/media/image5.png" ContentType="image/png"/>
  <Override PartName="/ppt/media/image10.png" ContentType="image/png"/>
  <Override PartName="/ppt/media/image30.png" ContentType="image/png"/>
  <Override PartName="/ppt/media/image28.wmf" ContentType="image/x-wmf"/>
  <Override PartName="/ppt/media/image27.jpeg" ContentType="image/jpe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PlaceHolder 1"/>
          <p:cNvSpPr>
            <a:spLocks noGrp="1"/>
          </p:cNvSpPr>
          <p:nvPr>
            <p:ph type="sldImg"/>
          </p:nvPr>
        </p:nvSpPr>
        <p:spPr>
          <a:xfrm>
            <a:off x="-11798280" y="-11798280"/>
            <a:ext cx="11795040" cy="1235088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28" name="PlaceHolder 2"/>
          <p:cNvSpPr>
            <a:spLocks noGrp="1"/>
          </p:cNvSpPr>
          <p:nvPr>
            <p:ph type="body"/>
          </p:nvPr>
        </p:nvSpPr>
        <p:spPr>
          <a:xfrm>
            <a:off x="960120" y="3475080"/>
            <a:ext cx="7675560" cy="32860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5"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7"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body"/>
          </p:nvPr>
        </p:nvSpPr>
        <p:spPr>
          <a:xfrm>
            <a:off x="960120" y="3475080"/>
            <a:ext cx="7677000" cy="328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285A93-E9A3-483E-959B-1C943F0DD78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DB9A7AC-2CF5-4FDE-8FF1-B1571B7DC8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0D84FA97-B370-4D32-A43C-70C178210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A5EB9C34-AD80-4305-AD6E-5F92109C881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36BCD0-ACE2-456B-B6C2-669CAC13BA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C11B94DB-FF68-45BA-BACA-A31C4FBD6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31527232-19DF-41C0-B23A-382DA19E4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202C9A88-E105-498C-BCF0-A9EBA3CFF4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BDA49E75-D3F2-4178-B9E4-449BAD4371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C974F3D7-443A-4F32-92B4-0398C5B0C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BC9571E-8264-4CB7-B87B-E3B62380A2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EF89AC94-1FBB-42E9-8997-7B76B4949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BB8DB03-0468-47C8-B9B1-64104CC2C3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8F77CBDF-6B13-4AAD-A465-886070F7F4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97B1AAC-566E-4772-A2DD-41DC05843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A4F49EAC-63C3-4B4E-8C62-C532BA4E7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12E1E152-269D-47C1-94DF-36C29B6F34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68B8795-417C-4172-BD4C-4FA799A8BCB5}"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639A5761-FAAB-42FC-B0B5-B2552E66870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2CCBF0A6-01F2-4F4E-BDDD-0ABCCF0686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8D7A295A-D375-4FBB-B722-5378FA2DEA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352210E7-A5E1-49E0-8FCA-BA5116D0DD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FBCD049B-4E1A-4385-9387-39091932F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409B0444-0F90-4F30-B9C9-5A0F38E7161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F1FC094-4C8B-4E1A-90ED-B5AC39AC96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2E64346-6558-4242-9891-3E5CAB75567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70FF637-1722-45E0-A01A-51394E289E0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136300D-B9DB-4B21-9BCF-FFF96F4388A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AB3D9CE3-E0C9-42EA-9880-D4F40E9EB5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C3D5795C-FC97-440F-A6F6-829C68C1AE7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42F3A16-17C6-4290-9C1A-1166A83EA5A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F6E0EAD-F5AC-47CB-A1C7-4FCB7C795C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B01A6B20-D65A-497C-BCDE-926D233756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F20F018-4CFC-4408-A6CA-56EE5DFDF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21210539-CD7A-40CC-B6DF-0125990C5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6B1E9870-DF36-4C65-966C-80BD1A805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22DB4D7C-986F-40BE-A7E2-7AA624B9C8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D346CDD0-10AE-4396-BA1E-EBA302D00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250C22D9-91D2-4D9C-B49F-78FC5C4EC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BA729244-AF43-4F4E-A332-F69E2F728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E32F6FB9-E058-4E1A-9099-AEB29CCE01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DE58FAE8-31BC-4A24-94B6-D4D5451395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28BFDCC0-CA18-414F-A3B3-B4FBF34C193D}"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F81F40E-9F49-4DAC-B7FD-EBDA4EE386D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4AF62677-28D2-45FB-809F-9F8170FC2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BEC420B5-E42F-4990-AEB5-31B47D3790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E268F111-07CB-4759-9775-09CD024A08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6CAD2452-8356-4D1A-AC4E-986123341A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995A599B-8475-4083-B406-BCC33B08B8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37981F33-0760-4920-A40B-F094E7CAEC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6B6FAA4-5FBC-4452-B267-7B06801F0C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FFC8C32-D528-49B8-BB35-35CD291919C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8554E9C1-2EB2-4D50-B629-304E265AA5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57DC14CE-71B6-471C-B749-87EDCF5FC68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DAD2D6FF-A352-4F2D-8802-8967BF9BB3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E3EB66B-EAD0-4C85-9B06-36BFB8D58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9B47B7F6-2897-4A01-BFEE-ACDA630DC1AA}"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510A2B5-9221-42D2-B366-D9064E1AEC7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05EE0E8-F90E-4465-8D92-CD8F8475C2B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E6CE5866-C5AA-4E70-8E2D-64CD7A10B9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317E4DBD-007D-44EE-850C-84C763EC52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6741348F-AD38-40A5-9437-665AC40C337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325A845F-6E32-4642-B67F-5FFD2CAA7A2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57F6E6F-7AC3-49D1-B948-9B7D4EA909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380639A-B88F-4DD0-BE4C-D79E35DED3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BEB898FD-3DCB-4E32-B2D0-423F6C1222E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ED3807F-3E8D-4AE0-AB20-075703974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5E2FF1A5-DCCA-4A10-B72A-03D44446F1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66BDC5C2-A453-40D9-90CD-C94683A2D4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4641E8FE-EC7A-4699-82B4-AD3B6EFC196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D2C855A-28AE-46D6-9451-F815B510DFF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8280" y="2286000"/>
            <a:ext cx="624384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89D8F38-A404-414E-AF0F-B44F1CE51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CB1F72E5-319E-4F26-9CDE-A4E079B9B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D7A7B85A-8D6C-491F-A3D4-07E312725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5BECB950-BA97-4BC0-BC0A-F4F1BE231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8280" y="82440"/>
            <a:ext cx="624384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DFD5479C-1DDF-45D2-8570-D53BB2632B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760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B75B00DB-B8B4-455A-A766-9399F00AE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141DFA2-A5AD-4C4F-A573-2612BD8CF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8280" y="2286000"/>
            <a:ext cx="304668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4F223A74-9F8D-49E8-A9FC-E6C04361E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D0205823-7A1C-420F-91E0-4B5451B33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8280" y="228600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4C634B62-F41B-44B8-ADE1-A55E19F3B8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828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7600" y="437832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F3113E2C-D201-4026-8F6A-75E0588FF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828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93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60720" y="228600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828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93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60720" y="4378320"/>
            <a:ext cx="2010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253B95E8-16B0-4BA1-924F-8B42C5F3DE01}"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828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7600" y="2286000"/>
            <a:ext cx="304668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8280" y="4378320"/>
            <a:ext cx="62438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1119A92-F7C4-4118-8C31-CE10FA1354E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7AE2D4-099F-4234-B115-275B900E00BB}"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7148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708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E983CA5-73CF-422E-A072-3602ABD123E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2B14A67-7632-4B17-9AA0-0F2553DAA362}"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824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7200" y="6553080"/>
            <a:ext cx="75744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86BCA78-831F-4336-8585-DD366016E0F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0DA82BB4-D85C-4BED-A300-77A2718A19D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C7CEAE0-95EA-493B-81B8-E1029DB0FEEC}"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8280" y="2286000"/>
            <a:ext cx="624384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8280" y="82440"/>
            <a:ext cx="624384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3080" y="634968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520"/>
            <a:ext cx="757080" cy="6048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594545E-1272-4330-B8E4-C97A09FF019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srcRect l="0" t="3405" r="0" b="13350"/>
          <a:stretch/>
        </p:blipFill>
        <p:spPr>
          <a:xfrm>
            <a:off x="1835280" y="-27000"/>
            <a:ext cx="7308720" cy="4608360"/>
          </a:xfrm>
          <a:prstGeom prst="rect">
            <a:avLst/>
          </a:prstGeom>
          <a:ln w="0">
            <a:noFill/>
          </a:ln>
        </p:spPr>
      </p:pic>
      <p:grpSp>
        <p:nvGrpSpPr>
          <p:cNvPr id="330" name=""/>
          <p:cNvGrpSpPr/>
          <p:nvPr/>
        </p:nvGrpSpPr>
        <p:grpSpPr>
          <a:xfrm>
            <a:off x="1841400" y="5834160"/>
            <a:ext cx="6637320" cy="500040"/>
            <a:chOff x="1841400" y="5834160"/>
            <a:chExt cx="6637320" cy="500040"/>
          </a:xfrm>
        </p:grpSpPr>
        <p:pic>
          <p:nvPicPr>
            <p:cNvPr id="331" name="" descr=""/>
            <p:cNvPicPr/>
            <p:nvPr/>
          </p:nvPicPr>
          <p:blipFill>
            <a:blip r:embed="rId2"/>
            <a:stretch/>
          </p:blipFill>
          <p:spPr>
            <a:xfrm>
              <a:off x="1841400" y="5834160"/>
              <a:ext cx="6637320" cy="500040"/>
            </a:xfrm>
            <a:prstGeom prst="rect">
              <a:avLst/>
            </a:prstGeom>
            <a:ln w="0">
              <a:noFill/>
            </a:ln>
          </p:spPr>
        </p:pic>
        <p:sp>
          <p:nvSpPr>
            <p:cNvPr id="332"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3"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77" name="" descr=""/>
          <p:cNvPicPr/>
          <p:nvPr/>
        </p:nvPicPr>
        <p:blipFill>
          <a:blip r:embed="rId1"/>
          <a:srcRect l="0" t="0" r="29209" b="55659"/>
          <a:stretch/>
        </p:blipFill>
        <p:spPr>
          <a:xfrm>
            <a:off x="3780000" y="4941720"/>
            <a:ext cx="3816360" cy="151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1800" spc="-1" strike="noStrike">
              <a:solidFill>
                <a:srgbClr val="000000"/>
              </a:solidFill>
              <a:latin typeface="Arial"/>
            </a:endParaRPr>
          </a:p>
        </p:txBody>
      </p:sp>
      <p:sp>
        <p:nvSpPr>
          <p:cNvPr id="3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8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5"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8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9720" indent="-452520">
              <a:lnSpc>
                <a:spcPct val="80000"/>
              </a:lnSpc>
              <a:spcBef>
                <a:spcPts val="1199"/>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3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398"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66920" indent="-452520">
              <a:lnSpc>
                <a:spcPct val="7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a:t>
            </a:r>
            <a:endParaRPr b="0" lang="en-US" sz="18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19"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7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9720" indent="-452520">
              <a:lnSpc>
                <a:spcPct val="7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7"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28" name=""/>
          <p:cNvGrpSpPr/>
          <p:nvPr/>
        </p:nvGrpSpPr>
        <p:grpSpPr>
          <a:xfrm>
            <a:off x="1944720" y="5157720"/>
            <a:ext cx="7098480" cy="747720"/>
            <a:chOff x="1944720" y="5157720"/>
            <a:chExt cx="7098480" cy="747720"/>
          </a:xfrm>
        </p:grpSpPr>
        <p:sp>
          <p:nvSpPr>
            <p:cNvPr id="429" name=""/>
            <p:cNvSpPr/>
            <p:nvPr/>
          </p:nvSpPr>
          <p:spPr>
            <a:xfrm>
              <a:off x="1994040" y="5457960"/>
              <a:ext cx="7041960" cy="447480"/>
            </a:xfrm>
            <a:custGeom>
              <a:avLst/>
              <a:gdLst>
                <a:gd name="textAreaLeft" fmla="*/ 0 w 7041960"/>
                <a:gd name="textAreaRight" fmla="*/ 7042320 w 7041960"/>
                <a:gd name="textAreaTop" fmla="*/ 0 h 447480"/>
                <a:gd name="textAreaBottom" fmla="*/ 447840 h 44748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44720" y="5413320"/>
              <a:ext cx="7041960" cy="447840"/>
            </a:xfrm>
            <a:custGeom>
              <a:avLst/>
              <a:gdLst>
                <a:gd name="textAreaLeft" fmla="*/ 0 w 7041960"/>
                <a:gd name="textAreaRight" fmla="*/ 7042320 w 7041960"/>
                <a:gd name="textAreaTop" fmla="*/ 0 h 447840"/>
                <a:gd name="textAreaBottom" fmla="*/ 448200 h 44784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5964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2" name=""/>
            <p:cNvSpPr/>
            <p:nvPr/>
          </p:nvSpPr>
          <p:spPr>
            <a:xfrm>
              <a:off x="79232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3" name=""/>
            <p:cNvSpPr/>
            <p:nvPr/>
          </p:nvSpPr>
          <p:spPr>
            <a:xfrm>
              <a:off x="80586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34" name=""/>
            <p:cNvSpPr/>
            <p:nvPr/>
          </p:nvSpPr>
          <p:spPr>
            <a:xfrm>
              <a:off x="82375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5" name=""/>
            <p:cNvSpPr/>
            <p:nvPr/>
          </p:nvSpPr>
          <p:spPr>
            <a:xfrm>
              <a:off x="837864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36" name=""/>
            <p:cNvSpPr/>
            <p:nvPr/>
          </p:nvSpPr>
          <p:spPr>
            <a:xfrm>
              <a:off x="850284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7" name=""/>
            <p:cNvSpPr/>
            <p:nvPr/>
          </p:nvSpPr>
          <p:spPr>
            <a:xfrm>
              <a:off x="86446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38" name=""/>
            <p:cNvSpPr/>
            <p:nvPr/>
          </p:nvSpPr>
          <p:spPr>
            <a:xfrm>
              <a:off x="87678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9100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0" name=""/>
            <p:cNvSpPr/>
            <p:nvPr/>
          </p:nvSpPr>
          <p:spPr>
            <a:xfrm>
              <a:off x="704628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1" name=""/>
            <p:cNvSpPr/>
            <p:nvPr/>
          </p:nvSpPr>
          <p:spPr>
            <a:xfrm>
              <a:off x="569808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2" name=""/>
            <p:cNvSpPr/>
            <p:nvPr/>
          </p:nvSpPr>
          <p:spPr>
            <a:xfrm>
              <a:off x="427176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3" name=""/>
            <p:cNvSpPr/>
            <p:nvPr/>
          </p:nvSpPr>
          <p:spPr>
            <a:xfrm>
              <a:off x="295812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4" name=""/>
            <p:cNvSpPr/>
            <p:nvPr/>
          </p:nvSpPr>
          <p:spPr>
            <a:xfrm>
              <a:off x="211968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45" name=""/>
            <p:cNvSpPr/>
            <p:nvPr/>
          </p:nvSpPr>
          <p:spPr>
            <a:xfrm>
              <a:off x="504648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46" name=""/>
            <p:cNvSpPr/>
            <p:nvPr/>
          </p:nvSpPr>
          <p:spPr>
            <a:xfrm>
              <a:off x="375372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47" name=""/>
            <p:cNvSpPr/>
            <p:nvPr/>
          </p:nvSpPr>
          <p:spPr>
            <a:xfrm>
              <a:off x="24973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48" name=""/>
            <p:cNvSpPr/>
            <p:nvPr/>
          </p:nvSpPr>
          <p:spPr>
            <a:xfrm>
              <a:off x="197496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49" name=""/>
            <p:cNvSpPr/>
            <p:nvPr/>
          </p:nvSpPr>
          <p:spPr>
            <a:xfrm>
              <a:off x="770076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0" name=""/>
            <p:cNvSpPr/>
            <p:nvPr/>
          </p:nvSpPr>
          <p:spPr>
            <a:xfrm>
              <a:off x="65930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1" name=""/>
            <p:cNvSpPr/>
            <p:nvPr/>
          </p:nvSpPr>
          <p:spPr>
            <a:xfrm>
              <a:off x="65581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4984920" y="5413320"/>
              <a:ext cx="1440" cy="44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69576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1308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667640" y="5413320"/>
              <a:ext cx="1440" cy="453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56"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2"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7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7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3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4"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8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6002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3"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4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49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52520" indent="-452520">
              <a:lnSpc>
                <a:spcPct val="9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52520" indent="-452520">
              <a:lnSpc>
                <a:spcPct val="9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52520" indent="-452520">
              <a:lnSpc>
                <a:spcPct val="90000"/>
              </a:lnSpc>
              <a:spcBef>
                <a:spcPts val="1800"/>
              </a:spcBef>
              <a:buSzPct val="100000"/>
              <a:buBlip>
                <a:blip r:embed="rId4"/>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52520" indent="-452520">
              <a:lnSpc>
                <a:spcPct val="100000"/>
              </a:lnSpc>
              <a:spcBef>
                <a:spcPts val="1800"/>
              </a:spcBef>
              <a:buSzPct val="100000"/>
              <a:buBlip>
                <a:blip r:embed="rId2"/>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52520" indent="-452520">
              <a:lnSpc>
                <a:spcPct val="100000"/>
              </a:lnSpc>
              <a:spcBef>
                <a:spcPts val="1800"/>
              </a:spcBef>
              <a:buSzPct val="100000"/>
              <a:buBlip>
                <a:blip r:embed="rId3"/>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0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28760" indent="-21600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28760" indent="-21600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28760" indent="-21600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28760" indent="-21600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28760" indent="-21600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28760" indent="-21600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28760" indent="-21600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SzPct val="100000"/>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18" name="" descr=""/>
          <p:cNvPicPr/>
          <p:nvPr/>
        </p:nvPicPr>
        <p:blipFill>
          <a:blip r:embed="rId2"/>
          <a:stretch/>
        </p:blipFill>
        <p:spPr>
          <a:xfrm>
            <a:off x="4427640" y="4292640"/>
            <a:ext cx="3673440" cy="1596960"/>
          </a:xfrm>
          <a:prstGeom prst="rect">
            <a:avLst/>
          </a:prstGeom>
          <a:ln w="0">
            <a:noFill/>
          </a:ln>
        </p:spPr>
      </p:pic>
      <p:sp>
        <p:nvSpPr>
          <p:cNvPr id="519"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23920" indent="-135000">
              <a:lnSpc>
                <a:spcPct val="100000"/>
              </a:lnSpc>
              <a:spcBef>
                <a:spcPts val="1800"/>
              </a:spcBef>
              <a:buSzPct val="100000"/>
              <a:buBlip>
                <a:blip r:embed="rId1"/>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23920" indent="-135000">
              <a:lnSpc>
                <a:spcPct val="100000"/>
              </a:lnSpc>
              <a:spcBef>
                <a:spcPts val="1800"/>
              </a:spcBef>
              <a:buSzPct val="100000"/>
              <a:buBlip>
                <a:blip r:embed="rId2"/>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28760" indent="-216000">
              <a:lnSpc>
                <a:spcPct val="100000"/>
              </a:lnSpc>
              <a:spcBef>
                <a:spcPts val="1800"/>
              </a:spcBef>
              <a:buSzPct val="100000"/>
              <a:buBlip>
                <a:blip r:embed="rId3"/>
              </a:buBlip>
              <a:tabLst>
                <a:tab algn="l" pos="223920"/>
                <a:tab algn="l" pos="681120"/>
                <a:tab algn="l" pos="1138320"/>
                <a:tab algn="l" pos="1595520"/>
                <a:tab algn="l" pos="2052720"/>
                <a:tab algn="l" pos="2509920"/>
                <a:tab algn="l" pos="2967120"/>
                <a:tab algn="l" pos="3424320"/>
                <a:tab algn="l" pos="3881520"/>
                <a:tab algn="l" pos="4338720"/>
                <a:tab algn="l" pos="4795920"/>
                <a:tab algn="l" pos="5253120"/>
                <a:tab algn="l" pos="5710320"/>
                <a:tab algn="l" pos="6167520"/>
                <a:tab algn="l" pos="6624720"/>
                <a:tab algn="l" pos="7081920"/>
                <a:tab algn="l" pos="7539120"/>
                <a:tab algn="l" pos="7996320"/>
                <a:tab algn="l" pos="8453520"/>
                <a:tab algn="l" pos="8910720"/>
                <a:tab algn="l" pos="936792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5"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46"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27"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66920" indent="-452520">
              <a:lnSpc>
                <a:spcPct val="9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44" name="" descr=""/>
          <p:cNvPicPr/>
          <p:nvPr/>
        </p:nvPicPr>
        <p:blipFill>
          <a:blip r:embed="rId1"/>
          <a:stretch/>
        </p:blipFill>
        <p:spPr>
          <a:xfrm>
            <a:off x="1828800" y="5611680"/>
            <a:ext cx="1371600" cy="101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4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1"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52520" indent="-452520">
              <a:lnSpc>
                <a:spcPct val="8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9720" indent="-452520">
              <a:lnSpc>
                <a:spcPct val="8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52520" indent="-452520">
              <a:lnSpc>
                <a:spcPct val="100000"/>
              </a:lnSpc>
              <a:spcBef>
                <a:spcPts val="1800"/>
              </a:spcBef>
              <a:buSzPct val="156296"/>
              <a:buBlip>
                <a:blip r:embed="rId1"/>
              </a:buBlip>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6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3"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57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57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2"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1" name="" descr=""/>
          <p:cNvPicPr/>
          <p:nvPr/>
        </p:nvPicPr>
        <p:blipFill>
          <a:blip r:embed="rId1"/>
          <a:stretch/>
        </p:blipFill>
        <p:spPr>
          <a:xfrm>
            <a:off x="3967200" y="3573360"/>
            <a:ext cx="2908440" cy="2880000"/>
          </a:xfrm>
          <a:prstGeom prst="rect">
            <a:avLst/>
          </a:prstGeom>
          <a:ln w="0">
            <a:noFill/>
          </a:ln>
        </p:spPr>
      </p:pic>
      <p:sp>
        <p:nvSpPr>
          <p:cNvPr id="592"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3"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4"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gn="ctr">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2520" indent="-452520">
              <a:lnSpc>
                <a:spcPct val="100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597960"/>
                <a:tab algn="l" pos="9601200"/>
                <a:tab algn="l" pos="10058400"/>
                <a:tab algn="l" pos="10515600"/>
              </a:tabLst>
            </a:pPr>
            <a:endParaRPr b="0" lang="en-US" sz="2200" spc="-1" strike="noStrike">
              <a:solidFill>
                <a:srgbClr val="000000"/>
              </a:solidFill>
              <a:latin typeface="Arial"/>
            </a:endParaRPr>
          </a:p>
        </p:txBody>
      </p:sp>
      <p:sp>
        <p:nvSpPr>
          <p:cNvPr id="5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3"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p:txBody>
      </p:sp>
      <p:sp>
        <p:nvSpPr>
          <p:cNvPr id="6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4"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55" name="" descr=""/>
          <p:cNvPicPr/>
          <p:nvPr/>
        </p:nvPicPr>
        <p:blipFill>
          <a:blip r:embed="rId1"/>
          <a:stretch/>
        </p:blipFill>
        <p:spPr>
          <a:xfrm>
            <a:off x="3635280" y="2903400"/>
            <a:ext cx="3676680" cy="1533600"/>
          </a:xfrm>
          <a:prstGeom prst="rect">
            <a:avLst/>
          </a:prstGeom>
          <a:ln w="0">
            <a:noFill/>
          </a:ln>
        </p:spPr>
      </p:pic>
      <p:pic>
        <p:nvPicPr>
          <p:cNvPr id="356"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24" name="" descr=""/>
          <p:cNvPicPr/>
          <p:nvPr/>
        </p:nvPicPr>
        <p:blipFill>
          <a:blip r:embed="rId1"/>
          <a:stretch/>
        </p:blipFill>
        <p:spPr>
          <a:xfrm>
            <a:off x="3708360" y="3716280"/>
            <a:ext cx="3311640" cy="3059280"/>
          </a:xfrm>
          <a:prstGeom prst="rect">
            <a:avLst/>
          </a:prstGeom>
          <a:ln w="0">
            <a:noFill/>
          </a:ln>
        </p:spPr>
      </p:pic>
      <p:sp>
        <p:nvSpPr>
          <p:cNvPr id="625"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br>
              <a:rPr sz="2200"/>
            </a:br>
            <a:endParaRPr b="0" lang="en-US" sz="2200" spc="-1" strike="noStrike">
              <a:solidFill>
                <a:srgbClr val="000000"/>
              </a:solidFill>
              <a:latin typeface="Arial"/>
            </a:endParaRPr>
          </a:p>
        </p:txBody>
      </p:sp>
      <p:sp>
        <p:nvSpPr>
          <p:cNvPr id="6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37" name="" descr=""/>
          <p:cNvPicPr/>
          <p:nvPr/>
        </p:nvPicPr>
        <p:blipFill>
          <a:blip r:embed="rId1"/>
          <a:stretch/>
        </p:blipFill>
        <p:spPr>
          <a:xfrm>
            <a:off x="2451240" y="1816200"/>
            <a:ext cx="6095880" cy="45720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las  direcciones IPv4</a:t>
            </a:r>
            <a:endParaRPr b="0" lang="en-US" sz="4400" spc="-1" strike="noStrike">
              <a:solidFill>
                <a:srgbClr val="000000"/>
              </a:solidFill>
              <a:latin typeface="Arial"/>
            </a:endParaRPr>
          </a:p>
        </p:txBody>
      </p:sp>
      <p:pic>
        <p:nvPicPr>
          <p:cNvPr id="641" name="" descr=""/>
          <p:cNvPicPr/>
          <p:nvPr/>
        </p:nvPicPr>
        <p:blipFill>
          <a:blip r:embed="rId1"/>
          <a:stretch/>
        </p:blipFill>
        <p:spPr>
          <a:xfrm>
            <a:off x="2362320" y="2286000"/>
            <a:ext cx="6095880" cy="45720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9720" indent="-452520">
              <a:lnSpc>
                <a:spcPct val="100000"/>
              </a:lnSpc>
              <a:spcBef>
                <a:spcPts val="1800"/>
              </a:spcBef>
              <a:buClr>
                <a:srgbClr val="009d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66920" indent="-452520">
              <a:lnSpc>
                <a:spcPct val="100000"/>
              </a:lnSpc>
              <a:spcBef>
                <a:spcPts val="1199"/>
              </a:spcBef>
              <a:buClr>
                <a:srgbClr val="0bd0d9"/>
              </a:buClr>
              <a:buSzPct val="80000"/>
              <a:buFont typeface="Wingdings" charset="2"/>
              <a:buChar char=""/>
              <a:tabLst>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1005372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9720" indent="-452520">
              <a:lnSpc>
                <a:spcPct val="9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52520" indent="-452520">
              <a:lnSpc>
                <a:spcPct val="9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5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5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52520" indent="-452520">
              <a:lnSpc>
                <a:spcPct val="100000"/>
              </a:lnSpc>
              <a:spcBef>
                <a:spcPts val="1800"/>
              </a:spcBef>
              <a:buClr>
                <a:srgbClr val="0f6fc6"/>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9720" indent="-452520">
              <a:lnSpc>
                <a:spcPct val="100000"/>
              </a:lnSpc>
              <a:spcBef>
                <a:spcPts val="1800"/>
              </a:spcBef>
              <a:buClr>
                <a:srgbClr val="009dd9"/>
              </a:buClr>
              <a:buSzPct val="80000"/>
              <a:buFont typeface="Wingdings" charset="2"/>
              <a:buChar char=""/>
              <a:tabLst>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52520" indent="-452520">
              <a:lnSpc>
                <a:spcPct val="100000"/>
              </a:lnSpc>
              <a:spcBef>
                <a:spcPts val="1800"/>
              </a:spcBef>
              <a:tabLst>
                <a:tab algn="l" pos="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596520"/>
                <a:tab algn="l" pos="9601200"/>
                <a:tab algn="l" pos="10058400"/>
                <a:tab algn="l" pos="10515600"/>
              </a:tabLst>
            </a:pPr>
            <a:endParaRPr b="0" lang="en-US" sz="2000" spc="-1" strike="noStrike">
              <a:solidFill>
                <a:srgbClr val="000000"/>
              </a:solidFill>
              <a:latin typeface="Arial"/>
            </a:endParaRPr>
          </a:p>
        </p:txBody>
      </p:sp>
      <p:sp>
        <p:nvSpPr>
          <p:cNvPr id="36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