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6F54-51EC-40AC-84E8-0A1E75444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B18A-5E21-4473-9F64-595393CF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6DCD-B8CF-4B80-ADFE-EA3D9A976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258-91A7-4CA5-BB34-E75DA039A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CC40-29DC-4DA6-A363-F0B740E2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6F8-1295-4F6F-B92B-AB472299D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28AF-910E-4A3D-8EA5-7E0E6B47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6DA9-13B5-41CB-937C-FF3A69636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147B-5C61-4AD6-9686-7319AD71C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6303-B87E-4F81-A915-7E758815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B49A-5F25-4705-B408-DC751AD0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8D4D-219F-43A8-AF1E-3B7260AB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CEC9-95E8-44C7-B1A6-D2CCB4990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7680" y="411120"/>
          <a:ext cx="8534160" cy="712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11120"/>
                    <a:ext cx="8534160" cy="71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77720" y="463680"/>
          <a:ext cx="8440920" cy="58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463680"/>
                    <a:ext cx="8440920" cy="58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609480" y="622440"/>
          <a:ext cx="7832880" cy="543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22440"/>
                    <a:ext cx="7832880" cy="54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23720" y="490680"/>
          <a:ext cx="822960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3720" y="490680"/>
                    <a:ext cx="822960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3600" y="469800"/>
          <a:ext cx="8497800" cy="589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469800"/>
                    <a:ext cx="84978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57120" y="463680"/>
          <a:ext cx="8494920" cy="588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94920" cy="58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357120" y="463680"/>
          <a:ext cx="8481960" cy="589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7120" y="463680"/>
                    <a:ext cx="8481960" cy="58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6120" y="482760"/>
          <a:ext cx="8458200" cy="767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482760"/>
                    <a:ext cx="8458200" cy="76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3680" y="490680"/>
          <a:ext cx="8362800" cy="606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490680"/>
                    <a:ext cx="8362800" cy="60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11360" y="736560"/>
          <a:ext cx="8051760" cy="534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736560"/>
                    <a:ext cx="8051760" cy="53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20560" y="647640"/>
          <a:ext cx="8344080" cy="579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647640"/>
                    <a:ext cx="83440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4200" y="484200"/>
          <a:ext cx="85662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84200"/>
                    <a:ext cx="85662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63600" y="698400"/>
          <a:ext cx="826920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3600" y="698400"/>
                    <a:ext cx="826920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376200" y="496800"/>
          <a:ext cx="8659800" cy="711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6200" y="496800"/>
                    <a:ext cx="8659800" cy="711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jalvarez</cp:lastModifiedBy>
  <cp:lastPrinted>2006-03-14T15:11:26Z</cp:lastPrinted>
  <dcterms:modified xsi:type="dcterms:W3CDTF">2010-08-12T11:49:13Z</dcterms:modified>
  <cp:revision>44</cp:revision>
  <dc:subject/>
  <dc:title>Sin título de diapositiva</dc:title>
</cp:coreProperties>
</file>