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34C-E7D6-418D-AE18-B41A0DA7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C1E-D7BC-4ACE-9E88-B7DA9279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F79-4156-4581-833C-A01A5F0C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E0F-348E-4285-9EEE-943E1749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BB4-9F66-4086-A837-45EB80ED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99BA-5C07-437A-9B21-84772B90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810-AB88-4F91-95CA-BAFE057E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5984-B8BF-40D3-9A73-541C56B9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DF17-03EC-4204-BF47-087B74A3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9B80-A0E6-4A99-A3AD-787D9620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66D-C244-427D-BE5C-380420B5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504-15B2-496C-BCFE-32661A9F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6D98-100D-4D8D-9563-CC89FB0CB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7680" y="411120"/>
          <a:ext cx="8534160" cy="71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11120"/>
                    <a:ext cx="8534160" cy="71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77720" y="463680"/>
          <a:ext cx="8440920" cy="58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463680"/>
                    <a:ext cx="8440920" cy="58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09480" y="622440"/>
          <a:ext cx="7832880" cy="54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22440"/>
                    <a:ext cx="783288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23720" y="490680"/>
          <a:ext cx="822960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490680"/>
                    <a:ext cx="822960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3600" y="469800"/>
          <a:ext cx="8497800" cy="589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69800"/>
                    <a:ext cx="84978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57120" y="463680"/>
          <a:ext cx="8494920" cy="588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463680"/>
                    <a:ext cx="8494920" cy="58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57120" y="463680"/>
          <a:ext cx="8481960" cy="58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463680"/>
                    <a:ext cx="8481960" cy="58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3680" y="490680"/>
          <a:ext cx="8362800" cy="60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490680"/>
                    <a:ext cx="8362800" cy="60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4200" y="484200"/>
          <a:ext cx="85662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84200"/>
                    <a:ext cx="85662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63600" y="698400"/>
          <a:ext cx="826920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698400"/>
                    <a:ext cx="826920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76200" y="496800"/>
          <a:ext cx="8659800" cy="711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496800"/>
                    <a:ext cx="8659800" cy="71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0-08-12T11:49:13Z</dcterms:modified>
  <cp:revision>44</cp:revision>
  <dc:subject/>
  <dc:title>Sin título de diapositiva</dc:title>
</cp:coreProperties>
</file>