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E4C-9DB2-4560-80A7-4096607D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823-44D1-451F-9AA1-89047FE1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A6E5-D7F8-48D0-9E9A-F3CBC9F1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8BA-021E-4EFA-8C87-602F4B37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2DF-FC05-4115-A299-7F95E449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8E4-AF12-41CE-8249-B2D22A57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D83-1E07-4333-9DE7-B557F8C9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4C3-2FF0-44B5-AB1B-10CAC320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648-D32C-49F2-BEBB-BAA0E57D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F4F-7CD4-4E91-A2E7-21A34EB3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290-782C-4EB0-A053-D255F5FD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D7D-751E-4218-943C-02C34B87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0F0C-E7CF-45FF-A7E2-4CA3F2E3E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7680" y="411120"/>
          <a:ext cx="8534160" cy="71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11120"/>
                    <a:ext cx="853416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77720" y="463680"/>
          <a:ext cx="8440920" cy="58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463680"/>
                    <a:ext cx="844092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09480" y="622440"/>
          <a:ext cx="7832880" cy="54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22440"/>
                    <a:ext cx="783288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3720" y="490680"/>
          <a:ext cx="822960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490680"/>
                    <a:ext cx="822960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3600" y="469800"/>
          <a:ext cx="8497800" cy="58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9800"/>
                    <a:ext cx="84978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57120" y="463680"/>
          <a:ext cx="8494920" cy="588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3680"/>
                    <a:ext cx="8494920" cy="58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57120" y="463680"/>
          <a:ext cx="8481960" cy="58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3680"/>
                    <a:ext cx="848196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3680" y="490680"/>
          <a:ext cx="8362800" cy="60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90680"/>
                    <a:ext cx="8362800" cy="60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4200" y="484200"/>
          <a:ext cx="85662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84200"/>
                    <a:ext cx="8566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63600" y="698400"/>
          <a:ext cx="82692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698400"/>
                    <a:ext cx="82692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76200" y="496800"/>
          <a:ext cx="8659800" cy="711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496800"/>
                    <a:ext cx="8659800" cy="71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0-08-12T11:49:13Z</dcterms:modified>
  <cp:revision>44</cp:revision>
  <dc:subject/>
  <dc:title>Sin título de diapositiva</dc:title>
</cp:coreProperties>
</file>