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D2DE-B503-47FF-BF31-3CB906F9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8995-A2E5-4FC7-8AFB-8E12151B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DEFF-3BE3-4F9B-84D2-C9783A66C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A108-0431-4025-89EB-6BCE04643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BF2A-0A05-44F8-8F18-64148152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B61F-5194-4AFB-9F06-AECE96F4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44CB-91EE-4EE3-9049-6369EF00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6158-5FC2-43E9-9A10-D70627BD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3B15-D815-46E4-987A-C841FA16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08D1-807A-4767-B0D7-3C5C3156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6522-F3F6-4299-9F0E-63A078C4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4566-249D-4E98-A5B5-BA9E6A16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8073-3163-4A72-B3E3-C1EB45139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17680" y="411120"/>
          <a:ext cx="8534160" cy="712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411120"/>
                    <a:ext cx="8534160" cy="71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209520" y="754200"/>
          <a:ext cx="8783640" cy="54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754200"/>
                    <a:ext cx="87836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77720" y="463680"/>
          <a:ext cx="8440920" cy="583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463680"/>
                    <a:ext cx="8440920" cy="58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09480" y="622440"/>
          <a:ext cx="7832880" cy="543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22440"/>
                    <a:ext cx="7832880" cy="54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23720" y="490680"/>
          <a:ext cx="8229600" cy="575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720" y="490680"/>
                    <a:ext cx="8229600" cy="57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63600" y="469800"/>
          <a:ext cx="8497800" cy="589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469800"/>
                    <a:ext cx="8497800" cy="58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57120" y="463680"/>
          <a:ext cx="8494920" cy="588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463680"/>
                    <a:ext cx="8494920" cy="58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57120" y="463680"/>
          <a:ext cx="8481960" cy="589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463680"/>
                    <a:ext cx="8481960" cy="58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46120" y="482760"/>
          <a:ext cx="8458200" cy="767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482760"/>
                    <a:ext cx="8458200" cy="76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3680" y="490680"/>
          <a:ext cx="8362800" cy="606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490680"/>
                    <a:ext cx="8362800" cy="60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11360" y="736560"/>
          <a:ext cx="8051760" cy="53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6560"/>
                    <a:ext cx="805176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20560" y="647640"/>
          <a:ext cx="834408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647640"/>
                    <a:ext cx="83440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2280" y="544680"/>
          <a:ext cx="77691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44680"/>
                    <a:ext cx="77691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84200" y="484200"/>
          <a:ext cx="856620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84200"/>
                    <a:ext cx="85662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63600" y="698400"/>
          <a:ext cx="8269200" cy="593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698400"/>
                    <a:ext cx="8269200" cy="59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76200" y="496800"/>
          <a:ext cx="8659800" cy="711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496800"/>
                    <a:ext cx="8659800" cy="711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jalvarez</cp:lastModifiedBy>
  <cp:lastPrinted>2006-03-14T15:11:26Z</cp:lastPrinted>
  <dcterms:modified xsi:type="dcterms:W3CDTF">2010-08-12T11:49:13Z</dcterms:modified>
  <cp:revision>44</cp:revision>
  <dc:subject/>
  <dc:title>Sin título de diapositiva</dc:title>
</cp:coreProperties>
</file>