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55D-3397-4CCB-B564-A32D3513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9B8-E0B6-4B6C-B12E-A7D846B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3EB-C48C-42DF-9798-52331D77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7F7-F33D-45E3-A23C-36BDE8CB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3B2-5165-4043-810F-24227630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553-5A74-4811-9056-96DE199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D34-51C8-458D-AAC5-8703CC55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20E-C855-4951-9658-C3B2F1D3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52A-65B2-4409-BEF4-F28D001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434-B237-4165-8897-56A603B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06D-5EEC-4F00-B5E1-22F349A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146-03AD-4AF0-9B52-70ECBAE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1838A606-ACA6-4112-9B76-923DAF3B1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8-10T15:17:57Z</dcterms:modified>
  <cp:revision>79</cp:revision>
  <dc:subject/>
  <dc:title>Sin título de diapositiva</dc:title>
</cp:coreProperties>
</file>